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2383-7D47-49F0-93B5-6977DA75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39AB-E7B6-4554-A9FF-9C284785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37AA-CBC5-4282-9E01-8F962EDD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571A-0159-4677-A7DD-B524468F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C1267-8FAF-4199-BCDF-79C1BE9CF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0C595-008E-4F2B-96DF-F3F549AC9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9603D-3901-4BA7-BC1B-4EEA795E0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33213-5FDE-4BE2-B93B-F7A2BD17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A18654-0503-47EA-8391-861355B7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0465C-3B99-4D91-AFF3-CF15269D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64DC5-F51C-4088-B9E1-B48316C1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38F6-1A18-47E7-AD85-F3C871D5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06F848-8381-4F94-AEB5-8B715BE6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00CF1-87EF-4A54-AAAB-11A78FB8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A3324-2E0B-4A0E-BEFD-64AD597B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B7D001-0CA6-4F50-A379-8E04FD6F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EBBF2-CB8B-4273-AB2F-A85DA527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FAED7-B764-47DF-80CA-C0DF8337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F8AF1-A560-4109-B476-2C0BE795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51A2D-15B5-47EE-BE55-6DC44B1E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E1434-B3B0-4116-8593-6E57A1AB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3A1E3-838C-416D-96D1-BD14D0AC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C511-4562-43C0-A670-8AB3CA05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90261-04AC-4A4A-9EA5-32A681D9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B17AA-B0A8-4D0F-8905-D6D90DEC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55B2D-C86C-427E-BAB0-57A71390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69AD0-490A-44BE-BDF4-045BEDD1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E152E-9036-46CC-8C12-F42F1DD2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DB630-1AAD-4A63-A9E9-BAB7D7DB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F6B45-79A9-4C62-8C6D-A1525B54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95D1D6-6E36-4D47-8A4B-AA145C4D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752F04-D957-4DB5-AA22-34271461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2E1ECC-0B65-45D9-BCE4-B489C659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9D38-B489-4281-80D6-24FBEC09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1994FA-16D7-4E57-AA14-E9B6F486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1BA010-C812-4B08-B8AF-DCEAE3BA8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DCEF7E-5E91-4849-BDA4-81132EE6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7A8908-236E-461B-A3BD-105DA8CB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478DEA-9602-4FD1-974B-736308C0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549A62-431F-471F-8417-64A716FB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922077-A5E5-46B6-BF41-477B7A5C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1602A2-F943-444A-83FE-6E2EC729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EB6F86-E9BA-46DC-9979-A2D3A3E7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5672EE-E86B-4F64-B44E-BC8B796A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1C87-097B-4740-BDCB-D9AB13A9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6718CE-CDEF-4E1D-938E-F18A0490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202415-B344-41AF-A2F0-6FBEB041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B63C38-2EE3-49EB-8231-07849FF74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BE0FBF-3C34-4786-A644-5446AE52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F79AA8-8317-4918-BC7D-54DD8258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309045-7BB4-463C-B7B8-B512E4B2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508018-BE74-4FB0-9741-80111B11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3645C8-CA56-4966-896A-AAABC83D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ED69B6-4C50-4C19-8133-23FFB847D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818F4C-B627-4E6E-AA22-5FA26858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062A-6645-49EF-A7C4-5A1B1F61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6772D0-B0A5-4238-A183-B6C957B7E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9C3C3D-0576-4902-82BB-40D1B6DC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DC7148-8B47-4B62-A57E-FCC567CB8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4756E7-9F59-4BAB-A381-DD8D63A8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0B8C95-6D4B-4672-B1B4-E0C81375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9B3129-91BF-49B1-80CB-C1879EA79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918E17-5358-4F68-9E49-ADD7AA9E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63FF9F-EE06-4BCC-B41F-8B071D19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D66E0D-B3B5-4316-AD23-E92A6FB8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9510C4-7B26-4AE1-BDDA-AA12C48F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E6E8-0A4E-408F-AA2A-9BD74046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B3DCAA-3672-4278-8549-D564A684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34DD38-24ED-4483-9301-A73E4183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B563C6-C54A-464A-B742-285F0FB3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F134-9B5F-4A03-9271-10775E76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9B8F-4FD5-4D49-8567-65FCAAFB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611B-C107-43AC-BDFA-8AE4EB535543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9BC9-F30B-4A39-A5E7-EA7ADD735C9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33E9-EF36-40FD-B08D-115F3E9469E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086F-065C-44B3-9A83-F8DCBE2F974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7B6F-4A5A-4170-BFB2-6CB3761102F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C7FD-D10C-4DA6-8483-2B3403149B1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-360" y="1523880"/>
            <a:ext cx="421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Павел </a:t>
            </a:r>
            <a:r>
              <a:rPr b="0" lang="en-US" sz="4000" spc="-1" strike="noStrike">
                <a:solidFill>
                  <a:srgbClr val="ffffff"/>
                </a:solidFill>
                <a:latin typeface="Constantia"/>
              </a:rPr>
              <a:t>I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Император Всероссийский 17 ноября 1796 — 24 марта 1801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4" name="Picture 2" descr="C:\Users\Наталья\Downloads\Borovikovskiy_PtPavla1GRM.jpg"/>
          <p:cNvPicPr/>
          <p:nvPr/>
        </p:nvPicPr>
        <p:blipFill>
          <a:blip r:embed="rId2"/>
          <a:stretch/>
        </p:blipFill>
        <p:spPr>
          <a:xfrm>
            <a:off x="4211640" y="-15840"/>
            <a:ext cx="49323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50560" y="1125000"/>
            <a:ext cx="856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fac9"/>
                </a:solidFill>
                <a:latin typeface="Constantia"/>
              </a:rPr>
              <a:t>1)Ввел четкую систему престолонаследия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fac9"/>
                </a:solidFill>
                <a:latin typeface="Constantia"/>
              </a:rPr>
              <a:t>2)Восстановил систему коллегий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fac9"/>
                </a:solidFill>
                <a:latin typeface="Constantia"/>
              </a:rPr>
              <a:t>3)Учредил манифест о трехдневной барщине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fac9"/>
                </a:solidFill>
                <a:latin typeface="Constantia"/>
              </a:rPr>
              <a:t>4)Существенно сузил права дворян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fac9"/>
                </a:solidFill>
                <a:latin typeface="Constantia"/>
              </a:rPr>
              <a:t>5)Ввел строжайшую дисциплину в армии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efac9"/>
                </a:solidFill>
                <a:latin typeface="Constantia"/>
              </a:rPr>
              <a:t>6)В его царствование была жесткая цензура: запрещен выезд за границу, импорт книг и т.п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6" name="Заголовок 2" descr=""/>
          <p:cNvPicPr/>
          <p:nvPr/>
        </p:nvPicPr>
        <p:blipFill>
          <a:blip r:embed="rId1"/>
          <a:stretch/>
        </p:blipFill>
        <p:spPr>
          <a:xfrm>
            <a:off x="450720" y="109440"/>
            <a:ext cx="8321760" cy="10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1)1798 год- вступление России в антифранцузскую коалицию. Командующий войсками Суворов. Освобождение северной Италии русскими войсками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2)Начал формировать антианглийскую коалицию(Дания, Швеция, Пруссия)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3)Вместе с Наполеоном готовил поход на Индию, чтобы «тревожить» английские владения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nstantia"/>
              </a:rPr>
              <a:t>4)Был великим магистром Мальтийского ордена.</a:t>
            </a:r>
            <a:endParaRPr b="0" lang="en-US" sz="3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8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1484280"/>
            <a:ext cx="83059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efac9"/>
                </a:solidFill>
                <a:latin typeface="Constantia"/>
              </a:rPr>
              <a:t>Аракчеев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efac9"/>
                </a:solidFill>
                <a:latin typeface="Constantia"/>
              </a:rPr>
              <a:t>Кутайсов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efac9"/>
                </a:solidFill>
                <a:latin typeface="Constantia"/>
              </a:rPr>
              <a:t>Обольянинов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efac9"/>
                </a:solidFill>
                <a:latin typeface="Constantia"/>
              </a:rPr>
              <a:t>Кутузов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efac9"/>
                </a:solidFill>
                <a:latin typeface="Constantia"/>
              </a:rPr>
              <a:t>Бенкендорф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60" name="Заголовок 2" descr=""/>
          <p:cNvPicPr/>
          <p:nvPr/>
        </p:nvPicPr>
        <p:blipFill>
          <a:blip r:embed="rId1"/>
          <a:stretch/>
        </p:blipFill>
        <p:spPr>
          <a:xfrm>
            <a:off x="450720" y="-60480"/>
            <a:ext cx="8321760" cy="16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0T16:25:55Z</dcterms:created>
  <dc:creator>Наталья</dc:creator>
  <dc:description/>
  <dc:language>en-US</dc:language>
  <cp:lastModifiedBy>HP</cp:lastModifiedBy>
  <dcterms:modified xsi:type="dcterms:W3CDTF">2012-03-04T08:24:29Z</dcterms:modified>
  <cp:revision>7</cp:revision>
  <dc:subject/>
  <dc:title> </dc:title>
</cp:coreProperties>
</file>