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0FA-0696-434D-ACC9-A480BBB7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9AC-7026-4D8B-985D-84B9456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712-1FEB-4E2D-A848-48E85868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6DB-D763-42D2-B5FD-2EC8C3E9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771F7-BA4B-4F00-B1F6-89D60689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C5DAD-0696-4228-9E53-59CF137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447F-33E2-4347-828D-502CC00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1B39-39B0-4966-978C-7375A336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41F55-0F7B-4D78-B0A8-304A1DDD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9C5DC-14E7-496A-9772-5CD960C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DB391-FC18-47AF-965B-B0F3FFF6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AA8-9AA6-460A-97E1-BF23AFA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42445-C538-4E50-A165-354408F8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7A6F8-B472-4967-97B1-0C2B19A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7B425-27E7-48D2-B027-4BFDCB7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434DA-3ABD-4DA7-AA76-0354D6B5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2F168-808F-43B6-97D0-9663585A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91B8-AEF2-4551-945B-042FA7E6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8217-8F7D-4A9B-9C69-7A2C3264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3B97-206D-4A2D-BD05-28668AEA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4CD8-ADF1-4411-9279-6D5FA6B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F901-4724-4B48-90F1-FE886EF8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ABB-B183-4521-A593-F5C696DC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3C78-3895-4FC8-9AEE-D5A8994A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2ADF-7324-4D17-B6FB-5FBB03F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2A6E-CF0D-4959-85C8-968D2E1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52C0-FDF6-4AB1-BEED-2D8EEFA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4C78-AAD1-45D0-92C7-CE7BF891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E049-4362-42D2-B9A3-858AF0B3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4E26-237C-49F4-B38F-08F23F4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C1426-0B82-4DB2-8603-6CAC25D0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5B390-6C62-45A4-A591-739F011D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D3AB0-9929-4653-A6E3-BD5AB1F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10F-ACDA-4229-9E98-A291334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A0BE3-FAE2-4F5A-BE8B-89AC989B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643DB-D3E8-4021-85B5-7A15053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FC375-200D-4366-901F-91FF263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1460F-6FCD-4EB0-A643-EF9E487C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6124C-D318-43E0-95E4-85B4A6F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CC2D7-89BF-47BC-A066-C08181A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14654-F1B4-4456-9808-0A94D461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69834-077F-4CFE-9F05-C400B2BA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DFABE-6E13-4AF4-857E-8577D49F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A1608-72E8-478E-B66D-0A8BDAD1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70C-B18A-4B52-A094-5B141CD9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9989D-CD36-4FB5-8037-D07A7C54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76031-989F-4A57-97A8-EA3208C4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6C044-4CC8-4BCB-A7B9-5B2468C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6BFE0-7AA8-4895-91B1-FDAC62B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F3A6B-3F3D-49F7-A0BE-BB960D36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9042F-010F-435C-AA88-062FED5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C24C6-115E-4071-980F-C4A6FF0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43F50-6930-40A1-B2BD-49DB1F1F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1EBFA-CA38-4DA4-BB5D-EFA28EFB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C0BE3-9461-423E-975C-BBF283F0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25B-5645-4304-8B27-CCD49A5D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2460D-2E9B-47FE-9B2D-153842A0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7E78F-95F5-44C5-ABB1-5CE5D08A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9A526-088B-47A8-B1C7-69D596A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138B7-FEDB-4A04-8458-46EDFA9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29655-1AF9-42E8-871B-9F5B63E7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2465A-8568-4472-A917-2540B3B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C1231-5EF1-4249-826B-0060D65D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F0F66-CD51-44F8-B19F-0F6A16F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13F59-529A-4E5A-B3CF-3BE1402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7D114-1D64-41F0-BCCF-7B4DDA0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257-14F5-4BC0-98FB-7DC0A4C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0ADED-B70D-4578-8D28-417DD1D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8DB6F-44F6-4048-899C-1EB9BD31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68526-123F-4573-8BE0-58425EBF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047-79D0-4C41-A66A-A8D2FCE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E67-FEE7-4112-AB7A-9F865F8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DD5-7A7B-48C2-9F99-F34358C34C0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50B1-6AA4-40B9-9204-92B94FFD716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825-4EBE-44A4-8AF6-50BAB3DD8FA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903-2817-4FA8-8887-1360D4300C0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B87-CFC7-4D65-B8B8-A0ED247B0E9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565-BB22-46B6-AC70-83CE24A8896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-360" y="1523880"/>
            <a:ext cx="42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авел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мператор Всероссийский 17 ноября 1796 — 24 марта 180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2" descr="C:\Users\Наталья\Downloads\Borovikovskiy_PtPavla1GRM.jpg"/>
          <p:cNvPicPr/>
          <p:nvPr/>
        </p:nvPicPr>
        <p:blipFill>
          <a:blip r:embed="rId2"/>
          <a:stretch/>
        </p:blipFill>
        <p:spPr>
          <a:xfrm>
            <a:off x="4211640" y="-15840"/>
            <a:ext cx="4932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1)Ввел четкую систему престолонаслед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2)Восстановил систему коллеги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3)Учредил манифест о трехдневной барщин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4)Существенно сузил права дворян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5)Ввел строжайшую дисциплину в арми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6)В его царствование была жесткая цензура: запрещен выезд за границу, импорт книг и т.п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32176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1)1798 год- вступление России в антифранцузскую коалицию. Командующий войсками Суворов. Освобождение северной Италии русскими войсками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2)Начал формировать антианглийскую коалицию(Дания, Швеция, Пруссия)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3)Вместе с Наполеоном готовил поход на Индию, чтобы «тревожить» английские владения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4)Был великим магистром Мальтийского орден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Аракчее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Кутайсо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Обольянино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Кутузо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Бенкендорф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Заголовок 2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32176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6:25:55Z</dcterms:created>
  <dc:creator>Наталья</dc:creator>
  <dc:description/>
  <dc:language>en-US</dc:language>
  <cp:lastModifiedBy>HP</cp:lastModifiedBy>
  <dcterms:modified xsi:type="dcterms:W3CDTF">2012-03-04T08:24:29Z</dcterms:modified>
  <cp:revision>7</cp:revision>
  <dc:subject/>
  <dc:title> </dc:title>
</cp:coreProperties>
</file>