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355-6BCE-47DF-8685-48ED791B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C1B-9355-43A3-966E-F70E563F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6AC-AEE1-43CD-AC17-E2CE04F9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041-49A1-487F-BE1A-9EEE96E3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81B-25C2-4AA5-9CF0-87A659C6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6AC-0B4C-45BD-9502-F3FA21B5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090-F0F4-45CA-B9B7-E5CE9A54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E15-C064-400C-B8F1-43F81B83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301-D5A3-4E81-A0C0-344AF38C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15A-33BE-4550-9D11-54E04B73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D5E-7B6F-4FCA-8757-D7525149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04A-F15F-43D7-80C8-54374424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F33C-37D7-4BAF-8473-C14541025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image" Target="../media/image10.png"/><Relationship Id="rId5" Type="http://schemas.openxmlformats.org/officeDocument/2006/relationships/slide" Target="slide13.xml"/><Relationship Id="rId6" Type="http://schemas.openxmlformats.org/officeDocument/2006/relationships/image" Target="../media/image11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5.xml"/><Relationship Id="rId10" Type="http://schemas.openxmlformats.org/officeDocument/2006/relationships/image" Target="../media/image13.png"/><Relationship Id="rId11" Type="http://schemas.openxmlformats.org/officeDocument/2006/relationships/slide" Target="slide16.xml"/><Relationship Id="rId12" Type="http://schemas.openxmlformats.org/officeDocument/2006/relationships/image" Target="../media/image14.png"/><Relationship Id="rId13" Type="http://schemas.openxmlformats.org/officeDocument/2006/relationships/slide" Target="slide17.xml"/><Relationship Id="rId14" Type="http://schemas.openxmlformats.org/officeDocument/2006/relationships/image" Target="../media/image15.png"/><Relationship Id="rId15" Type="http://schemas.openxmlformats.org/officeDocument/2006/relationships/slide" Target="slide18.xml"/><Relationship Id="rId16" Type="http://schemas.openxmlformats.org/officeDocument/2006/relationships/image" Target="../media/image16.png"/><Relationship Id="rId17" Type="http://schemas.openxmlformats.org/officeDocument/2006/relationships/slide" Target="slide19.xml"/><Relationship Id="rId1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638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2281" r="2157" b="4174"/>
          <a:stretch/>
        </p:blipFill>
        <p:spPr>
          <a:xfrm>
            <a:off x="2057400" y="304920"/>
            <a:ext cx="58928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50508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 rot="3049800">
            <a:off x="2749680" y="-2523960"/>
            <a:ext cx="3247920" cy="12335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125360"/>
            <a:ext cx="7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182600">
            <a:off x="3348000" y="242064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9182600">
            <a:off x="3564000" y="263664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182600">
            <a:off x="3780000" y="2852280"/>
            <a:ext cx="1871640" cy="14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9182600">
            <a:off x="4211640" y="328428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9182600">
            <a:off x="4427640" y="3499920"/>
            <a:ext cx="1871640" cy="14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182600">
            <a:off x="4642920" y="3716280"/>
            <a:ext cx="187200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68360" y="-316080"/>
            <a:ext cx="8567640" cy="71740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9182600">
            <a:off x="3995640" y="306828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20154600">
            <a:off x="-180720" y="-316080"/>
            <a:ext cx="3849840" cy="2511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2969400">
            <a:off x="6733440" y="4364640"/>
            <a:ext cx="3493800" cy="2006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9218000">
            <a:off x="-1476000" y="2830320"/>
            <a:ext cx="9899640" cy="6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218000">
            <a:off x="611280" y="4149360"/>
            <a:ext cx="9899640" cy="6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572000" y="4292640"/>
            <a:ext cx="5047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788000" y="4797360"/>
            <a:ext cx="7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-1405080" y="4869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 rot="19521600">
            <a:off x="8028000" y="-2043000"/>
            <a:ext cx="180504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E-006 -4.06105E-006 L 0.4658 -0.48103 E">
                                      <p:cBhvr>
                                        <p:cTn id="5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5828 L -0.36632 0.40449 E">
                                      <p:cBhvr>
                                        <p:cTn id="5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58 -0.48103 L 0.68507 -0.18871 E">
                                      <p:cBhvr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32 0.40449 L -1.08298 1.19773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507 -0.18872 L 1.02257 0.30273 E">
                                      <p:cBhvr>
                                        <p:cTn id="67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50508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 rot="3049800">
            <a:off x="2749680" y="-2523960"/>
            <a:ext cx="3247920" cy="12335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125360"/>
            <a:ext cx="7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9182600">
            <a:off x="3348000" y="242064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182600">
            <a:off x="3564000" y="263664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182600">
            <a:off x="3780000" y="2852280"/>
            <a:ext cx="1871640" cy="14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182600">
            <a:off x="4211640" y="328428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182600">
            <a:off x="4427640" y="3499920"/>
            <a:ext cx="1871640" cy="14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182600">
            <a:off x="4642920" y="3716280"/>
            <a:ext cx="187200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68360" y="-316080"/>
            <a:ext cx="8567640" cy="71740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182600">
            <a:off x="3995640" y="306828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0154600">
            <a:off x="-180720" y="-316080"/>
            <a:ext cx="3849840" cy="251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2969400">
            <a:off x="6733440" y="4364640"/>
            <a:ext cx="3493800" cy="2006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19218000">
            <a:off x="-1476000" y="2830320"/>
            <a:ext cx="9899640" cy="6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218000">
            <a:off x="611280" y="4149360"/>
            <a:ext cx="9899640" cy="6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292640"/>
            <a:ext cx="5047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788000" y="4797360"/>
            <a:ext cx="7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3200" y="981000"/>
            <a:ext cx="6527880" cy="1068840"/>
          </a:xfrm>
          <a:prstGeom prst="rect">
            <a:avLst/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ля пешеходов есть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ТРОТУАР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ПЕШЕХОДНАЯ ДОР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227280" y="404640"/>
            <a:ext cx="360360" cy="7207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24000" y="1989000"/>
            <a:ext cx="287640" cy="792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ОРОЖНЫЕ ЗНАКИ ДЛЯ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16000" y="177336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71640" y="3559320"/>
            <a:ext cx="1512720" cy="1382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3645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03640" y="170028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148360" y="1700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292720" y="3645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08720" y="3573360"/>
            <a:ext cx="111780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08720" y="1700280"/>
            <a:ext cx="1133640" cy="158436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17" action="ppaction://hlinksldjump"/>
          </p:cNvPr>
          <p:cNvSpPr/>
          <p:nvPr/>
        </p:nvSpPr>
        <p:spPr>
          <a:xfrm>
            <a:off x="4140360" y="5445000"/>
            <a:ext cx="934920" cy="900360"/>
          </a:xfrm>
          <a:custGeom>
            <a:avLst/>
            <a:gdLst>
              <a:gd name="textAreaLeft" fmla="*/ 58320 w 934920"/>
              <a:gd name="textAreaRight" fmla="*/ 876600 w 93492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22429" h="21600">
                <a:moveTo>
                  <a:pt x="0" y="0"/>
                </a:moveTo>
                <a:lnTo>
                  <a:pt x="22429" y="0"/>
                </a:lnTo>
                <a:lnTo>
                  <a:pt x="22429" y="21600"/>
                </a:lnTo>
                <a:lnTo>
                  <a:pt x="0" y="21600"/>
                </a:lnTo>
                <a:close/>
              </a:path>
              <a:path fill="lightenLess" w="22429" h="21600">
                <a:moveTo>
                  <a:pt x="0" y="0"/>
                </a:moveTo>
                <a:lnTo>
                  <a:pt x="22429" y="0"/>
                </a:lnTo>
                <a:lnTo>
                  <a:pt x="21029" y="1400"/>
                </a:lnTo>
                <a:lnTo>
                  <a:pt x="1400" y="1400"/>
                </a:lnTo>
                <a:close/>
              </a:path>
              <a:path fill="darken" w="22429" h="21600">
                <a:moveTo>
                  <a:pt x="22429" y="0"/>
                </a:moveTo>
                <a:lnTo>
                  <a:pt x="22429" y="21600"/>
                </a:lnTo>
                <a:lnTo>
                  <a:pt x="21029" y="20200"/>
                </a:lnTo>
                <a:lnTo>
                  <a:pt x="21029" y="1400"/>
                </a:lnTo>
                <a:close/>
              </a:path>
              <a:path fill="darkenLess" w="22429" h="21600">
                <a:moveTo>
                  <a:pt x="22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9" y="20200"/>
                </a:lnTo>
                <a:close/>
              </a:path>
              <a:path fill="lighten" w="22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9" h="21600">
                <a:moveTo>
                  <a:pt x="14713" y="10800"/>
                </a:moveTo>
                <a:lnTo>
                  <a:pt x="4208" y="17806"/>
                </a:lnTo>
                <a:lnTo>
                  <a:pt x="4208" y="3794"/>
                </a:lnTo>
                <a:close/>
              </a:path>
              <a:path fill="darken" w="22429" h="21600">
                <a:moveTo>
                  <a:pt x="16558" y="3794"/>
                </a:moveTo>
                <a:lnTo>
                  <a:pt x="16558" y="17806"/>
                </a:lnTo>
                <a:lnTo>
                  <a:pt x="18221" y="17806"/>
                </a:lnTo>
                <a:lnTo>
                  <a:pt x="18221" y="379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19640" y="1125360"/>
            <a:ext cx="2304720" cy="230508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860640"/>
            <a:ext cx="64090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АЗРЕШАЕТ ПЕШЕХОДАМ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ЕРЕХОД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492360" y="1268280"/>
            <a:ext cx="2159280" cy="1973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3726000"/>
            <a:ext cx="684036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РЕДУПРЕЖДАЕТ О НАЛИЧИИ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А НИМ ПЕШЕХОДНОГО ПЕРЕ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1944720" cy="1913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3789360"/>
            <a:ext cx="64090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АЗРЕШАЕТ ДВИЖЕНИЕ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3789360"/>
            <a:ext cx="64090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АПРЕЩАЕТ ДВИЖЕНИЕ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3024360" cy="3024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3789360"/>
            <a:ext cx="640908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АЗРЕШАЕТ ДВИЖЕНИЕ ВЕЛОСИПЕДИСТОВ,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МОПЕДИСТОВ,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3789360"/>
            <a:ext cx="640908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АПРЕЩАЕТ ДВИЖЕНИЕ ВЕЛОСИПЕДИСТОВ,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МОПЕДИСТОВ,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352680"/>
            <a:ext cx="914400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5560" y="4648320"/>
            <a:ext cx="957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038480"/>
            <a:ext cx="920448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96080" y="3657600"/>
            <a:ext cx="1228680" cy="923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Учимся быть пешеходам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0792800">
            <a:off x="218520" y="5024880"/>
            <a:ext cx="892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чень  важная  наука 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авила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вижения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,  и  должны  их  соблюдать  все  без  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66667E-006 7.40741E-007 L 1.00798 7.40741E-007 E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5E-006 -4.81481E-006 L -1.16563 0.00625 E"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19640" y="836640"/>
            <a:ext cx="1957320" cy="2736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3789360"/>
            <a:ext cx="568980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ЕШЕХОДЫ ИМЕЮТ ПРЕИМУЩЕСТВО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ЕРЕД ТРАНСПОР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64000" y="765000"/>
            <a:ext cx="1930320" cy="2737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3789360"/>
            <a:ext cx="676944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РЕИМУЩЕСТВО ПЕШЕХОДОВ ПЕРЕД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ТРАНСПОРТОМ  ЗАКАНЧ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Правила перехода дор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рогу надо переходить только на зеленый сигнал свето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еходить дорогу следует по пешеходным переход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Если нет поблизости пешеходных переходов и светофоров, переходи  дорогу по прямой, посмотрев во все стороны, налево, направо и убедившись в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321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3645000"/>
            <a:ext cx="7561440" cy="1727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ТОТ ОТЛИЧНЫЙ ПЕШЕ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КТО ПО ПРАВИЛАМ ИДЕ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688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620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9552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4484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95960" y="0"/>
            <a:ext cx="35208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45280" y="0"/>
            <a:ext cx="35208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9460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4392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9468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4722 0.0104 L 0.94497 4.56647E-006 E">
                                      <p:cBhvr>
                                        <p:cTn id="87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39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7905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 школе  вы  ученик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  в  театре- зрите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  в  музее,  зооп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се  мы  посет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  коль  на  улицу  ты  выш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най,  приятель,  на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сех  названий  стал  ты 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ал  ты  сразу …………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33920" y="2362320"/>
            <a:ext cx="934920" cy="237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243828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276720"/>
            <a:ext cx="64764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038480"/>
            <a:ext cx="647640" cy="648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4724280"/>
            <a:ext cx="71280" cy="115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867280"/>
            <a:ext cx="649440" cy="144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15920"/>
            <a:ext cx="8129520" cy="187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ветофор регулирует дви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ранспорта и пешех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а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2062080"/>
            <a:ext cx="934920" cy="2376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2205000"/>
            <a:ext cx="64764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4438800"/>
            <a:ext cx="71640" cy="115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4560" y="5589720"/>
            <a:ext cx="649080" cy="144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2133720"/>
            <a:ext cx="568800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сигнал  - ОСТАНОВ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97180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73392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71640" y="2062080"/>
            <a:ext cx="934920" cy="2376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4560" y="2925720"/>
            <a:ext cx="64764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4438800"/>
            <a:ext cx="71640" cy="115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4560" y="5589720"/>
            <a:ext cx="649080" cy="144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2997360"/>
            <a:ext cx="568800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ЖЕЛТЫЙ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сигнал  - ПРИГОТОВ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209680"/>
            <a:ext cx="603360" cy="601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365760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1640" y="2062080"/>
            <a:ext cx="934920" cy="2376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4560" y="3646440"/>
            <a:ext cx="647640" cy="64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4438800"/>
            <a:ext cx="71640" cy="115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4560" y="5589720"/>
            <a:ext cx="649080" cy="144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3862440"/>
            <a:ext cx="568800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ЗЕЛЕНЫЙ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сигнал  - ДВИГА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13372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895480"/>
            <a:ext cx="603360" cy="601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577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=)</cp:lastModifiedBy>
  <dcterms:modified xsi:type="dcterms:W3CDTF">2011-01-19T13:21:3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