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F74-5788-417A-9410-2690FF43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50F-FE5B-4ACF-97B0-63E058A7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BD2-1207-422A-BB1A-CF6D2873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143-1DE7-4CE6-AF1F-1798E343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3A6-102F-43C8-A73D-7E016056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712-85FD-4757-9058-7EF4BAAD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449-CC92-4E3E-9886-6A667226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791-2955-4969-9A5A-7B87658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B9F-16F9-45C4-BB58-2E08AB0B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88F-7228-4D88-98FE-3EB3CC0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D9A-8D0A-4736-A6B5-D680826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B79-2A1F-4948-8B04-A220A4FC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7571-AC49-4909-A402-ADDA783A3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slide" Target="slide13.xml"/><Relationship Id="rId6" Type="http://schemas.openxmlformats.org/officeDocument/2006/relationships/image" Target="../media/image11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5.xml"/><Relationship Id="rId10" Type="http://schemas.openxmlformats.org/officeDocument/2006/relationships/image" Target="../media/image13.png"/><Relationship Id="rId11" Type="http://schemas.openxmlformats.org/officeDocument/2006/relationships/slide" Target="slide16.xml"/><Relationship Id="rId12" Type="http://schemas.openxmlformats.org/officeDocument/2006/relationships/image" Target="../media/image14.png"/><Relationship Id="rId13" Type="http://schemas.openxmlformats.org/officeDocument/2006/relationships/slide" Target="slide17.xml"/><Relationship Id="rId14" Type="http://schemas.openxmlformats.org/officeDocument/2006/relationships/image" Target="../media/image15.png"/><Relationship Id="rId15" Type="http://schemas.openxmlformats.org/officeDocument/2006/relationships/slide" Target="slide18.xml"/><Relationship Id="rId16" Type="http://schemas.openxmlformats.org/officeDocument/2006/relationships/image" Target="../media/image16.png"/><Relationship Id="rId17" Type="http://schemas.openxmlformats.org/officeDocument/2006/relationships/slide" Target="slide19.xml"/><Relationship Id="rId1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638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2281" r="2157" b="4174"/>
          <a:stretch/>
        </p:blipFill>
        <p:spPr>
          <a:xfrm>
            <a:off x="2057400" y="304920"/>
            <a:ext cx="58928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50508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 rot="3049800">
            <a:off x="2749680" y="-2523960"/>
            <a:ext cx="3247920" cy="12335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25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182600">
            <a:off x="3348000" y="2420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9182600">
            <a:off x="3564000" y="2636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182600">
            <a:off x="3780000" y="285228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182600">
            <a:off x="4211640" y="3284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9182600">
            <a:off x="4427640" y="349992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182600">
            <a:off x="4642920" y="3716280"/>
            <a:ext cx="187200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8360" y="-316080"/>
            <a:ext cx="8567640" cy="71740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182600">
            <a:off x="3995640" y="3068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0154600">
            <a:off x="-180720" y="-316080"/>
            <a:ext cx="3849840" cy="251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969400">
            <a:off x="6733440" y="4364640"/>
            <a:ext cx="3493800" cy="200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9218000">
            <a:off x="-1476000" y="283032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218000">
            <a:off x="611280" y="414936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5047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788000" y="4797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-1405080" y="4869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 rot="19521600">
            <a:off x="8028000" y="-2043000"/>
            <a:ext cx="180504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E-006 -4.06105E-006 L 0.4658 -0.48103 E">
                                      <p:cBhvr>
                                        <p:cTn id="5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5828 L -0.36632 0.40449 E">
                                      <p:cBhvr>
                                        <p:cTn id="5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8 -0.48103 L 0.68507 -0.18871 E">
                                      <p:cBhvr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32 0.40449 L -1.08298 1.19773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507 -0.18872 L 1.02257 0.30273 E">
                                      <p:cBhvr>
                                        <p:cTn id="67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50508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 rot="3049800">
            <a:off x="2749680" y="-2523960"/>
            <a:ext cx="3247920" cy="12335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125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9182600">
            <a:off x="3348000" y="2420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82600">
            <a:off x="3564000" y="263664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182600">
            <a:off x="3780000" y="285228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82600">
            <a:off x="4211640" y="3284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82600">
            <a:off x="4427640" y="3499920"/>
            <a:ext cx="187164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182600">
            <a:off x="4642920" y="3716280"/>
            <a:ext cx="187200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8360" y="-316080"/>
            <a:ext cx="8567640" cy="71740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82600">
            <a:off x="3995640" y="3068280"/>
            <a:ext cx="18716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0154600">
            <a:off x="-180720" y="-316080"/>
            <a:ext cx="3849840" cy="251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969400">
            <a:off x="6733440" y="4364640"/>
            <a:ext cx="3493800" cy="2006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9218000">
            <a:off x="-1476000" y="283032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218000">
            <a:off x="611280" y="4149360"/>
            <a:ext cx="9899640" cy="6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5047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788000" y="4797360"/>
            <a:ext cx="7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0" y="981000"/>
            <a:ext cx="6527880" cy="1068840"/>
          </a:xfrm>
          <a:prstGeom prst="rect">
            <a:avLst/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ля пешеходов есть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ТРОТУА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ЕШЕХОДНАЯ ДОР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27280" y="404640"/>
            <a:ext cx="360360" cy="720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24000" y="1989000"/>
            <a:ext cx="287640" cy="792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ОРОЖНЫЕ ЗНАКИ ДЛЯ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6000" y="177336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71640" y="3559320"/>
            <a:ext cx="1512720" cy="138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3645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1700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48360" y="1700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292720" y="3645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08720" y="3573360"/>
            <a:ext cx="111780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08720" y="1700280"/>
            <a:ext cx="113364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17" action="ppaction://hlinksldjump"/>
          </p:cNvPr>
          <p:cNvSpPr/>
          <p:nvPr/>
        </p:nvSpPr>
        <p:spPr>
          <a:xfrm>
            <a:off x="4140360" y="5445000"/>
            <a:ext cx="934920" cy="900360"/>
          </a:xfrm>
          <a:custGeom>
            <a:avLst/>
            <a:gdLst>
              <a:gd name="textAreaLeft" fmla="*/ 58320 w 934920"/>
              <a:gd name="textAreaRight" fmla="*/ 876600 w 93492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22429" h="21600">
                <a:moveTo>
                  <a:pt x="0" y="0"/>
                </a:moveTo>
                <a:lnTo>
                  <a:pt x="22429" y="0"/>
                </a:lnTo>
                <a:lnTo>
                  <a:pt x="22429" y="21600"/>
                </a:lnTo>
                <a:lnTo>
                  <a:pt x="0" y="21600"/>
                </a:lnTo>
                <a:close/>
              </a:path>
              <a:path fill="lightenLess" w="22429" h="21600">
                <a:moveTo>
                  <a:pt x="0" y="0"/>
                </a:moveTo>
                <a:lnTo>
                  <a:pt x="22429" y="0"/>
                </a:lnTo>
                <a:lnTo>
                  <a:pt x="21029" y="1400"/>
                </a:lnTo>
                <a:lnTo>
                  <a:pt x="1400" y="1400"/>
                </a:lnTo>
                <a:close/>
              </a:path>
              <a:path fill="darken" w="22429" h="21600">
                <a:moveTo>
                  <a:pt x="22429" y="0"/>
                </a:moveTo>
                <a:lnTo>
                  <a:pt x="22429" y="21600"/>
                </a:lnTo>
                <a:lnTo>
                  <a:pt x="21029" y="20200"/>
                </a:lnTo>
                <a:lnTo>
                  <a:pt x="21029" y="1400"/>
                </a:lnTo>
                <a:close/>
              </a:path>
              <a:path fill="darkenLess" w="22429" h="21600">
                <a:moveTo>
                  <a:pt x="22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9" y="20200"/>
                </a:lnTo>
                <a:close/>
              </a:path>
              <a:path fill="lighten" w="22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9" h="21600">
                <a:moveTo>
                  <a:pt x="14713" y="10800"/>
                </a:moveTo>
                <a:lnTo>
                  <a:pt x="4208" y="17806"/>
                </a:lnTo>
                <a:lnTo>
                  <a:pt x="4208" y="3794"/>
                </a:lnTo>
                <a:close/>
              </a:path>
              <a:path fill="darken" w="22429" h="21600">
                <a:moveTo>
                  <a:pt x="16558" y="3794"/>
                </a:moveTo>
                <a:lnTo>
                  <a:pt x="16558" y="17806"/>
                </a:lnTo>
                <a:lnTo>
                  <a:pt x="18221" y="17806"/>
                </a:lnTo>
                <a:lnTo>
                  <a:pt x="18221" y="379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2304720" cy="230508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860640"/>
            <a:ext cx="64090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ЕШАЕТ ПЕШЕХОДАМ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ЕРЕХОД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2159280" cy="1973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3726000"/>
            <a:ext cx="684036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ЕДУПРЕЖДАЕТ О НАЛИЧИ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 НИМ ПЕШЕХОДНОГО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1944720" cy="1913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789360"/>
            <a:ext cx="64090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ЕШАЕТ ДВИЖЕНИЕ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789360"/>
            <a:ext cx="64090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ПРЕЩАЕТ ДВИЖЕНИЕ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3789360"/>
            <a:ext cx="64090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РЕШАЕТ ДВИЖЕНИЕ ВЕЛОСИПЕДИСТОВ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ОПЕДИСТОВ,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3789360"/>
            <a:ext cx="64090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ПРЕЩАЕТ ДВИЖЕНИЕ ВЕЛОСИПЕДИСТОВ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ОПЕДИСТОВ,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352680"/>
            <a:ext cx="914400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5560" y="4648320"/>
            <a:ext cx="957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038480"/>
            <a:ext cx="920448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96080" y="3657600"/>
            <a:ext cx="122868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Учимся быть пешеходам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792800">
            <a:off x="218520" y="5024880"/>
            <a:ext cx="892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чень  важная  наука 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авила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вижен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 и  должны  их  соблюдать  все  без  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66667E-006 7.40741E-007 L 1.00798 7.40741E-007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5E-006 -4.81481E-006 L -1.16563 0.00625 E"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19640" y="836640"/>
            <a:ext cx="195732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89360"/>
            <a:ext cx="568980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ЕШЕХОДЫ ИМЕЮТ ПРЕИМУЩЕСТВО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ЕРЕД ТРАНСПО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1930320" cy="273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812000" y="5445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3789360"/>
            <a:ext cx="676944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ЕИМУЩЕСТВО ПЕШЕХОДОВ ПЕРЕД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ТРАНСПОРТОМ  ЗАКАН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Правила перехода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рогу надо переходить только на зеленый сигнал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еходить дорогу следует по пешеходным перехо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Если нет поблизости пешеходных переходов и светофоров, переходи  дорогу по прямой, посмотрев во все стороны, налево, направо и убедившись в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321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645000"/>
            <a:ext cx="7561440" cy="1727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ТОТ ОТЛИЧНЫЙ ПЕШЕ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ТО ПО ПРАВИЛАМ ИД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688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620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9552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4484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95960" y="0"/>
            <a:ext cx="35208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45280" y="0"/>
            <a:ext cx="35208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9460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4392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94680" y="0"/>
            <a:ext cx="35244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4722 0.0104 L 0.94497 4.56647E-006 E">
                                      <p:cBhvr>
                                        <p:cTn id="87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7905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 школе  вы  учени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 в  театре- зрите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 в  музее,  зоо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  мы  посет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 коль  на  улицу  ты  выш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й,  приятель,  на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х  названий  стал  ты 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ал  ты  сразу …………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33920" y="2362320"/>
            <a:ext cx="934920" cy="23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43828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038480"/>
            <a:ext cx="647640" cy="64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724280"/>
            <a:ext cx="7128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867280"/>
            <a:ext cx="649440" cy="144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15920"/>
            <a:ext cx="812952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ветофор регулирует 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ранспорта и пешех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2062080"/>
            <a:ext cx="934920" cy="23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220500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438800"/>
            <a:ext cx="7164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4560" y="5589720"/>
            <a:ext cx="64908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133720"/>
            <a:ext cx="568800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сигнал  - ОСТАНОВ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9718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7339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1640" y="2062080"/>
            <a:ext cx="934920" cy="23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4560" y="292572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4438800"/>
            <a:ext cx="7164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5589720"/>
            <a:ext cx="64908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2997360"/>
            <a:ext cx="568800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ЖЕЛТЫЙ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сигнал  - ПРИГОТОВ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209680"/>
            <a:ext cx="603360" cy="601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6576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2062080"/>
            <a:ext cx="934920" cy="23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4560" y="3646440"/>
            <a:ext cx="64764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4438800"/>
            <a:ext cx="71640" cy="115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589720"/>
            <a:ext cx="64908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3862440"/>
            <a:ext cx="568800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ЕЛЕНЫЙ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сигнал  - ДВИГА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1337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895480"/>
            <a:ext cx="603360" cy="601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577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=)</cp:lastModifiedBy>
  <dcterms:modified xsi:type="dcterms:W3CDTF">2011-01-19T13:21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