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ABC-69BC-4101-B14C-6F9AA018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0F9-B828-4D58-B945-12CDE24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8C0-A8A4-4DF1-8FFE-4C40A3E1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EAD-0E33-4815-90E8-52CBBE4A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C295-50A7-42A1-A873-4E98CA27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0FB-026A-482D-823B-0186480A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FB1-8B81-411F-BE5A-D586DE2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D66C-EDFA-4576-8F51-875EDA7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1C83-23CA-4D25-BE9F-1EAC9438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99EE-DEE9-4F9B-93E3-F18790BC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8C6D-2758-4E29-B528-F2668E6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4B0-2B69-4266-A4BD-B6F74E93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5A49-788E-496E-80AB-8294E509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5FD0-8A8A-4FC5-87D2-5E1FBDA8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2868-160F-4115-A85D-06CA738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5D5F-3B75-4673-BDCE-34EC4C64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84CE-2BC5-41E9-A479-4DB88F25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2D67-A2B3-4E2C-891B-749719F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995F-D83F-4601-A296-4F13585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FCD4-2FFC-4CED-8E0A-FADF31E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2724-6D2D-4D58-A8C1-6A6C778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A407-8E6E-4CA4-8EB0-C19541B5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298-8A5D-494F-BFFA-618562F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4F82-49AF-483D-B632-6E8C0E77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FA3A-4C16-4A45-9857-7F9EE37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2517-435C-4841-B7A4-0F22DBC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EA49-DFAB-464F-B133-04D6412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95ED-3877-47A5-8C41-359DB8A0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3C8B-0EAA-44A0-9F15-9EEFA38D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4A2C-97AD-4E01-B636-BF15C163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82CF-5DCE-4C3A-97C4-0E027B47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AA86-8383-4FFA-850D-29AFC4C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1EA3-5F83-4F38-8DA4-614FE43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7A0-53D3-4064-A92F-5A6F8082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B03F-D346-455D-A253-F86E022A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47D9-85BE-43A6-AEB7-E6844731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5494-05ED-4062-B4B7-78E044B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99D2-64F4-408E-94C9-71E3EED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BDF9-3614-4333-BEDD-23C7AE5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2099-1E8E-4E0C-90A8-F09B4C9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E266-52CB-477A-82BA-361A9917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FD0E-EA27-41EE-A42A-0C2845DB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C698-2340-4D23-820B-B046BF47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FE2D0-88A4-4A96-A6F1-02359F68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2BE-96D3-4049-A4FD-FA30412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0EF6B-CE73-459C-9172-E6CFFC7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F4DB-81E1-4299-9021-FAC2FCB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310A-E824-4806-BF76-DE81E63D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2419-2C67-459A-B560-0D9FF0C4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0B788-48E7-4C98-A547-5C53BA9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3A95B-469D-4F96-8016-EAEB7C5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3516-B82D-45A4-8A53-F023976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7E22-BC26-49F1-8167-BF24DC8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CBE6-E298-4EE1-90B8-0A778E20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1AB5-B2F4-4C99-8F0F-3D637DAB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8E5-D199-43C3-B5CB-74FD833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F5FB-3673-4CC8-94CE-0C6BC69B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F2E-70F5-4961-9F96-6A0ECA2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867-1A8E-44FD-AC7C-3C391C7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656-9450-418C-A6E9-6010E42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C33-9230-478D-A2E0-366AC67292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0CD-5E32-4D35-AE0D-19347E9DF3F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70DE-A565-4DB0-9F63-BC3CD5C810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C8D-2C54-4B1E-81C5-5DD35C6C35C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2EE-EBEF-49D0-9408-2595886D42B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ыполнила: учитель русского языка и литературы Варнина Н.А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24 г.Ковров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914400" y="1295280"/>
            <a:ext cx="5943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* *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 пережил свои желан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 разлюбил свои меч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та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е одн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адан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лоды сердечной пуст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бурями судьбы жесто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ял цветущий мой венец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 печальный, одино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ду: придет ли мой ко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поздним хладом поражен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ри слышен зимний сви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 ветке обна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пещет запоздалый лист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4"/>
          <p:cNvSpPr/>
          <p:nvPr/>
        </p:nvSpPr>
        <p:spPr>
          <a:xfrm>
            <a:off x="2286000" y="158256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ь тяжело подчас в ней брем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а на ходу лег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мщик лихой, седое врем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зет, не слезет с облу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ут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имся мы в телег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ы рады голову сло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 презирая лень и нег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чим: пошел!    .    .    .   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 в полдень нет уж той отваги ; Порастрясло нас; нам страш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косогоры и овра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чим: полегче, дурале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ит по-прежнему телег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 вече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ривыкли к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д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дем до ночлег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ремя гонит лоша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2819520" y="9144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2286000" y="2550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* Если жизнь тебя обман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печалься, не сердис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день уныния смирис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ень веселья, верь, настанет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 в будущем живе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ее уныл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 мгновенно, все пройдет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о пройдет, то будет мил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295280" y="762120"/>
            <a:ext cx="556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для смертног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молкнет шумный д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немые стогны 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прозрачная наляж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чи т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н, дневных трудов награ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 время для меня влачатся в тиш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асы томительного бдень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здействии ночном живей горят во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меи сердечной угрызень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чты кипя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в уме, подавленном тоской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сни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яжк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ум избы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споминание безмолвно предо м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 длинный развивает свито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с отвращением читая жизнь мою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 трепещу и проклинаю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орько жалую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орько слезы лью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 строк печальных не смываю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2286000" y="15228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оми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1523880" y="1600200"/>
            <a:ext cx="5105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 напрасный, дар случай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знь, зачем ты мне да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дьбою тай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 казн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ужд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 враждебной вла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ичтожества воззвал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у мн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полн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асть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мнень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волновал?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и нет передо м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ердце пусто, празден 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мит меня тоск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днозвучный жизни ш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мая 182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р. 5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ьте на вопросы задания 14,1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219320" y="152388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* * Два чувства дивно близки нам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обретает сердце пищу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родному пепелищ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отеческим гроб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ворящая святын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была б без них мер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алтарь без бож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анр лирики, посвященный печальным раздумьям, это стихотворение грустного содержания, состоящее из двух частей: описания природы ( в русской поэзии приобретает философское звучание) размышлений лирического геро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3"/>
          <p:cNvSpPr/>
          <p:nvPr/>
        </p:nvSpPr>
        <p:spPr>
          <a:xfrm>
            <a:off x="1295280" y="1676520"/>
            <a:ext cx="556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, мой друг, пора! покоя сердца проси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ят за днями дни, и каждый час уно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ку бытия, а мы с тобой вдвоём Предполагаем жить, и глядь - как раз - умр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ете счастья нет, но есть покой и в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о завидная мечтается мне дол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о, усталый раб, замыслил я поб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итель дальную трудов и чистых н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6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иветствую тебя, пустынный уголо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иют спокойствия, трудов и вдохновень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де льется дней моих невидимый пот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     На лоне счастья и забвен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Я твой: я променял порочный двор цирце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Роскошные пиры, забавы, заблуждень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а мирный шум дубров, на тишину поле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а праздность вольную, подругу размышленья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    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Я твой: люблю сей темный са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     С его прохладой и цветам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Сей луг, уставленный душистыми скирдам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де светлые ручьи в кустарниках шумя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езде передо мной подвижные картин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десь вижу двух озер лазурные равнин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де парус рыбаря белеет иногд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 ними ряд холмов и нивы полосат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     Вдали рассыпанные хат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а влажных берегах бродящие стад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вины дымные и мельницы крил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  Везде следы довольства и труда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Я здесь, от суетных оков освобожденн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Учуся в истине блаженство находи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Свободною душой закон боготвори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Роптанью не внимать толпы непросвещенной,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38120" y="106668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частьем отвечать застенчивой мольб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И не завидывать судьб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Злодея иль глупца — в величии неправом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ракулы веков, здесь вопрошаю вас!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В уединенье величавом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Слышнее ваш отрадный глас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Он гонит лени сон угрюмый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К трудам рождает жар во мне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И ваши творческие думы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В душевной зреют глубине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о мысль ужасная здесь душу омрачает: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Среди цветущих нив и гор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Друг человечества печально замечае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зде невежества убийственный позор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Не видя слез, не внемля стона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 пагубу людей избранное судьбой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Здесь </a:t>
            </a:r>
            <a:r>
              <a:rPr b="0" i="1" lang="ru-RU" sz="1100" spc="-1" strike="noStrike">
                <a:solidFill>
                  <a:srgbClr val="000000"/>
                </a:solidFill>
                <a:latin typeface="Trebuchet MS"/>
              </a:rPr>
              <a:t>барство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дикое, без чувства, без закона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исвоило себе насильственной лозой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 труд, и собственность, и время земледельца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клонясь на чуждый плуг, покорствуя бичам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Здесь рабство тощее влачится по браздам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Неумолимого владельца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Здесь тягостный ярем до гроба все влекут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дежд и склонностей в душе питать не смея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   Здесь девы юные цвету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   Для прихоти бесчувственной злодея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пора милая стареющих отцов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Младые сыновья, товарищи трудов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з хижины родной идут собой умножить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Дворовые толпы измученных рабов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, если б голос мой умел сердца тревожить!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что в груди моей горит бесплодный жар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 не дан мне судьбой витийства грозный дар?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вижу ль, о друзья! народ неугнетенный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 рабство, падшее по манию царя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 над отечеством свободы просвещенной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зойдет ли наконец прекрасная заря?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греч. philosophía - любовь к мудрости, от philéo - люблю и sophía - мудрость) общие принципы бытия и познания; отношении человека и мира; всеобщие законы развития природы, общества и мышления. Философия вырабатывает обобщённую систему взглядов на мир и на место в нём чело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дание №2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ый способ художественного мышления и осмысления жизни. При сочинении стихотворения или при чтении его, при исполнении песни человеком владеет лирическое чувство, личное, присущее «только мне» переживание. Поэтому лирику можно определить как выражение сокровенных переживаний и в искусстве, и в повседневной жиз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В лирическом произведении, как и во всяком произведении поэзии, мысль выговаривается словом; но эта мысль скрывается за ощущением и возбуждает в нас созерцание, которое трудно перевести на ясный и определённый язык сознания. И это тем труднее, что чисто лирическое произведение представляет собою как бы картину, между тем как в нём главное дело не самая картина, а чувство, которое она возбуждает в нас… (Из статьи В.Г. Белинского «Разделение поэзии на роды и виды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рика Пушкина органически сочетает в себе высокую человечность; гуманность; богатство, глубину и ясность мысли; гармонию формы и, если воспользоваться словами самого поэта, образует в своей слитности союз «волшебных звуков, чувств и дум». Богатство художественного содержания пушкинской лирики неохватно, непостижимо, неисчерпаем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философской лирике Пушкин ставит вечные проблемы бытия: смысл человеческой жизни, смерть и вечность, добро и зло, правда и справедливость. Свобода, любовь, дружба, искусство, природа – высшие философские ценности для поэ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я эпитаф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десь Пушкин погребен; он с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музой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лодою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С любовью, леностью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л веселый век, Не делал доброго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днак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ж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был душою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Ей-богу,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добрый челове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81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(от греч. epitáphios - надгробный), надмогильная надпись, преимущественно стихотворная: небольшое стихотворение, обычно с обращением к умершему или от умершего к прохожим (&amp;quot;Прохожий, стой!...&amp;quot; ). Существовала и как реальная надпись, и как фиктивная (в сборнике стихов). В европейской литературе появляется как разновидность античной эпиграммы (в европейской поэзии - короткое стихотворение, заканчивающееся острой, злой шуткой по поводу кого-чего-н. (лит.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5800" y="99072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лительно влекутся дни м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ждый миг в унылом сердце множ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орести несчастливой люб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чты безум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вож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я молчу; не слышен ропот 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 слезы л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мн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зы утешень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душа, плененная тос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орь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слажд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жизни час! лети, не жаль теб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и в тьме, пустое привидень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дорого любви моей мучень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ускай умру, но пусть умру люб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788120" y="6015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4T20:21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