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1.jpeg" ContentType="image/jpeg"/>
  <Override PartName="/ppt/media/image28.jpeg" ContentType="image/jpeg"/>
  <Override PartName="/ppt/media/image20.png" ContentType="image/png"/>
  <Override PartName="/ppt/media/image19.jpeg" ContentType="image/jpeg"/>
  <Override PartName="/ppt/media/image2.gif" ContentType="image/gif"/>
  <Override PartName="/ppt/media/image18.jpeg" ContentType="image/jpeg"/>
  <Override PartName="/ppt/media/image26.png" ContentType="image/png"/>
  <Override PartName="/ppt/media/image17.jpeg" ContentType="image/jpeg"/>
  <Override PartName="/ppt/media/image12.gif" ContentType="image/gif"/>
  <Override PartName="/ppt/media/image10.jpeg" ContentType="image/jpeg"/>
  <Override PartName="/ppt/media/image39.jpeg" ContentType="image/jpeg"/>
  <Override PartName="/ppt/media/image8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2.jpeg" ContentType="image/jpeg"/>
  <Override PartName="/ppt/media/image35.png" ContentType="image/png"/>
  <Override PartName="/ppt/media/image33.png" ContentType="image/png"/>
  <Override PartName="/ppt/media/image34.png" ContentType="image/png"/>
  <Override PartName="/ppt/media/image11.jpeg" ContentType="image/jpeg"/>
  <Override PartName="/ppt/media/image31.gif" ContentType="image/gif"/>
  <Override PartName="/ppt/media/image5.gif" ContentType="image/gif"/>
  <Override PartName="/ppt/media/image38.jpeg" ContentType="image/jpeg"/>
  <Override PartName="/ppt/media/image36.png" ContentType="image/png"/>
  <Override PartName="/ppt/media/image37.jpeg" ContentType="image/jpeg"/>
  <Override PartName="/ppt/media/image13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14.gif" ContentType="image/gif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02D4-6070-4BCD-AFEB-6D0372EA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461E-F4AD-46C3-9493-AE6F3999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884A-806C-4E2F-A259-D04518BBC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711D-D785-4DAB-A301-99329D2A0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F768-D37C-4E4C-9AAF-A1EE6B11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6A75-BCBA-495A-9D33-EF67A7E4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258D-6A1C-46D7-BC46-071168C6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7995-751F-4636-AB1A-0CBB9D97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55AA-43BA-449E-8F04-4E3DDB44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D222-3F58-4A05-A4AB-E147A251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DF90-2C3C-4F0B-A6BE-3AD5E222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E200-9C1D-4F33-974A-014F11DF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3BFE-382A-4D84-95D0-6A57947F2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16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7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16000" y="1197000"/>
            <a:ext cx="6840720" cy="223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Урок рисования:</a:t>
            </a:r>
            <a:endParaRPr b="0" lang="en-US" sz="2000" spc="1" strike="noStrike">
              <a:ln w="9360">
                <a:solidFill>
                  <a:srgbClr val="993366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0" y="1844640"/>
            <a:ext cx="4248000" cy="4248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26920" y="1844640"/>
            <a:ext cx="3578400" cy="4479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720" y="5176800"/>
            <a:ext cx="368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БОУ СОШ п.Сось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аева Светла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3906720" cy="597708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sp>
        <p:nvSpPr>
          <p:cNvPr id="75" name=""/>
          <p:cNvSpPr txBox="1"/>
          <p:nvPr/>
        </p:nvSpPr>
        <p:spPr>
          <a:xfrm>
            <a:off x="4716360" y="836640"/>
            <a:ext cx="395928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ван – царевич на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ером волк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219640" y="2997360"/>
            <a:ext cx="3733920" cy="37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Ковёр - самолё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71640" y="1773360"/>
            <a:ext cx="7345440" cy="4047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24000" y="3573360"/>
            <a:ext cx="2970000" cy="29847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219640" y="189000"/>
            <a:ext cx="371628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5472360" cy="50990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82" name=""/>
          <p:cNvSpPr txBox="1"/>
          <p:nvPr/>
        </p:nvSpPr>
        <p:spPr>
          <a:xfrm>
            <a:off x="5724360" y="1844640"/>
            <a:ext cx="331164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ри царевны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дземного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царства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6227640" y="3860640"/>
            <a:ext cx="266724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rcRect l="0" t="0" r="3590" b="0"/>
          <a:stretch/>
        </p:blipFill>
        <p:spPr>
          <a:xfrm>
            <a:off x="755640" y="1557360"/>
            <a:ext cx="7885080" cy="3830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2124000" y="404640"/>
            <a:ext cx="4535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ящая красавица 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79280" y="3284640"/>
            <a:ext cx="3328920" cy="334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Царевна – лягушк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042920" y="1341360"/>
            <a:ext cx="6907320" cy="5191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единок на Куликовском пол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7848720" cy="4797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6148440" y="333360"/>
            <a:ext cx="2995560" cy="5991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324000" y="1052640"/>
            <a:ext cx="6984720" cy="21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дание: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рисуй иллюстрацию к сказке 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Гуси -лебеди" 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rcRect l="0" t="0" r="0" b="15681"/>
          <a:stretch/>
        </p:blipFill>
        <p:spPr>
          <a:xfrm>
            <a:off x="4786200" y="1916280"/>
            <a:ext cx="4357800" cy="4941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0" t="9459" r="2872" b="0"/>
          <a:stretch/>
        </p:blipFill>
        <p:spPr>
          <a:xfrm>
            <a:off x="0" y="0"/>
            <a:ext cx="4788000" cy="5950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rcRect l="6820" t="17797" r="7267" b="22154"/>
          <a:stretch/>
        </p:blipFill>
        <p:spPr>
          <a:xfrm>
            <a:off x="4703760" y="981000"/>
            <a:ext cx="4440240" cy="4797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rcRect l="0" t="0" r="0" b="5247"/>
          <a:stretch/>
        </p:blipFill>
        <p:spPr>
          <a:xfrm>
            <a:off x="0" y="0"/>
            <a:ext cx="46814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rcRect l="1279" t="0" r="2973" b="3647"/>
          <a:stretch/>
        </p:blipFill>
        <p:spPr>
          <a:xfrm>
            <a:off x="971640" y="0"/>
            <a:ext cx="7056360" cy="3030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rcRect l="-2320" t="6472" r="5865" b="7551"/>
          <a:stretch/>
        </p:blipFill>
        <p:spPr>
          <a:xfrm>
            <a:off x="3814920" y="3041640"/>
            <a:ext cx="5329080" cy="3816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rcRect l="3198" t="2304" r="4322" b="2349"/>
          <a:stretch/>
        </p:blipFill>
        <p:spPr>
          <a:xfrm>
            <a:off x="0" y="3357720"/>
            <a:ext cx="3995640" cy="289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00000" y="1484280"/>
            <a:ext cx="7072560" cy="3097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приветствуем гостей,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других учителей.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звенел уже звонок,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чинается урок.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399360" y="3500280"/>
            <a:ext cx="2365200" cy="24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187280" y="1628640"/>
            <a:ext cx="6985080" cy="282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Lucida Console"/>
              </a:rPr>
              <a:t>Спасибо за уро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Lucida Console"/>
              <a:ea typeface="Lucida Conso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908000" y="260280"/>
            <a:ext cx="5112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гра "Составь портрет"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765000"/>
            <a:ext cx="7991280" cy="4786560"/>
          </a:xfrm>
          <a:prstGeom prst="wedgeEllipseCallout">
            <a:avLst>
              <a:gd name="adj1" fmla="val -49287"/>
              <a:gd name="adj2" fmla="val 52555"/>
            </a:avLst>
          </a:prstGeom>
          <a:solidFill>
            <a:srgbClr val="f3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Портрет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333300"/>
                </a:solidFill>
                <a:latin typeface="Arial"/>
              </a:rPr>
              <a:t>это изображение какого-нибудь человека или группы людей на фотографии или на картин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700360" y="1295280"/>
            <a:ext cx="4124160" cy="5562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051680" y="4724280"/>
            <a:ext cx="209232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6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6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39640" y="476280"/>
            <a:ext cx="799164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latin typeface="Lucida Console"/>
              </a:rPr>
              <a:t>Игра "Из чего состоит натюрморт"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6600"/>
              </a:solidFill>
              <a:latin typeface="Lucida Console"/>
              <a:ea typeface="Lucida Console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1628640"/>
            <a:ext cx="7058160" cy="3490920"/>
          </a:xfrm>
          <a:prstGeom prst="wedgeRectCallout">
            <a:avLst>
              <a:gd name="adj1" fmla="val -52925"/>
              <a:gd name="adj2" fmla="val 76467"/>
            </a:avLst>
          </a:prstGeom>
          <a:solidFill>
            <a:srgbClr val="f3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Натюрморт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это картина с изображением цветов, рыбы, дичи, посуды, фру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4500360" cy="3863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rcRect l="2664" t="0" r="0" b="0"/>
          <a:stretch/>
        </p:blipFill>
        <p:spPr>
          <a:xfrm>
            <a:off x="4716360" y="0"/>
            <a:ext cx="4427640" cy="322092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4"/>
          <a:srcRect l="6208" t="0" r="4748" b="8160"/>
          <a:stretch/>
        </p:blipFill>
        <p:spPr>
          <a:xfrm>
            <a:off x="4716360" y="3151080"/>
            <a:ext cx="4427640" cy="370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059280" y="549360"/>
            <a:ext cx="4860720" cy="5832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 rot="5400000">
            <a:off x="-1584360" y="2744640"/>
            <a:ext cx="6191280" cy="1368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Физкультминутка</a:t>
            </a:r>
            <a:endParaRPr b="0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0"/>
            <a:ext cx="5184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казка ложь,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76720" y="2852640"/>
            <a:ext cx="49687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а в ней намёк,</a:t>
            </a:r>
            <a:endParaRPr b="0" i="1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03640" y="4508640"/>
            <a:ext cx="5616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обрым молодцам урок  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3665520" cy="4581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156360" y="0"/>
            <a:ext cx="2987640" cy="29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Чему мы научимся на урок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663300"/>
                </a:solidFill>
                <a:latin typeface="Arial"/>
              </a:rPr>
              <a:t>Познакомимся с художником-сказочником В.Васнецовым, его произведения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3300"/>
                </a:solidFill>
                <a:latin typeface="Arial"/>
              </a:rPr>
              <a:t>Научимся создавать свою иллюстрацию к сказк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3300"/>
                </a:solidFill>
                <a:latin typeface="Arial"/>
              </a:rPr>
              <a:t>Закрепим умение различать различные жанры живопис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3300"/>
                </a:solidFill>
                <a:latin typeface="Arial"/>
              </a:rPr>
              <a:t>Будем аккуратны при работе с краск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588000" y="4295880"/>
            <a:ext cx="2411640" cy="238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63300"/>
                </a:solidFill>
                <a:latin typeface="Comic Sans MS"/>
              </a:rPr>
              <a:t>Художник - сказочн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442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3333ff"/>
                </a:solidFill>
                <a:latin typeface="Comic Sans MS"/>
              </a:rPr>
              <a:t>    </a:t>
            </a:r>
            <a:r>
              <a:rPr b="0" i="1" lang="en-US" sz="6000" spc="-1" strike="noStrike">
                <a:solidFill>
                  <a:srgbClr val="3333ff"/>
                </a:solidFill>
                <a:latin typeface="Comic Sans MS"/>
              </a:rPr>
              <a:t>Виктор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3333ff"/>
                </a:solidFill>
                <a:latin typeface="Comic Sans MS"/>
              </a:rPr>
              <a:t>   </a:t>
            </a:r>
            <a:r>
              <a:rPr b="0" i="1" lang="en-US" sz="6000" spc="-1" strike="noStrike">
                <a:solidFill>
                  <a:srgbClr val="3333ff"/>
                </a:solidFill>
                <a:latin typeface="Comic Sans MS"/>
              </a:rPr>
              <a:t>Васнец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0" y="1268280"/>
            <a:ext cx="4129200" cy="5112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0920" y="2852640"/>
            <a:ext cx="371628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332000" y="0"/>
            <a:ext cx="4335480" cy="5689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50920" y="2852640"/>
            <a:ext cx="3716280" cy="3733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6156360" y="2565360"/>
            <a:ext cx="2592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лёнушка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12:29:24Z</dcterms:created>
  <dc:creator>женя</dc:creator>
  <dc:description/>
  <dc:language>en-US</dc:language>
  <cp:lastModifiedBy>женя</cp:lastModifiedBy>
  <dcterms:modified xsi:type="dcterms:W3CDTF">2013-11-24T11:32:03Z</dcterms:modified>
  <cp:revision>18</cp:revision>
  <dc:subject/>
  <dc:title>Слайд 1</dc:title>
</cp:coreProperties>
</file>