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4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446C-F21B-40DB-8448-D2B586F9C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4AED-68A7-4EB5-9572-CCAF119D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58C1-295A-49B3-8BDD-7C4FF114E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F043-C2AC-45FB-9019-CE97C55E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0B9E-97AC-4DFA-B5CF-301C13334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2564-D18B-46AC-8B02-50FBBB0A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3BFB-493B-40F9-BBC7-F8AAC78A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E842-D149-4492-9C07-7993CC87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1C1C-1EF3-4F48-B76C-76F01A02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5374-3863-4EFE-B02A-8D5359C1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5C55-EB0B-41EF-9D64-B5B361A4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3069-E26E-46B9-9ADB-1E502858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9EA6-E51F-4E12-84DD-AACE3169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DC03-72AB-4CFD-85C8-2AAEC8DD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C286-8B5C-404D-B449-3A718DBA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A3FB-2C33-4B78-98EA-5D2E51E69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5FD2-D727-4F68-9A81-7C39EF9A0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7E234-6AB6-4F71-BD8A-A27FDE4AB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58264-9809-4CC8-9C3D-0AF6B489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B3417-1FCB-4253-88CB-56EAAA07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BFC95-8185-4AEA-ABF1-237C0B33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8D850-2E54-4A92-BC18-3C8FFDB6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C1A3-AAF3-4DE2-BE58-68FA31FC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55FEE-AECC-49D2-90FC-77B7BBD4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D6666-A5FA-49BB-9ECF-F80FE17A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95A53-252A-4E7B-AD77-34BBC15A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C22FF-155A-447D-8DC3-17093FFB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76731-F980-420B-9923-95A9BB61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696C4-EC42-4B89-9639-C520455C2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85C61-139B-44E1-9E6E-F3AC9F602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7457D-6B37-4020-9B3A-CD63E69D6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C5E65-0D27-4A94-9656-297E6926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C72DA-7AE2-4BDC-9247-5126B445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4B78-0A53-4ED7-BE50-43D8D03D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AF924-FD8B-46EB-95D7-8C54B2C1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0F3BE-478A-494E-8E10-0C221B7B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3D3F7-B877-4D11-A5B1-BE0BE3D6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01469-C35E-458F-8F22-665D4EE5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10784-3024-4A05-BF40-82C15D27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3F10E-8C27-4022-85F5-93C4D3DB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56E8E-2CDC-4921-809B-CF017619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F1C73-64E4-40E5-970E-6DB35D073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D3157-FB6F-4A21-BE7A-26779E476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4F046-EBFC-4E73-9AE3-6406016D3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86BE-F145-4D60-879B-123F5A37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C9013-F576-41FD-9672-AF7E65FC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70661-2D22-4686-96A7-57648BEA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56F0C-1D70-40AA-B822-9FCDB167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C4EA3-2577-42B9-8B04-8987F256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98DFF-C264-42D5-9363-07CEF439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B3C28-837F-4F85-B969-B48DC287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6BABE-B496-4E8B-ABCF-B5DD66B9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268D3-E5FC-49E6-ADE8-BCA99427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9EABA-5496-4224-BCC9-AE519518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54CFA-7B04-4907-9D27-D51FAB401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5599-9596-41E8-B07C-46B7A461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3D5CC-C8A2-4967-A419-ECCDF2187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27A67-30AB-406D-A580-62081A39A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13E9A-4831-4CB9-B1D4-1824E416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1A947-96B6-4E1D-A8B5-E8A2D0F9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B29A7-2B15-4FA2-A22A-5EB1EF08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B12CC-AD92-4700-94C4-EE417CDA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BEE84-7D12-4880-874A-81243105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F7E27-E1E5-4A29-945A-5E2E6B7B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FF914-1AF7-4F2D-A473-E90E56C9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DBF1D-B17F-449C-80DA-38214C31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B936-84EA-43C9-9F1D-279F234B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F2CAE-5A12-4E26-B03D-40E93B6D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7ADA8-D6ED-44DE-89A9-7D4235974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5E2B2-A874-424C-984D-584360C8E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D669D-5DE3-4F7F-8410-8BDB0985E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CAC30-32FD-4209-8E59-96787A31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E9BD2-458B-4AA7-A952-EB503036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F43F2-24F8-4F08-8440-E29C5CF0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4355A-DD0B-42ED-A065-9A00F992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C1008-1BBF-485F-9202-B516CF4C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EFC31-D78C-4DF4-B4F0-43EB2F67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D76E-17D6-4DF6-BBC9-DDC52880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361F7-F81D-47F6-B8F2-C6C6A5AF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FCB18-6D3B-49E3-BDB0-F06B2546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D4B12-4D4C-403E-9BCA-D29DDACA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14E1A-8B22-48E9-A9A5-90750AFCD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52C5B-4218-4CB4-9195-63FE27A34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87294-5049-4C57-95A6-C11BC9FB1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F7EDC-3D5B-4CD8-893E-5E532180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0D430-7800-4C2C-851A-F82779C5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2C65F-C4C7-4B31-B737-000A9307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93902-846B-4A42-9EA4-EBC2668D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8E2C-8F23-4A3A-91EB-B8C7D5DA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C2EF3-5FF0-4693-A41D-B8AF1FE2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A9DE0-8AB5-4346-ADF8-3B40BEC9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8D932-7878-407E-B5E7-6A94D384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579EF-1532-4D77-AEB4-CD3DFF4C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8E1DD-DC4D-4FBD-B5C6-A7C11E6D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B1F81-6394-4DC2-AADD-5F42B0FBD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551C1-A280-47F2-988C-E480F5366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261F-4927-4AF7-B138-3E830634B5B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947E-6DF2-4019-B173-3DF3A76A75A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F7CC-C865-4379-9365-6A5AD4D4D8D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21DF-8E97-4269-8701-9AEB8281DFC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7D6F-6D7A-4981-AC81-75BA0001AAE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C300-B00B-4D77-A5FC-743ECFF2118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EBF3-BB85-497D-A736-C8D9BBF495C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82B4-23A9-4354-BC1B-C9659E14A2E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533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Всё начинается с семьи…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Призывный крик ребёнка в колыбели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И мудрой старости докучливые стрелы…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Всё начинается с семьи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Умение прощать, любить и ненавидеть,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Умение сострадать и сложность в жизни видеть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Всё начинается с семьи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Перенести печаль и боль утрат,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Опять вставать и ошибаться,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И так всю жизнь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Но только не сдаваться!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Всё начинается с семьи!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тносительно устойчивое явление, включающее в себя альтернативные элементы эмоционально-ценностного отношения и способного изменяться в определённых пределах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Заголовок 2" descr=""/>
          <p:cNvPicPr/>
          <p:nvPr/>
        </p:nvPicPr>
        <p:blipFill>
          <a:blip r:embed="rId1"/>
          <a:stretch/>
        </p:blipFill>
        <p:spPr>
          <a:xfrm>
            <a:off x="450720" y="53028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значимая группа чувств, занимающих особое место в жизни человека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ие чувства противоречивы, реализуются в родительском отношении и родительских позициях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редставляют собой реальную направленность взаимодействия с ребёнком, в основе которой лежит сознательная и бессознательная оценка ребёнка. Родительские позиции реализуются в подвижных коммуникативных позициях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тветственность перед социумом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и своей совестью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ая ответственность возникает в контроле своего поведения и семейной ситуации; характеризуется занимаемой ролью в семейном воспитании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является выразителем взаимодействия перечисленных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выше компонентов, его проявления наиболее очевидны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тиль семейного воспитания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намного обширнее, чем другие компоненты родительств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685440"/>
            <a:ext cx="822960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u="sng">
                <a:solidFill>
                  <a:srgbClr val="227a8f"/>
                </a:solidFill>
                <a:uFillTx/>
                <a:latin typeface="Times New Roman"/>
                <a:ea typeface="Times New Roman"/>
              </a:rPr>
              <a:t>Повышение компетентности родителей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(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формирование у них необходимых знаний, обучение их навыкам общения с детьми, разрешению конфликтных ситуаций, улучшению стиля родительского поведения и т. п.) – одно из направлений педагогической помощи семье, цель которого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формировать у родителей более высокий уровень самосознания;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омочь родителям в применении дисциплинарных методов;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усилить коммуникацию родителей и детей;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пособствовать тому, чтобы члены семьи как можно больше времени проводили вместе;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редоставить родителям полезную информацию о развитии детей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98072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кажи мне  –  и я забуду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окажи мне  –  и я запомню;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Дай сделать  –  и я пойму.  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( Китайская притча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Интерактивное обучение</a:t>
            </a: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 – это обучение, погруженное в общение. При этом "погруженное" не означает "замещенное". Оно  видоизменяет формы с транслирующих на диалоговые, т.е. включающие в себя обмен информацией, основанной на взаимопонимании и взаимодействи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Заголовок 2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0"/>
            <a:ext cx="8229600" cy="60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Интерактивные методы </a:t>
            </a:r>
            <a:r>
              <a:rPr b="1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ломают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 традиционные </a:t>
            </a:r>
            <a:r>
              <a:rPr b="1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тереотипы родительского собрания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: оно становится не просто местом, где сообщают оценки и собирают деньги на «классные нужды», а особым пространством, наделенным специфическим смыслом и содержанием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Их применение повышает готовность родителей к взаимодействию с педагогом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ри использовании интерактивных методов роль учителя резко меняется, перестаёт быть центральной, он лишь регулирует  процесс и занимается его общей организацией, готовит заранее необходимые задания и формулирует вопросы или темы для обсуждения в группах, даёт консультации, контролирует время и порядок выполнения намеченного плана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Участники обращаются к социальному опыту – собственному и других людей, при этом им приходится вступать в коммуникацию друг с другом, совместно решать поставленные задачи, преодолевать конфликты, находить общие точки соприкосновения, идти на компромиссы.  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Интерактивное обучение позволяет проявляться творческому базису личности, так как активизирует внутренние ее механизмы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Заголовок 2" descr=""/>
          <p:cNvPicPr/>
          <p:nvPr/>
        </p:nvPicPr>
        <p:blipFill>
          <a:blip r:embed="rId1"/>
          <a:stretch/>
        </p:blipFill>
        <p:spPr>
          <a:xfrm>
            <a:off x="371520" y="176040"/>
            <a:ext cx="848052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доверительные, по крайней мере, позитивные отношения между обучающим и обучающимися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демократический стиль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отрудничество в процессе общения обучающего и обучающихся, обучающихся между собой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пора на личный ("педагогический") опыт обучающихся, включение в учебный процесс ярких примеров, фактов, образов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многообразие форм и методов представления информации, форм деятельности обучающихся, их мобильность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включение внешней и внутренней мотивации деятельности, а также взаимомотивации обучающихся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Заголовок 2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2425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7a8f"/>
                </a:solidFill>
                <a:latin typeface="Times New Roman"/>
              </a:rPr>
              <a:t>Проект решения педагогического совет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т 31 марта 2009 года по теме «Взаимодействие семьи и школы в учебно-воспитательном процессе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1. Рекомендации по взаимодействию семьи и школы в учебно-воспитательном процессе принять к сведению и использовать в работе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2. Заместителю директора школы по ВР Сусловой Е.В.  и социальному педагогу Зиминой Т.А. определить критерии и показатели эффективности социально-педагогической деятельности классного руководителя по работе с родителями. и оценке работы педагогического коллектива школы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Срок – до  25 мая 2009 года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3.В плане инспекционно-контрольной деятельности администрации школы в 2009-2010 учебном году предусмотреть изучение работы классных руководителей  с семьёй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Ответственный: Суслова Е.В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4. Провести семинары классных руководителей по вопросам организации работы классного руководителя с семьёй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Ответственный: Суслова Е.В., Зимина Т.А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Срок: 2009 - 2010 учебный год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5. Проанализировать выполнение проекта «Семья» в рамках реализации Программы развития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Ответственный: Суслова Е.В., Зимина Т.А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Срок: июнь 2009 г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Высокая мотивация!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рочность знаний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Творчество и фантазия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Коммуникабельность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Активная жизненная позиция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Командный дух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Ценность индивидуальности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вобода самовыражения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Акцент на деятельность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Взаимоуважение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Демократичность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Заголовок 2" descr=""/>
          <p:cNvPicPr/>
          <p:nvPr/>
        </p:nvPicPr>
        <p:blipFill>
          <a:blip r:embed="rId1"/>
          <a:stretch/>
        </p:blipFill>
        <p:spPr>
          <a:xfrm>
            <a:off x="444600" y="268200"/>
            <a:ext cx="8248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2057040"/>
            <a:ext cx="822960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бращение к Интернет- возможностям психолого-педагогической поддержки возникает не случайно, они позволяют решить несколько важных запросов и проблем родителей: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Не всегда родители готовы обратиться лично к психологу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орой родители не знают, куда обратиться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сихологи не в состоянии лично всем и каждому отвечать на те вопросы, которые появляются у родителей, тем более, что очень часто они сходны и целесообразнее выставить в открытый доступ примерные ответы, чем по многу раз отвечать одно и тоже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Зачастую родители не могут найти время для личного посещения психолога, но при этом готовы общаться посредством Интернет- технологий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Заголовок 2" descr=""/>
          <p:cNvPicPr/>
          <p:nvPr/>
        </p:nvPicPr>
        <p:blipFill>
          <a:blip r:embed="rId1"/>
          <a:stretch/>
        </p:blipFill>
        <p:spPr>
          <a:xfrm>
            <a:off x="420840" y="268200"/>
            <a:ext cx="836928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оздание системы Интернет- поддержки родителей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асширяет спектр оказываемых услуг для родителей,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дает возможность активно формироваться родительскому сообществу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В числе преимуществ Интернет–технологий в организации поддержки родителей можно отметить: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анонимность и безопасность поддержки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ткрытость границ и доступность, возможность получить поддержку из любого уголка земного шара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возможность получить поддержку, не выходя из дома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перативность реагирования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широкий доступ к ресурсам, возможность получения доступа к многим ресурсам, из которых можно выбрать необходимые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многовариантность поддержки, можно получить разнообразную помощь по одному и тому же вопросу из разных источников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возможность получить ресурсы, не вступая в активную коммуникацию, что является явным преимуществом для людей с трудностями общения и взаимодействия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2133360"/>
            <a:ext cx="8229600" cy="38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оздать  страничку для родителей на школьном сайте «Родительский университет», где были бы размещены материалы для родителей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рганизовать консультации для родителей в дистанционном режиме через скайп, ICQ, vkontakte.ru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оздать интерактивную карту идеальных отношений, показывающую детский взгляд на проблему отношений между детьми и родителям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7244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В основном ничего нового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«Начни с себя. Хочешь изменить мир – измени себя»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Трудные ситуации в воспитании детей – дело обычное и нормальное в жизни любого человека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Мысли о своей родительской компетентности для тех, кто предпочитает думать во благо своих детей и… </a:t>
            </a:r>
            <a:r>
              <a:rPr b="1" lang="ru-RU" sz="36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действовать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1. Рекомендации по взаимодействию семьи и школы в учебно-воспитательном процессе приняты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к  сведению и используются в работе классных руководителей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            </a:t>
            </a: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2. Заместителем директора школы по ВР Сусловой Е.В.  и социальным педагогом Зиминой Т.А. разработаны критерии и показатели эффективности социально-педагогической деятельности классного руководителя по работе с родителями.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роведение тематических родительских собраний не реже 1 раза в четверть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Наличие протоколов  родительских собраний , оформленных согласно требованиям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роведение заседаний  родительского комитета класса с оформлением протокола заседания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рганизация совместных с родителями мероприятий  с использование различных  форм работы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Изучение семей учащихся с посещением семьи и организация индивидуальной работы с семьями, нуждающимися в педагогической поддержке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рганизация индивидуальных консультаций и бесед с родителями  с обязательной фиксацией данной беседы в плане воспитательной работы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3. В плане инспекционно – контрольной деятельности завучем по ВР  Сусловой и соуиальным педагогом Зиминой Т.А. в 2009-2010 учебном году  изучена работа классных руководителей  с семьёй.  Составлена справка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4. В марте 2010 года для классных руководителей запланирован семинар по вопросам организации работы с семьёй.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5. При подведении итогов работы школы по реализации Программы развития школы проведён анализ выполнения проекта «Семья»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Заголовок 2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24256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7a8f"/>
                </a:solidFill>
                <a:latin typeface="Times New Roman"/>
              </a:rPr>
              <a:t>Качество образования 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7a8f"/>
                </a:solidFill>
                <a:latin typeface="Times New Roman"/>
              </a:rPr>
              <a:t>как результат сформированности компетенций родителей- участников образовательного процесса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Компетентный родитель 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– это человек, который не испытывает страха за то, что он «плохой» родитель и не переносит чувство страха и вины на своего ребенк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Это человек, готовый видеть реальную ситуацию, в которой растет его ребенок и предпринимать усилия для того, чтобы ее менять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Это человек, который знает, что если не помогает одно – надо пробовать другое. Компетентный родитель понимает, что для изменения развития ребенка в более благоприятную сторону надо меняться самому, пробовать, искать, в общем – учиться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22860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227a8f"/>
                </a:solidFill>
                <a:uFillTx/>
                <a:latin typeface="Times New Roman"/>
                <a:ea typeface="Times New Roman"/>
              </a:rPr>
              <a:t>Психологический аспект проблемы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о определению Р. В. Овчаровой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тво - 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оциально-психологический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феномен, представляющий собой эмоционально и оценочно окрашенную совокупность знаний, представлений и убеждений относительно себя как родителя, реализующуюся во всех проявлениях поведенческой составляющей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На стадии развитой формы родительство включает в себя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ие ценности,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установки и ожидания,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ое отношение,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ие чувства,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ие позиции,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ую ответственность,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тиль семейного воспитания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28600" y="380520"/>
            <a:ext cx="86104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На стадии развитой формы родительство включает в себя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ие ценности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установки и ожидания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ое отношение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ие чувства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ие позиции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ую ответственность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тиль семейного воспитания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собенность в том, что они являются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сновополагающими для остальных компонентов родительства и реализуются в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направленности личности родителя и направленности его поведения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06632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Включают в себя три уровня презентации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епродуктивные установки, установки и ожидания в детско-родительских отношениях, установки и ожидания в отношении образа собственного ребёнка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о мнению Э. Мэш, Д. Вольфа и др., родительские установки зависят от тех традиций, ценностей, норм 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жиданий, которые свойственны социальной, культурной, национальной и религиозной среде, к которой принадлежит та или иная семья. Именно все эти факторы во многом определяют особенности родительского поведени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2" descr=""/>
          <p:cNvPicPr/>
          <p:nvPr/>
        </p:nvPicPr>
        <p:blipFill>
          <a:blip r:embed="rId1"/>
          <a:stretch/>
        </p:blipFill>
        <p:spPr>
          <a:xfrm>
            <a:off x="225360" y="30240"/>
            <a:ext cx="8467920" cy="112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3-11-24T13:43:45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