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63A-E510-404C-801A-97EE815C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4EC-E767-4925-884A-F61789FC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6E8-4A57-4704-BF18-2B213E82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E6D-3C06-46E5-9C35-C7123FA9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694D-3B76-46FE-8CA3-2B6B3604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5C0D-F239-4012-BA72-E2E9192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B103-3416-4A6C-913A-7E820AD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B1FF-6BE1-4034-9B70-88E61995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2C7-9F42-4586-BD1C-DF3BC335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A5E0-3A50-4677-AAE7-FE5AF981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726-10BE-4650-ADE0-B20AA72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C28-36A2-4827-983E-1D82060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99B2-52C7-4ACD-AF48-84472399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8DC9-DFC1-4BCF-B020-5D46DD9E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0A6A-4F84-4875-9F99-479B5DD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E3CF-CF03-429D-9FA9-CF1F0DF7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3885-2E02-4650-B99E-8693C121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B43B-BAE3-4044-AE96-0EF47E82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5602-14D8-434F-BD9E-6746F96E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5393-AB82-4DA3-B057-A61B3200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5B08-BFBC-47A4-A87E-C9D1C517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7DAF-4B54-4599-B1DE-FFEE0CB1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A84-8872-4B99-AA17-97B1F880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96E5-C929-4B7A-9861-8E3E631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14CC-2698-460A-A0AC-8E3DC8B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147D-7C77-40E8-A17C-90C8AEA6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6B68-B380-4CFA-90FC-404A39E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BBB6-6BD7-4258-A305-B28AF1AB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C33E-F531-4A6C-8EB9-A42F3104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BB883-962E-4F3A-B191-25D61F80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D1B2-B289-4B99-89E5-0CA5F14B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756C-3F36-45F7-ADF8-32401D52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3D9E-976F-4AB7-9913-A317BEE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26D-32B9-441E-A941-F694B274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A27D-7E0B-4362-9D5A-87E4B97B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E001-4DC4-4817-85D8-3C6EBAA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E272-AF46-42E0-9AB8-FB36A35B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7F2E-3453-4105-B489-9EE731D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38FA-13B8-4216-A477-1D7806C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F902-A764-43E7-BA75-674312D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4E9B-2DDC-440C-A1D0-2EB532A8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3122-3E5B-4391-BBFC-8C46BA69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B6A8-0097-4E7E-91F8-E96544F4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40431-D08F-41D1-AE93-3C65D206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FF2-0920-49C8-82B4-F589E3E9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18DA-3079-4850-B032-69A952C0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74ABB-F753-4CC8-9208-9CBFCF15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ABEE-62E0-4C7A-B7D0-C58DFC7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42014-9369-40B5-9F5D-F839392E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B34E5-DF9F-4A4F-97CC-FF1610BA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4F012-3802-4A14-A344-8F99E96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D18E7-8BAD-4C49-AB5A-E6C7F434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4490-3ABF-4A21-B104-709DCE1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EE54-2E01-406A-B493-F4DBBCF9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0A35-FE3D-406E-99F9-A8C9ECC2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1CC-2F08-4027-BB14-11AED7F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65C6-541F-41C1-9C7E-668EBEEB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8DBEC-29E9-4F5B-AB92-3D90147C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7655-2DFA-4D23-A526-358FB8AA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1060-CCCF-41A0-8D49-AA0D87C7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4CC5D-6740-4C98-B2DB-363775E0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5C70-0163-4705-96D0-106F380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5351B-7340-40C0-8C5A-1C53D01D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8114-02B4-48B7-B8FD-16F5B297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4A0CE-1FF0-452B-B1CB-0E7E3A4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52BF-1926-4878-8289-533F6829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CD4-9DD7-4765-BF73-0FD6C6D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9ADA-2A99-4A73-8E29-A1144FE7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A9CD7-5889-461D-83FA-FF5BE889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0C69-A35F-4554-9FCF-EB95E588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EDEC1-7256-48F9-BB1E-069FAAAB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6BE0-D05E-4D3A-A3ED-8AF0E90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5B23-722F-41A8-9B35-364296CF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A86CE-A40F-494B-BA3E-5B36123D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E2267-82C6-4FB8-8910-2C2C755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6633-D2F1-4A98-91E1-7C5CC36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3F92-C1AF-4BDE-8B88-ED7D4BE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4FB-B15C-4D56-A522-2F1B1EE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3B420-8864-40A7-B904-371A2B7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BEA77-916F-44F1-8BF3-02414D6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40CD-6794-44BA-802A-A5704075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D9BFC-64F9-426C-B47A-B9DEBE0B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3618-02E1-4045-9D3E-BF12CE7C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DBD2-6A0A-4C15-9039-A21613FE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CB380-3DA3-4793-A82A-E261592C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7C141-DB0F-40DF-A068-205AEBC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EE333-56F8-41B9-B111-B8100344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159E-4E2B-48CD-A2E7-3AF2865E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B30-C7A8-49A7-9E94-2A57C19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E38EB-FF6C-4D57-B509-241388E1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D4593-131C-4382-A301-8412ACBA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6F155-54F5-49E6-8392-C6F62B1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A5D5-FAC2-49DF-9C4D-0CBB98B2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5A60-2739-4361-BE63-4F63F7E6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D5982-C0DA-441A-A2C9-526946C0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7D66B-5387-4C86-BA6E-D3519079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DDC8-AD0C-42BF-88C1-61AAD64CE1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71DC-5BA0-4378-99C3-F76B659748F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646-9BC6-45EA-BA76-47AFBE0350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E33-CDE7-468C-9588-19623D46C1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3743-09B6-482B-AC84-7856016726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79C3-C193-43E7-8178-1812C482BD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AD10-E42E-4852-B898-57715AF935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96F5-4ECD-484F-B9A6-D6ACB4E2F27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ризывный крик ребёнка в колыбели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мудрой старости докучливые стрелы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прощать, любить и ненавидеть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Умение сострадать и сложность в жизни видет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Перенести печаль и боль утрат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Опять вставать и ошибаться,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И так всю жизнь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Но только не сдаваться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27a8f"/>
                </a:solidFill>
                <a:latin typeface="Times New Roman"/>
              </a:rPr>
              <a:t>Всё начинается с семьи!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носительно устойчивое явление, включающее в себя альтернативные элементы эмоционально-ценностного отношения и способного изменяться в определённых пределах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начимая группа чувств, занимающих особое место в жизни человек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 противоречивы, реализуются в родительском отношении и родительски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ставляют собой реальную направленность взаимодействия с ребёнком, в основе которой лежит сознательная и бессознательная оценка ребёнка. Родительские позиции реализуются в подвижных коммуникативных позициях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ветственность перед социумом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 своей совестью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ая ответственность возникает в контроле своего поведения и семейной ситуации; характеризуется занимаемой ролью в семейном воспитан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является выразителем взаимодействия перечисленны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ше компонентов, его проявления наиболее очевидны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много обширнее, чем другие компоненты родитель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685440"/>
            <a:ext cx="82296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овышение компетентности родителей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ормирование у них необходимых знаний, обучение их навыкам общения с детьми, разрешению конфликтных ситуаций, улучшению стиля родительского поведения и т. п.) – одно из направлений педагогической помощи семье, цель которого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формировать у родителей более высокий уровень самосознания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мочь родителям в применении дисциплинарных методов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илить коммуникацию родителей и детей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пособствовать тому, чтобы члены семьи как можно больше времени проводили вместе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едоставить родителям полезную информацию о развитии дет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кажи мне  –  и я забуд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кажи мне  –  и я запомню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й сделать  –  и я пойму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( Китайская притч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– это обучение, погруженное в общение. При этом "погруженное" не означает "замещенное". Оно  видоизменяет формы с транслирующих на диалоговые, т.е. включающие в себя обмен информацией, основанной на взаимопонимании и взаимодействи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0"/>
            <a:ext cx="82296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ые методы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ломают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традиционные 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ереотипы родительского собрания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: оно становится не просто местом, где сообщают оценки и собирают деньги на «классные нужды», а особым пространством, наделенным специфическим смыслом и содержание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х применение повышает готовность родителей к взаимодействию с педагог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и использовании интерактивных методов роль учителя резко меняется, перестаёт быть центральной, он лишь регулирует  процесс и занимается его общей организацией, готовит заранее необходимые задания и формулирует вопросы или темы для обсуждения в группах, даёт консультации, контролирует время и порядок выполнения намеченного пла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частники обращаются к социальному опыту – собственному и других людей, при этом им приходится вступать в коммуникацию друг с другом, совместно решать поставленные задачи, преодолевать конфликты, находить общие точки соприкосновения, идти на компромиссы. 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нтерактивное обучение позволяет проявляться творческому базису личности, так как активизирует внутренние ее механизм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71520" y="176040"/>
            <a:ext cx="8480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оверительные, по крайней мере, позитивные отношения между обучающим и обучающимис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еский стил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трудничество в процессе общения обучающего и обучающихся, обучающихся между собо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ора на личный ("педагогический") опыт обучающихся, включение в учебный процесс ярких примеров, фактов, образ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образие форм и методов представления информации, форм деятельности обучающихся, их мобильность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ение внешней и внутренней мотивации деятельности, а также взаимомотивации обучающихс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</a:rPr>
              <a:t>Проект решения педагогического совет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 31 марта 2009 года по теме «Взаимодействие семьи и школы в учебно-воспитательном процессе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ь к сведению и использовать в работ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2. Заместителю директора школы по ВР Сусловой Е.В.  и социальному педагогу Зиминой Т.А. определить критерии и показатели эффективности социально-педагогической деятельности классного руководителя по работе с родителями. и оценке работы педагогического коллектива школ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 – до  25 мая 2009 год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3.В плане инспекционно-контрольной деятельности администрации школы в 2009-2010 учебном году предусмотреть изучение работы классных руководителей 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4. Провести семинары классных руководителей по вопросам организации работы классного руководителя с семьё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2009 - 2010 учебный г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5. Проанализировать выполнение проекта «Семья» в рамках реализации Программы развит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Ответственный: Суслова Е.В., Зимина Т.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27a8f"/>
                </a:solidFill>
                <a:latin typeface="Times New Roman"/>
              </a:rPr>
              <a:t>Срок: июнь 2009 г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ысокая мотивация!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чность знаний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ворчество и фантаз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муникаб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тивная жизненная позиц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андный дух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Ценность индивидуальности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вобода самовыражени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кцент на деятель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заимоуважение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мократичность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44600" y="268200"/>
            <a:ext cx="8248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20570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бращение к Интернет- возможностям психолого-педагогической поддержки возникает не случайно, они позволяют решить несколько важных запросов и проблем родителей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е всегда родители готовы обратиться лично к психологу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рой родители не знают, куда обратитьс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сихологи не в состоянии лично всем и каждому отвечать на те вопросы, которые появляются у родителей, тем более, что очень часто они сходны и целесообразнее выставить в открытый доступ примерные ответы, чем по многу раз отвечать одно и тож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частую родители не могут найти время для личного посещения психолога, но при этом готовы общаться посредством Интернет- технолог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369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ние системы Интернет- поддержки родителей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асширяет спектр оказываемых услуг для родителей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ает возможность активно формироваться родительскому сообществу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числе преимуществ Интернет–технологий в организации поддержки родителей можно отметить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анонимность и безопасность поддержки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ткрытость границ и доступность, возможность получить поддержку из любого уголка земного шар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поддержку, не выходя из дома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перативность реагирован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широкий доступ к ресурсам, возможность получения доступа к многим ресурсам, из которых можно выбрать необходимые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ноговариантность поддержки, можно получить разнообразную помощь по одному и тому же вопросу из разных источников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озможность получить ресурсы, не вступая в активную коммуникацию, что является явным преимуществом для людей с трудностями общения и взаимодейств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2133360"/>
            <a:ext cx="822960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 страничку для родителей на школьном сайте «Родительский университет», где были бы размещены материалы для родител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овать консультации для родителей в дистанционном режиме через скайп, ICQ, vkontakte.ru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здать интерактивную карту идеальных отношений, показывающую детский взгляд на проблему отношений между детьми и родителя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2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 основном ничего нового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«Начни с себя. Хочешь изменить мир – измени себя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Трудные ситуации в воспитании детей – дело обычное и нормальное в жизни любого человек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Мысли о своей родительской компетентности для тех, кто предпочитает думать во благо своих детей и… </a:t>
            </a:r>
            <a:r>
              <a:rPr b="1" lang="ru-RU" sz="36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действова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1. Рекомендации по взаимодействию семьи и школы в учебно-воспитательном процессе приняты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к  сведению и используются в работе классных руководителей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            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2. Заместителем директора школы по ВР Сусловой Е.В.  и социальным педагогом Зиминой Т.А. разработаны критерии и показатели эффективности социально-педагогической деятельности классного руководителя по работе с родителями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тематических родительских собраний не реже 1 раза в четверть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личие протоколов  родительских собраний , оформленных согласно требованиям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роведение заседаний  родительского комитета класса с оформлением протокола заседан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совместных с родителями мероприятий  с использование различных  форм работ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Изучение семей учащихся с посещением семьи и организация индивидуальной работы с семьями, нуждающимися в педагогической поддержке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рганизация индивидуальных консультаций и бесед с родителями  с обязательной фиксацией данной беседы в плане воспитательной работы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3. В плане инспекционно – контрольной деятельности завучем по ВР  Сусловой и соуиальным педагогом Зиминой Т.А. в 2009-2010 учебном году  изучена работа классных руководителей  с семьёй.  Составлена справка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4. В марте 2010 года для классных руководителей запланирован семинар по вопросам организации работы с семьёй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227a8f"/>
                </a:solidFill>
                <a:latin typeface="Times New Roman"/>
              </a:rPr>
              <a:t>5. При подведении итогов работы школы по реализации Программы развития школы проведён анализ выполнения проекта «Семья»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чество образования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7a8f"/>
                </a:solidFill>
                <a:latin typeface="Times New Roman"/>
              </a:rPr>
              <a:t>как результат сформированности компетенций родителей- участников образовательного процесса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Компетентный родитель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– это человек, который не испытывает страха за то, что он «плохой» родитель и не переносит чувство страха и вины на своего ребен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готовый видеть реальную ситуацию, в которой растет его ребенок и предпринимать усилия для того, чтобы ее меня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Это человек, который знает, что если не помогает одно – надо пробовать другое. Компетентный родитель понимает, что для изменения развития ребенка в более благоприятную сторону надо меняться самому, пробовать, искать, в общем – учитьс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7a8f"/>
                </a:solidFill>
                <a:uFillTx/>
                <a:latin typeface="Times New Roman"/>
                <a:ea typeface="Times New Roman"/>
              </a:rPr>
              <a:t>Психологический аспект проблемы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определению Р. В. Овчаровой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тво - 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оциально-психологически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феномен, представляющий собой эмоционально и оценочно окрашенную совокупность знаний, представлений и убеждений относительно себя как родителя, реализующуюся во всех проявлениях поведенческой составляющей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 стадии развитой формы родительство включает в себ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ценност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установки и ожидания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ое отношени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чувств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ие позици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одительскую ответственность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стиль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обенность в том, что они являютс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сновополагающими для остальных компонентов родительства и реализуются 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направленности личности родителя и направленности его поведен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Включают в себя три уровня презентации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репродуктивные установки, установки и ожидания в детско-родительских отношениях, установки и ожидания в отношении образа собственного ребёнк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По мнению Э. Мэш, Д. Вольфа и др., родительские установки зависят от тех традиций, ценностей, норм 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ожиданий, которые свойственны социальной, культурной, национальной и религиозной среде, к которой принадлежит та или иная семья. Именно все эти факторы во многом определяют особенности родительского пове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25360" y="30240"/>
            <a:ext cx="846792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11-24T13:43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