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chimes.wav" ContentType="audio/x-wav"/>
  <Override PartName="/ppt/media/image16.png" ContentType="image/png"/>
  <Override PartName="/ppt/media/image2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A4B-77C5-42C4-B7F6-D9EDA2D6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3F2-6369-4369-9733-CE859A67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18A-31C1-48C8-827D-90438871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66B-A9D1-4EB9-8BAE-C670CDA8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E0B-9D4F-4B72-9121-4510EAC3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2F5-AC35-4311-9A2A-261B109F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DB4-9988-40B2-B6E0-BFBBA19B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5FD-FDDD-4732-BEEA-43F4205C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6C7-440D-48F6-AC23-62A4ACBC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194-95E7-48EE-8F8C-8611222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D19-5311-4EE0-8555-C0B92FE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642-0EC3-4E03-A239-27F37AE6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B3DA-DC0A-4D04-8DBA-1A343291C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"/>
          <p:cNvPicPr/>
          <p:nvPr/>
        </p:nvPicPr>
        <p:blipFill>
          <a:blip r:embed="rId1"/>
          <a:stretch/>
        </p:blipFill>
        <p:spPr>
          <a:xfrm rot="20803200">
            <a:off x="539640" y="3789360"/>
            <a:ext cx="2344680" cy="246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Picture 6" descr="7"/>
          <p:cNvPicPr/>
          <p:nvPr/>
        </p:nvPicPr>
        <p:blipFill>
          <a:blip r:embed="rId2"/>
          <a:stretch/>
        </p:blipFill>
        <p:spPr>
          <a:xfrm rot="532800">
            <a:off x="6372360" y="3429000"/>
            <a:ext cx="2476440" cy="2554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3" name="WordArt 7"/>
          <p:cNvSpPr txBox="1"/>
          <p:nvPr/>
        </p:nvSpPr>
        <p:spPr>
          <a:xfrm>
            <a:off x="2771640" y="1557360"/>
            <a:ext cx="42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 дня без смех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3 конкурс – иг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«Два из трех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668F-7003-431F-B352-4C953244C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4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162864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«Ты – мне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Я – тебе!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CA12-13CC-489F-AE87-F5FA77BD5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6694-6FE4-4365-B7B8-79131AD83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41400"/>
                </a:solidFill>
                <a:latin typeface="Monotype Corsiva"/>
              </a:rPr>
              <a:t>Загадки 1 отря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95280" y="162864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Какой месяц короче все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Горели 3 лампочки. Одну из них погасили. Сколько лампочек остало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Что не влезает в самую большую кастрюлю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Почему человек назад оглядыв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Что мы произносим в середине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 Что у зайца позади, а у цапли сперед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Какие местоимения самые чист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Где край све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"/>
          <p:cNvPicPr/>
          <p:nvPr/>
        </p:nvPicPr>
        <p:blipFill>
          <a:blip r:embed="rId1"/>
          <a:stretch/>
        </p:blipFill>
        <p:spPr>
          <a:xfrm>
            <a:off x="250920" y="5013360"/>
            <a:ext cx="1657080" cy="1670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2CAE-0331-4D8D-A9FF-F9E3191EFE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41400"/>
                </a:solidFill>
                <a:latin typeface="Monotype Corsiva"/>
              </a:rPr>
              <a:t>Загадки 1 отряду </a:t>
            </a:r>
            <a:br>
              <a:rPr sz="4000"/>
            </a:br>
            <a:r>
              <a:rPr b="1" i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1400"/>
                </a:solidFill>
                <a:latin typeface="Monotype Corsiva"/>
              </a:rPr>
              <a:t>  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Может ли страус назвать себя птиц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10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. Кто говорит на всех языка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1. Что стоит между дверью и окн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Что теплее шуб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 Почему львы едят сырое мяс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4. Какая птица больше всех похожа на утк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7"/>
          <p:cNvPicPr/>
          <p:nvPr/>
        </p:nvPicPr>
        <p:blipFill>
          <a:blip r:embed="rId1"/>
          <a:stretch/>
        </p:blipFill>
        <p:spPr>
          <a:xfrm>
            <a:off x="6948360" y="4797360"/>
            <a:ext cx="1800360" cy="1717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98AA-2D0E-4698-9664-9AA6617F3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Загадки 2 отря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Длинная зелёная, полная зайце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Как зовут женщину, которая первая поднялась в ночное   небо на аппарате тяжелее воздух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Как правильно писать: перепонная барабанка или  перепончатая бараб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Мяукает, а не 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Сколько яиц можно съесть натоща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Что общего у слов «характер» и «орешек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Без чего не испечёшь хлеб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Какую змею легче обнаруж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7"/>
          <p:cNvPicPr/>
          <p:nvPr/>
        </p:nvPicPr>
        <p:blipFill>
          <a:blip r:embed="rId1"/>
          <a:stretch/>
        </p:blipFill>
        <p:spPr>
          <a:xfrm>
            <a:off x="6732720" y="4581360"/>
            <a:ext cx="1800000" cy="1717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FD08-75E5-412F-BF0C-D47AF0852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Загадки 2 отряду</a:t>
            </a:r>
            <a:br>
              <a:rPr sz="4000"/>
            </a:b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На какой вопрос невозможно ответи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0.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Что можно увидеть с закрытыми глаз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1. На какого сказочного героя покушались    трижды, а на 4 раз он погиб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Почему фермер разъезжал по картофельному полю на катке для укладки асфаль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У бабушки жили внук Фёдор, пёс Шарик, кот Вася. Сколько внуков у бабуш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4. Одно яйцо варят 4 минуты.  Сколько минут будут варить 5 яиц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0"/>
          <p:cNvPicPr/>
          <p:nvPr/>
        </p:nvPicPr>
        <p:blipFill>
          <a:blip r:embed="rId1"/>
          <a:stretch/>
        </p:blipFill>
        <p:spPr>
          <a:xfrm>
            <a:off x="179280" y="5084640"/>
            <a:ext cx="1497240" cy="15256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400"/>
                </a:solidFill>
                <a:latin typeface="Monotype Corsiva"/>
              </a:rPr>
              <a:t>Загадки 3 отря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EF7-E4C0-471B-9809-74F348522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95640" y="1483920"/>
            <a:ext cx="6502320" cy="66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. Кто под проливным дождем не замочит воло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2. Почему львы едят сырое мяс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3. Может ли петух назвать себя птиц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4. Какой рукой лучше размешивать ча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5. Что жжется в холодильн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6. Перед кем люди всегда снимают шляп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7. Кем ты станешь в 20 лет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8. Что имеет 8 ног и может пе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"/>
          <p:cNvPicPr/>
          <p:nvPr/>
        </p:nvPicPr>
        <p:blipFill>
          <a:blip r:embed="rId1"/>
          <a:stretch/>
        </p:blipFill>
        <p:spPr>
          <a:xfrm>
            <a:off x="395280" y="4437000"/>
            <a:ext cx="1728720" cy="1712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400"/>
                </a:solidFill>
                <a:latin typeface="Monotype Corsiva"/>
              </a:rPr>
              <a:t>Загадки 3 отряду</a:t>
            </a:r>
            <a:br>
              <a:rPr sz="4400"/>
            </a:br>
            <a:r>
              <a:rPr b="1" lang="ru-RU" sz="44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9. Как удвоить количество ваших дене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0. Кто сидит спиной к цар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1. Что имеет голову, но не имеет мозг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2. Что теплее шубы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3. Какой месяц самый корот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14. Что с земли легко подыме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      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но не закинеш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24EC-5D09-4312-9883-793BE847B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7"/>
          <p:cNvPicPr/>
          <p:nvPr/>
        </p:nvPicPr>
        <p:blipFill>
          <a:blip r:embed="rId1"/>
          <a:stretch/>
        </p:blipFill>
        <p:spPr>
          <a:xfrm>
            <a:off x="6570720" y="4437000"/>
            <a:ext cx="2178000" cy="2078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5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26920" y="162864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«В гостях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у сказки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ECFF-1F64-4A08-A532-78F62005F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6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«Оживи пословицу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F281-6098-433D-A3BC-3E1C600F7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779B-C3C1-495A-AF4D-F49DAAE05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оспитательные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) Способствовать созданию атмосферы праздника, активного отдыха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) Развивать познавательный интерес детей и  их творческие способност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) Содействовать сплочению классного коллект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4)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асширить кругозор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Игр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«Кт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не моет уши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1243-FFD8-4D72-9EBD-677B6552F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259B-2DDC-418C-8D34-7C4B6EDCB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тимологически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1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Из ада в рай –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переме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2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Поясница –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пояснительная запис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3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Светофор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дежурный учит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4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Нож в спину  -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контрольная раб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5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Завалинка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экзаме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6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Учебное ружьё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указ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7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Мусорный бак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портф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9"/>
          <p:cNvPicPr/>
          <p:nvPr/>
        </p:nvPicPr>
        <p:blipFill>
          <a:blip r:embed="rId1"/>
          <a:stretch/>
        </p:blipFill>
        <p:spPr>
          <a:xfrm>
            <a:off x="7020000" y="4508640"/>
            <a:ext cx="1728720" cy="1712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80A0-F550-4A3E-9715-77F9F695D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тимологический словарь</a:t>
            </a:r>
            <a:br>
              <a:rPr sz="4000"/>
            </a:b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8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Книга жалоб и предложений -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дневник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ымирающий вид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отличн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0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урятник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туа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1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кладка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ябе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2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балдашник –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головной уб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3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ван Грозный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директ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4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ожны –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обувь</a:t>
            </a:r>
            <a:r>
              <a:rPr b="1" i="1" lang="ru-RU" sz="3200" spc="-1" strike="noStrike">
                <a:solidFill>
                  <a:srgbClr val="cc3300"/>
                </a:solidFill>
                <a:latin typeface="Monotype Corsiva"/>
              </a:rPr>
              <a:t>)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9"/>
          <p:cNvPicPr/>
          <p:nvPr/>
        </p:nvPicPr>
        <p:blipFill>
          <a:blip r:embed="rId1"/>
          <a:stretch/>
        </p:blipFill>
        <p:spPr>
          <a:xfrm>
            <a:off x="7020000" y="4508640"/>
            <a:ext cx="1728720" cy="1712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9E93-E12B-477C-8549-80ABF96DE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Комната смех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7"/>
          <p:cNvPicPr/>
          <p:nvPr/>
        </p:nvPicPr>
        <p:blipFill>
          <a:blip r:embed="rId1"/>
          <a:stretch/>
        </p:blipFill>
        <p:spPr>
          <a:xfrm>
            <a:off x="539640" y="1197000"/>
            <a:ext cx="2519640" cy="25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9" name="Picture 5" descr="9"/>
          <p:cNvPicPr/>
          <p:nvPr/>
        </p:nvPicPr>
        <p:blipFill>
          <a:blip r:embed="rId2"/>
          <a:stretch/>
        </p:blipFill>
        <p:spPr>
          <a:xfrm>
            <a:off x="6804000" y="1052640"/>
            <a:ext cx="1884240" cy="2512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0" name="Picture 6" descr="2"/>
          <p:cNvPicPr/>
          <p:nvPr/>
        </p:nvPicPr>
        <p:blipFill>
          <a:blip r:embed="rId3"/>
          <a:stretch/>
        </p:blipFill>
        <p:spPr>
          <a:xfrm>
            <a:off x="3708360" y="1125360"/>
            <a:ext cx="2443320" cy="43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11"/>
          <p:cNvPicPr/>
          <p:nvPr/>
        </p:nvPicPr>
        <p:blipFill>
          <a:blip r:embed="rId4"/>
          <a:stretch/>
        </p:blipFill>
        <p:spPr>
          <a:xfrm>
            <a:off x="395280" y="4508640"/>
            <a:ext cx="2521080" cy="194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2" name="Picture 8" descr="6"/>
          <p:cNvPicPr/>
          <p:nvPr/>
        </p:nvPicPr>
        <p:blipFill>
          <a:blip r:embed="rId5"/>
          <a:stretch/>
        </p:blipFill>
        <p:spPr>
          <a:xfrm>
            <a:off x="6877080" y="4508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133" name="komnata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7" name="chimes.wav"/>
      </p:stSnd>
    </p:sndAc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22554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ABEC-84B1-4663-93C6-4E1400301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10 заповедей хорошего настро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Улыбайся! Улыбка поднимает настроение и делает тебя ещё красивее. Знай, что когда ты улыбаешься, происходит выработка гормонов счас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Давай людям больше , чем они ожидают, и делай это с рад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Улыбайся, когда отвечаешь на телефонный звонок. Улыбку можно услыш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При невзгодах настоящего нужно утешаться мыслью, что были времена более тяжкие, да и те прошли…. Поэтому улыбнись и иди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Всегда есть повод, чтобы улыбну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7"/>
          <p:cNvPicPr/>
          <p:nvPr/>
        </p:nvPicPr>
        <p:blipFill>
          <a:blip r:embed="rId1"/>
          <a:stretch/>
        </p:blipFill>
        <p:spPr>
          <a:xfrm>
            <a:off x="7164360" y="4869000"/>
            <a:ext cx="1798560" cy="1728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98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98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98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98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4D6A-7EFB-4D07-A8DE-EA3CE337B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471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10 заповедей хорошего   настроения                            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 Улыбка имеет эффект зеркала. Улыбнись и ты увидишь улыб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Улыбайся, даже когда тебе грустно. Ведь это может принести кому-то рад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Ищи того, кто может заставить тебя улыбнуться, потому что лишь улыбка сможет сделать ярким самый мрачны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На все вещи смотри с позитивной стороны, ведь даже неудача может обернуться побе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0. Помни! Улыбка – кривая, которая  выпрямляет вс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490C-7A14-4744-A631-6DE9FEAEB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1400"/>
                </a:solidFill>
                <a:uFillTx/>
                <a:latin typeface="Monotype Corsiva"/>
              </a:rPr>
              <a:t>Запомните</a:t>
            </a: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92000" y="1413000"/>
            <a:ext cx="5832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Улыбайтесь все, друзь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Без улыбки жить нельз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3"/>
          <p:cNvPicPr/>
          <p:nvPr/>
        </p:nvPicPr>
        <p:blipFill>
          <a:blip r:embed="rId1"/>
          <a:stretch/>
        </p:blipFill>
        <p:spPr>
          <a:xfrm>
            <a:off x="5651640" y="3863880"/>
            <a:ext cx="302400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F27-8C9B-4CF5-B7DD-9114ACB64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Галина\Desktop\конкурс СМЕХ\день смеха\5.png"/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6448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BF72-CA79-417C-961D-B4356897B9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919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763640" y="1268280"/>
            <a:ext cx="561672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A957-8F2C-4356-8492-D3D005462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Отве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Май-3 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Её кр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У него нет глаз на затыл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5. Букву «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6.Буква «Ц.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Вы, мы, 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Т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ам, где начинается 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Нет, т.к. он не умеет гово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10. Э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Буква «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2 шу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Не умеют гот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14. Селез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5.П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7"/>
          <p:cNvPicPr/>
          <p:nvPr/>
        </p:nvPicPr>
        <p:blipFill>
          <a:blip r:embed="rId1"/>
          <a:stretch/>
        </p:blipFill>
        <p:spPr>
          <a:xfrm>
            <a:off x="6659640" y="4508640"/>
            <a:ext cx="1800000" cy="171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AFAF-1D29-4F0A-8827-16E2A6F12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Высказывания великих пис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Смех прогоняет зиму с человеческого лица». В.Гю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Я никогда не думал, что можно так смеяться, глядя на себя в зеркало». Г.Гей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Бесценно свойство человека, умеющего посмеяться 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над собой». С.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Смех – великое дело». Н.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6"/>
          <p:cNvPicPr/>
          <p:nvPr/>
        </p:nvPicPr>
        <p:blipFill>
          <a:blip r:embed="rId1"/>
          <a:stretch/>
        </p:blipFill>
        <p:spPr>
          <a:xfrm>
            <a:off x="6877080" y="477036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3C41-8AEA-46B8-9366-35028DBB7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Электри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Баба Я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Барабанная переп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1, второе будет уже не натощ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 Креп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Без к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Гремуч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Ты спи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0.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1. Коло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Хотел вырастить картофельное пю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4. 4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5. Петуши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7"/>
          <p:cNvPicPr/>
          <p:nvPr/>
        </p:nvPicPr>
        <p:blipFill>
          <a:blip r:embed="rId1"/>
          <a:stretch/>
        </p:blipFill>
        <p:spPr>
          <a:xfrm>
            <a:off x="7164360" y="4797360"/>
            <a:ext cx="1800360" cy="1717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F26C-0973-47A1-B31D-ADC5CF75A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Музей юмо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музей юмора"/>
          <p:cNvPicPr/>
          <p:nvPr/>
        </p:nvPicPr>
        <p:blipFill>
          <a:blip r:embed="rId1"/>
          <a:stretch/>
        </p:blipFill>
        <p:spPr>
          <a:xfrm>
            <a:off x="2484360" y="1125360"/>
            <a:ext cx="4321080" cy="324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4" name="Rectangle 5"/>
          <p:cNvSpPr/>
          <p:nvPr/>
        </p:nvSpPr>
        <p:spPr>
          <a:xfrm>
            <a:off x="1619280" y="479736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Музей находится в городе Габр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в Болг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10"/>
          <p:cNvPicPr/>
          <p:nvPr/>
        </p:nvPicPr>
        <p:blipFill>
          <a:blip r:embed="rId2"/>
          <a:stretch/>
        </p:blipFill>
        <p:spPr>
          <a:xfrm>
            <a:off x="250920" y="4581360"/>
            <a:ext cx="1657080" cy="1670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BB45-8821-4795-AF32-D74CD31EB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кспонаты музе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в музее юмора"/>
          <p:cNvPicPr/>
          <p:nvPr/>
        </p:nvPicPr>
        <p:blipFill>
          <a:blip r:embed="rId1"/>
          <a:stretch/>
        </p:blipFill>
        <p:spPr>
          <a:xfrm rot="20883600">
            <a:off x="1042560" y="1844280"/>
            <a:ext cx="2286000" cy="1609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9" name="Picture 5" descr="музей в габрово"/>
          <p:cNvPicPr/>
          <p:nvPr/>
        </p:nvPicPr>
        <p:blipFill>
          <a:blip r:embed="rId2"/>
          <a:stretch/>
        </p:blipFill>
        <p:spPr>
          <a:xfrm rot="591600">
            <a:off x="5579640" y="1628280"/>
            <a:ext cx="2305080" cy="172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0" name="Picture 6" descr="экспонат4"/>
          <p:cNvPicPr/>
          <p:nvPr/>
        </p:nvPicPr>
        <p:blipFill>
          <a:blip r:embed="rId3"/>
          <a:stretch/>
        </p:blipFill>
        <p:spPr>
          <a:xfrm>
            <a:off x="3564000" y="4005360"/>
            <a:ext cx="1873080" cy="208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1" name="Picture 7" descr="7"/>
          <p:cNvPicPr/>
          <p:nvPr/>
        </p:nvPicPr>
        <p:blipFill>
          <a:blip r:embed="rId4"/>
          <a:stretch/>
        </p:blipFill>
        <p:spPr>
          <a:xfrm>
            <a:off x="6732720" y="4869000"/>
            <a:ext cx="1800000" cy="171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5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9E8B-1CE8-44B6-A361-FA285FE94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кспонаты музея</a:t>
            </a:r>
            <a:r>
              <a:rPr b="1" lang="en-US" sz="40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у музея"/>
          <p:cNvPicPr/>
          <p:nvPr/>
        </p:nvPicPr>
        <p:blipFill>
          <a:blip r:embed="rId1"/>
          <a:stretch/>
        </p:blipFill>
        <p:spPr>
          <a:xfrm>
            <a:off x="1619280" y="1413000"/>
            <a:ext cx="2295360" cy="1904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5" name="Picture 5" descr="экспонат2"/>
          <p:cNvPicPr/>
          <p:nvPr/>
        </p:nvPicPr>
        <p:blipFill>
          <a:blip r:embed="rId2"/>
          <a:stretch/>
        </p:blipFill>
        <p:spPr>
          <a:xfrm>
            <a:off x="5867280" y="1413000"/>
            <a:ext cx="1694160" cy="194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6" name="Picture 6" descr="экспонат3"/>
          <p:cNvPicPr/>
          <p:nvPr/>
        </p:nvPicPr>
        <p:blipFill>
          <a:blip r:embed="rId3"/>
          <a:stretch/>
        </p:blipFill>
        <p:spPr>
          <a:xfrm>
            <a:off x="1692360" y="4149720"/>
            <a:ext cx="2305080" cy="1828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7" name="Picture 7" descr="7"/>
          <p:cNvPicPr/>
          <p:nvPr/>
        </p:nvPicPr>
        <p:blipFill>
          <a:blip r:embed="rId4"/>
          <a:stretch/>
        </p:blipFill>
        <p:spPr>
          <a:xfrm>
            <a:off x="6443640" y="4437000"/>
            <a:ext cx="1800360" cy="171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5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42AE-47E3-45D9-AAD4-CFAF3A3DC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Давайте споём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3898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                    </a:t>
            </a: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Улы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хмурый день светл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в небе радуга проснет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оделись улыбкою св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она к тебе не раз еще вернется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рипе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тогда ,наверня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вдруг запляшут обла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кузнечик запиликает на скрипке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С голубого ручейка начинается р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Ну, а дружба начинается с улыб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С голубого ручейка начинается р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Ну, а дружба начинается с улыбки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9280" y="836280"/>
            <a:ext cx="410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14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солнечной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ерестанет плакать самый гру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дожд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Сонный лес простится с тиши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захлопает в зеленые ладош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рипе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станет всем тепле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слону и даже маленькой улитк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Так пускай повсюду на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Будто лампочки, включаются улыбки!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рипе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8"/>
          <p:cNvPicPr/>
          <p:nvPr/>
        </p:nvPicPr>
        <p:blipFill>
          <a:blip r:embed="rId1"/>
          <a:stretch/>
        </p:blipFill>
        <p:spPr>
          <a:xfrm>
            <a:off x="6804000" y="4941720"/>
            <a:ext cx="1844640" cy="191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2"/>
          <a:stretch/>
        </p:blipFill>
        <p:spPr>
          <a:xfrm>
            <a:off x="12589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1 конкурс: 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Изобрази походку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6A0F-9E1F-4226-BB9B-643EA2E00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2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Пофантазируй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изобрази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BFF7-0AAF-4922-9DDD-94C2326A9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0:15:30Z</dcterms:created>
  <dc:creator>Admin</dc:creator>
  <dc:description/>
  <dc:language>en-US</dc:language>
  <cp:lastModifiedBy>user</cp:lastModifiedBy>
  <dcterms:modified xsi:type="dcterms:W3CDTF">2013-06-17T10:00:33Z</dcterms:modified>
  <cp:revision>19</cp:revision>
  <dc:subject/>
  <dc:title>   Муниципальное казённое общеобразовательное учреждение «Средняя общеобразовательная школа №2 р.п. Самойловка Самойловского района Саратовской области»</dc:title>
</cp:coreProperties>
</file>