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chimes.wav" ContentType="audio/x-wav"/>
  <Override PartName="/ppt/media/image16.png" ContentType="image/png"/>
  <Override PartName="/ppt/media/image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E47-9932-4DBB-BD7D-29830428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81D-2DA6-4B26-AA01-D4F97DA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F9C-1C43-4C98-B57F-740409B3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BA3-CE2E-4A90-BBD4-43FE68A6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2D5-6E95-4053-B6B1-D76E6D9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A2F-FFB1-43F2-8169-5EBF9D7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4B2-BD19-4B02-8DD1-1221838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5DC-4DE8-48F9-BD9F-56B96197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B0B-9788-4666-B695-8CB3211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583-993B-4C40-A059-7B2FB974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EF9-23A2-4B58-8818-C19D528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FA3-3A43-4EE1-B02B-C25AF90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E96-33D1-4114-9077-799CF15F8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"/>
          <p:cNvPicPr/>
          <p:nvPr/>
        </p:nvPicPr>
        <p:blipFill>
          <a:blip r:embed="rId1"/>
          <a:stretch/>
        </p:blipFill>
        <p:spPr>
          <a:xfrm rot="20803200">
            <a:off x="539640" y="3789360"/>
            <a:ext cx="2344680" cy="24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6" descr="7"/>
          <p:cNvPicPr/>
          <p:nvPr/>
        </p:nvPicPr>
        <p:blipFill>
          <a:blip r:embed="rId2"/>
          <a:stretch/>
        </p:blipFill>
        <p:spPr>
          <a:xfrm rot="532800">
            <a:off x="6372360" y="3429000"/>
            <a:ext cx="2476440" cy="255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" name="WordArt 7"/>
          <p:cNvSpPr txBox="1"/>
          <p:nvPr/>
        </p:nvSpPr>
        <p:spPr>
          <a:xfrm>
            <a:off x="2771640" y="155736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 дня без смех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3 конкурс – иг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276280"/>
            <a:ext cx="8002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Два из трех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49D-5A73-48F8-AF4E-CE8D2AB89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4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6286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Ты – мне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Я – тебе!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9A5-3642-46BE-8AC6-633552A55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63F-6B73-4AF5-A684-9ACC83796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Загадки 1 от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Какой месяц короче все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Горели 3 лампочки. Одну из них погасили. Сколько лампочек остало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Что не влезает в самую большую кастрюл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Почему человек назад оглядыв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Что мы произносим в середине у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Что у зайца позади, а у цапли спере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Какие местоимения самые чист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Где край све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"/>
          <p:cNvPicPr/>
          <p:nvPr/>
        </p:nvPicPr>
        <p:blipFill>
          <a:blip r:embed="rId1"/>
          <a:stretch/>
        </p:blipFill>
        <p:spPr>
          <a:xfrm>
            <a:off x="250920" y="5013360"/>
            <a:ext cx="1657080" cy="1670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576-11DA-4E40-9977-D0A71130F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Загадки 1 отряду </a:t>
            </a:r>
            <a:br>
              <a:rPr sz="4000"/>
            </a:br>
            <a:r>
              <a:rPr b="1" i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1400"/>
                </a:solidFill>
                <a:latin typeface="Monotype Corsiva"/>
              </a:rPr>
              <a:t>  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Может ли страус назвать себя птиц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10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. Кто говорит на всех языка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Что стоит между дверью и окн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Что теплее шу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Почему львы едят сырое мяс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Какая птица больше всех похожа на утк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7"/>
          <p:cNvPicPr/>
          <p:nvPr/>
        </p:nvPicPr>
        <p:blipFill>
          <a:blip r:embed="rId1"/>
          <a:stretch/>
        </p:blipFill>
        <p:spPr>
          <a:xfrm>
            <a:off x="6948360" y="4797360"/>
            <a:ext cx="180036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87A-A3E7-4CAC-8033-C0D24C8AE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Загадки 2 от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Длинная зелёная, полная зайц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Как зовут женщину, которая первая поднялась в ночное   небо на аппарате тяжелее воздух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Как правильно писать: перепонная барабанка или  перепончатая бараб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Мяукает, а не 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Сколько яиц можно съесть натоща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Что общего у слов «характер» и «орешек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Без чего не испечёшь хле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Какую змею легче обнару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"/>
          <p:cNvPicPr/>
          <p:nvPr/>
        </p:nvPicPr>
        <p:blipFill>
          <a:blip r:embed="rId1"/>
          <a:stretch/>
        </p:blipFill>
        <p:spPr>
          <a:xfrm>
            <a:off x="6732720" y="4581360"/>
            <a:ext cx="180000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105-9EAF-4EA7-949F-7C5252D02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Загадки 2 отряду</a:t>
            </a:r>
            <a:br>
              <a:rPr sz="40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На какой вопрос невозможно ответи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Что можно увидеть с закрытыми глаз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На какого сказочного героя покушались    трижды, а на 4 раз он погиб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Почему фермер разъезжал по картофельному полю на катке для укладки асфаль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У бабушки жили внук Фёдор, пёс Шарик, кот Вася. Сколько внуков у баб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Одно яйцо варят 4 минуты.  Сколько минут будут варить 5 яиц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"/>
          <p:cNvPicPr/>
          <p:nvPr/>
        </p:nvPicPr>
        <p:blipFill>
          <a:blip r:embed="rId1"/>
          <a:stretch/>
        </p:blipFill>
        <p:spPr>
          <a:xfrm>
            <a:off x="179280" y="5084640"/>
            <a:ext cx="1497240" cy="1525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Загадки 3 отря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E16-3A4F-4811-B095-D41888C70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95640" y="1483920"/>
            <a:ext cx="6502320" cy="66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. Кто под проливным дождем не замочит воло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Почему львы едят сырое мяс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Может ли петух назвать себя птиц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Какой рукой лучше размешивать ч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Что жжется в холодиль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6. Перед кем люди всегда снимают шляп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7. Кем ты станешь в 20 лет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8. Что имеет 8 ног и может пе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"/>
          <p:cNvPicPr/>
          <p:nvPr/>
        </p:nvPicPr>
        <p:blipFill>
          <a:blip r:embed="rId1"/>
          <a:stretch/>
        </p:blipFill>
        <p:spPr>
          <a:xfrm>
            <a:off x="395280" y="443700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Загадки 3 отряду</a:t>
            </a:r>
            <a:br>
              <a:rPr sz="4400"/>
            </a:br>
            <a:r>
              <a:rPr b="1" lang="ru-RU" sz="44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9. Как удвоить количество ваших ден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0. Кто сидит спиной к цар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1. Что имеет голову, но не имеет моз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2. Что теплее шубы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3. Какой месяц самый корот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14. Что с земли легко подыме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  <a:ea typeface="Calibri"/>
              </a:rPr>
              <a:t>но не закинеш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74B3-1F34-4D26-B43C-412ACFF31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"/>
          <p:cNvPicPr/>
          <p:nvPr/>
        </p:nvPicPr>
        <p:blipFill>
          <a:blip r:embed="rId1"/>
          <a:stretch/>
        </p:blipFill>
        <p:spPr>
          <a:xfrm>
            <a:off x="6570720" y="4437000"/>
            <a:ext cx="2178000" cy="2078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5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62864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В гостях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у сказк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4F6-B9BA-4F8E-B13E-979E91D06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6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Оживи пословицу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CB3-4ECD-4B1A-835E-681D85B73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928-F6F5-4CF0-A0A5-FE71C4E50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оспитательные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) Способствовать созданию атмосферы праздника, активного отдых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) Развивать познавательный интерес детей и  их творческие способно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) Содействовать сплочению классного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4)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сширить кругозор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гр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«Кт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не моет уши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FB50-C40E-45F2-8337-FF3A35131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D10F-4758-4850-A6CE-913C20C75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тимологически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1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Из ада в рай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ерем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2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Поясница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ояснительная зап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3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Светофор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ежурный 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4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Нож в спину  -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контрольная ра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5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Завалинка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экзам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6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Учебное ружьё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указ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7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Мусорный бак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портф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9"/>
          <p:cNvPicPr/>
          <p:nvPr/>
        </p:nvPicPr>
        <p:blipFill>
          <a:blip r:embed="rId1"/>
          <a:stretch/>
        </p:blipFill>
        <p:spPr>
          <a:xfrm>
            <a:off x="7020000" y="450864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9FE-DC97-4D54-8DE1-308EB9F1E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тимологический словарь</a:t>
            </a:r>
            <a:br>
              <a:rPr sz="40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8.</a:t>
            </a:r>
            <a:r>
              <a:rPr b="1" lang="en-US" sz="32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141400"/>
                </a:solidFill>
                <a:latin typeface="Monotype Corsiva"/>
              </a:rPr>
              <a:t>Книга жалоб и предложений -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невник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ымирающий вид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отлич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урятник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туа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1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кладка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ябе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балдашник –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головной уб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3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ван Грозный –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директ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жны –  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(обувь</a:t>
            </a:r>
            <a:r>
              <a:rPr b="1" i="1" lang="ru-RU" sz="3200" spc="-1" strike="noStrike">
                <a:solidFill>
                  <a:srgbClr val="cc3300"/>
                </a:solidFill>
                <a:latin typeface="Monotype Corsiva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9"/>
          <p:cNvPicPr/>
          <p:nvPr/>
        </p:nvPicPr>
        <p:blipFill>
          <a:blip r:embed="rId1"/>
          <a:stretch/>
        </p:blipFill>
        <p:spPr>
          <a:xfrm>
            <a:off x="7020000" y="4508640"/>
            <a:ext cx="1728720" cy="1712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CE7-2086-43BD-8D19-19E8BC002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Комната смех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7"/>
          <p:cNvPicPr/>
          <p:nvPr/>
        </p:nvPicPr>
        <p:blipFill>
          <a:blip r:embed="rId1"/>
          <a:stretch/>
        </p:blipFill>
        <p:spPr>
          <a:xfrm>
            <a:off x="539640" y="1197000"/>
            <a:ext cx="251964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5" descr="9"/>
          <p:cNvPicPr/>
          <p:nvPr/>
        </p:nvPicPr>
        <p:blipFill>
          <a:blip r:embed="rId2"/>
          <a:stretch/>
        </p:blipFill>
        <p:spPr>
          <a:xfrm>
            <a:off x="6804000" y="1052640"/>
            <a:ext cx="1884240" cy="2512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6" descr="2"/>
          <p:cNvPicPr/>
          <p:nvPr/>
        </p:nvPicPr>
        <p:blipFill>
          <a:blip r:embed="rId3"/>
          <a:stretch/>
        </p:blipFill>
        <p:spPr>
          <a:xfrm>
            <a:off x="3708360" y="1125360"/>
            <a:ext cx="244332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"/>
          <p:cNvPicPr/>
          <p:nvPr/>
        </p:nvPicPr>
        <p:blipFill>
          <a:blip r:embed="rId4"/>
          <a:stretch/>
        </p:blipFill>
        <p:spPr>
          <a:xfrm>
            <a:off x="395280" y="4508640"/>
            <a:ext cx="252108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2" name="Picture 8" descr="6"/>
          <p:cNvPicPr/>
          <p:nvPr/>
        </p:nvPicPr>
        <p:blipFill>
          <a:blip r:embed="rId5"/>
          <a:stretch/>
        </p:blipFill>
        <p:spPr>
          <a:xfrm>
            <a:off x="687708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33" name="komnat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7" name="chimes.wav"/>
      </p:stSnd>
    </p:sndAc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22554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2EB-223B-4A9D-B7D3-D3E1D4D73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10 заповедей хорошего настро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Улыбайся! Улыбка поднимает настроение и делает тебя ещё красивее. Знай, что когда ты улыбаешься, происходит выработка гормонов сч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Давай людям больше , чем они ожидают, и делай это с рад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Улыбайся, когда отвечаешь на телефонный звонок. Улыбку можно услыш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При невзгодах настоящего нужно утешаться мыслью, что были времена более тяжкие, да и те прошли…. Поэтому улыбнись и иди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Всегда есть повод, чтобы улыбну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7"/>
          <p:cNvPicPr/>
          <p:nvPr/>
        </p:nvPicPr>
        <p:blipFill>
          <a:blip r:embed="rId1"/>
          <a:stretch/>
        </p:blipFill>
        <p:spPr>
          <a:xfrm>
            <a:off x="7164360" y="4869000"/>
            <a:ext cx="1798560" cy="1728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98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98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98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573D-3131-45BF-9C26-466500690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471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10 заповедей хорошего   настроения                            (продолж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Улыбка имеет эффект зеркала. Улыбнись и ты увидишь улыб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Улыбайся, даже когда тебе грустно. Ведь это может принести кому-то рад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Ищи того, кто может заставить тебя улыбнуться, потому что лишь улыбка сможет сделать ярким самый мрачны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На все вещи смотри с позитивной стороны, ведь даже неудача может обернуться поб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 Помни! Улыбка – кривая, которая  выпрямляет вс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3F9-5E66-454C-9D4A-6626D59FC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1400"/>
                </a:solidFill>
                <a:uFillTx/>
                <a:latin typeface="Monotype Corsiva"/>
              </a:rPr>
              <a:t>Запомните</a:t>
            </a: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2000" y="1413000"/>
            <a:ext cx="583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Улыбайтесь все, друзь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Без улыбки жить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3"/>
          <p:cNvPicPr/>
          <p:nvPr/>
        </p:nvPicPr>
        <p:blipFill>
          <a:blip r:embed="rId1"/>
          <a:stretch/>
        </p:blipFill>
        <p:spPr>
          <a:xfrm>
            <a:off x="5651640" y="3863880"/>
            <a:ext cx="302400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5C5-25BA-4FC9-991F-27E27EF10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Галина\Desktop\конкурс СМЕХ\день смеха\5.png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6448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C8E-A375-4135-97DA-56ACCDC1E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919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763640" y="1268280"/>
            <a:ext cx="5616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1E04-23E7-49AC-8732-5D4DA3374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Отве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Май-3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Её кр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У него нет глаз на затыл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5. Букву «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6.Буква «Ц.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Вы, мы,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Т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ам, где начинаетс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Нет, т.к. он не умеет 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10. Э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Буква «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2 ш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</a:t>
            </a: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Не умеют гот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41400"/>
                </a:solidFill>
                <a:latin typeface="Monotype Corsiva"/>
              </a:rPr>
              <a:t>14. Селез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5.П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7"/>
          <p:cNvPicPr/>
          <p:nvPr/>
        </p:nvPicPr>
        <p:blipFill>
          <a:blip r:embed="rId1"/>
          <a:stretch/>
        </p:blipFill>
        <p:spPr>
          <a:xfrm>
            <a:off x="6659640" y="4508640"/>
            <a:ext cx="180000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0D64-06B5-4EA9-A7CC-3EB5C51A7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Высказывания великих пис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Смех прогоняет зиму с человеческого лица». В.Гю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Я никогда не думал, что можно так смеяться, глядя на себя в зеркало». Г.Ге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Бесценно свойство человека, умеющего посмеяться 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над собой». С.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«Смех – великое дело». Н.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1"/>
          <a:stretch/>
        </p:blipFill>
        <p:spPr>
          <a:xfrm>
            <a:off x="6877080" y="477036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4F0C-B34D-4B59-94A5-29EDFB1EE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. Электр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2. Баба 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3. Барабанная переп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4.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5. 1, второе будет уже не натощ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6. Креп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7. Без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8. Гремуч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9.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0.</a:t>
            </a:r>
            <a:r>
              <a:rPr b="1" lang="en-US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1. Коло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2. Хотел вырастить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3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4. 4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414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15. Петуши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"/>
          <p:cNvPicPr/>
          <p:nvPr/>
        </p:nvPicPr>
        <p:blipFill>
          <a:blip r:embed="rId1"/>
          <a:stretch/>
        </p:blipFill>
        <p:spPr>
          <a:xfrm>
            <a:off x="7164360" y="4797360"/>
            <a:ext cx="1800360" cy="1717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himes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AF72-FE2A-44B6-A930-0DAB6DB41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Музей юм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музей юмора"/>
          <p:cNvPicPr/>
          <p:nvPr/>
        </p:nvPicPr>
        <p:blipFill>
          <a:blip r:embed="rId1"/>
          <a:stretch/>
        </p:blipFill>
        <p:spPr>
          <a:xfrm>
            <a:off x="2484360" y="1125360"/>
            <a:ext cx="4321080" cy="324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4" name="Rectangle 5"/>
          <p:cNvSpPr/>
          <p:nvPr/>
        </p:nvSpPr>
        <p:spPr>
          <a:xfrm>
            <a:off x="1619280" y="479736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Музей находится в городе Габ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1400"/>
                </a:solidFill>
                <a:latin typeface="Monotype Corsiva"/>
              </a:rPr>
              <a:t>в Болг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0"/>
          <p:cNvPicPr/>
          <p:nvPr/>
        </p:nvPicPr>
        <p:blipFill>
          <a:blip r:embed="rId2"/>
          <a:stretch/>
        </p:blipFill>
        <p:spPr>
          <a:xfrm>
            <a:off x="250920" y="4581360"/>
            <a:ext cx="1657080" cy="1670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1B4-3B08-4CA9-A79B-1A91F5C11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кспонаты музе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в музее юмора"/>
          <p:cNvPicPr/>
          <p:nvPr/>
        </p:nvPicPr>
        <p:blipFill>
          <a:blip r:embed="rId1"/>
          <a:stretch/>
        </p:blipFill>
        <p:spPr>
          <a:xfrm rot="20883600">
            <a:off x="1042560" y="1844280"/>
            <a:ext cx="2286000" cy="1609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Picture 5" descr="музей в габрово"/>
          <p:cNvPicPr/>
          <p:nvPr/>
        </p:nvPicPr>
        <p:blipFill>
          <a:blip r:embed="rId2"/>
          <a:stretch/>
        </p:blipFill>
        <p:spPr>
          <a:xfrm rot="591600">
            <a:off x="5579640" y="1628280"/>
            <a:ext cx="2305080" cy="17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0" name="Picture 6" descr="экспонат4"/>
          <p:cNvPicPr/>
          <p:nvPr/>
        </p:nvPicPr>
        <p:blipFill>
          <a:blip r:embed="rId3"/>
          <a:stretch/>
        </p:blipFill>
        <p:spPr>
          <a:xfrm>
            <a:off x="3564000" y="4005360"/>
            <a:ext cx="1873080" cy="208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Picture 7" descr="7"/>
          <p:cNvPicPr/>
          <p:nvPr/>
        </p:nvPicPr>
        <p:blipFill>
          <a:blip r:embed="rId4"/>
          <a:stretch/>
        </p:blipFill>
        <p:spPr>
          <a:xfrm>
            <a:off x="6732720" y="4869000"/>
            <a:ext cx="180000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5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9C4-7ACA-4AB7-9A55-FCE7F1C9F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Экспонаты музея</a:t>
            </a:r>
            <a:r>
              <a:rPr b="1" lang="en-US" sz="4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(продолжение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у музея"/>
          <p:cNvPicPr/>
          <p:nvPr/>
        </p:nvPicPr>
        <p:blipFill>
          <a:blip r:embed="rId1"/>
          <a:stretch/>
        </p:blipFill>
        <p:spPr>
          <a:xfrm>
            <a:off x="1619280" y="1413000"/>
            <a:ext cx="2295360" cy="1904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5" name="Picture 5" descr="экспонат2"/>
          <p:cNvPicPr/>
          <p:nvPr/>
        </p:nvPicPr>
        <p:blipFill>
          <a:blip r:embed="rId2"/>
          <a:stretch/>
        </p:blipFill>
        <p:spPr>
          <a:xfrm>
            <a:off x="5867280" y="1413000"/>
            <a:ext cx="1694160" cy="194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6" name="Picture 6" descr="экспонат3"/>
          <p:cNvPicPr/>
          <p:nvPr/>
        </p:nvPicPr>
        <p:blipFill>
          <a:blip r:embed="rId3"/>
          <a:stretch/>
        </p:blipFill>
        <p:spPr>
          <a:xfrm>
            <a:off x="1692360" y="4149720"/>
            <a:ext cx="2305080" cy="182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Picture 7" descr="7"/>
          <p:cNvPicPr/>
          <p:nvPr/>
        </p:nvPicPr>
        <p:blipFill>
          <a:blip r:embed="rId4"/>
          <a:stretch/>
        </p:blipFill>
        <p:spPr>
          <a:xfrm>
            <a:off x="6443640" y="4437000"/>
            <a:ext cx="1800360" cy="171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5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437-49EF-412C-A739-BA5F16723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41400"/>
                </a:solidFill>
                <a:latin typeface="Monotype Corsiva"/>
              </a:rPr>
              <a:t>Давайте споё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3898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                   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Улы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хмурый день свет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в небе радуга просн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оделись улыбкою св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она к тебе не раз еще вернется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тогда ,наверня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вдруг запляшут обла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кузнечик запиликает на скрипке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Ну, а дружба начинается с улыб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Ну, а дружба начинается с улыбки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9280" y="836280"/>
            <a:ext cx="410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14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солнечной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ерестанет плакать самый гру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дожд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Сонный лес простится с тиши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захлопает в зеленые ладош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4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От улыбки станет всем тепле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И слону и даже маленькой улитк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Так пускай повсюду на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Будто лампочки, включаются улыбки!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41400"/>
                </a:solidFill>
                <a:latin typeface="Monotype Corsiva"/>
              </a:rPr>
              <a:t>Припе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8"/>
          <p:cNvPicPr/>
          <p:nvPr/>
        </p:nvPicPr>
        <p:blipFill>
          <a:blip r:embed="rId1"/>
          <a:stretch/>
        </p:blipFill>
        <p:spPr>
          <a:xfrm>
            <a:off x="6804000" y="4941720"/>
            <a:ext cx="184464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2"/>
          <a:stretch/>
        </p:blipFill>
        <p:spPr>
          <a:xfrm>
            <a:off x="1258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1 конкурс: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Изобрази походку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3FF-671A-499F-810B-F167783B0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2 конкур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Пофантазируй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изобрази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AFDE-CA46-4F0E-93C7-4C11DD5BC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0:15:30Z</dcterms:created>
  <dc:creator>Admin</dc:creator>
  <dc:description/>
  <dc:language>en-US</dc:language>
  <cp:lastModifiedBy>user</cp:lastModifiedBy>
  <dcterms:modified xsi:type="dcterms:W3CDTF">2013-06-17T10:00:33Z</dcterms:modified>
  <cp:revision>19</cp:revision>
  <dc:subject/>
  <dc:title>   Муниципальное казённое общеобразовательное учреждение «Средняя общеобразовательная школа №2 р.п. Самойловка Самойловского района Саратовской области»</dc:title>
</cp:coreProperties>
</file>