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chimes.wav" ContentType="audio/x-wav"/>
  <Override PartName="/ppt/media/image16.png" ContentType="image/png"/>
  <Override PartName="/ppt/media/image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B6E-5737-495D-92D0-1F4082A3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048-F5D2-428E-B202-0CD9B3F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6C3-E63C-4794-A7F5-63B1B7A2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198-F1DE-428C-86C4-E4EF9834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56C-B33A-473B-B191-279BAB5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4D7-02EC-4851-B720-90883B7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D36-D72A-4F8C-AA09-D2BCF1C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253-EF6F-4004-B67F-02A68CA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70C-CCFA-4EFA-B306-E46D535E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E54-6490-4C60-BB49-8C2463A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E21-9FDB-477E-AA01-0C23E9F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847-B121-4321-B1A6-051F853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B01-87D8-451F-9ECD-88AF5A95A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 rot="20803200">
            <a:off x="539640" y="3789360"/>
            <a:ext cx="2344680" cy="24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6" descr="7"/>
          <p:cNvPicPr/>
          <p:nvPr/>
        </p:nvPicPr>
        <p:blipFill>
          <a:blip r:embed="rId2"/>
          <a:stretch/>
        </p:blipFill>
        <p:spPr>
          <a:xfrm rot="532800">
            <a:off x="6372360" y="3429000"/>
            <a:ext cx="2476440" cy="255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WordArt 7"/>
          <p:cNvSpPr txBox="1"/>
          <p:nvPr/>
        </p:nvSpPr>
        <p:spPr>
          <a:xfrm>
            <a:off x="2771640" y="155736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 дня без смех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3 конкурс – иг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Два из трех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EA3-DE77-4647-97FB-DC687067A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4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628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Ты – мне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Я – тебе!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81B-92F6-40E5-BCD6-2BB3490F5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183-EF8C-4AC3-9BC3-492F9904B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Какой месяц короч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Горели 3 лампочки. Одну из них погасили. Сколько лампочек остало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Что не влезает в самую большую кастрюл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Почему человек назад оглядыв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Что мы произносим в середине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Что у зайца позади, а у цапли спере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Какие местоимения самые чист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де край све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"/>
          <p:cNvPicPr/>
          <p:nvPr/>
        </p:nvPicPr>
        <p:blipFill>
          <a:blip r:embed="rId1"/>
          <a:stretch/>
        </p:blipFill>
        <p:spPr>
          <a:xfrm>
            <a:off x="250920" y="5013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3E8D-FB94-440D-BCD0-782F9674E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 </a:t>
            </a:r>
            <a:br>
              <a:rPr sz="4000"/>
            </a:b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1400"/>
                </a:solidFill>
                <a:latin typeface="Monotype Corsiva"/>
              </a:rPr>
              <a:t>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Может ли страус назвать себя птиц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10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. Кто говорит на всех язык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Что стоит между дверью и окн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Что теплее шу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Почему львы едят сырое мяс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Какая птица больше всех похожа на ут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7"/>
          <p:cNvPicPr/>
          <p:nvPr/>
        </p:nvPicPr>
        <p:blipFill>
          <a:blip r:embed="rId1"/>
          <a:stretch/>
        </p:blipFill>
        <p:spPr>
          <a:xfrm>
            <a:off x="6948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5A9-FDFD-428B-B78B-E2FF8BC03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Длинная зелёная, полная зайц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Как зовут женщину, которая первая поднялась в ночное   небо на аппарате тяжелее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Как правильно писать: перепонная барабанка или  перепончатая бараб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Мяукает, а не 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Сколько яиц можно съесть натоща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Что общего у слов «характер» и «орешек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чего не испечёшь хле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Какую змею легче обнару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"/>
          <p:cNvPicPr/>
          <p:nvPr/>
        </p:nvPicPr>
        <p:blipFill>
          <a:blip r:embed="rId1"/>
          <a:stretch/>
        </p:blipFill>
        <p:spPr>
          <a:xfrm>
            <a:off x="6732720" y="4581360"/>
            <a:ext cx="180000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BAB-DAAA-40F6-87C3-69372254D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На какой вопрос невозможно ответ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Что можно увидеть с закрытыми гла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На какого сказочного героя покушались    трижды, а на 4 раз он погиб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Почему фермер разъезжал по картофельному полю на катке для укладки асфаль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 бабушки жили внук Фёдор, пёс Шарик, кот Вася. Сколько внуков у баб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Одно яйцо варят 4 минуты.  Сколько минут будут варить 5 яиц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"/>
          <p:cNvPicPr/>
          <p:nvPr/>
        </p:nvPicPr>
        <p:blipFill>
          <a:blip r:embed="rId1"/>
          <a:stretch/>
        </p:blipFill>
        <p:spPr>
          <a:xfrm>
            <a:off x="179280" y="5084640"/>
            <a:ext cx="1497240" cy="1525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F79A-293C-4AAE-8B17-A9FC11792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1483920"/>
            <a:ext cx="6502320" cy="66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Кто под проливным дождем не замочит воло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Почему львы едят сырое мяс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Может ли петух назвать себя птиц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Какой рукой лучше размешивать ч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Что жжется в холодиль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Перед кем люди всегда снимают шляп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7. Кем ты станешь в 20 лет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8. Что имеет 8 ног и может пе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"/>
          <p:cNvPicPr/>
          <p:nvPr/>
        </p:nvPicPr>
        <p:blipFill>
          <a:blip r:embed="rId1"/>
          <a:stretch/>
        </p:blipFill>
        <p:spPr>
          <a:xfrm>
            <a:off x="395280" y="443700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br>
              <a:rPr sz="4400"/>
            </a:b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9. Как удвоить количество ваших ден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0. Кто сидит спиной к ц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1. Что имеет голову, но не имеет моз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2. Что теплее шубы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3. Какой месяц самый корот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14. Что с земли легко подыме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но не закинеш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B60-19AE-49AC-B1A4-980964321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6570720" y="4437000"/>
            <a:ext cx="2178000" cy="2078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5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62864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В гостя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у сказк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947-BBFD-46EA-A27B-585DF376E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6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Оживи пословицу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2962-2234-4456-8F83-F71907AAE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A05D-96EE-45B4-9F35-C6DA3B575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оспитательные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Способствовать созданию атмосферы праздника, активного отдых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Развивать познавательный интерес детей и  их творческие способно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Содействовать сплочению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4)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сширить кругозор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гр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Кт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не моет уш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F4E-15DE-4541-A3AC-7F306E525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60A-98FB-4346-BE8D-BC15A6C0F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1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Из ада в рай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ерем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2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Поясница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яснительная зап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3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Светофор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ежурный 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4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Нож в спину  -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контрольная ра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5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Завалин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экза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6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Учебное ружьё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указ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7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Мусорный ба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ртф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498D-46D2-4711-91E8-06D722A6C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8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Книга жалоб и предложений -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невник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ымирающий вид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тлич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урятни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туа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клад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ябе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балдашник –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головной у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ван Грозный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ирект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жны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бувь</a:t>
            </a:r>
            <a:r>
              <a:rPr b="1" i="1" lang="ru-RU" sz="3200" spc="-1" strike="noStrike">
                <a:solidFill>
                  <a:srgbClr val="cc3300"/>
                </a:solidFill>
                <a:latin typeface="Monotype Corsiva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BA5-7D2F-4A74-AB4C-CC94C4EFA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Комната сме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"/>
          <p:cNvPicPr/>
          <p:nvPr/>
        </p:nvPicPr>
        <p:blipFill>
          <a:blip r:embed="rId1"/>
          <a:stretch/>
        </p:blipFill>
        <p:spPr>
          <a:xfrm>
            <a:off x="539640" y="1197000"/>
            <a:ext cx="251964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5" descr="9"/>
          <p:cNvPicPr/>
          <p:nvPr/>
        </p:nvPicPr>
        <p:blipFill>
          <a:blip r:embed="rId2"/>
          <a:stretch/>
        </p:blipFill>
        <p:spPr>
          <a:xfrm>
            <a:off x="6804000" y="1052640"/>
            <a:ext cx="1884240" cy="2512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6" descr="2"/>
          <p:cNvPicPr/>
          <p:nvPr/>
        </p:nvPicPr>
        <p:blipFill>
          <a:blip r:embed="rId3"/>
          <a:stretch/>
        </p:blipFill>
        <p:spPr>
          <a:xfrm>
            <a:off x="3708360" y="1125360"/>
            <a:ext cx="244332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"/>
          <p:cNvPicPr/>
          <p:nvPr/>
        </p:nvPicPr>
        <p:blipFill>
          <a:blip r:embed="rId4"/>
          <a:stretch/>
        </p:blipFill>
        <p:spPr>
          <a:xfrm>
            <a:off x="395280" y="4508640"/>
            <a:ext cx="252108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2" name="Picture 8" descr="6"/>
          <p:cNvPicPr/>
          <p:nvPr/>
        </p:nvPicPr>
        <p:blipFill>
          <a:blip r:embed="rId5"/>
          <a:stretch/>
        </p:blipFill>
        <p:spPr>
          <a:xfrm>
            <a:off x="687708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33" name="komnat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7" name="chimes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22554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DE1-A61F-41CF-8A65-98299CF84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на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Улыбайся! Улыбка поднимает настроение и делает тебя ещё красивее. Знай, что когда ты улыбаешься, происходит выработка гормонов сч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Давай людям больше , чем они ожидают, и делай это с рад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Улыбайся, когда отвечаешь на телефонный звонок. Улыбку можно услы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При невзгодах настоящего нужно утешаться мыслью, что были времена более тяжкие, да и те прошли…. Поэтому улыбнись и иди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Всегда есть повод, чтобы улыбну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7"/>
          <p:cNvPicPr/>
          <p:nvPr/>
        </p:nvPicPr>
        <p:blipFill>
          <a:blip r:embed="rId1"/>
          <a:stretch/>
        </p:blipFill>
        <p:spPr>
          <a:xfrm>
            <a:off x="7164360" y="4869000"/>
            <a:ext cx="1798560" cy="1728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8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4D1F-8AB3-4C64-9B04-380C86EF4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  настроения                            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Улыбка имеет эффект зеркала. Улыбнись и ты увидишь улыб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Улыбайся, даже когда тебе грустно. Ведь это может принести кому-то рад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Ищи того, кто может заставить тебя улыбнуться, потому что лишь улыбка сможет сделать ярким самый мрачны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На все вещи смотри с позитивной стороны, ведь даже неудача может обернуться поб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 Помни! Улыбка – кривая, которая  выпрямляет вс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77C-B791-4E37-9D70-5030F36E2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1400"/>
                </a:solidFill>
                <a:uFillTx/>
                <a:latin typeface="Monotype Corsiva"/>
              </a:rPr>
              <a:t>Запомните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413000"/>
            <a:ext cx="583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лыбайтесь все, друзь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Без улыбки жить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3"/>
          <p:cNvPicPr/>
          <p:nvPr/>
        </p:nvPicPr>
        <p:blipFill>
          <a:blip r:embed="rId1"/>
          <a:stretch/>
        </p:blipFill>
        <p:spPr>
          <a:xfrm>
            <a:off x="5651640" y="3863880"/>
            <a:ext cx="302400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762A-CACD-439C-B3F1-956E3F77C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Галина\Desktop\конкурс СМЕХ\день смеха\5.png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448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7D1-EF7E-4BBF-96C1-00183680E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91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763640" y="1268280"/>
            <a:ext cx="5616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2B6E-259E-4D42-831C-FD82A6B8D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Май-3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Её кр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У него нет глаз на затыл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5. Букву «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6.Буква «Ц.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Вы, мы,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Т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ам, где начинаетс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т, т.к. он не умеет 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0. Э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Буква «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2 ш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 умеют гот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4. Селез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"/>
          <p:cNvPicPr/>
          <p:nvPr/>
        </p:nvPicPr>
        <p:blipFill>
          <a:blip r:embed="rId1"/>
          <a:stretch/>
        </p:blipFill>
        <p:spPr>
          <a:xfrm>
            <a:off x="6659640" y="450864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B98A-FC75-47EA-BEF2-C9696EFE0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Высказывания великих пис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прогоняет зиму с человеческого лица». В.Гю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Я никогда не думал, что можно так смеяться, глядя на себя в зеркало». Г.Ге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Бесценно свойство человека, умеющего посмеяться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над собой». С.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– великое дело». Н.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1"/>
          <a:stretch/>
        </p:blipFill>
        <p:spPr>
          <a:xfrm>
            <a:off x="6877080" y="4770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88A-E4A7-4C6A-A665-C621AABC8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Электр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Баба 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Барабанная переп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1, второе будет уже не натощ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ремуч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Хотел вырастить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4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 Петуши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"/>
          <p:cNvPicPr/>
          <p:nvPr/>
        </p:nvPicPr>
        <p:blipFill>
          <a:blip r:embed="rId1"/>
          <a:stretch/>
        </p:blipFill>
        <p:spPr>
          <a:xfrm>
            <a:off x="7164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830E-4BDB-4CBB-A236-47E314D2F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Музей юм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узей юмора"/>
          <p:cNvPicPr/>
          <p:nvPr/>
        </p:nvPicPr>
        <p:blipFill>
          <a:blip r:embed="rId1"/>
          <a:stretch/>
        </p:blipFill>
        <p:spPr>
          <a:xfrm>
            <a:off x="2484360" y="1125360"/>
            <a:ext cx="4321080" cy="324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4" name="Rectangle 5"/>
          <p:cNvSpPr/>
          <p:nvPr/>
        </p:nvSpPr>
        <p:spPr>
          <a:xfrm>
            <a:off x="1619280" y="479736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Музей находится в городе Габ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в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0"/>
          <p:cNvPicPr/>
          <p:nvPr/>
        </p:nvPicPr>
        <p:blipFill>
          <a:blip r:embed="rId2"/>
          <a:stretch/>
        </p:blipFill>
        <p:spPr>
          <a:xfrm>
            <a:off x="250920" y="4581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6DF-5D6F-4AE2-894B-FBE23F6E2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в музее юмора"/>
          <p:cNvPicPr/>
          <p:nvPr/>
        </p:nvPicPr>
        <p:blipFill>
          <a:blip r:embed="rId1"/>
          <a:stretch/>
        </p:blipFill>
        <p:spPr>
          <a:xfrm rot="20883600">
            <a:off x="1042560" y="1844280"/>
            <a:ext cx="2286000" cy="1609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5" descr="музей в габрово"/>
          <p:cNvPicPr/>
          <p:nvPr/>
        </p:nvPicPr>
        <p:blipFill>
          <a:blip r:embed="rId2"/>
          <a:stretch/>
        </p:blipFill>
        <p:spPr>
          <a:xfrm rot="591600">
            <a:off x="5579640" y="1628280"/>
            <a:ext cx="2305080" cy="17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Picture 6" descr="экспонат4"/>
          <p:cNvPicPr/>
          <p:nvPr/>
        </p:nvPicPr>
        <p:blipFill>
          <a:blip r:embed="rId3"/>
          <a:stretch/>
        </p:blipFill>
        <p:spPr>
          <a:xfrm>
            <a:off x="3564000" y="4005360"/>
            <a:ext cx="187308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Picture 7" descr="7"/>
          <p:cNvPicPr/>
          <p:nvPr/>
        </p:nvPicPr>
        <p:blipFill>
          <a:blip r:embed="rId4"/>
          <a:stretch/>
        </p:blipFill>
        <p:spPr>
          <a:xfrm>
            <a:off x="6732720" y="486900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253-7A8D-4291-BAFE-AE8763332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r>
              <a:rPr b="1" lang="en-US" sz="4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у музея"/>
          <p:cNvPicPr/>
          <p:nvPr/>
        </p:nvPicPr>
        <p:blipFill>
          <a:blip r:embed="rId1"/>
          <a:stretch/>
        </p:blipFill>
        <p:spPr>
          <a:xfrm>
            <a:off x="1619280" y="1413000"/>
            <a:ext cx="2295360" cy="1904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5" name="Picture 5" descr="экспонат2"/>
          <p:cNvPicPr/>
          <p:nvPr/>
        </p:nvPicPr>
        <p:blipFill>
          <a:blip r:embed="rId2"/>
          <a:stretch/>
        </p:blipFill>
        <p:spPr>
          <a:xfrm>
            <a:off x="5867280" y="1413000"/>
            <a:ext cx="169416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6" name="Picture 6" descr="экспонат3"/>
          <p:cNvPicPr/>
          <p:nvPr/>
        </p:nvPicPr>
        <p:blipFill>
          <a:blip r:embed="rId3"/>
          <a:stretch/>
        </p:blipFill>
        <p:spPr>
          <a:xfrm>
            <a:off x="1692360" y="4149720"/>
            <a:ext cx="2305080" cy="18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Picture 7" descr="7"/>
          <p:cNvPicPr/>
          <p:nvPr/>
        </p:nvPicPr>
        <p:blipFill>
          <a:blip r:embed="rId4"/>
          <a:stretch/>
        </p:blipFill>
        <p:spPr>
          <a:xfrm>
            <a:off x="6443640" y="4437000"/>
            <a:ext cx="180036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CF91-78AA-4F72-BD03-116E0BC81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Давайте споё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3898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                   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Улы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хмурый день свет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в небе радуга просн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оделись улыбкою св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она к тебе не раз еще вернется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тогда ,наверня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вдруг запляшут обла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кузнечик запиликает на скрипке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836280"/>
            <a:ext cx="410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14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олнечной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ерестанет плакать самый гру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дожд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онный лес простится с тиши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захлопает в зеленые ладош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танет всем тепле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слону и даже маленькой улитк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Так пускай повсюду на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Будто лампочки, включаются улыбки!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8"/>
          <p:cNvPicPr/>
          <p:nvPr/>
        </p:nvPicPr>
        <p:blipFill>
          <a:blip r:embed="rId1"/>
          <a:stretch/>
        </p:blipFill>
        <p:spPr>
          <a:xfrm>
            <a:off x="6804000" y="4941720"/>
            <a:ext cx="184464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1258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1 конкурс: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Изобрази походку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590-99B6-476C-B72E-EB8378737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2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офантазируй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зобрази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A38-A81E-45EA-92F4-3DC8CECF1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0:15:30Z</dcterms:created>
  <dc:creator>Admin</dc:creator>
  <dc:description/>
  <dc:language>en-US</dc:language>
  <cp:lastModifiedBy>user</cp:lastModifiedBy>
  <dcterms:modified xsi:type="dcterms:W3CDTF">2013-06-17T10:00:33Z</dcterms:modified>
  <cp:revision>19</cp:revision>
  <dc:subject/>
  <dc:title>   Муниципальное казённое общеобразовательное учреждение «Средняя общеобразовательная школа №2 р.п. Самойловка Самойловского района Саратовской области»</dc:title>
</cp:coreProperties>
</file>