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706100" cy="77946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9441-94A6-4D0B-9AC7-CD408A57D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4600" y="316080"/>
            <a:ext cx="9634680" cy="12952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 anchorCtr="1">
            <a:noAutofit/>
          </a:bodyPr>
          <a:p>
            <a:pPr indent="0" algn="ctr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5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4600" y="1817640"/>
            <a:ext cx="9634680" cy="245340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34600" y="4504680"/>
            <a:ext cx="9634680" cy="245340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4440-7163-4962-B838-721C54217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4600" y="316080"/>
            <a:ext cx="9634680" cy="12952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 anchorCtr="1">
            <a:noAutofit/>
          </a:bodyPr>
          <a:p>
            <a:pPr indent="0" algn="ctr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5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4600" y="1817640"/>
            <a:ext cx="4701600" cy="245340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471640" y="1817640"/>
            <a:ext cx="4701600" cy="245340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34600" y="4504680"/>
            <a:ext cx="4701600" cy="245340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471640" y="4504680"/>
            <a:ext cx="4701600" cy="245340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0129-310F-4B3C-96B4-8E9FC3281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4600" y="316080"/>
            <a:ext cx="9634680" cy="12952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 anchorCtr="1">
            <a:noAutofit/>
          </a:bodyPr>
          <a:p>
            <a:pPr indent="0" algn="ctr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5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4600" y="1817640"/>
            <a:ext cx="3102120" cy="245340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792240" y="1817640"/>
            <a:ext cx="3102120" cy="245340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049880" y="1817640"/>
            <a:ext cx="3102120" cy="245340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4600" y="4504680"/>
            <a:ext cx="3102120" cy="245340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792240" y="4504680"/>
            <a:ext cx="3102120" cy="245340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7049880" y="4504680"/>
            <a:ext cx="3102120" cy="245340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FB50-41B3-4363-9386-3A9C11B76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46378-6354-4464-A5FC-C7C09B306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4600" y="316080"/>
            <a:ext cx="9634680" cy="12952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 anchorCtr="1">
            <a:noAutofit/>
          </a:bodyPr>
          <a:p>
            <a:pPr indent="0" algn="ctr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5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34600" y="1817640"/>
            <a:ext cx="9634680" cy="51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D82CB-6330-47D8-BE5B-15F0EA2AA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4600" y="316080"/>
            <a:ext cx="9634680" cy="12952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 anchorCtr="1">
            <a:noAutofit/>
          </a:bodyPr>
          <a:p>
            <a:pPr indent="0" algn="ctr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5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4600" y="1817640"/>
            <a:ext cx="9634680" cy="51436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B21AD-7BED-4AF4-A4F9-DAAAD768B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4600" y="316080"/>
            <a:ext cx="9634680" cy="12952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 anchorCtr="1">
            <a:noAutofit/>
          </a:bodyPr>
          <a:p>
            <a:pPr indent="0" algn="ctr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5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4600" y="1817640"/>
            <a:ext cx="4701600" cy="51436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471640" y="1817640"/>
            <a:ext cx="4701600" cy="51436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5E0A7-A9C0-4F14-AD32-A19155FC1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4600" y="316080"/>
            <a:ext cx="9634680" cy="12952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 anchorCtr="1">
            <a:noAutofit/>
          </a:bodyPr>
          <a:p>
            <a:pPr indent="0" algn="ctr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5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1B935-C105-427A-8BC6-7C2AE608F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34600" y="316080"/>
            <a:ext cx="96346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1877D-33BD-4E9C-BE60-7B3E0D1DF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4600" y="316080"/>
            <a:ext cx="9634680" cy="12952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 anchorCtr="1">
            <a:noAutofit/>
          </a:bodyPr>
          <a:p>
            <a:pPr indent="0" algn="ctr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5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4600" y="1817640"/>
            <a:ext cx="4701600" cy="245340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471640" y="1817640"/>
            <a:ext cx="4701600" cy="51436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4600" y="4504680"/>
            <a:ext cx="4701600" cy="245340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8019A-2AB7-4B25-AF20-D1784D28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4600" y="316080"/>
            <a:ext cx="9634680" cy="12952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 anchorCtr="1">
            <a:noAutofit/>
          </a:bodyPr>
          <a:p>
            <a:pPr indent="0" algn="ctr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5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34600" y="1817640"/>
            <a:ext cx="9634680" cy="51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2624-BA7E-4E74-815E-E85A9D582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4600" y="316080"/>
            <a:ext cx="9634680" cy="12952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 anchorCtr="1">
            <a:noAutofit/>
          </a:bodyPr>
          <a:p>
            <a:pPr indent="0" algn="ctr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5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4600" y="1817640"/>
            <a:ext cx="4701600" cy="51436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471640" y="1817640"/>
            <a:ext cx="4701600" cy="245340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471640" y="4504680"/>
            <a:ext cx="4701600" cy="245340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83EE8-D823-43CE-B1DF-7613A495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4600" y="316080"/>
            <a:ext cx="9634680" cy="12952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 anchorCtr="1">
            <a:noAutofit/>
          </a:bodyPr>
          <a:p>
            <a:pPr indent="0" algn="ctr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5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4600" y="1817640"/>
            <a:ext cx="4701600" cy="245340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471640" y="1817640"/>
            <a:ext cx="4701600" cy="245340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34600" y="4504680"/>
            <a:ext cx="9634680" cy="245340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C344D-4F8C-4BEE-AE59-7D2E71D7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4600" y="316080"/>
            <a:ext cx="9634680" cy="12952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 anchorCtr="1">
            <a:noAutofit/>
          </a:bodyPr>
          <a:p>
            <a:pPr indent="0" algn="ctr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5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4600" y="1817640"/>
            <a:ext cx="9634680" cy="245340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34600" y="4504680"/>
            <a:ext cx="9634680" cy="245340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44AB5-B011-4CB9-BF64-F5356A613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4600" y="316080"/>
            <a:ext cx="9634680" cy="12952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 anchorCtr="1">
            <a:noAutofit/>
          </a:bodyPr>
          <a:p>
            <a:pPr indent="0" algn="ctr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5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4600" y="1817640"/>
            <a:ext cx="4701600" cy="245340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471640" y="1817640"/>
            <a:ext cx="4701600" cy="245340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34600" y="4504680"/>
            <a:ext cx="4701600" cy="245340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471640" y="4504680"/>
            <a:ext cx="4701600" cy="245340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8BF18-4AB5-498E-A1A0-48BA28F67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4600" y="316080"/>
            <a:ext cx="9634680" cy="12952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 anchorCtr="1">
            <a:noAutofit/>
          </a:bodyPr>
          <a:p>
            <a:pPr indent="0" algn="ctr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5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4600" y="1817640"/>
            <a:ext cx="3102120" cy="245340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792240" y="1817640"/>
            <a:ext cx="3102120" cy="245340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7049880" y="1817640"/>
            <a:ext cx="3102120" cy="245340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34600" y="4504680"/>
            <a:ext cx="3102120" cy="245340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792240" y="4504680"/>
            <a:ext cx="3102120" cy="245340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7049880" y="4504680"/>
            <a:ext cx="3102120" cy="245340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1E365-0747-41B1-B494-4DF7F51FD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4600" y="316080"/>
            <a:ext cx="9634680" cy="12952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 anchorCtr="1">
            <a:noAutofit/>
          </a:bodyPr>
          <a:p>
            <a:pPr indent="0" algn="ctr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5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4600" y="1817640"/>
            <a:ext cx="9634680" cy="51436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B97E-723F-4221-91A6-26A9E6267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4600" y="316080"/>
            <a:ext cx="9634680" cy="12952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 anchorCtr="1">
            <a:noAutofit/>
          </a:bodyPr>
          <a:p>
            <a:pPr indent="0" algn="ctr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5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4600" y="1817640"/>
            <a:ext cx="4701600" cy="51436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71640" y="1817640"/>
            <a:ext cx="4701600" cy="51436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97DC-4281-4F2B-9E4B-A00C278EE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4600" y="316080"/>
            <a:ext cx="9634680" cy="12952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 anchorCtr="1">
            <a:noAutofit/>
          </a:bodyPr>
          <a:p>
            <a:pPr indent="0" algn="ctr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5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0E4C-306B-4E99-B46D-0C1AFEF0F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34600" y="316080"/>
            <a:ext cx="96346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15F3-D676-4DCC-BA28-DCC83641E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4600" y="316080"/>
            <a:ext cx="9634680" cy="12952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 anchorCtr="1">
            <a:noAutofit/>
          </a:bodyPr>
          <a:p>
            <a:pPr indent="0" algn="ctr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5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4600" y="1817640"/>
            <a:ext cx="4701600" cy="245340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471640" y="1817640"/>
            <a:ext cx="4701600" cy="51436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34600" y="4504680"/>
            <a:ext cx="4701600" cy="245340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867A-2037-4C10-82C1-91FBF907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4600" y="316080"/>
            <a:ext cx="9634680" cy="12952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 anchorCtr="1">
            <a:noAutofit/>
          </a:bodyPr>
          <a:p>
            <a:pPr indent="0" algn="ctr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5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4600" y="1817640"/>
            <a:ext cx="4701600" cy="51436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471640" y="1817640"/>
            <a:ext cx="4701600" cy="245340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471640" y="4504680"/>
            <a:ext cx="4701600" cy="245340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1C2A-5540-4B6D-98B1-E30D11FF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4600" y="316080"/>
            <a:ext cx="9634680" cy="12952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 anchorCtr="1">
            <a:noAutofit/>
          </a:bodyPr>
          <a:p>
            <a:pPr indent="0" algn="ctr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5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4600" y="1817640"/>
            <a:ext cx="4701600" cy="245340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471640" y="1817640"/>
            <a:ext cx="4701600" cy="245340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34600" y="4504680"/>
            <a:ext cx="9634680" cy="245340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052E-2105-498D-B0A0-17FFF694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759800" y="7305840"/>
            <a:ext cx="333360" cy="23796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848120"/>
            <a:ext cx="10701000" cy="2944440"/>
            <a:chOff x="3240" y="4848120"/>
            <a:chExt cx="10701000" cy="2944440"/>
          </a:xfrm>
        </p:grpSpPr>
        <p:sp>
          <p:nvSpPr>
            <p:cNvPr id="2" name=""/>
            <p:cNvSpPr/>
            <p:nvPr/>
          </p:nvSpPr>
          <p:spPr>
            <a:xfrm>
              <a:off x="3240" y="4848120"/>
              <a:ext cx="10701000" cy="294444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6556320" y="6701040"/>
              <a:ext cx="1471320" cy="939600"/>
              <a:chOff x="6556320" y="6701040"/>
              <a:chExt cx="1471320" cy="939600"/>
            </a:xfrm>
          </p:grpSpPr>
          <p:sp>
            <p:nvSpPr>
              <p:cNvPr id="4" name=""/>
              <p:cNvSpPr/>
              <p:nvPr/>
            </p:nvSpPr>
            <p:spPr>
              <a:xfrm>
                <a:off x="6851520" y="6872400"/>
                <a:ext cx="988200" cy="589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926040" y="6926400"/>
                <a:ext cx="839520" cy="4960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030080" y="6984000"/>
                <a:ext cx="639000" cy="373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104240" y="7027200"/>
                <a:ext cx="486360" cy="2865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67600" y="7074360"/>
                <a:ext cx="356760" cy="1929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45600" y="6701040"/>
                <a:ext cx="711360" cy="29016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868440" y="7521840"/>
                <a:ext cx="824760" cy="11880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556320" y="7045200"/>
                <a:ext cx="165240" cy="38952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6634080" y="6754680"/>
                <a:ext cx="1393560" cy="83124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503480" y="6711840"/>
                <a:ext cx="178200" cy="5364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267680" y="7121160"/>
                <a:ext cx="155880" cy="950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300120" y="6549480"/>
              <a:ext cx="3021480" cy="1231920"/>
              <a:chOff x="3300120" y="6549480"/>
              <a:chExt cx="3021480" cy="1231920"/>
            </a:xfrm>
          </p:grpSpPr>
          <p:sp>
            <p:nvSpPr>
              <p:cNvPr id="16" name=""/>
              <p:cNvSpPr/>
              <p:nvPr/>
            </p:nvSpPr>
            <p:spPr>
              <a:xfrm>
                <a:off x="4214160" y="7095960"/>
                <a:ext cx="1185840" cy="679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299480" y="7139160"/>
                <a:ext cx="1009080" cy="59868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4349880" y="7176960"/>
                <a:ext cx="930960" cy="5392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4399920" y="7209720"/>
                <a:ext cx="825120" cy="4651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4431600" y="7223760"/>
                <a:ext cx="767160" cy="43272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4528080" y="7261920"/>
                <a:ext cx="568800" cy="3459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4600440" y="7315920"/>
                <a:ext cx="421560" cy="24336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723560" y="7390080"/>
                <a:ext cx="166680" cy="1080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803120" y="6893640"/>
                <a:ext cx="834120" cy="33516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980160" y="6947640"/>
                <a:ext cx="1657440" cy="83376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868560" y="6904440"/>
                <a:ext cx="756360" cy="87696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5550480" y="7294320"/>
                <a:ext cx="200520" cy="45432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842280" y="6646680"/>
                <a:ext cx="1551600" cy="2703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3468960" y="6949800"/>
                <a:ext cx="317520" cy="83160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5483520" y="6765840"/>
                <a:ext cx="669240" cy="101556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4307040" y="6549480"/>
                <a:ext cx="2003040" cy="7664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6139800" y="7359480"/>
                <a:ext cx="181800" cy="4219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3300120" y="6625080"/>
                <a:ext cx="893880" cy="11563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7671240" y="6060600"/>
              <a:ext cx="2510640" cy="1480320"/>
              <a:chOff x="7671240" y="6060600"/>
              <a:chExt cx="2510640" cy="1480320"/>
            </a:xfrm>
          </p:grpSpPr>
          <p:sp>
            <p:nvSpPr>
              <p:cNvPr id="35" name=""/>
              <p:cNvSpPr/>
              <p:nvPr/>
            </p:nvSpPr>
            <p:spPr>
              <a:xfrm>
                <a:off x="7805160" y="6136200"/>
                <a:ext cx="2231640" cy="131832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671240" y="6071040"/>
                <a:ext cx="1010880" cy="132948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904960" y="6060600"/>
                <a:ext cx="1131840" cy="45432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9748800" y="7227720"/>
                <a:ext cx="133920" cy="9720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371800" y="7346520"/>
                <a:ext cx="1310040" cy="19440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9916200" y="6590520"/>
                <a:ext cx="265680" cy="6152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405360" y="6536520"/>
                <a:ext cx="154080" cy="16236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8260200" y="6406560"/>
                <a:ext cx="1332360" cy="77760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8082000" y="6330960"/>
                <a:ext cx="1689120" cy="9615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481600" y="6298560"/>
                <a:ext cx="678240" cy="11880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294040" y="6417720"/>
                <a:ext cx="122400" cy="8604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448120" y="6507720"/>
                <a:ext cx="962280" cy="5752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507520" y="6547320"/>
                <a:ext cx="828360" cy="48888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566920" y="6583320"/>
                <a:ext cx="717120" cy="4204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648640" y="6634080"/>
                <a:ext cx="553680" cy="31896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715960" y="6670080"/>
                <a:ext cx="412560" cy="2505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804880" y="6724080"/>
                <a:ext cx="234000" cy="1461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9812160" y="5454360"/>
              <a:ext cx="788760" cy="465120"/>
              <a:chOff x="9812160" y="5454360"/>
              <a:chExt cx="788760" cy="465120"/>
            </a:xfrm>
          </p:grpSpPr>
          <p:sp>
            <p:nvSpPr>
              <p:cNvPr id="53" name=""/>
              <p:cNvSpPr/>
              <p:nvPr/>
            </p:nvSpPr>
            <p:spPr>
              <a:xfrm>
                <a:off x="9812160" y="5746320"/>
                <a:ext cx="711360" cy="17316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9877320" y="5454360"/>
                <a:ext cx="478800" cy="9720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0490040" y="5529960"/>
                <a:ext cx="110880" cy="28116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9988560" y="5854680"/>
                <a:ext cx="356760" cy="320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856800" y="5486400"/>
                <a:ext cx="298800" cy="33552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00240" y="5486400"/>
                <a:ext cx="345240" cy="37872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932760" y="5515560"/>
                <a:ext cx="555120" cy="33516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9999720" y="5564160"/>
                <a:ext cx="421200" cy="237600"/>
                <a:chOff x="9999720" y="5564160"/>
                <a:chExt cx="421200" cy="23760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9999720" y="5564160"/>
                  <a:ext cx="421200" cy="2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040400" y="5589360"/>
                  <a:ext cx="337680" cy="18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0092240" y="5607360"/>
                  <a:ext cx="231840" cy="14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10142280" y="5635800"/>
                  <a:ext cx="135360" cy="84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4600" y="316080"/>
            <a:ext cx="9634680" cy="12952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 anchorCtr="1">
            <a:noAutofit/>
          </a:bodyPr>
          <a:p>
            <a:pPr indent="0" algn="ctr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en-US" sz="51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534600" y="1817640"/>
            <a:ext cx="9634680" cy="51436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marL="396720" indent="-396720">
              <a:spcBef>
                <a:spcPts val="9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lvl="1" marL="858960" indent="-330480">
              <a:spcBef>
                <a:spcPts val="924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lvl="2" marL="1320840" indent="-263520">
              <a:spcBef>
                <a:spcPts val="924"/>
              </a:spcBef>
              <a:buClr>
                <a:srgbClr val="0088e4"/>
              </a:buClr>
              <a:buFont typeface="Arial"/>
              <a:buChar char="•"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lvl="3" marL="1849320" indent="-263520">
              <a:spcBef>
                <a:spcPts val="924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lvl="4" marL="2378160" indent="-263520">
              <a:spcBef>
                <a:spcPts val="924"/>
              </a:spcBef>
              <a:buClr>
                <a:srgbClr val="99ff99"/>
              </a:buClr>
              <a:buFont typeface="Arial"/>
              <a:buChar char="•"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lvl="5" marL="2378160" indent="-263520"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lvl="6" marL="2378160" indent="-263520"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534600" y="7095960"/>
            <a:ext cx="2498760" cy="54144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b">
            <a:noAutofit/>
          </a:bodyPr>
          <a:lstStyle>
            <a:lvl1pPr indent="0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657240" y="7095960"/>
            <a:ext cx="3389400" cy="54144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b">
            <a:noAutofit/>
          </a:bodyPr>
          <a:lstStyle>
            <a:lvl1pPr indent="0" algn="ctr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7670520" y="7095960"/>
            <a:ext cx="2498760" cy="54144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b">
            <a:noAutofit/>
          </a:bodyPr>
          <a:lstStyle>
            <a:lvl1pPr indent="0" algn="r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fld id="{E5EC84E0-7EF4-4F1D-8C6A-27A5E99DAEF0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848120"/>
            <a:ext cx="10701000" cy="2944440"/>
            <a:chOff x="3240" y="4848120"/>
            <a:chExt cx="10701000" cy="2944440"/>
          </a:xfrm>
        </p:grpSpPr>
        <p:sp>
          <p:nvSpPr>
            <p:cNvPr id="107" name=""/>
            <p:cNvSpPr/>
            <p:nvPr/>
          </p:nvSpPr>
          <p:spPr>
            <a:xfrm>
              <a:off x="3240" y="4848120"/>
              <a:ext cx="10701000" cy="294444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6556320" y="6701040"/>
              <a:ext cx="1471320" cy="939600"/>
              <a:chOff x="6556320" y="6701040"/>
              <a:chExt cx="1471320" cy="939600"/>
            </a:xfrm>
          </p:grpSpPr>
          <p:sp>
            <p:nvSpPr>
              <p:cNvPr id="109" name=""/>
              <p:cNvSpPr/>
              <p:nvPr/>
            </p:nvSpPr>
            <p:spPr>
              <a:xfrm>
                <a:off x="6851520" y="6872400"/>
                <a:ext cx="988200" cy="589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926040" y="6926400"/>
                <a:ext cx="839520" cy="4960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030080" y="6984000"/>
                <a:ext cx="639000" cy="373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104240" y="7027200"/>
                <a:ext cx="486360" cy="2865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167600" y="7074360"/>
                <a:ext cx="356760" cy="1929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645600" y="6701040"/>
                <a:ext cx="711360" cy="29016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868440" y="7521840"/>
                <a:ext cx="824760" cy="11880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556320" y="7045200"/>
                <a:ext cx="165240" cy="38952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634080" y="6754680"/>
                <a:ext cx="1393560" cy="83124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503480" y="6711840"/>
                <a:ext cx="178200" cy="5364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267680" y="7121160"/>
                <a:ext cx="155880" cy="950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3300120" y="6549480"/>
              <a:ext cx="3021480" cy="1231920"/>
              <a:chOff x="3300120" y="6549480"/>
              <a:chExt cx="3021480" cy="1231920"/>
            </a:xfrm>
          </p:grpSpPr>
          <p:sp>
            <p:nvSpPr>
              <p:cNvPr id="121" name=""/>
              <p:cNvSpPr/>
              <p:nvPr/>
            </p:nvSpPr>
            <p:spPr>
              <a:xfrm>
                <a:off x="4214160" y="7095960"/>
                <a:ext cx="1185840" cy="679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299480" y="7139160"/>
                <a:ext cx="1009080" cy="59868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349880" y="7176960"/>
                <a:ext cx="930960" cy="5392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399920" y="7209720"/>
                <a:ext cx="825120" cy="4651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431600" y="7223760"/>
                <a:ext cx="767160" cy="43272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528080" y="7261920"/>
                <a:ext cx="568800" cy="3459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600440" y="7315920"/>
                <a:ext cx="421560" cy="24336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723560" y="7390080"/>
                <a:ext cx="166680" cy="1080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803120" y="6893640"/>
                <a:ext cx="834120" cy="33516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980160" y="6947640"/>
                <a:ext cx="1657440" cy="83376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68560" y="6904440"/>
                <a:ext cx="756360" cy="87696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550480" y="7294320"/>
                <a:ext cx="200520" cy="45432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842280" y="6646680"/>
                <a:ext cx="1551600" cy="2703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468960" y="6949800"/>
                <a:ext cx="317520" cy="83160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483520" y="6765840"/>
                <a:ext cx="669240" cy="101556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307040" y="6549480"/>
                <a:ext cx="2003040" cy="7664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139800" y="7359480"/>
                <a:ext cx="181800" cy="4219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300120" y="6625080"/>
                <a:ext cx="893880" cy="11563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7671240" y="6060600"/>
              <a:ext cx="2510640" cy="1480320"/>
              <a:chOff x="7671240" y="6060600"/>
              <a:chExt cx="2510640" cy="1480320"/>
            </a:xfrm>
          </p:grpSpPr>
          <p:sp>
            <p:nvSpPr>
              <p:cNvPr id="140" name=""/>
              <p:cNvSpPr/>
              <p:nvPr/>
            </p:nvSpPr>
            <p:spPr>
              <a:xfrm>
                <a:off x="7805160" y="6136200"/>
                <a:ext cx="2231640" cy="131832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671240" y="6071040"/>
                <a:ext cx="1010880" cy="132948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04960" y="6060600"/>
                <a:ext cx="1131840" cy="45432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9748800" y="7227720"/>
                <a:ext cx="133920" cy="9720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8371800" y="7346520"/>
                <a:ext cx="1310040" cy="19440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9916200" y="6590520"/>
                <a:ext cx="265680" cy="6152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9405360" y="6536520"/>
                <a:ext cx="154080" cy="16236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260200" y="6406560"/>
                <a:ext cx="1332360" cy="77760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082000" y="6330960"/>
                <a:ext cx="1689120" cy="9615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481600" y="6298560"/>
                <a:ext cx="678240" cy="11880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294040" y="6417720"/>
                <a:ext cx="122400" cy="8604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448120" y="6507720"/>
                <a:ext cx="962280" cy="5752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507520" y="6547320"/>
                <a:ext cx="828360" cy="48888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566920" y="6583320"/>
                <a:ext cx="717120" cy="4204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8648640" y="6634080"/>
                <a:ext cx="553680" cy="31896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15960" y="6670080"/>
                <a:ext cx="412560" cy="2505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04880" y="6724080"/>
                <a:ext cx="234000" cy="1461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9812160" y="5454360"/>
              <a:ext cx="788760" cy="465120"/>
              <a:chOff x="9812160" y="5454360"/>
              <a:chExt cx="788760" cy="465120"/>
            </a:xfrm>
          </p:grpSpPr>
          <p:sp>
            <p:nvSpPr>
              <p:cNvPr id="158" name=""/>
              <p:cNvSpPr/>
              <p:nvPr/>
            </p:nvSpPr>
            <p:spPr>
              <a:xfrm>
                <a:off x="9812160" y="5746320"/>
                <a:ext cx="711360" cy="17316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877320" y="5454360"/>
                <a:ext cx="478800" cy="9720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0490040" y="5529960"/>
                <a:ext cx="110880" cy="28116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9988560" y="5854680"/>
                <a:ext cx="356760" cy="320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9856800" y="5486400"/>
                <a:ext cx="298800" cy="33552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0200240" y="5486400"/>
                <a:ext cx="345240" cy="37872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932760" y="5515560"/>
                <a:ext cx="555120" cy="33516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9999720" y="5564160"/>
                <a:ext cx="421200" cy="237600"/>
                <a:chOff x="9999720" y="5564160"/>
                <a:chExt cx="421200" cy="23760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9999720" y="5564160"/>
                  <a:ext cx="421200" cy="2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10040400" y="5589360"/>
                  <a:ext cx="337680" cy="18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0092240" y="5607360"/>
                  <a:ext cx="231840" cy="14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0142280" y="5635800"/>
                  <a:ext cx="135360" cy="84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03160" y="1922400"/>
            <a:ext cx="9097920" cy="19749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b" anchorCtr="1">
            <a:noAutofit/>
          </a:bodyPr>
          <a:p>
            <a:pPr indent="0" algn="ctr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en-US" sz="6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534600" y="7101000"/>
            <a:ext cx="2498760" cy="51912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b">
            <a:noAutofit/>
          </a:bodyPr>
          <a:lstStyle>
            <a:lvl1pPr indent="0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657240" y="7101000"/>
            <a:ext cx="3389400" cy="51912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b">
            <a:noAutofit/>
          </a:bodyPr>
          <a:lstStyle>
            <a:lvl1pPr indent="0" algn="ctr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7670520" y="7101000"/>
            <a:ext cx="2498760" cy="51912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b">
            <a:noAutofit/>
          </a:bodyPr>
          <a:lstStyle>
            <a:lvl1pPr indent="0" algn="r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fld id="{361084B1-041B-4828-A08A-836F80DA40BB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fe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4600" y="316080"/>
            <a:ext cx="9634680" cy="12952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 anchorCtr="1">
            <a:noAutofit/>
          </a:bodyPr>
          <a:p>
            <a:pPr indent="0" algn="ctr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1" i="1" lang="en-US" sz="9400" spc="-1" strike="noStrike">
                <a:solidFill>
                  <a:srgbClr val="ff9900"/>
                </a:solidFill>
                <a:latin typeface="Arial"/>
              </a:rPr>
              <a:t>Лето</a:t>
            </a:r>
            <a:endParaRPr b="0" lang="en-US" sz="9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1" name="picture" descr=""/>
          <p:cNvPicPr/>
          <p:nvPr/>
        </p:nvPicPr>
        <p:blipFill>
          <a:blip r:embed="rId1"/>
          <a:stretch/>
        </p:blipFill>
        <p:spPr>
          <a:xfrm>
            <a:off x="0" y="1521000"/>
            <a:ext cx="10704600" cy="6271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fe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4600" y="316080"/>
            <a:ext cx="9634680" cy="12952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 anchorCtr="1">
            <a:noAutofit/>
          </a:bodyPr>
          <a:p>
            <a:pPr indent="0" algn="ctr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en-US" sz="5100" spc="-1" strike="noStrike">
                <a:solidFill>
                  <a:srgbClr val="ff9900"/>
                </a:solidFill>
                <a:latin typeface="Arial"/>
              </a:rPr>
              <a:t>«Угадай картинку»</a:t>
            </a:r>
            <a:endParaRPr b="0" lang="en-US" sz="51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3" name="picture" descr=""/>
          <p:cNvPicPr/>
          <p:nvPr/>
        </p:nvPicPr>
        <p:blipFill>
          <a:blip r:embed="rId1"/>
          <a:stretch/>
        </p:blipFill>
        <p:spPr>
          <a:xfrm>
            <a:off x="0" y="1817640"/>
            <a:ext cx="4210200" cy="51436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244" name="picture" descr=""/>
          <p:cNvPicPr/>
          <p:nvPr/>
        </p:nvPicPr>
        <p:blipFill>
          <a:blip r:embed="rId2"/>
          <a:stretch/>
        </p:blipFill>
        <p:spPr>
          <a:xfrm>
            <a:off x="6713640" y="1808280"/>
            <a:ext cx="3990960" cy="51130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2" dur="2000" fill="hold"/>
                                        <p:tgtEl>
                                          <p:spTgt spid="2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fe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031760" y="0"/>
            <a:ext cx="8856720" cy="77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fe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4600" y="316080"/>
            <a:ext cx="9634680" cy="12952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 anchorCtr="1">
            <a:noAutofit/>
          </a:bodyPr>
          <a:p>
            <a:pPr indent="0" algn="ctr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en-US" sz="4700" spc="-1" strike="noStrike">
                <a:solidFill>
                  <a:srgbClr val="ff9900"/>
                </a:solidFill>
                <a:latin typeface="Arial"/>
              </a:rPr>
              <a:t>Занятие подготовили и провели:</a:t>
            </a:r>
            <a:endParaRPr b="0" lang="en-US" sz="47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34600" y="1817640"/>
            <a:ext cx="9634680" cy="51436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marL="396720" indent="-396720">
              <a:spcBef>
                <a:spcPts val="9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ru-RU" sz="3700" spc="-1" strike="noStrike">
                <a:solidFill>
                  <a:srgbClr val="ff9900"/>
                </a:solidFill>
                <a:latin typeface="Arial"/>
              </a:rPr>
              <a:t>Учитель-логопед первой категории Семенова Т.Г.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96720" indent="-396720">
              <a:spcBef>
                <a:spcPts val="9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ru-RU" sz="3700" spc="-1" strike="noStrike">
                <a:solidFill>
                  <a:srgbClr val="ff9900"/>
                </a:solidFill>
                <a:latin typeface="Arial"/>
              </a:rPr>
              <a:t>Воспитатель высшей категории Равкина Н.П.      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96720" indent="0">
              <a:spcBef>
                <a:spcPts val="924"/>
              </a:spcBef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ru-RU" sz="37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0" lang="ru-RU" sz="3700" spc="-1" strike="noStrike">
                <a:solidFill>
                  <a:srgbClr val="ff9900"/>
                </a:solidFill>
                <a:latin typeface="Arial"/>
              </a:rPr>
              <a:t>МДОУ ЦРР д/с № 46</a:t>
            </a:r>
            <a:r>
              <a:rPr b="0" lang="ru-RU" sz="37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indefinite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5" dur="indefinite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6" dur="indefinite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indefinite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61" dur="indefinite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2" dur="indefinite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indefinite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67" dur="indefinite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8" dur="indefinite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fe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534600" y="654120"/>
            <a:ext cx="9634680" cy="630720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marL="396720" indent="-396720" algn="ctr">
              <a:spcBef>
                <a:spcPts val="1375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en-US" sz="5500" spc="-1" strike="noStrike">
                <a:solidFill>
                  <a:srgbClr val="996633"/>
                </a:solidFill>
                <a:latin typeface="Arial"/>
              </a:rPr>
              <a:t>Использование средств ИКТ для развития лексико-грамматического строя речи у детей младшего дошкольного возраста с ОНР по теме «Лето»</a:t>
            </a: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fe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4600" y="315720"/>
            <a:ext cx="9634680" cy="98892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 anchorCtr="1">
            <a:noAutofit/>
          </a:bodyPr>
          <a:p>
            <a:pPr indent="0" algn="ctr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en-US" sz="5100" spc="-1" strike="noStrike">
                <a:solidFill>
                  <a:srgbClr val="ff9900"/>
                </a:solidFill>
                <a:latin typeface="Arial"/>
              </a:rPr>
              <a:t>Назначение ресурсов:</a:t>
            </a:r>
            <a:endParaRPr b="0" lang="en-US" sz="5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4600" y="1817640"/>
            <a:ext cx="9634680" cy="51436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 fontScale="93000"/>
          </a:bodyPr>
          <a:p>
            <a:pPr marL="368640" indent="-36864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Обогащение предметного, глагольного словаря, словаря признаков по теме «Лето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8640" indent="-36864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Согласование прилагательных с существительны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8640" indent="-36864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Образование существительных с уменьшительно-ласкательными суффикса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8640" indent="-36864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Употребление простых предлог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8640" indent="-36864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Развитие словесно-логического мышл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8640" indent="-36864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Развитие зрительного восприятия и внима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8640" indent="-36864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Развитие общей мотори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8640" indent="-36864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Учить самостоятельно наклеивать изображения предметов из готовых форм, правильно располагая их в соответствии с замысло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8640" indent="-36864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Закрепление навыков аккуратной рабо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8640" indent="0">
              <a:spcBef>
                <a:spcPts val="601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8640" indent="0">
              <a:spcBef>
                <a:spcPts val="601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fe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4600" y="316080"/>
            <a:ext cx="9634680" cy="12952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 anchorCtr="1">
            <a:noAutofit/>
          </a:bodyPr>
          <a:p>
            <a:pPr indent="0" algn="ctr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en-US" sz="5100" spc="-1" strike="noStrike">
                <a:solidFill>
                  <a:srgbClr val="ff9900"/>
                </a:solidFill>
                <a:latin typeface="Arial"/>
              </a:rPr>
              <a:t>«Четвёртый лишний»</a:t>
            </a:r>
            <a:endParaRPr b="0" lang="en-US" sz="51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6" name="picture" descr=""/>
          <p:cNvPicPr/>
          <p:nvPr/>
        </p:nvPicPr>
        <p:blipFill>
          <a:blip r:embed="rId1"/>
          <a:stretch/>
        </p:blipFill>
        <p:spPr>
          <a:xfrm>
            <a:off x="960480" y="1521000"/>
            <a:ext cx="3743280" cy="2808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217" name="picture" descr=""/>
          <p:cNvPicPr/>
          <p:nvPr/>
        </p:nvPicPr>
        <p:blipFill>
          <a:blip r:embed="rId2"/>
          <a:stretch/>
        </p:blipFill>
        <p:spPr>
          <a:xfrm>
            <a:off x="5711760" y="1521000"/>
            <a:ext cx="3816360" cy="2808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218" name="picture" descr=""/>
          <p:cNvPicPr/>
          <p:nvPr/>
        </p:nvPicPr>
        <p:blipFill>
          <a:blip r:embed="rId3"/>
          <a:stretch/>
        </p:blipFill>
        <p:spPr>
          <a:xfrm>
            <a:off x="5711760" y="4545000"/>
            <a:ext cx="3911760" cy="28623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219" name="picture" descr=""/>
          <p:cNvPicPr/>
          <p:nvPr/>
        </p:nvPicPr>
        <p:blipFill>
          <a:blip r:embed="rId4"/>
          <a:stretch/>
        </p:blipFill>
        <p:spPr>
          <a:xfrm>
            <a:off x="887400" y="4471920"/>
            <a:ext cx="3889440" cy="30243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fe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" descr=""/>
          <p:cNvPicPr/>
          <p:nvPr/>
        </p:nvPicPr>
        <p:blipFill>
          <a:blip r:embed="rId1"/>
          <a:stretch/>
        </p:blipFill>
        <p:spPr>
          <a:xfrm>
            <a:off x="960480" y="584280"/>
            <a:ext cx="7559640" cy="66974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221" name=""/>
          <p:cNvSpPr/>
          <p:nvPr/>
        </p:nvSpPr>
        <p:spPr>
          <a:xfrm flipH="1">
            <a:off x="960480" y="454500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343400" y="4761000"/>
            <a:ext cx="1009800" cy="136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703760" y="4905360"/>
            <a:ext cx="1440000" cy="172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4127400" y="2383920"/>
            <a:ext cx="4537080" cy="7164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840120" y="944640"/>
            <a:ext cx="4896000" cy="79200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887040" y="4545000"/>
            <a:ext cx="1655640" cy="71928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27400" y="4616280"/>
            <a:ext cx="1081080" cy="194472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664480" y="6555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с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535960" y="208584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ол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39760" y="5192640"/>
            <a:ext cx="14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рыл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200480" y="6416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уловищ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fe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" descr=""/>
          <p:cNvPicPr/>
          <p:nvPr/>
        </p:nvPicPr>
        <p:blipFill>
          <a:blip r:embed="rId1"/>
          <a:stretch/>
        </p:blipFill>
        <p:spPr>
          <a:xfrm>
            <a:off x="1679400" y="1305000"/>
            <a:ext cx="7632720" cy="54007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fe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4600" y="316080"/>
            <a:ext cx="9634680" cy="12952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 anchorCtr="1">
            <a:noAutofit/>
          </a:bodyPr>
          <a:p>
            <a:pPr indent="0" algn="ctr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en-US" sz="5100" spc="-1" strike="noStrike">
                <a:solidFill>
                  <a:srgbClr val="ff9900"/>
                </a:solidFill>
                <a:latin typeface="Arial"/>
              </a:rPr>
              <a:t>«Угадай картинку»</a:t>
            </a:r>
            <a:endParaRPr b="0" lang="en-US" sz="51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4" name="picture" descr=""/>
          <p:cNvPicPr/>
          <p:nvPr/>
        </p:nvPicPr>
        <p:blipFill>
          <a:blip r:embed="rId1"/>
          <a:stretch/>
        </p:blipFill>
        <p:spPr>
          <a:xfrm>
            <a:off x="6534000" y="1736640"/>
            <a:ext cx="4170600" cy="4903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235" name="picture" descr=""/>
          <p:cNvPicPr/>
          <p:nvPr/>
        </p:nvPicPr>
        <p:blipFill>
          <a:blip r:embed="rId2"/>
          <a:stretch/>
        </p:blipFill>
        <p:spPr>
          <a:xfrm>
            <a:off x="0" y="1770120"/>
            <a:ext cx="3862440" cy="49356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6" dur="2000" fill="hold"/>
                                        <p:tgtEl>
                                          <p:spTgt spid="2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fe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4600" y="316080"/>
            <a:ext cx="9634680" cy="12952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 anchorCtr="1">
            <a:noAutofit/>
          </a:bodyPr>
          <a:p>
            <a:pPr indent="0" algn="ctr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en-US" sz="5100" spc="-1" strike="noStrike">
                <a:solidFill>
                  <a:srgbClr val="ff9900"/>
                </a:solidFill>
                <a:latin typeface="Arial"/>
              </a:rPr>
              <a:t>«Угадай картинку»</a:t>
            </a:r>
            <a:endParaRPr b="0" lang="en-US" sz="51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7" name="picture" descr=""/>
          <p:cNvPicPr/>
          <p:nvPr/>
        </p:nvPicPr>
        <p:blipFill>
          <a:blip r:embed="rId1"/>
          <a:stretch/>
        </p:blipFill>
        <p:spPr>
          <a:xfrm>
            <a:off x="0" y="1952640"/>
            <a:ext cx="4319640" cy="47530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238" name="picture" descr=""/>
          <p:cNvPicPr/>
          <p:nvPr/>
        </p:nvPicPr>
        <p:blipFill>
          <a:blip r:embed="rId2"/>
          <a:stretch/>
        </p:blipFill>
        <p:spPr>
          <a:xfrm>
            <a:off x="5746680" y="1952640"/>
            <a:ext cx="4957920" cy="47530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8" dur="2000" fill="hold"/>
                                        <p:tgtEl>
                                          <p:spTgt spid="2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fe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4600" y="316080"/>
            <a:ext cx="9634680" cy="12952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 anchorCtr="1">
            <a:noAutofit/>
          </a:bodyPr>
          <a:p>
            <a:pPr indent="0" algn="ctr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en-US" sz="5100" spc="-1" strike="noStrike">
                <a:solidFill>
                  <a:srgbClr val="ff9900"/>
                </a:solidFill>
                <a:latin typeface="Arial"/>
              </a:rPr>
              <a:t>«Угадай картинку»</a:t>
            </a:r>
            <a:endParaRPr b="0" lang="en-US" sz="51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0" name="picture" descr=""/>
          <p:cNvPicPr/>
          <p:nvPr/>
        </p:nvPicPr>
        <p:blipFill>
          <a:blip r:embed="rId1"/>
          <a:stretch/>
        </p:blipFill>
        <p:spPr>
          <a:xfrm>
            <a:off x="0" y="1817640"/>
            <a:ext cx="3610080" cy="51436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241" name="picture" descr=""/>
          <p:cNvPicPr/>
          <p:nvPr/>
        </p:nvPicPr>
        <p:blipFill>
          <a:blip r:embed="rId2"/>
          <a:stretch/>
        </p:blipFill>
        <p:spPr>
          <a:xfrm>
            <a:off x="7640640" y="1808280"/>
            <a:ext cx="3063960" cy="5256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0" dur="2000" fill="hold"/>
                                        <p:tgtEl>
                                          <p:spTgt spid="2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5:50:35Z</dcterms:created>
  <dc:creator>User1</dc:creator>
  <dc:description/>
  <dc:language>en-US</dc:language>
  <cp:lastModifiedBy>user</cp:lastModifiedBy>
  <dcterms:modified xsi:type="dcterms:W3CDTF">2013-04-18T11:15:35Z</dcterms:modified>
  <cp:revision>14</cp:revision>
  <dc:subject/>
  <dc:title>Слайд 1</dc:title>
</cp:coreProperties>
</file>