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706100" cy="7794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D03-0F92-45E7-8C86-159285CA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963468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4600" y="4504680"/>
            <a:ext cx="963468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FED-F6B6-4692-BEFE-D5CA4861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4600" y="450468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471640" y="450468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D20-EB43-4467-A583-5CD799AB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92240" y="181764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9880" y="181764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4600" y="450468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792240" y="450468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9880" y="450468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F6F-ABE6-4FD4-9F3B-D62C9DBE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976A-285A-4703-885A-D6C5DDDE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4600" y="1817640"/>
            <a:ext cx="963468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8863-C494-4771-9860-6D308318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963468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CCD7-8457-4688-AB86-FC62249E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59DC-787A-423E-913C-F14B9F49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6431-AFEA-4C87-8C87-BDCBE350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34600" y="316080"/>
            <a:ext cx="96346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B88B-C9C0-4BA4-8761-A70CBC60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4600" y="450468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0797-16EB-44CE-8454-064BE3B7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34600" y="1817640"/>
            <a:ext cx="963468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A02-866A-4162-A15D-77303761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471640" y="450468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8A85-1E9C-442A-9008-62468E82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4600" y="4504680"/>
            <a:ext cx="963468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1DAB-2813-4AAD-9B06-14A740AB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963468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4600" y="4504680"/>
            <a:ext cx="963468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144C-4109-4C3C-9E6D-A8A8CBB5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4600" y="450468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471640" y="450468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8FD9-3BA1-434B-9805-0A6CE934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792240" y="181764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049880" y="181764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4600" y="450468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792240" y="450468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7049880" y="4504680"/>
            <a:ext cx="310212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61E2-4E6B-4499-853D-2E9FEA5E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963468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993-CB5B-4AE3-9D05-B63128B9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A77-04CB-454B-87C9-F9F6DDCC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C19-D7FB-4A4A-AA19-BA78D08F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34600" y="316080"/>
            <a:ext cx="96346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122-CA10-4EAF-9047-D01FB5F7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4600" y="450468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2E6E-DCF4-41BB-B4CE-3B10A5A5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471640" y="450468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9DB-D31D-4891-93A7-CC1AB487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471640" y="1817640"/>
            <a:ext cx="470160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4600" y="4504680"/>
            <a:ext cx="9634680" cy="24534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B70-0483-4B21-84C0-B007F38B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59800" y="7305840"/>
            <a:ext cx="333360" cy="23796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848120"/>
            <a:ext cx="10701000" cy="2944440"/>
            <a:chOff x="3240" y="4848120"/>
            <a:chExt cx="10701000" cy="2944440"/>
          </a:xfrm>
        </p:grpSpPr>
        <p:sp>
          <p:nvSpPr>
            <p:cNvPr id="2" name=""/>
            <p:cNvSpPr/>
            <p:nvPr/>
          </p:nvSpPr>
          <p:spPr>
            <a:xfrm>
              <a:off x="3240" y="4848120"/>
              <a:ext cx="10701000" cy="294444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6556320" y="6701040"/>
              <a:ext cx="1471320" cy="939600"/>
              <a:chOff x="6556320" y="6701040"/>
              <a:chExt cx="1471320" cy="939600"/>
            </a:xfrm>
          </p:grpSpPr>
          <p:sp>
            <p:nvSpPr>
              <p:cNvPr id="4" name=""/>
              <p:cNvSpPr/>
              <p:nvPr/>
            </p:nvSpPr>
            <p:spPr>
              <a:xfrm>
                <a:off x="6851520" y="6872400"/>
                <a:ext cx="988200" cy="589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926040" y="6926400"/>
                <a:ext cx="839520" cy="4960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030080" y="6984000"/>
                <a:ext cx="639000" cy="373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04240" y="7027200"/>
                <a:ext cx="486360" cy="2865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67600" y="7074360"/>
                <a:ext cx="356760" cy="192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45600" y="6701040"/>
                <a:ext cx="711360" cy="290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868440" y="7521840"/>
                <a:ext cx="824760" cy="1188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556320" y="7045200"/>
                <a:ext cx="165240" cy="38952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634080" y="6754680"/>
                <a:ext cx="1393560" cy="8312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03480" y="671184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267680" y="7121160"/>
                <a:ext cx="155880" cy="950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300120" y="6549480"/>
              <a:ext cx="3021480" cy="1231920"/>
              <a:chOff x="3300120" y="6549480"/>
              <a:chExt cx="3021480" cy="1231920"/>
            </a:xfrm>
          </p:grpSpPr>
          <p:sp>
            <p:nvSpPr>
              <p:cNvPr id="16" name=""/>
              <p:cNvSpPr/>
              <p:nvPr/>
            </p:nvSpPr>
            <p:spPr>
              <a:xfrm>
                <a:off x="4214160" y="7095960"/>
                <a:ext cx="1185840" cy="679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299480" y="7139160"/>
                <a:ext cx="10090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349880" y="7176960"/>
                <a:ext cx="930960" cy="539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399920" y="7209720"/>
                <a:ext cx="825120" cy="465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431600" y="7223760"/>
                <a:ext cx="767160" cy="4327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528080" y="7261920"/>
                <a:ext cx="568800" cy="3459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600440" y="7315920"/>
                <a:ext cx="421560" cy="2433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723560" y="7390080"/>
                <a:ext cx="166680" cy="1080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803120" y="6893640"/>
                <a:ext cx="834120" cy="3351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980160" y="6947640"/>
                <a:ext cx="1657440" cy="83376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868560" y="6904440"/>
                <a:ext cx="756360" cy="87696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550480" y="7294320"/>
                <a:ext cx="200520" cy="4543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842280" y="6646680"/>
                <a:ext cx="1551600" cy="2703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468960" y="6949800"/>
                <a:ext cx="317520" cy="8316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483520" y="6765840"/>
                <a:ext cx="669240" cy="101556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307040" y="6549480"/>
                <a:ext cx="2003040" cy="7664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6139800" y="7359480"/>
                <a:ext cx="181800" cy="4219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300120" y="6625080"/>
                <a:ext cx="893880" cy="11563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7671240" y="6060600"/>
              <a:ext cx="2510640" cy="1480320"/>
              <a:chOff x="7671240" y="6060600"/>
              <a:chExt cx="2510640" cy="1480320"/>
            </a:xfrm>
          </p:grpSpPr>
          <p:sp>
            <p:nvSpPr>
              <p:cNvPr id="35" name=""/>
              <p:cNvSpPr/>
              <p:nvPr/>
            </p:nvSpPr>
            <p:spPr>
              <a:xfrm>
                <a:off x="7805160" y="6136200"/>
                <a:ext cx="2231640" cy="13183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71240" y="6071040"/>
                <a:ext cx="1010880" cy="1329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904960" y="6060600"/>
                <a:ext cx="1131840" cy="4543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748800" y="7227720"/>
                <a:ext cx="133920" cy="9720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371800" y="7346520"/>
                <a:ext cx="1310040" cy="1944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9916200" y="6590520"/>
                <a:ext cx="265680" cy="6152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405360" y="6536520"/>
                <a:ext cx="154080" cy="1623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260200" y="6406560"/>
                <a:ext cx="1332360" cy="7776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082000" y="6330960"/>
                <a:ext cx="1689120" cy="961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481600" y="6298560"/>
                <a:ext cx="678240" cy="1188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294040" y="6417720"/>
                <a:ext cx="122400" cy="8604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448120" y="6507720"/>
                <a:ext cx="962280" cy="575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07520" y="6547320"/>
                <a:ext cx="828360" cy="48888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566920" y="6583320"/>
                <a:ext cx="717120" cy="420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648640" y="6634080"/>
                <a:ext cx="553680" cy="3189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15960" y="6670080"/>
                <a:ext cx="412560" cy="2505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804880" y="6724080"/>
                <a:ext cx="234000" cy="1461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9812160" y="5454360"/>
              <a:ext cx="788760" cy="465120"/>
              <a:chOff x="9812160" y="5454360"/>
              <a:chExt cx="788760" cy="465120"/>
            </a:xfrm>
          </p:grpSpPr>
          <p:sp>
            <p:nvSpPr>
              <p:cNvPr id="53" name=""/>
              <p:cNvSpPr/>
              <p:nvPr/>
            </p:nvSpPr>
            <p:spPr>
              <a:xfrm>
                <a:off x="9812160" y="5746320"/>
                <a:ext cx="711360" cy="1731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877320" y="5454360"/>
                <a:ext cx="478800" cy="9720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0490040" y="5529960"/>
                <a:ext cx="110880" cy="28116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988560" y="5854680"/>
                <a:ext cx="356760" cy="320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856800" y="5486400"/>
                <a:ext cx="298800" cy="33552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00240" y="5486400"/>
                <a:ext cx="345240" cy="3787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932760" y="5515560"/>
                <a:ext cx="555120" cy="3351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9999720" y="5564160"/>
                <a:ext cx="421200" cy="237600"/>
                <a:chOff x="9999720" y="5564160"/>
                <a:chExt cx="421200" cy="2376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9999720" y="5564160"/>
                  <a:ext cx="421200" cy="2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40400" y="5589360"/>
                  <a:ext cx="337680" cy="1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0092240" y="5607360"/>
                  <a:ext cx="231840" cy="14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0142280" y="5635800"/>
                  <a:ext cx="135360" cy="8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34600" y="1817640"/>
            <a:ext cx="963468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30480">
              <a:spcBef>
                <a:spcPts val="924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 marL="1320840" indent="-263520">
              <a:spcBef>
                <a:spcPts val="924"/>
              </a:spcBef>
              <a:buClr>
                <a:srgbClr val="0088e4"/>
              </a:buClr>
              <a:buFont typeface="Arial"/>
              <a:buChar char="•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3" marL="1849320" indent="-263520">
              <a:spcBef>
                <a:spcPts val="924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4" marL="2378160" indent="-263520">
              <a:spcBef>
                <a:spcPts val="924"/>
              </a:spcBef>
              <a:buClr>
                <a:srgbClr val="99ff99"/>
              </a:buClr>
              <a:buFont typeface="Arial"/>
              <a:buChar char="•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5" marL="2378160" indent="-26352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6" marL="2378160" indent="-263520">
              <a:spcBef>
                <a:spcPts val="924"/>
              </a:spcBef>
              <a:buClr>
                <a:srgbClr val="ffffff"/>
              </a:buClr>
              <a:buFont typeface="Arial"/>
              <a:buChar char="•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534600" y="7095960"/>
            <a:ext cx="2498760" cy="54144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b">
            <a:noAutofit/>
          </a:bodyPr>
          <a:lstStyle>
            <a:lvl1pPr indent="0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657240" y="7095960"/>
            <a:ext cx="3389400" cy="54144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b">
            <a:noAutofit/>
          </a:bodyPr>
          <a:lstStyle>
            <a:lvl1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7670520" y="7095960"/>
            <a:ext cx="2498760" cy="54144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b">
            <a:noAutofit/>
          </a:bodyPr>
          <a:lstStyle>
            <a:lvl1pPr indent="0" algn="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fld id="{DED1ECD7-3C69-47C9-85D9-3975D45366A1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848120"/>
            <a:ext cx="10701000" cy="2944440"/>
            <a:chOff x="3240" y="4848120"/>
            <a:chExt cx="10701000" cy="2944440"/>
          </a:xfrm>
        </p:grpSpPr>
        <p:sp>
          <p:nvSpPr>
            <p:cNvPr id="107" name=""/>
            <p:cNvSpPr/>
            <p:nvPr/>
          </p:nvSpPr>
          <p:spPr>
            <a:xfrm>
              <a:off x="3240" y="4848120"/>
              <a:ext cx="10701000" cy="294444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6556320" y="6701040"/>
              <a:ext cx="1471320" cy="939600"/>
              <a:chOff x="6556320" y="6701040"/>
              <a:chExt cx="1471320" cy="939600"/>
            </a:xfrm>
          </p:grpSpPr>
          <p:sp>
            <p:nvSpPr>
              <p:cNvPr id="109" name=""/>
              <p:cNvSpPr/>
              <p:nvPr/>
            </p:nvSpPr>
            <p:spPr>
              <a:xfrm>
                <a:off x="6851520" y="6872400"/>
                <a:ext cx="988200" cy="589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26040" y="6926400"/>
                <a:ext cx="839520" cy="4960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30080" y="6984000"/>
                <a:ext cx="639000" cy="373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04240" y="7027200"/>
                <a:ext cx="486360" cy="2865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167600" y="7074360"/>
                <a:ext cx="356760" cy="1929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45600" y="6701040"/>
                <a:ext cx="711360" cy="290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868440" y="7521840"/>
                <a:ext cx="824760" cy="11880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56320" y="7045200"/>
                <a:ext cx="165240" cy="38952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34080" y="6754680"/>
                <a:ext cx="1393560" cy="8312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503480" y="6711840"/>
                <a:ext cx="178200" cy="5364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267680" y="7121160"/>
                <a:ext cx="155880" cy="950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300120" y="6549480"/>
              <a:ext cx="3021480" cy="1231920"/>
              <a:chOff x="3300120" y="6549480"/>
              <a:chExt cx="3021480" cy="1231920"/>
            </a:xfrm>
          </p:grpSpPr>
          <p:sp>
            <p:nvSpPr>
              <p:cNvPr id="121" name=""/>
              <p:cNvSpPr/>
              <p:nvPr/>
            </p:nvSpPr>
            <p:spPr>
              <a:xfrm>
                <a:off x="4214160" y="7095960"/>
                <a:ext cx="1185840" cy="679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99480" y="7139160"/>
                <a:ext cx="10090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349880" y="7176960"/>
                <a:ext cx="930960" cy="539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99920" y="7209720"/>
                <a:ext cx="825120" cy="465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431600" y="7223760"/>
                <a:ext cx="767160" cy="4327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28080" y="7261920"/>
                <a:ext cx="568800" cy="3459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600440" y="7315920"/>
                <a:ext cx="421560" cy="2433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23560" y="7390080"/>
                <a:ext cx="166680" cy="1080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03120" y="6893640"/>
                <a:ext cx="834120" cy="3351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80160" y="6947640"/>
                <a:ext cx="1657440" cy="83376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68560" y="6904440"/>
                <a:ext cx="756360" cy="87696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50480" y="7294320"/>
                <a:ext cx="200520" cy="4543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42280" y="6646680"/>
                <a:ext cx="1551600" cy="2703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68960" y="6949800"/>
                <a:ext cx="317520" cy="83160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83520" y="6765840"/>
                <a:ext cx="669240" cy="101556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07040" y="6549480"/>
                <a:ext cx="2003040" cy="7664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39800" y="7359480"/>
                <a:ext cx="181800" cy="4219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00120" y="6625080"/>
                <a:ext cx="893880" cy="11563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671240" y="6060600"/>
              <a:ext cx="2510640" cy="1480320"/>
              <a:chOff x="7671240" y="6060600"/>
              <a:chExt cx="2510640" cy="1480320"/>
            </a:xfrm>
          </p:grpSpPr>
          <p:sp>
            <p:nvSpPr>
              <p:cNvPr id="140" name=""/>
              <p:cNvSpPr/>
              <p:nvPr/>
            </p:nvSpPr>
            <p:spPr>
              <a:xfrm>
                <a:off x="7805160" y="6136200"/>
                <a:ext cx="2231640" cy="131832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71240" y="6071040"/>
                <a:ext cx="1010880" cy="132948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04960" y="6060600"/>
                <a:ext cx="1131840" cy="4543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748800" y="7227720"/>
                <a:ext cx="133920" cy="9720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371800" y="7346520"/>
                <a:ext cx="1310040" cy="19440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916200" y="6590520"/>
                <a:ext cx="265680" cy="6152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405360" y="6536520"/>
                <a:ext cx="154080" cy="16236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260200" y="6406560"/>
                <a:ext cx="1332360" cy="7776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82000" y="6330960"/>
                <a:ext cx="1689120" cy="961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481600" y="6298560"/>
                <a:ext cx="678240" cy="11880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294040" y="6417720"/>
                <a:ext cx="122400" cy="8604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448120" y="6507720"/>
                <a:ext cx="962280" cy="5752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507520" y="6547320"/>
                <a:ext cx="828360" cy="48888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66920" y="6583320"/>
                <a:ext cx="717120" cy="420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648640" y="6634080"/>
                <a:ext cx="553680" cy="3189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15960" y="6670080"/>
                <a:ext cx="412560" cy="2505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04880" y="6724080"/>
                <a:ext cx="234000" cy="1461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9812160" y="5454360"/>
              <a:ext cx="788760" cy="465120"/>
              <a:chOff x="9812160" y="5454360"/>
              <a:chExt cx="788760" cy="465120"/>
            </a:xfrm>
          </p:grpSpPr>
          <p:sp>
            <p:nvSpPr>
              <p:cNvPr id="158" name=""/>
              <p:cNvSpPr/>
              <p:nvPr/>
            </p:nvSpPr>
            <p:spPr>
              <a:xfrm>
                <a:off x="9812160" y="5746320"/>
                <a:ext cx="711360" cy="1731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877320" y="5454360"/>
                <a:ext cx="478800" cy="9720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490040" y="5529960"/>
                <a:ext cx="110880" cy="28116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988560" y="5854680"/>
                <a:ext cx="356760" cy="320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856800" y="5486400"/>
                <a:ext cx="298800" cy="33552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200240" y="5486400"/>
                <a:ext cx="345240" cy="3787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932760" y="5515560"/>
                <a:ext cx="555120" cy="3351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9999720" y="5564160"/>
                <a:ext cx="421200" cy="237600"/>
                <a:chOff x="9999720" y="5564160"/>
                <a:chExt cx="421200" cy="2376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9999720" y="5564160"/>
                  <a:ext cx="421200" cy="2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040400" y="5589360"/>
                  <a:ext cx="337680" cy="1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0092240" y="5607360"/>
                  <a:ext cx="231840" cy="14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42280" y="5635800"/>
                  <a:ext cx="135360" cy="8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03160" y="1922400"/>
            <a:ext cx="9097920" cy="19749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b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6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534600" y="7101000"/>
            <a:ext cx="2498760" cy="5191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b">
            <a:noAutofit/>
          </a:bodyPr>
          <a:lstStyle>
            <a:lvl1pPr indent="0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657240" y="7101000"/>
            <a:ext cx="3389400" cy="5191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b">
            <a:noAutofit/>
          </a:bodyPr>
          <a:lstStyle>
            <a:lvl1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7670520" y="7101000"/>
            <a:ext cx="2498760" cy="5191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b">
            <a:noAutofit/>
          </a:bodyPr>
          <a:lstStyle>
            <a:lvl1pPr indent="0" algn="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fld id="{AF0550A3-5390-414B-B9BB-2627472A71A7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1" i="1" lang="en-US" sz="9400" spc="-1" strike="noStrike">
                <a:solidFill>
                  <a:srgbClr val="ff9900"/>
                </a:solidFill>
                <a:latin typeface="Arial"/>
              </a:rPr>
              <a:t>Лето</a:t>
            </a:r>
            <a:endParaRPr b="0" lang="en-US" sz="9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picture" descr=""/>
          <p:cNvPicPr/>
          <p:nvPr/>
        </p:nvPicPr>
        <p:blipFill>
          <a:blip r:embed="rId1"/>
          <a:stretch/>
        </p:blipFill>
        <p:spPr>
          <a:xfrm>
            <a:off x="0" y="1521000"/>
            <a:ext cx="10704600" cy="6271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ff9900"/>
                </a:solidFill>
                <a:latin typeface="Arial"/>
              </a:rPr>
              <a:t>«Угадай картинку»</a:t>
            </a: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" descr=""/>
          <p:cNvPicPr/>
          <p:nvPr/>
        </p:nvPicPr>
        <p:blipFill>
          <a:blip r:embed="rId1"/>
          <a:stretch/>
        </p:blipFill>
        <p:spPr>
          <a:xfrm>
            <a:off x="0" y="1817640"/>
            <a:ext cx="4210200" cy="5143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44" name="picture" descr=""/>
          <p:cNvPicPr/>
          <p:nvPr/>
        </p:nvPicPr>
        <p:blipFill>
          <a:blip r:embed="rId2"/>
          <a:stretch/>
        </p:blipFill>
        <p:spPr>
          <a:xfrm>
            <a:off x="6713640" y="1808280"/>
            <a:ext cx="3990960" cy="511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31760" y="0"/>
            <a:ext cx="8856720" cy="77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4700" spc="-1" strike="noStrike">
                <a:solidFill>
                  <a:srgbClr val="ff9900"/>
                </a:solidFill>
                <a:latin typeface="Arial"/>
              </a:rPr>
              <a:t>Занятие подготовили и провели:</a:t>
            </a:r>
            <a:endParaRPr b="0" lang="en-US" sz="4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963468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ru-RU" sz="3700" spc="-1" strike="noStrike">
                <a:solidFill>
                  <a:srgbClr val="ff9900"/>
                </a:solidFill>
                <a:latin typeface="Arial"/>
              </a:rPr>
              <a:t>Учитель-логопед первой категории Семенова Т.Г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spcBef>
                <a:spcPts val="9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ru-RU" sz="3700" spc="-1" strike="noStrike">
                <a:solidFill>
                  <a:srgbClr val="ff9900"/>
                </a:solidFill>
                <a:latin typeface="Arial"/>
              </a:rPr>
              <a:t>Воспитатель высшей категории Равкина Н.П.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spcBef>
                <a:spcPts val="924"/>
              </a:spcBef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ru-RU" sz="37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0" lang="ru-RU" sz="3700" spc="-1" strike="noStrike">
                <a:solidFill>
                  <a:srgbClr val="ff9900"/>
                </a:solidFill>
                <a:latin typeface="Arial"/>
              </a:rPr>
              <a:t>МДОУ ЦРР д/с № 46</a:t>
            </a:r>
            <a:r>
              <a:rPr b="0" lang="ru-RU" sz="37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indefinite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5" dur="indefinite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6" dur="indefinite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indefinite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1" dur="indefinite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2" dur="indefinite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7" dur="indefinite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8" dur="indefinite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4600" y="654120"/>
            <a:ext cx="9634680" cy="630720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 algn="ctr">
              <a:spcBef>
                <a:spcPts val="13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500" spc="-1" strike="noStrike">
                <a:solidFill>
                  <a:srgbClr val="996633"/>
                </a:solidFill>
                <a:latin typeface="Arial"/>
              </a:rPr>
              <a:t>Использование средств ИКТ для развития лексико-грамматического строя речи у детей младшего дошкольного возраста с ОНР по теме «Лето»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4600" y="315720"/>
            <a:ext cx="9634680" cy="9889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ff9900"/>
                </a:solidFill>
                <a:latin typeface="Arial"/>
              </a:rPr>
              <a:t>Назначение ресурсов:</a:t>
            </a: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4600" y="1817640"/>
            <a:ext cx="9634680" cy="51436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 fontScale="93000"/>
          </a:bodyPr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Обогащение предметного, глагольного словаря, словаря признаков по теме «Лето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Согласование прилагательных с существительны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Образование существительных с уменьшительно-ласкательными суффикс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Употребление простых предлог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Развитие словесно-логического мыш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Развитие зрительного восприятия и вним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Развитие общей мотор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Учить самостоятельно наклеивать изображения предметов из готовых форм, правильно располагая их в соответствии с замысл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-368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Закрепление навыков аккуратной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0">
              <a:spcBef>
                <a:spcPts val="601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8640" indent="0">
              <a:spcBef>
                <a:spcPts val="601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ff9900"/>
                </a:solidFill>
                <a:latin typeface="Arial"/>
              </a:rPr>
              <a:t>«Четвёртый лишний»</a:t>
            </a: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picture" descr=""/>
          <p:cNvPicPr/>
          <p:nvPr/>
        </p:nvPicPr>
        <p:blipFill>
          <a:blip r:embed="rId1"/>
          <a:stretch/>
        </p:blipFill>
        <p:spPr>
          <a:xfrm>
            <a:off x="960480" y="1521000"/>
            <a:ext cx="3743280" cy="280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17" name="picture" descr=""/>
          <p:cNvPicPr/>
          <p:nvPr/>
        </p:nvPicPr>
        <p:blipFill>
          <a:blip r:embed="rId2"/>
          <a:stretch/>
        </p:blipFill>
        <p:spPr>
          <a:xfrm>
            <a:off x="5711760" y="1521000"/>
            <a:ext cx="3816360" cy="280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18" name="picture" descr=""/>
          <p:cNvPicPr/>
          <p:nvPr/>
        </p:nvPicPr>
        <p:blipFill>
          <a:blip r:embed="rId3"/>
          <a:stretch/>
        </p:blipFill>
        <p:spPr>
          <a:xfrm>
            <a:off x="5711760" y="4545000"/>
            <a:ext cx="3911760" cy="2862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19" name="picture" descr=""/>
          <p:cNvPicPr/>
          <p:nvPr/>
        </p:nvPicPr>
        <p:blipFill>
          <a:blip r:embed="rId4"/>
          <a:stretch/>
        </p:blipFill>
        <p:spPr>
          <a:xfrm>
            <a:off x="887400" y="4471920"/>
            <a:ext cx="3889440" cy="3024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" descr=""/>
          <p:cNvPicPr/>
          <p:nvPr/>
        </p:nvPicPr>
        <p:blipFill>
          <a:blip r:embed="rId1"/>
          <a:stretch/>
        </p:blipFill>
        <p:spPr>
          <a:xfrm>
            <a:off x="960480" y="584280"/>
            <a:ext cx="7559640" cy="66974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21" name=""/>
          <p:cNvSpPr/>
          <p:nvPr/>
        </p:nvSpPr>
        <p:spPr>
          <a:xfrm flipH="1">
            <a:off x="960480" y="4545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43400" y="4761000"/>
            <a:ext cx="100980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03760" y="4905360"/>
            <a:ext cx="1440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127400" y="2383920"/>
            <a:ext cx="4537080" cy="71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840120" y="944640"/>
            <a:ext cx="4896000" cy="7920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887040" y="4545000"/>
            <a:ext cx="1655640" cy="719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27400" y="4616280"/>
            <a:ext cx="1081080" cy="1944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664480" y="6555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535960" y="208584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л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9760" y="5192640"/>
            <a:ext cx="14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ы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00480" y="6416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улов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" descr=""/>
          <p:cNvPicPr/>
          <p:nvPr/>
        </p:nvPicPr>
        <p:blipFill>
          <a:blip r:embed="rId1"/>
          <a:stretch/>
        </p:blipFill>
        <p:spPr>
          <a:xfrm>
            <a:off x="1679400" y="1305000"/>
            <a:ext cx="7632720" cy="5400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ff9900"/>
                </a:solidFill>
                <a:latin typeface="Arial"/>
              </a:rPr>
              <a:t>«Угадай картинку»</a:t>
            </a: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" descr=""/>
          <p:cNvPicPr/>
          <p:nvPr/>
        </p:nvPicPr>
        <p:blipFill>
          <a:blip r:embed="rId1"/>
          <a:stretch/>
        </p:blipFill>
        <p:spPr>
          <a:xfrm>
            <a:off x="6534000" y="1736640"/>
            <a:ext cx="4170600" cy="4903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35" name="picture" descr=""/>
          <p:cNvPicPr/>
          <p:nvPr/>
        </p:nvPicPr>
        <p:blipFill>
          <a:blip r:embed="rId2"/>
          <a:stretch/>
        </p:blipFill>
        <p:spPr>
          <a:xfrm>
            <a:off x="0" y="1770120"/>
            <a:ext cx="3862440" cy="4935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ff9900"/>
                </a:solidFill>
                <a:latin typeface="Arial"/>
              </a:rPr>
              <a:t>«Угадай картинку»</a:t>
            </a: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" descr=""/>
          <p:cNvPicPr/>
          <p:nvPr/>
        </p:nvPicPr>
        <p:blipFill>
          <a:blip r:embed="rId1"/>
          <a:stretch/>
        </p:blipFill>
        <p:spPr>
          <a:xfrm>
            <a:off x="0" y="1952640"/>
            <a:ext cx="4319640" cy="475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38" name="picture" descr=""/>
          <p:cNvPicPr/>
          <p:nvPr/>
        </p:nvPicPr>
        <p:blipFill>
          <a:blip r:embed="rId2"/>
          <a:stretch/>
        </p:blipFill>
        <p:spPr>
          <a:xfrm>
            <a:off x="5746680" y="1952640"/>
            <a:ext cx="4957920" cy="4753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f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4600" y="316080"/>
            <a:ext cx="9634680" cy="12952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 anchorCtr="1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ff9900"/>
                </a:solidFill>
                <a:latin typeface="Arial"/>
              </a:rPr>
              <a:t>«Угадай картинку»</a:t>
            </a:r>
            <a:endParaRPr b="0" lang="en-US" sz="51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" descr=""/>
          <p:cNvPicPr/>
          <p:nvPr/>
        </p:nvPicPr>
        <p:blipFill>
          <a:blip r:embed="rId1"/>
          <a:stretch/>
        </p:blipFill>
        <p:spPr>
          <a:xfrm>
            <a:off x="0" y="1817640"/>
            <a:ext cx="3610080" cy="5143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41" name="picture" descr=""/>
          <p:cNvPicPr/>
          <p:nvPr/>
        </p:nvPicPr>
        <p:blipFill>
          <a:blip r:embed="rId2"/>
          <a:stretch/>
        </p:blipFill>
        <p:spPr>
          <a:xfrm>
            <a:off x="7640640" y="1808280"/>
            <a:ext cx="3063960" cy="5256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50:35Z</dcterms:created>
  <dc:creator>User1</dc:creator>
  <dc:description/>
  <dc:language>en-US</dc:language>
  <cp:lastModifiedBy>user</cp:lastModifiedBy>
  <dcterms:modified xsi:type="dcterms:W3CDTF">2013-04-18T11:15:35Z</dcterms:modified>
  <cp:revision>14</cp:revision>
  <dc:subject/>
  <dc:title>Слайд 1</dc:title>
</cp:coreProperties>
</file>