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E783D-FA69-4C59-92A3-4F1F60D3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CAB7-DFFA-42AD-9E28-35BC30E85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D0F19-FDCD-4C2F-AED0-3403FCD0D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629-6A1E-4C88-837F-E8D04D677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F1D-FAEC-4C2C-AE54-9D4E498BA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6863-765D-49C2-AC0D-BB865325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1E37-2251-4FC2-8AD8-BD8AC8BD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28014-7478-46D7-8127-DC686674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256-FCD6-4A42-AE0F-7C8B36EF7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631D-2848-4855-B834-32B451A33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BF95-1086-4467-BE0C-F9756321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F13-B57B-4628-AF85-86006FA9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EA82E-E906-4ACE-B872-C9305465924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857920" y="5929200"/>
            <a:ext cx="295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трова С.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857920" y="5357880"/>
            <a:ext cx="287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порова Ю.М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042920" y="98100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ИНТЕГРИРОВА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79280" y="2205000"/>
            <a:ext cx="8753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ФИЗИКО-МАТЕМАТИЧЕСКИЙ ТУРНИ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3851280" y="4292640"/>
            <a:ext cx="1797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ов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тон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23 км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 к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6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5 гр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мм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4 МПа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4 м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1 ц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2 км/ч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мин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г 35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792000" y="260280"/>
            <a:ext cx="756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3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ЕРЕВЕДИТЕ В СИ:</a:t>
            </a:r>
            <a:endParaRPr b="0" lang="en-US" sz="1800" spc="1" strike="noStrike">
              <a:ln w="73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538200" y="189000"/>
            <a:ext cx="80661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ЗАДАЧИ НА СМЕКАЛК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10800"/>
                </a:moveTo>
                <a:lnTo>
                  <a:pt x="20154" y="3794"/>
                </a:lnTo>
                <a:lnTo>
                  <a:pt x="201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ять землекопов в 5 часов выкапывают 5 м канавы. Сколько землекопов в 100 часов выкопают 100м кана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литка вздумала взобраться на дерево в 15м высотой. В течение каждого дня она успевала подниматься на 5 м, но каждую ночь , во время сна, спускалась вниз на 4м. Через сколько суток она достигнет вершины дере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яс с пряжкой стоит 68 рублей. Пояс дороже  пряжки на 60 рублей. Сколько стоит пряжка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колько граней у шестигранного карандаш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какую длину вытянется полоска, составленная из всех миллиметровых квадратиков 1кв.м, приложенных друг к другу вплотн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ormal_pyram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835280" y="1125360"/>
            <a:ext cx="5832360" cy="5732640"/>
          </a:xfrm>
          <a:prstGeom prst="verticalScroll">
            <a:avLst>
              <a:gd name="adj" fmla="val 12500"/>
            </a:avLst>
          </a:prstGeom>
          <a:solidFill>
            <a:srgbClr val="ffff66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ие древ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гипетских пирами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ого горизо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удавалось египтян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имеющим сов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х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биваться та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изонталь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24000" y="18900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ИСЬМО ИЗ ПРОШЛОГ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8"/>
          <p:cNvSpPr txBox="1"/>
          <p:nvPr/>
        </p:nvSpPr>
        <p:spPr>
          <a:xfrm>
            <a:off x="250920" y="189000"/>
            <a:ext cx="85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РАЗГАДАЙТЕ КРОССВОРД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0"/>
          <p:cNvGraphicFramePr/>
          <p:nvPr/>
        </p:nvGraphicFramePr>
        <p:xfrm>
          <a:off x="1187280" y="2143080"/>
          <a:ext cx="7272360" cy="38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43080"/>
                    <a:ext cx="72723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28200" y="188640"/>
            <a:ext cx="7885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й учёный-математик, физик, механик (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|||</a:t>
            </a: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 в.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.Известный англ. учёный-физик, математик, астр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.Зависимость, выраженная условными зн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4.Наука о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.Единица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6.Процесс перехода пара в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4.Чертёж, изображающий различные 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7.Округлённое, не совсем точное значени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8.Процесс перехода твёрдого тела в жид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9.Одна из самых древ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.Вид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55640" y="7704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«Недостаточно лишь понять задачу, необходимо желание реши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       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Без сильного жел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решить трудную задачу не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но при наличии  такового –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Где есть желание, найдется пу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. По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1337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Вспом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Задачи 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дви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Чтение граф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Перевод единиц в 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Задачи на смекал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Письмо из прошл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эр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WordArt 27"/>
          <p:cNvSpPr txBox="1"/>
          <p:nvPr/>
        </p:nvSpPr>
        <p:spPr>
          <a:xfrm>
            <a:off x="1295280" y="404640"/>
            <a:ext cx="6877080" cy="14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СЫГРАЕМ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8" name="AutoShape 28">
            <a:hlinkClick r:id="" action="ppaction://hlinkshowjump?jump=last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1403280" y="1557360"/>
                <a:ext cx="2376720" cy="43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/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eqAr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WordArt 5"/>
          <p:cNvSpPr txBox="1"/>
          <p:nvPr/>
        </p:nvSpPr>
        <p:spPr>
          <a:xfrm>
            <a:off x="790560" y="260280"/>
            <a:ext cx="756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ОПИШИТЕ ФОРМУЛЫ</a:t>
            </a:r>
            <a:endParaRPr b="0" lang="en-US" sz="1800" spc="1" strike="noStrike">
              <a:ln w="4752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AutoShape 6">
            <a:hlinkClick r:id="rId1" action="ppaction://hlinksldjump"/>
          </p:cNvPr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0000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0"/>
              <p:cNvSpPr txBox="1"/>
              <p:nvPr/>
            </p:nvSpPr>
            <p:spPr>
              <a:xfrm>
                <a:off x="5764320" y="1484280"/>
                <a:ext cx="2479680" cy="391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/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042920" y="404640"/>
            <a:ext cx="5111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14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ТЕСТ</a:t>
            </a:r>
            <a:endParaRPr b="0" lang="en-US" sz="1800" spc="1" strike="noStrike">
              <a:ln w="114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5" descr="j0232896"/>
          <p:cNvPicPr/>
          <p:nvPr/>
        </p:nvPicPr>
        <p:blipFill>
          <a:blip r:embed="rId1"/>
          <a:stretch/>
        </p:blipFill>
        <p:spPr>
          <a:xfrm>
            <a:off x="5580000" y="2924280"/>
            <a:ext cx="2971800" cy="3600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>
            <a:hlinkClick r:id="rId2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27280" y="233208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кажите помощь своей команде, вспомнив как можно больше имен известных ученых в области физики и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99125"/>
          <p:cNvPicPr/>
          <p:nvPr/>
        </p:nvPicPr>
        <p:blipFill>
          <a:blip r:embed="rId1"/>
          <a:stretch/>
        </p:blipFill>
        <p:spPr>
          <a:xfrm>
            <a:off x="539640" y="1125360"/>
            <a:ext cx="1535400" cy="251964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3132000" y="404640"/>
            <a:ext cx="367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144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OS</a:t>
            </a:r>
            <a:endParaRPr b="0" lang="en-US" sz="1800" spc="1" strike="noStrike">
              <a:ln w="1144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586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9"/>
          <p:cNvGraphicFramePr/>
          <p:nvPr/>
        </p:nvGraphicFramePr>
        <p:xfrm>
          <a:off x="0" y="0"/>
          <a:ext cx="914400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2133360"/>
            <a:ext cx="4964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 графику определ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процесс изображает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ого вещества составлен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А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С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6443640" cy="48848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903600" y="2420640"/>
            <a:ext cx="613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рафику определ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А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ВС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какой температуре было начато наблюд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ого вещества составлен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g5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6156360" cy="46609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2:49:17Z</dcterms:created>
  <dc:creator>1</dc:creator>
  <dc:description/>
  <dc:language>en-US</dc:language>
  <cp:lastModifiedBy>АрИН</cp:lastModifiedBy>
  <dcterms:modified xsi:type="dcterms:W3CDTF">2013-11-23T12:24:53Z</dcterms:modified>
  <cp:revision>32</cp:revision>
  <dc:subject/>
  <dc:title>Интегрированный урок  «Физико-математический турнир»</dc:title>
</cp:coreProperties>
</file>