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media/image8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92161-715B-452B-B27A-2373512D3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B484D-AD69-47AF-AF2D-55C6C880B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F50D7-ED1D-4F6A-9DDB-A0DCFDB16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C86BE-8DC4-4967-887A-2C5AD3012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EF6FE-AE22-42F0-BB87-8DCB9B90C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D8EE7-C2A2-4B62-B38E-466AFBC34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5BF10-DA30-4AA4-BBD1-FEF4D0B7D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83B0A-AD61-4069-B41E-2EDCA2DAF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77441-54ED-4F61-812B-29A940AF3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D607E-4D76-40DF-A17B-E2CA4CAC9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696C8-70E6-415C-A99E-133D2CDA7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5E737-E786-458F-9160-5C48CB911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50000">
              <a:srgbClr val="ffffcc"/>
            </a:gs>
            <a:gs pos="100000">
              <a:srgbClr val="cc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19281-25DF-4289-9200-CFE015F7F56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6.xml"/><Relationship Id="rId6" Type="http://schemas.openxmlformats.org/officeDocument/2006/relationships/slide" Target="slide8.xml"/><Relationship Id="rId7" Type="http://schemas.openxmlformats.org/officeDocument/2006/relationships/slide" Target="slide10.xml"/><Relationship Id="rId8" Type="http://schemas.openxmlformats.org/officeDocument/2006/relationships/slide" Target="slide11.xml"/><Relationship Id="rId9" Type="http://schemas.openxmlformats.org/officeDocument/2006/relationships/slide" Target="slide12.xml"/><Relationship Id="rId10" Type="http://schemas.openxmlformats.org/officeDocument/2006/relationships/slide" Target="slide13.xml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4"/>
          <p:cNvSpPr txBox="1"/>
          <p:nvPr/>
        </p:nvSpPr>
        <p:spPr>
          <a:xfrm>
            <a:off x="5857920" y="5929200"/>
            <a:ext cx="295272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етрова С.Л.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2" name="WordArt 6"/>
          <p:cNvSpPr txBox="1"/>
          <p:nvPr/>
        </p:nvSpPr>
        <p:spPr>
          <a:xfrm>
            <a:off x="5857920" y="5357880"/>
            <a:ext cx="287964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Шапорова Ю.М.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3" name="WordArt 8"/>
          <p:cNvSpPr txBox="1"/>
          <p:nvPr/>
        </p:nvSpPr>
        <p:spPr>
          <a:xfrm>
            <a:off x="1042920" y="981000"/>
            <a:ext cx="655344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ff"/>
                </a:solidFill>
                <a:latin typeface="Arial"/>
              </a:rPr>
              <a:t>ИНТЕГРИРОВАННЫЙ УРОК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9933ff"/>
              </a:solidFill>
              <a:latin typeface="Arial"/>
              <a:ea typeface="Arial"/>
            </a:endParaRPr>
          </a:p>
        </p:txBody>
      </p:sp>
      <p:sp>
        <p:nvSpPr>
          <p:cNvPr id="44" name="WordArt 9"/>
          <p:cNvSpPr txBox="1"/>
          <p:nvPr/>
        </p:nvSpPr>
        <p:spPr>
          <a:xfrm>
            <a:off x="179280" y="2205000"/>
            <a:ext cx="8753760" cy="763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"ФИЗИКО-МАТЕМАТИЧЕСКИЙ ТУРНИР"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  <p:sp>
        <p:nvSpPr>
          <p:cNvPr id="45" name="WordArt 10"/>
          <p:cNvSpPr txBox="1"/>
          <p:nvPr/>
        </p:nvSpPr>
        <p:spPr>
          <a:xfrm>
            <a:off x="3851280" y="4292640"/>
            <a:ext cx="17971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провели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5 тонн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0,23 км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3 кН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66 м</a:t>
            </a:r>
            <a:r>
              <a:rPr b="0" lang="ru-RU" sz="32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65 гр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5 см</a:t>
            </a:r>
            <a:r>
              <a:rPr b="0" lang="ru-RU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7 мм =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6526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4 МПа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54 мН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51 ц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00 см</a:t>
            </a:r>
            <a:r>
              <a:rPr b="0" lang="ru-RU" sz="28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72 км/ч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,5 мин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 кг 350 г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WordArt 7"/>
          <p:cNvSpPr txBox="1"/>
          <p:nvPr/>
        </p:nvSpPr>
        <p:spPr>
          <a:xfrm>
            <a:off x="792000" y="260280"/>
            <a:ext cx="756000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7308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ПЕРЕВЕДИТЕ В СИ:</a:t>
            </a:r>
            <a:endParaRPr b="0" lang="en-US" sz="1800" spc="1" strike="noStrike">
              <a:ln w="7308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76" name="AutoShape 8"/>
          <p:cNvSpPr/>
          <p:nvPr/>
        </p:nvSpPr>
        <p:spPr>
          <a:xfrm>
            <a:off x="8244000" y="6237360"/>
            <a:ext cx="900000" cy="620640"/>
          </a:xfrm>
          <a:custGeom>
            <a:avLst/>
            <a:gdLst>
              <a:gd name="textAreaLeft" fmla="*/ 39960 w 900000"/>
              <a:gd name="textAreaRight" fmla="*/ 860040 w 90000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31317" h="21600">
                <a:moveTo>
                  <a:pt x="0" y="0"/>
                </a:moveTo>
                <a:lnTo>
                  <a:pt x="31317" y="0"/>
                </a:lnTo>
                <a:lnTo>
                  <a:pt x="31317" y="21600"/>
                </a:lnTo>
                <a:lnTo>
                  <a:pt x="0" y="21600"/>
                </a:lnTo>
                <a:close/>
              </a:path>
              <a:path fill="lightenLess" w="31317" h="21600">
                <a:moveTo>
                  <a:pt x="0" y="0"/>
                </a:moveTo>
                <a:lnTo>
                  <a:pt x="31317" y="0"/>
                </a:lnTo>
                <a:lnTo>
                  <a:pt x="29917" y="1400"/>
                </a:lnTo>
                <a:lnTo>
                  <a:pt x="1400" y="1400"/>
                </a:lnTo>
                <a:close/>
              </a:path>
              <a:path fill="darken" w="31317" h="21600">
                <a:moveTo>
                  <a:pt x="31317" y="0"/>
                </a:moveTo>
                <a:lnTo>
                  <a:pt x="31317" y="21600"/>
                </a:lnTo>
                <a:lnTo>
                  <a:pt x="29917" y="20200"/>
                </a:lnTo>
                <a:lnTo>
                  <a:pt x="29917" y="1400"/>
                </a:lnTo>
                <a:close/>
              </a:path>
              <a:path fill="darkenLess" w="31317" h="21600">
                <a:moveTo>
                  <a:pt x="313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917" y="20200"/>
                </a:lnTo>
                <a:close/>
              </a:path>
              <a:path fill="lighten" w="313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317" h="21600">
                <a:moveTo>
                  <a:pt x="8652" y="10800"/>
                </a:moveTo>
                <a:lnTo>
                  <a:pt x="22665" y="3794"/>
                </a:lnTo>
                <a:lnTo>
                  <a:pt x="2266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WordArt 4"/>
          <p:cNvSpPr txBox="1"/>
          <p:nvPr/>
        </p:nvSpPr>
        <p:spPr>
          <a:xfrm>
            <a:off x="538200" y="189000"/>
            <a:ext cx="8066160" cy="140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5324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ЗАДАЧИ НА СМЕКАЛКУ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78" name="AutoShape 5"/>
          <p:cNvSpPr/>
          <p:nvPr/>
        </p:nvSpPr>
        <p:spPr>
          <a:xfrm>
            <a:off x="8388360" y="6237360"/>
            <a:ext cx="755640" cy="620640"/>
          </a:xfrm>
          <a:custGeom>
            <a:avLst/>
            <a:gdLst>
              <a:gd name="textAreaLeft" fmla="*/ 39960 w 755640"/>
              <a:gd name="textAreaRight" fmla="*/ 715680 w 75564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26296" h="21600">
                <a:moveTo>
                  <a:pt x="0" y="0"/>
                </a:moveTo>
                <a:lnTo>
                  <a:pt x="26296" y="0"/>
                </a:lnTo>
                <a:lnTo>
                  <a:pt x="26296" y="21600"/>
                </a:lnTo>
                <a:lnTo>
                  <a:pt x="0" y="21600"/>
                </a:lnTo>
                <a:close/>
              </a:path>
              <a:path fill="lightenLess" w="26296" h="21600">
                <a:moveTo>
                  <a:pt x="0" y="0"/>
                </a:moveTo>
                <a:lnTo>
                  <a:pt x="26296" y="0"/>
                </a:lnTo>
                <a:lnTo>
                  <a:pt x="24896" y="1400"/>
                </a:lnTo>
                <a:lnTo>
                  <a:pt x="1400" y="1400"/>
                </a:lnTo>
                <a:close/>
              </a:path>
              <a:path fill="darken" w="26296" h="21600">
                <a:moveTo>
                  <a:pt x="26296" y="0"/>
                </a:moveTo>
                <a:lnTo>
                  <a:pt x="26296" y="21600"/>
                </a:lnTo>
                <a:lnTo>
                  <a:pt x="24896" y="20200"/>
                </a:lnTo>
                <a:lnTo>
                  <a:pt x="24896" y="1400"/>
                </a:lnTo>
                <a:close/>
              </a:path>
              <a:path fill="darkenLess" w="26296" h="21600">
                <a:moveTo>
                  <a:pt x="262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896" y="20200"/>
                </a:lnTo>
                <a:close/>
              </a:path>
              <a:path fill="lighten" w="262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296" h="21600">
                <a:moveTo>
                  <a:pt x="6141" y="10800"/>
                </a:moveTo>
                <a:lnTo>
                  <a:pt x="20154" y="3794"/>
                </a:lnTo>
                <a:lnTo>
                  <a:pt x="2015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395280" y="1600200"/>
            <a:ext cx="829152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Пять землекопов в 5 часов выкапывают 5 м канавы. Сколько землекопов в 100 часов выкопают 100м канавы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Улитка вздумала взобраться на дерево в 15м высотой. В течение каждого дня она успевала подниматься на 5 м, но каждую ночь , во время сна, спускалась вниз на 4м. Через сколько суток она достигнет вершины дерев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Пояс с пряжкой стоит 68 рублей. Пояс дороже  пряжки на 60 рублей. Сколько стоит пряжка?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Сколько граней у шестигранного карандаш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. На какую длину вытянется полоска, составленная из всех миллиметровых квадратиков 1кв.м, приложенных друг к другу вплотную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normal_pyramide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AutoShape 4"/>
          <p:cNvSpPr/>
          <p:nvPr/>
        </p:nvSpPr>
        <p:spPr>
          <a:xfrm>
            <a:off x="1835280" y="1125360"/>
            <a:ext cx="5832360" cy="5732640"/>
          </a:xfrm>
          <a:prstGeom prst="verticalScroll">
            <a:avLst>
              <a:gd name="adj" fmla="val 12500"/>
            </a:avLst>
          </a:prstGeom>
          <a:solidFill>
            <a:srgbClr val="ffff66">
              <a:alpha val="3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Основание древни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египетских пирамид –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строго горизонталь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оверхно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Как удавалось египтянам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не имеющим современн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техники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добиваться тако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горизонтальности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5"/>
          <p:cNvSpPr/>
          <p:nvPr/>
        </p:nvSpPr>
        <p:spPr>
          <a:xfrm>
            <a:off x="8459640" y="6237360"/>
            <a:ext cx="684360" cy="620640"/>
          </a:xfrm>
          <a:custGeom>
            <a:avLst/>
            <a:gdLst>
              <a:gd name="textAreaLeft" fmla="*/ 39960 w 684360"/>
              <a:gd name="textAreaRight" fmla="*/ 644400 w 68436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23816" h="21600">
                <a:moveTo>
                  <a:pt x="0" y="0"/>
                </a:moveTo>
                <a:lnTo>
                  <a:pt x="23816" y="0"/>
                </a:lnTo>
                <a:lnTo>
                  <a:pt x="23816" y="21600"/>
                </a:lnTo>
                <a:lnTo>
                  <a:pt x="0" y="21600"/>
                </a:lnTo>
                <a:close/>
              </a:path>
              <a:path fill="lightenLess" w="23816" h="21600">
                <a:moveTo>
                  <a:pt x="0" y="0"/>
                </a:moveTo>
                <a:lnTo>
                  <a:pt x="23816" y="0"/>
                </a:lnTo>
                <a:lnTo>
                  <a:pt x="22416" y="1400"/>
                </a:lnTo>
                <a:lnTo>
                  <a:pt x="1400" y="1400"/>
                </a:lnTo>
                <a:close/>
              </a:path>
              <a:path fill="darken" w="23816" h="21600">
                <a:moveTo>
                  <a:pt x="23816" y="0"/>
                </a:moveTo>
                <a:lnTo>
                  <a:pt x="23816" y="21600"/>
                </a:lnTo>
                <a:lnTo>
                  <a:pt x="22416" y="20200"/>
                </a:lnTo>
                <a:lnTo>
                  <a:pt x="22416" y="1400"/>
                </a:lnTo>
                <a:close/>
              </a:path>
              <a:path fill="darkenLess" w="23816" h="21600">
                <a:moveTo>
                  <a:pt x="238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416" y="20200"/>
                </a:lnTo>
                <a:close/>
              </a:path>
              <a:path fill="lighten" w="238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816" h="21600">
                <a:moveTo>
                  <a:pt x="4902" y="10800"/>
                </a:moveTo>
                <a:lnTo>
                  <a:pt x="18915" y="3794"/>
                </a:lnTo>
                <a:lnTo>
                  <a:pt x="1891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WordArt 6"/>
          <p:cNvSpPr txBox="1"/>
          <p:nvPr/>
        </p:nvSpPr>
        <p:spPr>
          <a:xfrm>
            <a:off x="324000" y="189000"/>
            <a:ext cx="842472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 Black"/>
              </a:rPr>
              <a:t>ПИСЬМО ИЗ ПРОШЛОГО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WordArt 8"/>
          <p:cNvSpPr txBox="1"/>
          <p:nvPr/>
        </p:nvSpPr>
        <p:spPr>
          <a:xfrm>
            <a:off x="250920" y="189000"/>
            <a:ext cx="856908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844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РАЗГАДАЙТЕ КРОССВОРД</a:t>
            </a:r>
            <a:endParaRPr b="0" lang="en-US" sz="1800" spc="1" strike="noStrike">
              <a:ln w="2844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85" name="AutoShape 9">
            <a:hlinkClick r:id="" action="ppaction://hlinkshowjump?jump=nextslide"/>
          </p:cNvPr>
          <p:cNvSpPr/>
          <p:nvPr/>
        </p:nvSpPr>
        <p:spPr>
          <a:xfrm>
            <a:off x="8532720" y="6381720"/>
            <a:ext cx="611280" cy="476280"/>
          </a:xfrm>
          <a:custGeom>
            <a:avLst/>
            <a:gdLst>
              <a:gd name="textAreaLeft" fmla="*/ 30600 w 611280"/>
              <a:gd name="textAreaRight" fmla="*/ 580680 w 61128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7718" h="21600">
                <a:moveTo>
                  <a:pt x="0" y="0"/>
                </a:moveTo>
                <a:lnTo>
                  <a:pt x="27718" y="0"/>
                </a:lnTo>
                <a:lnTo>
                  <a:pt x="27718" y="21600"/>
                </a:lnTo>
                <a:lnTo>
                  <a:pt x="0" y="21600"/>
                </a:lnTo>
                <a:close/>
              </a:path>
              <a:path fill="lightenLess" w="27718" h="21600">
                <a:moveTo>
                  <a:pt x="0" y="0"/>
                </a:moveTo>
                <a:lnTo>
                  <a:pt x="27718" y="0"/>
                </a:lnTo>
                <a:lnTo>
                  <a:pt x="26318" y="1400"/>
                </a:lnTo>
                <a:lnTo>
                  <a:pt x="1400" y="1400"/>
                </a:lnTo>
                <a:close/>
              </a:path>
              <a:path fill="darken" w="27718" h="21600">
                <a:moveTo>
                  <a:pt x="27718" y="0"/>
                </a:moveTo>
                <a:lnTo>
                  <a:pt x="27718" y="21600"/>
                </a:lnTo>
                <a:lnTo>
                  <a:pt x="26318" y="20200"/>
                </a:lnTo>
                <a:lnTo>
                  <a:pt x="26318" y="1400"/>
                </a:lnTo>
                <a:close/>
              </a:path>
              <a:path fill="darkenLess" w="27718" h="21600">
                <a:moveTo>
                  <a:pt x="277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18" y="20200"/>
                </a:lnTo>
                <a:close/>
              </a:path>
              <a:path fill="lighten" w="277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18" h="21600">
                <a:moveTo>
                  <a:pt x="6852" y="3794"/>
                </a:moveTo>
                <a:lnTo>
                  <a:pt x="20865" y="10800"/>
                </a:lnTo>
                <a:lnTo>
                  <a:pt x="6852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Object 10"/>
          <p:cNvGraphicFramePr/>
          <p:nvPr/>
        </p:nvGraphicFramePr>
        <p:xfrm>
          <a:off x="1187280" y="2143080"/>
          <a:ext cx="7272360" cy="387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2143080"/>
                    <a:ext cx="7272360" cy="387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628200" y="188640"/>
            <a:ext cx="7885080" cy="61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3716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 вертикал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ревнегреческий учёный-математик, физик, механик (</a:t>
            </a:r>
            <a:r>
              <a:rPr b="0" lang="en-US" sz="2000" spc="-1" strike="noStrike">
                <a:solidFill>
                  <a:srgbClr val="000000"/>
                </a:solidFill>
                <a:latin typeface="Arial Rounded MT Bold"/>
              </a:rPr>
              <a:t>|||</a:t>
            </a:r>
            <a:r>
              <a:rPr b="0" lang="ru-RU" sz="2000" spc="-1" strike="noStrike">
                <a:solidFill>
                  <a:srgbClr val="000000"/>
                </a:solidFill>
                <a:latin typeface="Arial Rounded MT Bold"/>
              </a:rPr>
              <a:t> в. до н.э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Rounded MT Bold"/>
              </a:rPr>
              <a:t>2.Известный англ. учёный-физик, математик, астрон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Rounded MT Bold"/>
              </a:rPr>
              <a:t>3.Зависимость, выраженная условными знак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Rounded MT Bold"/>
              </a:rPr>
              <a:t>4.Наука о природ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Rounded MT Bold"/>
              </a:rPr>
              <a:t>5.Единица дли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Rounded MT Bold"/>
              </a:rPr>
              <a:t>6.Процесс перехода пара в жидкос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 Rounded MT Bold"/>
              </a:rPr>
              <a:t>               </a:t>
            </a:r>
            <a:r>
              <a:rPr b="1" lang="ru-RU" sz="2400" spc="-1" strike="noStrike">
                <a:solidFill>
                  <a:srgbClr val="000000"/>
                </a:solidFill>
                <a:latin typeface="Arial Rounded MT Bold"/>
              </a:rPr>
              <a:t>По горизонтал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Rounded MT Bold"/>
              </a:rPr>
              <a:t>4.Чертёж, изображающий различные зависим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Rounded MT Bold"/>
              </a:rPr>
              <a:t>7.Округлённое, не совсем точное значение числ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Rounded MT Bold"/>
              </a:rPr>
              <a:t>8.Процесс перехода твёрдого тела в жидко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Rounded MT Bold"/>
              </a:rPr>
              <a:t>9.Одна из самых древних наук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Rounded MT Bold"/>
              </a:rPr>
              <a:t>10.Вид функ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Rounded MT Bold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Rounded MT Bold"/>
              </a:rPr>
              <a:t>1000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5"/>
          <p:cNvSpPr/>
          <p:nvPr/>
        </p:nvSpPr>
        <p:spPr>
          <a:xfrm>
            <a:off x="8317080" y="6308640"/>
            <a:ext cx="826920" cy="549360"/>
          </a:xfrm>
          <a:custGeom>
            <a:avLst/>
            <a:gdLst>
              <a:gd name="textAreaLeft" fmla="*/ 35280 w 826920"/>
              <a:gd name="textAreaRight" fmla="*/ 791640 w 82692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32506" h="21600">
                <a:moveTo>
                  <a:pt x="0" y="0"/>
                </a:moveTo>
                <a:lnTo>
                  <a:pt x="32506" y="0"/>
                </a:lnTo>
                <a:lnTo>
                  <a:pt x="32506" y="21600"/>
                </a:lnTo>
                <a:lnTo>
                  <a:pt x="0" y="21600"/>
                </a:lnTo>
                <a:close/>
              </a:path>
              <a:path fill="lightenLess" w="32506" h="21600">
                <a:moveTo>
                  <a:pt x="0" y="0"/>
                </a:moveTo>
                <a:lnTo>
                  <a:pt x="32506" y="0"/>
                </a:lnTo>
                <a:lnTo>
                  <a:pt x="31106" y="1400"/>
                </a:lnTo>
                <a:lnTo>
                  <a:pt x="1400" y="1400"/>
                </a:lnTo>
                <a:close/>
              </a:path>
              <a:path fill="darken" w="32506" h="21600">
                <a:moveTo>
                  <a:pt x="32506" y="0"/>
                </a:moveTo>
                <a:lnTo>
                  <a:pt x="32506" y="21600"/>
                </a:lnTo>
                <a:lnTo>
                  <a:pt x="31106" y="20200"/>
                </a:lnTo>
                <a:lnTo>
                  <a:pt x="31106" y="1400"/>
                </a:lnTo>
                <a:close/>
              </a:path>
              <a:path fill="darkenLess" w="32506" h="21600">
                <a:moveTo>
                  <a:pt x="32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06" y="20200"/>
                </a:lnTo>
                <a:close/>
              </a:path>
              <a:path fill="lighten" w="32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06" h="21600">
                <a:moveTo>
                  <a:pt x="9247" y="10800"/>
                </a:moveTo>
                <a:lnTo>
                  <a:pt x="23260" y="3794"/>
                </a:lnTo>
                <a:lnTo>
                  <a:pt x="2326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4"/>
          <p:cNvSpPr/>
          <p:nvPr/>
        </p:nvSpPr>
        <p:spPr>
          <a:xfrm>
            <a:off x="755640" y="770400"/>
            <a:ext cx="82090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779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"/>
              </a:rPr>
              <a:t>      </a:t>
            </a:r>
            <a:r>
              <a:rPr b="0" i="1" lang="ru-RU" sz="3200" spc="-1" strike="noStrike">
                <a:solidFill>
                  <a:srgbClr val="3333cc"/>
                </a:solidFill>
                <a:latin typeface="comic"/>
              </a:rPr>
              <a:t>«Недостаточно лишь понять задачу, необходимо желание решить е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779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33cc"/>
                </a:solidFill>
                <a:latin typeface="comic"/>
              </a:rPr>
              <a:t>         </a:t>
            </a:r>
            <a:r>
              <a:rPr b="0" i="1" lang="ru-RU" sz="3200" spc="-1" strike="noStrike">
                <a:solidFill>
                  <a:srgbClr val="3333cc"/>
                </a:solidFill>
                <a:latin typeface="comic"/>
              </a:rPr>
              <a:t>Без сильного желан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779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33cc"/>
                </a:solidFill>
                <a:latin typeface="comic"/>
              </a:rPr>
              <a:t>решить трудную задачу невозможно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779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33cc"/>
                </a:solidFill>
                <a:latin typeface="comic"/>
              </a:rPr>
              <a:t> </a:t>
            </a:r>
            <a:r>
              <a:rPr b="0" i="1" lang="ru-RU" sz="3200" spc="-1" strike="noStrike">
                <a:solidFill>
                  <a:srgbClr val="3333cc"/>
                </a:solidFill>
                <a:latin typeface="comic"/>
              </a:rPr>
              <a:t>но при наличии  такового – возможн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779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3333cc"/>
                </a:solidFill>
                <a:latin typeface="comic"/>
              </a:rPr>
              <a:t> </a:t>
            </a:r>
            <a:r>
              <a:rPr b="0" i="1" lang="ru-RU" sz="3200" spc="-1" strike="noStrike">
                <a:solidFill>
                  <a:srgbClr val="3333cc"/>
                </a:solidFill>
                <a:latin typeface="comic"/>
              </a:rPr>
              <a:t>Где есть желание, найдется путь!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779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779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Д. Пой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7795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" name=""/>
          <p:cNvGraphicFramePr/>
          <p:nvPr/>
        </p:nvGraphicFramePr>
        <p:xfrm>
          <a:off x="457200" y="2133720"/>
          <a:ext cx="8229600" cy="45259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50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" action="ppaction://hlinksldjump"/>
                        </a:rPr>
                        <a:t>Вспомн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" action="ppaction://hlinksldjump"/>
                        </a:rPr>
                        <a:t>Тес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" action="ppaction://hlinksldjump"/>
                        </a:rPr>
                        <a:t>SO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4" action="ppaction://hlinksldjump"/>
                        </a:rPr>
                        <a:t>Задачи на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5" action="ppaction://hlinksldjump"/>
                        </a:rPr>
                        <a:t>движе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" action="ppaction://hlinksldjump"/>
                        </a:rPr>
                        <a:t>Чтение графи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7" action="ppaction://hlinksldjump"/>
                        </a:rPr>
                        <a:t>Перевод единиц в С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0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8" action="ppaction://hlinksldjump"/>
                        </a:rPr>
                        <a:t>Задачи на смекалк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9" action="ppaction://hlinksldjump"/>
                        </a:rPr>
                        <a:t>Письмо из прошлог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0" action="ppaction://hlinksldjump"/>
                        </a:rPr>
                        <a:t>эруди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" name="WordArt 27"/>
          <p:cNvSpPr txBox="1"/>
          <p:nvPr/>
        </p:nvSpPr>
        <p:spPr>
          <a:xfrm>
            <a:off x="1295280" y="404640"/>
            <a:ext cx="6877080" cy="148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СЫГРАЕМ?</a:t>
            </a:r>
            <a:endParaRPr b="0" lang="en-US" sz="1800" spc="1" strike="noStrike">
              <a:ln w="381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48" name="AutoShape 28">
            <a:hlinkClick r:id="" action="ppaction://hlinkshowjump?jump=lastslide"/>
          </p:cNvPr>
          <p:cNvSpPr/>
          <p:nvPr/>
        </p:nvSpPr>
        <p:spPr>
          <a:xfrm>
            <a:off x="8748720" y="6381720"/>
            <a:ext cx="395280" cy="476280"/>
          </a:xfrm>
          <a:custGeom>
            <a:avLst/>
            <a:gdLst>
              <a:gd name="textAreaLeft" fmla="*/ 25560 w 395280"/>
              <a:gd name="textAreaRight" fmla="*/ 369720 w 395280"/>
              <a:gd name="textAreaTop" fmla="*/ 25560 h 476280"/>
              <a:gd name="textAreaBottom" fmla="*/ 450720 h 476280"/>
            </a:gdLst>
            <a:ahLst/>
            <a:rect l="textAreaLeft" t="textAreaTop" r="textAreaRight" b="textAreaBottom"/>
            <a:pathLst>
              <a:path w="21600" h="26022">
                <a:moveTo>
                  <a:pt x="0" y="0"/>
                </a:moveTo>
                <a:lnTo>
                  <a:pt x="21600" y="0"/>
                </a:lnTo>
                <a:lnTo>
                  <a:pt x="21600" y="26022"/>
                </a:lnTo>
                <a:lnTo>
                  <a:pt x="0" y="26022"/>
                </a:lnTo>
                <a:close/>
              </a:path>
              <a:path fill="lightenLess" w="21600" h="2602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6022">
                <a:moveTo>
                  <a:pt x="21600" y="0"/>
                </a:moveTo>
                <a:lnTo>
                  <a:pt x="21600" y="26022"/>
                </a:lnTo>
                <a:lnTo>
                  <a:pt x="20200" y="24622"/>
                </a:lnTo>
                <a:lnTo>
                  <a:pt x="20200" y="1400"/>
                </a:lnTo>
                <a:close/>
              </a:path>
              <a:path fill="darkenLess" w="21600" h="26022">
                <a:moveTo>
                  <a:pt x="21600" y="26022"/>
                </a:moveTo>
                <a:lnTo>
                  <a:pt x="0" y="26022"/>
                </a:lnTo>
                <a:lnTo>
                  <a:pt x="1400" y="24622"/>
                </a:lnTo>
                <a:lnTo>
                  <a:pt x="20200" y="24622"/>
                </a:lnTo>
                <a:close/>
              </a:path>
              <a:path fill="lighten" w="21600" h="26022">
                <a:moveTo>
                  <a:pt x="0" y="26022"/>
                </a:moveTo>
                <a:lnTo>
                  <a:pt x="0" y="0"/>
                </a:lnTo>
                <a:lnTo>
                  <a:pt x="1400" y="1400"/>
                </a:lnTo>
                <a:lnTo>
                  <a:pt x="1400" y="24622"/>
                </a:lnTo>
                <a:close/>
              </a:path>
              <a:path fill="darken" w="21600" h="26022">
                <a:moveTo>
                  <a:pt x="3794" y="6005"/>
                </a:moveTo>
                <a:lnTo>
                  <a:pt x="17806" y="13011"/>
                </a:lnTo>
                <a:lnTo>
                  <a:pt x="3794" y="20018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" name="Object 7"/>
              <p:cNvSpPr txBox="1"/>
              <p:nvPr/>
            </p:nvSpPr>
            <p:spPr>
              <a:xfrm>
                <a:off x="1403280" y="1557360"/>
                <a:ext cx="2376720" cy="438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λ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Q</m:t>
                            </m:r>
                          </m:num>
                          <m:den/>
                        </m:f>
                      </m:e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V</m:t>
                        </m:r>
                        <m:r>
                          <m:t xml:space="preserve">⋅</m:t>
                        </m:r>
                        <m:r>
                          <m:t xml:space="preserve">Q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⋅</m:t>
                        </m:r>
                        <m:r>
                          <m:t xml:space="preserve">c</m:t>
                        </m:r>
                        <m:r>
                          <m:t xml:space="preserve">⋅</m:t>
                        </m:r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⋅</m:t>
                        </m:r>
                        <m:r>
                          <m:t xml:space="preserve">ρ</m:t>
                        </m:r>
                        <m:r>
                          <m:t xml:space="preserve">=</m:t>
                        </m:r>
                        <m:eqArr>
                          <m:e>
                            <m:f>
                              <m:num>
                                <m:r>
                                  <m:t xml:space="preserve">V</m:t>
                                </m:r>
                              </m:num>
                              <m:den/>
                            </m:f>
                          </m:e>
                        </m:eqAr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51" name="WordArt 5"/>
          <p:cNvSpPr txBox="1"/>
          <p:nvPr/>
        </p:nvSpPr>
        <p:spPr>
          <a:xfrm>
            <a:off x="790560" y="260280"/>
            <a:ext cx="756144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4752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ДОПИШИТЕ ФОРМУЛЫ</a:t>
            </a:r>
            <a:endParaRPr b="0" lang="en-US" sz="1800" spc="1" strike="noStrike">
              <a:ln w="4752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52" name="AutoShape 6">
            <a:hlinkClick r:id="rId1" action="ppaction://hlinksldjump"/>
          </p:cNvPr>
          <p:cNvSpPr/>
          <p:nvPr/>
        </p:nvSpPr>
        <p:spPr>
          <a:xfrm>
            <a:off x="8496360" y="6237360"/>
            <a:ext cx="647640" cy="620640"/>
          </a:xfrm>
          <a:custGeom>
            <a:avLst/>
            <a:gdLst>
              <a:gd name="textAreaLeft" fmla="*/ 39960 w 647640"/>
              <a:gd name="textAreaRight" fmla="*/ 607680 w 647640"/>
              <a:gd name="textAreaTop" fmla="*/ 39960 h 620640"/>
              <a:gd name="textAreaBottom" fmla="*/ 580680 h 620640"/>
            </a:gdLst>
            <a:ahLst/>
            <a:rect l="textAreaLeft" t="textAreaTop" r="textAreaRight" b="textAreaBottom"/>
            <a:pathLst>
              <a:path w="22539" h="21600">
                <a:moveTo>
                  <a:pt x="0" y="0"/>
                </a:moveTo>
                <a:lnTo>
                  <a:pt x="22539" y="0"/>
                </a:lnTo>
                <a:lnTo>
                  <a:pt x="22539" y="21600"/>
                </a:lnTo>
                <a:lnTo>
                  <a:pt x="0" y="21600"/>
                </a:lnTo>
                <a:close/>
              </a:path>
              <a:path fill="lightenLess" w="22539" h="21600">
                <a:moveTo>
                  <a:pt x="0" y="0"/>
                </a:moveTo>
                <a:lnTo>
                  <a:pt x="22539" y="0"/>
                </a:lnTo>
                <a:lnTo>
                  <a:pt x="21139" y="1400"/>
                </a:lnTo>
                <a:lnTo>
                  <a:pt x="1400" y="1400"/>
                </a:lnTo>
                <a:close/>
              </a:path>
              <a:path fill="darken" w="22539" h="21600">
                <a:moveTo>
                  <a:pt x="22539" y="0"/>
                </a:moveTo>
                <a:lnTo>
                  <a:pt x="22539" y="21600"/>
                </a:lnTo>
                <a:lnTo>
                  <a:pt x="21139" y="20200"/>
                </a:lnTo>
                <a:lnTo>
                  <a:pt x="21139" y="1400"/>
                </a:lnTo>
                <a:close/>
              </a:path>
              <a:path fill="darkenLess" w="22539" h="21600">
                <a:moveTo>
                  <a:pt x="22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139" y="20200"/>
                </a:lnTo>
                <a:close/>
              </a:path>
              <a:path fill="lighten" w="22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539" h="21600">
                <a:moveTo>
                  <a:pt x="4263" y="10800"/>
                </a:moveTo>
                <a:lnTo>
                  <a:pt x="18276" y="3794"/>
                </a:lnTo>
                <a:lnTo>
                  <a:pt x="18276" y="17806"/>
                </a:lnTo>
                <a:close/>
              </a:path>
            </a:pathLst>
          </a:custGeom>
          <a:solidFill>
            <a:srgbClr val="0000ff">
              <a:alpha val="6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3" name="Object 10"/>
              <p:cNvSpPr txBox="1"/>
              <p:nvPr/>
            </p:nvSpPr>
            <p:spPr>
              <a:xfrm>
                <a:off x="5764320" y="1484280"/>
                <a:ext cx="2479680" cy="391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f>
                          <m:num/>
                          <m:den>
                            <m:r>
                              <m:t xml:space="preserve">S</m:t>
                            </m:r>
                          </m:den>
                        </m:f>
                      </m:e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r>
                          <m:t xml:space="preserve">ρ</m:t>
                        </m:r>
                        <m:r>
                          <m:t xml:space="preserve">⋅</m:t>
                        </m:r>
                        <m:r>
                          <m:t xml:space="preserve">q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ρ</m:t>
                        </m:r>
                        <m:r>
                          <m:t xml:space="preserve">⋅</m:t>
                        </m:r>
                        <m:r>
                          <m:t xml:space="preserve">q</m:t>
                        </m:r>
                        <m:r>
                          <m:t xml:space="preserve">⋅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⋅</m:t>
                        </m:r>
                        <m:r>
                          <m:t xml:space="preserve">q</m:t>
                        </m:r>
                      </m:e>
                      <m:e>
                        <m:r>
                          <m:t xml:space="preserve">t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S</m:t>
                            </m:r>
                          </m:num>
                          <m:den/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WordArt 4"/>
          <p:cNvSpPr txBox="1"/>
          <p:nvPr/>
        </p:nvSpPr>
        <p:spPr>
          <a:xfrm>
            <a:off x="1042920" y="404640"/>
            <a:ext cx="5111640" cy="259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1448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ТЕСТ</a:t>
            </a:r>
            <a:endParaRPr b="0" lang="en-US" sz="1800" spc="1" strike="noStrike">
              <a:ln w="11448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pic>
        <p:nvPicPr>
          <p:cNvPr id="55" name="Picture 5" descr="j0232896"/>
          <p:cNvPicPr/>
          <p:nvPr/>
        </p:nvPicPr>
        <p:blipFill>
          <a:blip r:embed="rId1"/>
          <a:stretch/>
        </p:blipFill>
        <p:spPr>
          <a:xfrm>
            <a:off x="5580000" y="2924280"/>
            <a:ext cx="2971800" cy="3600360"/>
          </a:xfrm>
          <a:prstGeom prst="rect">
            <a:avLst/>
          </a:prstGeom>
          <a:ln w="0">
            <a:noFill/>
          </a:ln>
        </p:spPr>
      </p:pic>
      <p:sp>
        <p:nvSpPr>
          <p:cNvPr id="56" name="AutoShape 6">
            <a:hlinkClick r:id="rId2" action="ppaction://hlinksldjump"/>
          </p:cNvPr>
          <p:cNvSpPr/>
          <p:nvPr/>
        </p:nvSpPr>
        <p:spPr>
          <a:xfrm>
            <a:off x="8388360" y="6165720"/>
            <a:ext cx="755640" cy="692280"/>
          </a:xfrm>
          <a:custGeom>
            <a:avLst/>
            <a:gdLst>
              <a:gd name="textAreaLeft" fmla="*/ 44640 w 755640"/>
              <a:gd name="textAreaRight" fmla="*/ 711000 w 75564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23576" h="21600">
                <a:moveTo>
                  <a:pt x="0" y="0"/>
                </a:moveTo>
                <a:lnTo>
                  <a:pt x="23576" y="0"/>
                </a:lnTo>
                <a:lnTo>
                  <a:pt x="23576" y="21600"/>
                </a:lnTo>
                <a:lnTo>
                  <a:pt x="0" y="21600"/>
                </a:lnTo>
                <a:close/>
              </a:path>
              <a:path fill="lightenLess" w="23576" h="21600">
                <a:moveTo>
                  <a:pt x="0" y="0"/>
                </a:moveTo>
                <a:lnTo>
                  <a:pt x="23576" y="0"/>
                </a:lnTo>
                <a:lnTo>
                  <a:pt x="22176" y="1400"/>
                </a:lnTo>
                <a:lnTo>
                  <a:pt x="1400" y="1400"/>
                </a:lnTo>
                <a:close/>
              </a:path>
              <a:path fill="darken" w="23576" h="21600">
                <a:moveTo>
                  <a:pt x="23576" y="0"/>
                </a:moveTo>
                <a:lnTo>
                  <a:pt x="23576" y="21600"/>
                </a:lnTo>
                <a:lnTo>
                  <a:pt x="22176" y="20200"/>
                </a:lnTo>
                <a:lnTo>
                  <a:pt x="22176" y="1400"/>
                </a:lnTo>
                <a:close/>
              </a:path>
              <a:path fill="darkenLess" w="23576" h="21600">
                <a:moveTo>
                  <a:pt x="235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76" y="20200"/>
                </a:lnTo>
                <a:close/>
              </a:path>
              <a:path fill="lighten" w="235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576" h="21600">
                <a:moveTo>
                  <a:pt x="4781" y="10800"/>
                </a:moveTo>
                <a:lnTo>
                  <a:pt x="18794" y="3794"/>
                </a:lnTo>
                <a:lnTo>
                  <a:pt x="187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2627280" y="2332080"/>
            <a:ext cx="6059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Black"/>
              </a:rPr>
              <a:t>Окажите помощь своей команде, вспомнив как можно больше имен известных ученых в области физики и математи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j0299125"/>
          <p:cNvPicPr/>
          <p:nvPr/>
        </p:nvPicPr>
        <p:blipFill>
          <a:blip r:embed="rId1"/>
          <a:stretch/>
        </p:blipFill>
        <p:spPr>
          <a:xfrm>
            <a:off x="539640" y="1125360"/>
            <a:ext cx="1535400" cy="2519640"/>
          </a:xfrm>
          <a:prstGeom prst="rect">
            <a:avLst/>
          </a:prstGeom>
          <a:ln w="0">
            <a:noFill/>
          </a:ln>
        </p:spPr>
      </p:pic>
      <p:sp>
        <p:nvSpPr>
          <p:cNvPr id="59" name="WordArt 5"/>
          <p:cNvSpPr txBox="1"/>
          <p:nvPr/>
        </p:nvSpPr>
        <p:spPr>
          <a:xfrm>
            <a:off x="3132000" y="404640"/>
            <a:ext cx="3672000" cy="16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1448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 Black"/>
              </a:rPr>
              <a:t>SOS</a:t>
            </a:r>
            <a:endParaRPr b="0" lang="en-US" sz="1800" spc="1" strike="noStrike">
              <a:ln w="11448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 Black"/>
              <a:ea typeface="Arial Black"/>
            </a:endParaRPr>
          </a:p>
        </p:txBody>
      </p:sp>
      <p:sp>
        <p:nvSpPr>
          <p:cNvPr id="60" name="AutoShape 6"/>
          <p:cNvSpPr/>
          <p:nvPr/>
        </p:nvSpPr>
        <p:spPr>
          <a:xfrm>
            <a:off x="8388360" y="6308640"/>
            <a:ext cx="755640" cy="549360"/>
          </a:xfrm>
          <a:custGeom>
            <a:avLst/>
            <a:gdLst>
              <a:gd name="textAreaLeft" fmla="*/ 35280 w 755640"/>
              <a:gd name="textAreaRight" fmla="*/ 720360 w 75564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9705" h="21600">
                <a:moveTo>
                  <a:pt x="0" y="0"/>
                </a:moveTo>
                <a:lnTo>
                  <a:pt x="29705" y="0"/>
                </a:lnTo>
                <a:lnTo>
                  <a:pt x="29705" y="21600"/>
                </a:lnTo>
                <a:lnTo>
                  <a:pt x="0" y="21600"/>
                </a:lnTo>
                <a:close/>
              </a:path>
              <a:path fill="lightenLess" w="29705" h="21600">
                <a:moveTo>
                  <a:pt x="0" y="0"/>
                </a:moveTo>
                <a:lnTo>
                  <a:pt x="29705" y="0"/>
                </a:lnTo>
                <a:lnTo>
                  <a:pt x="28305" y="1400"/>
                </a:lnTo>
                <a:lnTo>
                  <a:pt x="1400" y="1400"/>
                </a:lnTo>
                <a:close/>
              </a:path>
              <a:path fill="darken" w="29705" h="21600">
                <a:moveTo>
                  <a:pt x="29705" y="0"/>
                </a:moveTo>
                <a:lnTo>
                  <a:pt x="29705" y="21600"/>
                </a:lnTo>
                <a:lnTo>
                  <a:pt x="28305" y="20200"/>
                </a:lnTo>
                <a:lnTo>
                  <a:pt x="28305" y="1400"/>
                </a:lnTo>
                <a:close/>
              </a:path>
              <a:path fill="darkenLess" w="29705" h="21600">
                <a:moveTo>
                  <a:pt x="297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305" y="20200"/>
                </a:lnTo>
                <a:close/>
              </a:path>
              <a:path fill="lighten" w="297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705" h="21600">
                <a:moveTo>
                  <a:pt x="7846" y="10800"/>
                </a:moveTo>
                <a:lnTo>
                  <a:pt x="21859" y="3794"/>
                </a:lnTo>
                <a:lnTo>
                  <a:pt x="21859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4" descr=""/>
          <p:cNvPicPr/>
          <p:nvPr/>
        </p:nvPicPr>
        <p:blipFill>
          <a:blip r:embed="rId1"/>
          <a:stretch/>
        </p:blipFill>
        <p:spPr>
          <a:xfrm>
            <a:off x="-1440" y="0"/>
            <a:ext cx="9145440" cy="6586560"/>
          </a:xfrm>
          <a:prstGeom prst="rect">
            <a:avLst/>
          </a:prstGeom>
          <a:ln w="0">
            <a:noFill/>
          </a:ln>
        </p:spPr>
      </p:pic>
      <p:sp>
        <p:nvSpPr>
          <p:cNvPr id="62" name="AutoShape 5"/>
          <p:cNvSpPr/>
          <p:nvPr/>
        </p:nvSpPr>
        <p:spPr>
          <a:xfrm>
            <a:off x="8388360" y="6381720"/>
            <a:ext cx="755640" cy="476280"/>
          </a:xfrm>
          <a:custGeom>
            <a:avLst/>
            <a:gdLst>
              <a:gd name="textAreaLeft" fmla="*/ 30600 w 755640"/>
              <a:gd name="textAreaRight" fmla="*/ 725040 w 75564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34260" h="21600">
                <a:moveTo>
                  <a:pt x="0" y="0"/>
                </a:moveTo>
                <a:lnTo>
                  <a:pt x="34260" y="0"/>
                </a:lnTo>
                <a:lnTo>
                  <a:pt x="34260" y="21600"/>
                </a:lnTo>
                <a:lnTo>
                  <a:pt x="0" y="21600"/>
                </a:lnTo>
                <a:close/>
              </a:path>
              <a:path fill="lightenLess" w="34260" h="21600">
                <a:moveTo>
                  <a:pt x="0" y="0"/>
                </a:moveTo>
                <a:lnTo>
                  <a:pt x="34260" y="0"/>
                </a:lnTo>
                <a:lnTo>
                  <a:pt x="32860" y="1400"/>
                </a:lnTo>
                <a:lnTo>
                  <a:pt x="1400" y="1400"/>
                </a:lnTo>
                <a:close/>
              </a:path>
              <a:path fill="darken" w="34260" h="21600">
                <a:moveTo>
                  <a:pt x="34260" y="0"/>
                </a:moveTo>
                <a:lnTo>
                  <a:pt x="34260" y="21600"/>
                </a:lnTo>
                <a:lnTo>
                  <a:pt x="32860" y="20200"/>
                </a:lnTo>
                <a:lnTo>
                  <a:pt x="32860" y="1400"/>
                </a:lnTo>
                <a:close/>
              </a:path>
              <a:path fill="darkenLess" w="34260" h="21600">
                <a:moveTo>
                  <a:pt x="3426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860" y="20200"/>
                </a:lnTo>
                <a:close/>
              </a:path>
              <a:path fill="lighten" w="3426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260" h="21600">
                <a:moveTo>
                  <a:pt x="10123" y="3794"/>
                </a:moveTo>
                <a:lnTo>
                  <a:pt x="24136" y="10800"/>
                </a:lnTo>
                <a:lnTo>
                  <a:pt x="1012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58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AutoShape 5"/>
          <p:cNvSpPr/>
          <p:nvPr/>
        </p:nvSpPr>
        <p:spPr>
          <a:xfrm>
            <a:off x="8317080" y="6308640"/>
            <a:ext cx="826920" cy="549360"/>
          </a:xfrm>
          <a:custGeom>
            <a:avLst/>
            <a:gdLst>
              <a:gd name="textAreaLeft" fmla="*/ 35280 w 826920"/>
              <a:gd name="textAreaRight" fmla="*/ 791640 w 82692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32506" h="21600">
                <a:moveTo>
                  <a:pt x="0" y="0"/>
                </a:moveTo>
                <a:lnTo>
                  <a:pt x="32506" y="0"/>
                </a:lnTo>
                <a:lnTo>
                  <a:pt x="32506" y="21600"/>
                </a:lnTo>
                <a:lnTo>
                  <a:pt x="0" y="21600"/>
                </a:lnTo>
                <a:close/>
              </a:path>
              <a:path fill="lightenLess" w="32506" h="21600">
                <a:moveTo>
                  <a:pt x="0" y="0"/>
                </a:moveTo>
                <a:lnTo>
                  <a:pt x="32506" y="0"/>
                </a:lnTo>
                <a:lnTo>
                  <a:pt x="31106" y="1400"/>
                </a:lnTo>
                <a:lnTo>
                  <a:pt x="1400" y="1400"/>
                </a:lnTo>
                <a:close/>
              </a:path>
              <a:path fill="darken" w="32506" h="21600">
                <a:moveTo>
                  <a:pt x="32506" y="0"/>
                </a:moveTo>
                <a:lnTo>
                  <a:pt x="32506" y="21600"/>
                </a:lnTo>
                <a:lnTo>
                  <a:pt x="31106" y="20200"/>
                </a:lnTo>
                <a:lnTo>
                  <a:pt x="31106" y="1400"/>
                </a:lnTo>
                <a:close/>
              </a:path>
              <a:path fill="darkenLess" w="32506" h="21600">
                <a:moveTo>
                  <a:pt x="32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06" y="20200"/>
                </a:lnTo>
                <a:close/>
              </a:path>
              <a:path fill="lighten" w="32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06" h="21600">
                <a:moveTo>
                  <a:pt x="9247" y="10800"/>
                </a:moveTo>
                <a:lnTo>
                  <a:pt x="23260" y="3794"/>
                </a:lnTo>
                <a:lnTo>
                  <a:pt x="23260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Object 9"/>
          <p:cNvGraphicFramePr/>
          <p:nvPr/>
        </p:nvGraphicFramePr>
        <p:xfrm>
          <a:off x="0" y="0"/>
          <a:ext cx="9144000" cy="6237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23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4"/>
          <p:cNvSpPr/>
          <p:nvPr/>
        </p:nvSpPr>
        <p:spPr>
          <a:xfrm>
            <a:off x="900000" y="2133360"/>
            <a:ext cx="4964400" cy="454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                      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 По графику определить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акой процесс изображает график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ля какого вещества составлен график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Что происходит на участке АВ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Что происходит на участке СД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5" descr="img2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0" y="0"/>
            <a:ext cx="6443640" cy="4884840"/>
          </a:xfrm>
          <a:prstGeom prst="rect">
            <a:avLst/>
          </a:prstGeom>
          <a:ln w="0">
            <a:noFill/>
          </a:ln>
        </p:spPr>
      </p:pic>
      <p:sp>
        <p:nvSpPr>
          <p:cNvPr id="69" name="AutoShape 6"/>
          <p:cNvSpPr/>
          <p:nvPr/>
        </p:nvSpPr>
        <p:spPr>
          <a:xfrm>
            <a:off x="8317080" y="6308640"/>
            <a:ext cx="826920" cy="549360"/>
          </a:xfrm>
          <a:custGeom>
            <a:avLst/>
            <a:gdLst>
              <a:gd name="textAreaLeft" fmla="*/ 35280 w 826920"/>
              <a:gd name="textAreaRight" fmla="*/ 791640 w 82692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32506" h="21600">
                <a:moveTo>
                  <a:pt x="0" y="0"/>
                </a:moveTo>
                <a:lnTo>
                  <a:pt x="32506" y="0"/>
                </a:lnTo>
                <a:lnTo>
                  <a:pt x="32506" y="21600"/>
                </a:lnTo>
                <a:lnTo>
                  <a:pt x="0" y="21600"/>
                </a:lnTo>
                <a:close/>
              </a:path>
              <a:path fill="lightenLess" w="32506" h="21600">
                <a:moveTo>
                  <a:pt x="0" y="0"/>
                </a:moveTo>
                <a:lnTo>
                  <a:pt x="32506" y="0"/>
                </a:lnTo>
                <a:lnTo>
                  <a:pt x="31106" y="1400"/>
                </a:lnTo>
                <a:lnTo>
                  <a:pt x="1400" y="1400"/>
                </a:lnTo>
                <a:close/>
              </a:path>
              <a:path fill="darken" w="32506" h="21600">
                <a:moveTo>
                  <a:pt x="32506" y="0"/>
                </a:moveTo>
                <a:lnTo>
                  <a:pt x="32506" y="21600"/>
                </a:lnTo>
                <a:lnTo>
                  <a:pt x="31106" y="20200"/>
                </a:lnTo>
                <a:lnTo>
                  <a:pt x="31106" y="1400"/>
                </a:lnTo>
                <a:close/>
              </a:path>
              <a:path fill="darkenLess" w="32506" h="21600">
                <a:moveTo>
                  <a:pt x="325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106" y="20200"/>
                </a:lnTo>
                <a:close/>
              </a:path>
              <a:path fill="lighten" w="325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506" h="21600">
                <a:moveTo>
                  <a:pt x="9247" y="3794"/>
                </a:moveTo>
                <a:lnTo>
                  <a:pt x="23260" y="10800"/>
                </a:lnTo>
                <a:lnTo>
                  <a:pt x="9247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4"/>
          <p:cNvSpPr/>
          <p:nvPr/>
        </p:nvSpPr>
        <p:spPr>
          <a:xfrm>
            <a:off x="903600" y="2420640"/>
            <a:ext cx="61300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4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         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 графику определить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Что происходит на участке АВ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Что происходит на участке ВС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и какой температуре было начато наблюдение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ля какого вещества составлен график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5" descr="img5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0" y="0"/>
            <a:ext cx="6156360" cy="4660920"/>
          </a:xfrm>
          <a:prstGeom prst="rect">
            <a:avLst/>
          </a:prstGeom>
          <a:ln w="0">
            <a:noFill/>
          </a:ln>
        </p:spPr>
      </p:pic>
      <p:sp>
        <p:nvSpPr>
          <p:cNvPr id="72" name="AutoShape 6"/>
          <p:cNvSpPr/>
          <p:nvPr/>
        </p:nvSpPr>
        <p:spPr>
          <a:xfrm>
            <a:off x="8244000" y="6308640"/>
            <a:ext cx="900000" cy="549360"/>
          </a:xfrm>
          <a:custGeom>
            <a:avLst/>
            <a:gdLst>
              <a:gd name="textAreaLeft" fmla="*/ 35280 w 900000"/>
              <a:gd name="textAreaRight" fmla="*/ 864720 w 90000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35378" h="21600">
                <a:moveTo>
                  <a:pt x="0" y="0"/>
                </a:moveTo>
                <a:lnTo>
                  <a:pt x="35378" y="0"/>
                </a:lnTo>
                <a:lnTo>
                  <a:pt x="35378" y="21600"/>
                </a:lnTo>
                <a:lnTo>
                  <a:pt x="0" y="21600"/>
                </a:lnTo>
                <a:close/>
              </a:path>
              <a:path fill="lightenLess" w="35378" h="21600">
                <a:moveTo>
                  <a:pt x="0" y="0"/>
                </a:moveTo>
                <a:lnTo>
                  <a:pt x="35378" y="0"/>
                </a:lnTo>
                <a:lnTo>
                  <a:pt x="33978" y="1400"/>
                </a:lnTo>
                <a:lnTo>
                  <a:pt x="1400" y="1400"/>
                </a:lnTo>
                <a:close/>
              </a:path>
              <a:path fill="darken" w="35378" h="21600">
                <a:moveTo>
                  <a:pt x="35378" y="0"/>
                </a:moveTo>
                <a:lnTo>
                  <a:pt x="35378" y="21600"/>
                </a:lnTo>
                <a:lnTo>
                  <a:pt x="33978" y="20200"/>
                </a:lnTo>
                <a:lnTo>
                  <a:pt x="33978" y="1400"/>
                </a:lnTo>
                <a:close/>
              </a:path>
              <a:path fill="darkenLess" w="35378" h="21600">
                <a:moveTo>
                  <a:pt x="353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978" y="20200"/>
                </a:lnTo>
                <a:close/>
              </a:path>
              <a:path fill="lighten" w="353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378" h="21600">
                <a:moveTo>
                  <a:pt x="10682" y="10800"/>
                </a:moveTo>
                <a:lnTo>
                  <a:pt x="24695" y="3794"/>
                </a:lnTo>
                <a:lnTo>
                  <a:pt x="24695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7T02:49:17Z</dcterms:created>
  <dc:creator>1</dc:creator>
  <dc:description/>
  <dc:language>en-US</dc:language>
  <cp:lastModifiedBy>АрИН</cp:lastModifiedBy>
  <dcterms:modified xsi:type="dcterms:W3CDTF">2013-11-23T12:24:53Z</dcterms:modified>
  <cp:revision>32</cp:revision>
  <dc:subject/>
  <dc:title>Интегрированный урок  «Физико-математический турнир»</dc:title>
</cp:coreProperties>
</file>