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wmf" ContentType="image/x-wmf"/>
  <Override PartName="/ppt/media/image35.jpeg" ContentType="image/jpeg"/>
  <Override PartName="/ppt/media/image8.jpeg" ContentType="image/jpeg"/>
  <Override PartName="/ppt/media/image32.jpeg" ContentType="image/jpeg"/>
  <Override PartName="/ppt/media/image5.jpeg" ContentType="image/jpeg"/>
  <Override PartName="/ppt/media/image39.wmf" ContentType="image/x-wmf"/>
  <Override PartName="/ppt/media/image31.jpeg" ContentType="image/jpeg"/>
  <Override PartName="/ppt/media/image4.jpeg" ContentType="image/jpeg"/>
  <Override PartName="/ppt/media/image25.jpeg" ContentType="image/jpeg"/>
  <Override PartName="/ppt/media/image40.wmf" ContentType="image/x-wmf"/>
  <Override PartName="/ppt/media/image28.jpeg" ContentType="image/jpeg"/>
  <Override PartName="/ppt/media/image41.jpeg" ContentType="image/jpeg"/>
  <Override PartName="/ppt/media/image43.jpeg" ContentType="image/jpeg"/>
  <Override PartName="/ppt/media/image44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6AE-02CB-4FDA-8BAE-C6BC57D2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0168-708C-4A71-80D4-686C396D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D89-18CF-4383-BA2A-C289B9BD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6AB-13A5-46FC-994A-757B534C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B301-7332-4DC7-815F-73338666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FCB9-F0E3-4504-939F-6C1DCA88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52F7-237C-49D8-BB0E-27FAAF98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213F-CC58-4450-A833-F6644983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8AA5-0CFA-4251-B330-58488C8E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F370-FE39-4749-933E-6FFE3327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6BA2-67D2-4AFD-9B60-616EB7F5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3761-5C1A-4035-B95F-D222E835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D77C-C365-4BFF-A225-62A9EEBF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E118-B92F-4E30-AF11-7E9C8C2F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2A75-D2E3-4199-8CE9-57FC3F64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28D2-DF66-4436-939E-4A6EA4E8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82A0-0597-4BA0-A84B-AE2353FC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CBF58-F8B5-41CF-8FE4-D1F6A0B6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3F8C3-79AA-4960-9296-B00C9866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4FE82-4D18-4E65-A2C1-F94A253D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59895-1199-4EE5-B66F-084D442E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F40F5-75C4-4660-ACCB-15762A77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8CAD-2F37-43D5-8287-17E69368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0270A-DA6D-48DE-BA31-4642D95B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EBDA1-4B3E-4538-BE26-1FF1998D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06506-91F8-448D-B05F-7550C838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34727-CFCD-4CB0-87C5-B39D285C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5C3E6-D44F-490B-90B8-BF18BBA1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7DD97-10C1-4E36-BECC-779A4B45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2C836-3E33-4BD9-B8DD-F4B4BD10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4F73E5-1880-4E0A-B23C-972706AB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39A732-6FAD-4CFD-8DCC-2E8876CF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16F9EB-3837-4843-860D-844FBD0A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E91D-6573-43C4-A21F-16EEEE71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AA7FF-D558-4352-B7C9-E25358FD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4BA2E5-6BBF-428A-B686-89B48FF5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1B2D08-44B3-4163-8FE1-70261856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6B327B-3EB1-482A-8304-184C306B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3F285F-7819-4A2B-9512-7A56DBB8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809AFE-1F85-4F65-AF94-76458AB9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87F201-5BCA-4482-9EC1-A2D5BD85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481E29-1F17-46F7-9C1B-9BD25FFA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263513-EA65-43E3-85F8-359FA808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A00-4CD6-4EEF-A10D-B23A72BD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F72-C795-440F-8038-C433B206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FD4-C86D-477C-B3E5-D00E7378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0BF-82C9-4EDE-B2B4-4A88AEC2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9B3-21AD-42A7-B953-8CFAC42F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7753-2138-4C68-9BD4-6A91AA46C5D1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3827-0CA4-44C5-84B6-857E1C1A0719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E1CF-F648-4948-A639-C47AD77BB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71E8-826D-4D4A-B2C4-8511FF8C4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Tahoma"/>
              </a:rPr>
              <a:t>КУРСОВАЯ РАБОТА </a:t>
            </a:r>
            <a:br>
              <a:rPr sz="5300"/>
            </a:b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071800" y="3885840"/>
            <a:ext cx="5572080" cy="2971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укашевой Валентины Сергеев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дагога-психолог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БДОУ  № 5 "Ивушка"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. Смоленс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3" descr="42d38aef0cc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Изображение 034"/>
          <p:cNvPicPr/>
          <p:nvPr/>
        </p:nvPicPr>
        <p:blipFill>
          <a:blip r:embed="rId2"/>
          <a:stretch/>
        </p:blipFill>
        <p:spPr>
          <a:xfrm>
            <a:off x="6369120" y="3141720"/>
            <a:ext cx="2644560" cy="3527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Изображение 032"/>
          <p:cNvPicPr/>
          <p:nvPr/>
        </p:nvPicPr>
        <p:blipFill>
          <a:blip r:embed="rId3"/>
          <a:stretch/>
        </p:blipFill>
        <p:spPr>
          <a:xfrm>
            <a:off x="250920" y="189000"/>
            <a:ext cx="3743280" cy="2806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Изображение 037"/>
          <p:cNvPicPr/>
          <p:nvPr/>
        </p:nvPicPr>
        <p:blipFill>
          <a:blip r:embed="rId4"/>
          <a:stretch/>
        </p:blipFill>
        <p:spPr>
          <a:xfrm>
            <a:off x="3348000" y="2060640"/>
            <a:ext cx="3254400" cy="24415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9"/>
          <p:cNvSpPr/>
          <p:nvPr/>
        </p:nvSpPr>
        <p:spPr>
          <a:xfrm>
            <a:off x="826920" y="4653000"/>
            <a:ext cx="5040360" cy="223236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Буси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Georgia"/>
              </a:rPr>
              <a:t>             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ffff00"/>
                </a:solidFill>
                <a:latin typeface="Georg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Georgia"/>
              </a:rPr>
              <a:t>                      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«киндеры</a:t>
            </a:r>
            <a:r>
              <a:rPr b="1" i="1" lang="ru-RU" sz="3200" spc="-1" strike="noStrike">
                <a:solidFill>
                  <a:srgbClr val="ffff00"/>
                </a:solidFill>
                <a:latin typeface="Georgia"/>
              </a:rPr>
              <a:t>»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"/>
          <p:cNvPicPr/>
          <p:nvPr/>
        </p:nvPicPr>
        <p:blipFill>
          <a:blip r:embed="rId5"/>
          <a:stretch/>
        </p:blipFill>
        <p:spPr>
          <a:xfrm>
            <a:off x="6804000" y="260280"/>
            <a:ext cx="2057400" cy="15429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86628-Ca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Изображение 042"/>
          <p:cNvPicPr/>
          <p:nvPr/>
        </p:nvPicPr>
        <p:blipFill>
          <a:blip r:embed="rId2"/>
          <a:stretch/>
        </p:blipFill>
        <p:spPr>
          <a:xfrm>
            <a:off x="5292720" y="333360"/>
            <a:ext cx="3541680" cy="2657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Изображение 043"/>
          <p:cNvPicPr/>
          <p:nvPr/>
        </p:nvPicPr>
        <p:blipFill>
          <a:blip r:embed="rId3"/>
          <a:stretch/>
        </p:blipFill>
        <p:spPr>
          <a:xfrm>
            <a:off x="4427640" y="332100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7"/>
          <p:cNvSpPr/>
          <p:nvPr/>
        </p:nvSpPr>
        <p:spPr>
          <a:xfrm>
            <a:off x="395280" y="549360"/>
            <a:ext cx="410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250920" y="404640"/>
            <a:ext cx="424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«Чудо-прищепки», которыми можно «рисовать» картин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4" descr="904e1cb096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214200" y="357120"/>
            <a:ext cx="4786560" cy="62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Дополнительные , специальные занятия особенно нужны де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 плохим развитием речи, так как существует  тесная связь между уровнем развития речи и степенью  развития тонкой мото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2"/>
          <a:stretch/>
        </p:blipFill>
        <p:spPr>
          <a:xfrm>
            <a:off x="5199120" y="4059360"/>
            <a:ext cx="3944880" cy="2798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/>
          <p:cNvPicPr/>
          <p:nvPr/>
        </p:nvPicPr>
        <p:blipFill>
          <a:blip r:embed="rId3"/>
          <a:stretch/>
        </p:blipFill>
        <p:spPr>
          <a:xfrm>
            <a:off x="5867280" y="260280"/>
            <a:ext cx="273708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3" descr="ccf1f74aeff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3"/>
          <p:cNvSpPr/>
          <p:nvPr/>
        </p:nvSpPr>
        <p:spPr>
          <a:xfrm>
            <a:off x="395280" y="40464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В данной презентации представлены лишь некоторые способы использования данных игр и пособий. Но так как   психологи – люди, безусловно творческие, они найдут ещё не мало различных приёмов сделать занятия интересными и творческим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3" descr="904e1cb096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395280" y="620640"/>
            <a:ext cx="85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4000" y="549360"/>
            <a:ext cx="8496000" cy="47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Используемые игры и пособия для развития мелкой моторики при автоматизации звуков стимулируют действие речевых зон коры головного мозга, что положительно сказывается на исправлении дефектов произношения у детей, а также совершенствуют внимание и память, облегчают усвоение навыков письма. Чем больше анализаторов задействовано в коррекционной работе  , тем эффективней её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ВСЕ ПРЕДСТАВЛЕННЫЕ ЗАДАНИЯ ПОЗВОЛЯЮТ ПРЕВРАТИТЬ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азвитие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елкой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оторики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 В УВЛЕКАТЕЛЬНУЮ И ЭМОЦИОНАЛЬНУЮ ИГР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8360" y="1628640"/>
            <a:ext cx="8229600" cy="47088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txBody>
          <a:bodyPr anchor="t">
            <a:normAutofit/>
          </a:bodyPr>
          <a:p>
            <a:pPr marL="669960" indent="-5335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ардышева Г. Ю. Разговорчивые пальчики. – М.: Карапуз , 2002, 18 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уликовская Т. А.Упражнения для пальчиков. - М.: Книголюб, 2004, 20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мофеева Е. Ю.Пальчиковые шаги. – СПб.: Корона –Век, 2007,  25 с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3" descr="9e2e84e23fa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WordArt 6"/>
          <p:cNvSpPr txBox="1"/>
          <p:nvPr/>
        </p:nvSpPr>
        <p:spPr>
          <a:xfrm>
            <a:off x="971640" y="1989000"/>
            <a:ext cx="7272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6147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6147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2941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36" name="WordArt 6"/>
          <p:cNvSpPr txBox="1"/>
          <p:nvPr/>
        </p:nvSpPr>
        <p:spPr>
          <a:xfrm>
            <a:off x="468360" y="333360"/>
            <a:ext cx="792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6147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ВАМ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6147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4" descr="мишка с цветами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8"/>
          <p:cNvSpPr txBox="1"/>
          <p:nvPr/>
        </p:nvSpPr>
        <p:spPr>
          <a:xfrm>
            <a:off x="755640" y="1700280"/>
            <a:ext cx="4248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Развитие </a:t>
            </a:r>
            <a:endParaRPr b="0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мелкой моторики</a:t>
            </a:r>
            <a:endParaRPr b="0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    </a:t>
            </a:r>
            <a:r>
              <a:rPr b="0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в игровых приёмах</a:t>
            </a:r>
            <a:endParaRPr b="0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    </a:t>
            </a:r>
            <a:r>
              <a:rPr b="0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у  дошкольников  . </a:t>
            </a:r>
            <a:endParaRPr b="0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900000" y="5013360"/>
            <a:ext cx="2952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eorg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енировка пальцев рук у ребенка является средством повышения  его интеллекта , развития речи и подготовки его к пись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4" descr="5acee5465fcf.jpg"/>
          <p:cNvPicPr/>
          <p:nvPr/>
        </p:nvPicPr>
        <p:blipFill>
          <a:blip r:embed="rId1"/>
          <a:stretch/>
        </p:blipFill>
        <p:spPr>
          <a:xfrm>
            <a:off x="2858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Изображение 002"/>
          <p:cNvPicPr/>
          <p:nvPr/>
        </p:nvPicPr>
        <p:blipFill>
          <a:blip r:embed="rId2"/>
          <a:stretch/>
        </p:blipFill>
        <p:spPr>
          <a:xfrm>
            <a:off x="1000080" y="3500280"/>
            <a:ext cx="3889440" cy="2918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Изображение 293"/>
          <p:cNvPicPr/>
          <p:nvPr/>
        </p:nvPicPr>
        <p:blipFill>
          <a:blip r:embed="rId3"/>
          <a:stretch/>
        </p:blipFill>
        <p:spPr>
          <a:xfrm>
            <a:off x="5072040" y="428760"/>
            <a:ext cx="3903840" cy="29271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9"/>
          <p:cNvSpPr/>
          <p:nvPr/>
        </p:nvSpPr>
        <p:spPr>
          <a:xfrm>
            <a:off x="357120" y="2143080"/>
            <a:ext cx="424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ыбери флажки с заданным звуком и нанижи на шнуроч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4859280" y="4292640"/>
            <a:ext cx="37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оставь цепочку и придумай предложение с этими картин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250920" y="333360"/>
            <a:ext cx="41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Rockwell Extra Bold"/>
              </a:rPr>
              <a:t>Вот наши помошники на занятия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3" descr="6ae30d947638.jpg"/>
          <p:cNvPicPr/>
          <p:nvPr/>
        </p:nvPicPr>
        <p:blipFill>
          <a:blip r:embed="rId1"/>
          <a:stretch/>
        </p:blipFill>
        <p:spPr>
          <a:xfrm>
            <a:off x="0" y="-268200"/>
            <a:ext cx="9501120" cy="7126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Изображение 008"/>
          <p:cNvPicPr/>
          <p:nvPr/>
        </p:nvPicPr>
        <p:blipFill>
          <a:blip r:embed="rId2"/>
          <a:stretch/>
        </p:blipFill>
        <p:spPr>
          <a:xfrm>
            <a:off x="4716360" y="189000"/>
            <a:ext cx="4297320" cy="3222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Изображение 021"/>
          <p:cNvPicPr/>
          <p:nvPr/>
        </p:nvPicPr>
        <p:blipFill>
          <a:blip r:embed="rId3"/>
          <a:stretch/>
        </p:blipFill>
        <p:spPr>
          <a:xfrm>
            <a:off x="0" y="3429000"/>
            <a:ext cx="5035680" cy="318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Изображение 052"/>
          <p:cNvPicPr/>
          <p:nvPr/>
        </p:nvPicPr>
        <p:blipFill>
          <a:blip r:embed="rId4"/>
          <a:stretch/>
        </p:blipFill>
        <p:spPr>
          <a:xfrm>
            <a:off x="5165640" y="3571920"/>
            <a:ext cx="4318200" cy="29289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9"/>
          <p:cNvSpPr/>
          <p:nvPr/>
        </p:nvSpPr>
        <p:spPr>
          <a:xfrm>
            <a:off x="285840" y="0"/>
            <a:ext cx="3889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от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бабочка крыль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Машет слег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уда она сяд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Не знаем п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1643040" y="1357200"/>
            <a:ext cx="2712960" cy="18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 теперь наш самолё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Отправляется в пол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Вместе с ним мы полет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уть его изобразим</a:t>
            </a: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4788000" y="5084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66"/>
                </a:solidFill>
                <a:latin typeface="Georg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3" descr="dbac0831b9e2.jpg"/>
          <p:cNvPicPr/>
          <p:nvPr/>
        </p:nvPicPr>
        <p:blipFill>
          <a:blip r:embed="rId1"/>
          <a:stretch/>
        </p:blipFill>
        <p:spPr>
          <a:xfrm>
            <a:off x="270000" y="-285840"/>
            <a:ext cx="10017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Изображение 289"/>
          <p:cNvPicPr/>
          <p:nvPr/>
        </p:nvPicPr>
        <p:blipFill>
          <a:blip r:embed="rId2"/>
          <a:stretch/>
        </p:blipFill>
        <p:spPr>
          <a:xfrm>
            <a:off x="0" y="0"/>
            <a:ext cx="3619440" cy="4824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Изображение 159"/>
          <p:cNvPicPr/>
          <p:nvPr/>
        </p:nvPicPr>
        <p:blipFill>
          <a:blip r:embed="rId3"/>
          <a:stretch/>
        </p:blipFill>
        <p:spPr>
          <a:xfrm>
            <a:off x="4932360" y="3645000"/>
            <a:ext cx="3935520" cy="29527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3995640" y="692280"/>
            <a:ext cx="4867200" cy="192348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Казалось бы – обычная манка, а сколько радости и приятных ощущений испытывают дети играя с ней. Здесь тоже можно проявить фантазию и закреплять поставленные звуки игр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post-29302-11811602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Изображение 045"/>
          <p:cNvPicPr/>
          <p:nvPr/>
        </p:nvPicPr>
        <p:blipFill>
          <a:blip r:embed="rId2"/>
          <a:stretch/>
        </p:blipFill>
        <p:spPr>
          <a:xfrm>
            <a:off x="5940360" y="1268280"/>
            <a:ext cx="917640" cy="1224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Изображение 047"/>
          <p:cNvPicPr/>
          <p:nvPr/>
        </p:nvPicPr>
        <p:blipFill>
          <a:blip r:embed="rId3"/>
          <a:stretch/>
        </p:blipFill>
        <p:spPr>
          <a:xfrm>
            <a:off x="6804000" y="907920"/>
            <a:ext cx="919080" cy="1224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Изображение 050"/>
          <p:cNvPicPr/>
          <p:nvPr/>
        </p:nvPicPr>
        <p:blipFill>
          <a:blip r:embed="rId4"/>
          <a:stretch/>
        </p:blipFill>
        <p:spPr>
          <a:xfrm>
            <a:off x="7667640" y="115920"/>
            <a:ext cx="1297080" cy="1728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Изображение 310"/>
          <p:cNvPicPr/>
          <p:nvPr/>
        </p:nvPicPr>
        <p:blipFill>
          <a:blip r:embed="rId5"/>
          <a:stretch/>
        </p:blipFill>
        <p:spPr>
          <a:xfrm>
            <a:off x="179280" y="3141720"/>
            <a:ext cx="2538360" cy="3384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IMG_0161"/>
          <p:cNvPicPr/>
          <p:nvPr/>
        </p:nvPicPr>
        <p:blipFill>
          <a:blip r:embed="rId6"/>
          <a:stretch/>
        </p:blipFill>
        <p:spPr>
          <a:xfrm>
            <a:off x="3059280" y="4149720"/>
            <a:ext cx="3109680" cy="23320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2"/>
          <p:cNvSpPr/>
          <p:nvPr/>
        </p:nvSpPr>
        <p:spPr>
          <a:xfrm>
            <a:off x="1785960" y="17859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lvl="1" marL="45720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Массажёры Су-Джок – «Колючий колобок» и «Чудо валик» ещё одни наши помощник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3" descr="6f8e30428bf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Изображение 260"/>
          <p:cNvPicPr/>
          <p:nvPr/>
        </p:nvPicPr>
        <p:blipFill>
          <a:blip r:embed="rId2"/>
          <a:stretch/>
        </p:blipFill>
        <p:spPr>
          <a:xfrm>
            <a:off x="179280" y="18900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Изображение 266"/>
          <p:cNvPicPr/>
          <p:nvPr/>
        </p:nvPicPr>
        <p:blipFill>
          <a:blip r:embed="rId3"/>
          <a:stretch/>
        </p:blipFill>
        <p:spPr>
          <a:xfrm>
            <a:off x="3276720" y="1952640"/>
            <a:ext cx="2728800" cy="2048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Изображение 325"/>
          <p:cNvPicPr/>
          <p:nvPr/>
        </p:nvPicPr>
        <p:blipFill>
          <a:blip r:embed="rId4"/>
          <a:stretch/>
        </p:blipFill>
        <p:spPr>
          <a:xfrm>
            <a:off x="5219640" y="3716280"/>
            <a:ext cx="3635280" cy="2727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2"/>
          <p:cNvSpPr/>
          <p:nvPr/>
        </p:nvSpPr>
        <p:spPr>
          <a:xfrm>
            <a:off x="4143240" y="571680"/>
            <a:ext cx="43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Все дети любят рисовать! Наши ребята знают, что с карандашами можно ещё и весело игр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428760" y="4572000"/>
            <a:ext cx="44640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роговариваем короткие стихотворения, рифмовки и делаем массажные упражнения</a:t>
            </a:r>
            <a:r>
              <a:rPr b="0" i="1" lang="ru-RU" sz="1800" spc="-1" strike="noStrike">
                <a:solidFill>
                  <a:srgbClr val="0000ff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4" descr="j0439555[3]"/>
          <p:cNvPicPr/>
          <p:nvPr/>
        </p:nvPicPr>
        <p:blipFill>
          <a:blip r:embed="rId5"/>
          <a:stretch/>
        </p:blipFill>
        <p:spPr>
          <a:xfrm>
            <a:off x="7262640" y="1628640"/>
            <a:ext cx="1124280" cy="16416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3" descr="9e2e84e23fa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IMG_0171"/>
          <p:cNvPicPr/>
          <p:nvPr/>
        </p:nvPicPr>
        <p:blipFill>
          <a:blip r:embed="rId2"/>
          <a:stretch/>
        </p:blipFill>
        <p:spPr>
          <a:xfrm>
            <a:off x="5364000" y="189000"/>
            <a:ext cx="3540240" cy="2655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Изображение 274"/>
          <p:cNvPicPr/>
          <p:nvPr/>
        </p:nvPicPr>
        <p:blipFill>
          <a:blip r:embed="rId3"/>
          <a:stretch/>
        </p:blipFill>
        <p:spPr>
          <a:xfrm>
            <a:off x="250920" y="4149720"/>
            <a:ext cx="3305160" cy="2478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Изображение 028"/>
          <p:cNvPicPr/>
          <p:nvPr/>
        </p:nvPicPr>
        <p:blipFill>
          <a:blip r:embed="rId4"/>
          <a:stretch/>
        </p:blipFill>
        <p:spPr>
          <a:xfrm>
            <a:off x="2556000" y="2205000"/>
            <a:ext cx="3612960" cy="27100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8"/>
          <p:cNvSpPr/>
          <p:nvPr/>
        </p:nvSpPr>
        <p:spPr>
          <a:xfrm>
            <a:off x="250920" y="333360"/>
            <a:ext cx="460836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Georgia"/>
              </a:rPr>
              <a:t>Различные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Georgia"/>
              </a:rPr>
              <a:t>                 </a:t>
            </a:r>
            <a:r>
              <a:rPr b="1" i="1" lang="ru-RU" sz="3200" spc="-1" strike="noStrike">
                <a:solidFill>
                  <a:srgbClr val="ffff00"/>
                </a:solidFill>
                <a:latin typeface="Georgia"/>
              </a:rPr>
              <a:t>шнур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5"/>
          <a:stretch/>
        </p:blipFill>
        <p:spPr>
          <a:xfrm>
            <a:off x="6516720" y="4797360"/>
            <a:ext cx="2171520" cy="16383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3:43:33Z</dcterms:created>
  <dc:creator>1</dc:creator>
  <dc:description/>
  <dc:language>en-US</dc:language>
  <cp:lastModifiedBy>Class306a</cp:lastModifiedBy>
  <dcterms:modified xsi:type="dcterms:W3CDTF">2012-11-27T09:57:02Z</dcterms:modified>
  <cp:revision>59</cp:revision>
  <dc:subject/>
  <dc:title>Слайд 1</dc:title>
</cp:coreProperties>
</file>