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A35-2BDB-4E41-A453-F66FCB48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38A-3A9D-4318-B3F7-B88934D9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0F0-86F9-46E0-BA74-45DF10E3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863-19EF-420F-8C6B-86621FB2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940B-6455-430F-B1AD-8668F9A1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F780-250D-45B2-8064-D3C2C168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C897-4C3A-45F2-8B00-9335B068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0B2C-BAFB-46BC-90E5-64D0667C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2153-1CAF-4DFF-8C1B-BB6DF9A5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ED69-7087-4A5F-AF25-41EA0E2B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0749-EB05-40CB-AEBE-1FD0CA7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7BA-5CA3-48D3-BF07-5A65FC76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1056-1192-4BCF-9881-21030B36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A83B-75D7-4540-98E8-0D49F364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609B-6560-45FF-BA03-55800537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A5A3-7538-4240-983B-98A3E0BC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933-2FEC-4DBD-8144-E9D78BCC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058F7-4285-4828-A8F4-4D630FA7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DB1BA-C4B6-4636-A4C2-3D53471E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43510-7D1C-452F-8F3A-66C68B3A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71465-9576-48C6-A674-0F38B861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D00EB-4B4C-4375-9A55-8123249C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6F8-042D-4FA6-B6AA-72320F0E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EC378-12CB-4426-A4F0-5D0CFB5C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0ACCC-C0A3-431F-AFAA-B3E2253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6A1EE-95EB-46BA-8A8C-A29A603E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92062-180B-41FF-B009-B9D43688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1ED1E-4377-46D0-B026-5D3D6301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C8BC1-5137-47B3-BB53-9A4762CB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3DCED-3506-4269-BA41-C98B1AE4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6A4A6-C3C6-4893-B766-045C1D0F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A9FE-2683-486B-BEB5-9C4D0529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EE99-9F05-44E6-A4D0-0724A2A7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E4C-7657-4C0F-B7AD-CAA68018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5E42C-C1ED-4118-AB56-3AF4253A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D73F-94E2-4649-9613-5A1E4241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522C-9EE7-4830-BE5F-70B53170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E607-9887-4FA3-BF13-F38C21D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E5FD-A2CC-4B40-95F8-D8DFAE28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AD30-2027-4553-BAAB-571ED038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94DD-8D5D-4533-89E8-6B28354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BDF38-C1D9-48DD-82B4-E6FA4675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0CEF4-BCFE-447B-A05B-6409424C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370-F6EF-425E-98FE-2373AA10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4D6-980F-4255-B89E-B098B805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9D0-B285-4DCE-9286-294D51CB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9AF-0AE6-4107-8867-B6114FB1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879-DD01-416E-A96D-4256D048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BACE-7E9F-4C03-A1EA-993EFBA7B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903-1C7A-4ECC-874F-6A6939C1A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BEE-9759-42E8-ABB4-1E5C226E98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5426-9F00-4DEF-AF56-A9D3FFF9E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image" Target="../media/image24.jpeg"/><Relationship Id="rId28" Type="http://schemas.openxmlformats.org/officeDocument/2006/relationships/image" Target="../media/image24.jpeg"/><Relationship Id="rId29" Type="http://schemas.openxmlformats.org/officeDocument/2006/relationships/image" Target="../media/image24.jpeg"/><Relationship Id="rId30" Type="http://schemas.openxmlformats.org/officeDocument/2006/relationships/image" Target="../media/image24.jpeg"/><Relationship Id="rId31" Type="http://schemas.openxmlformats.org/officeDocument/2006/relationships/image" Target="../media/image24.jpeg"/><Relationship Id="rId32" Type="http://schemas.openxmlformats.org/officeDocument/2006/relationships/image" Target="../media/image24.jpeg"/><Relationship Id="rId33" Type="http://schemas.openxmlformats.org/officeDocument/2006/relationships/image" Target="../media/image24.jpeg"/><Relationship Id="rId34" Type="http://schemas.openxmlformats.org/officeDocument/2006/relationships/image" Target="../media/image24.jpeg"/><Relationship Id="rId35" Type="http://schemas.openxmlformats.org/officeDocument/2006/relationships/image" Target="../media/image24.jpeg"/><Relationship Id="rId36" Type="http://schemas.openxmlformats.org/officeDocument/2006/relationships/image" Target="../media/image24.jpeg"/><Relationship Id="rId3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86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2734920" cy="3529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156360" y="1197000"/>
            <a:ext cx="2303280" cy="25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692280"/>
          <a:ext cx="8353440" cy="5413320"/>
        </p:xfrm>
        <a:graphic>
          <a:graphicData uri="http://schemas.openxmlformats.org/drawingml/2006/table">
            <a:tbl>
              <a:tblPr/>
              <a:tblGrid>
                <a:gridCol w="2232000"/>
                <a:gridCol w="936720"/>
                <a:gridCol w="1008000"/>
                <a:gridCol w="936720"/>
                <a:gridCol w="1295280"/>
                <a:gridCol w="1944720"/>
              </a:tblGrid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кор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сте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лист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Разм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Особенности жизнедеятель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06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водорос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спор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Живут в во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мх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спор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Живут в сырых мес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папорот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спор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Не имеют цвет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хвой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в виде иго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семе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Почти все вечнозелё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цветк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семе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d1746"/>
                          </a:solidFill>
                          <a:latin typeface="Times New Roman"/>
                        </a:rPr>
                        <a:t>разнообразны и многочислен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2400" y="457200"/>
            <a:ext cx="7407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хание и 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0" descr="2 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952880" y="1600200"/>
            <a:ext cx="3733920" cy="4419720"/>
          </a:xfrm>
          <a:prstGeom prst="rect">
            <a:avLst/>
          </a:prstGeom>
          <a:ln w="38160">
            <a:solidFill>
              <a:srgbClr val="dbdb00"/>
            </a:solidFill>
            <a:miter/>
          </a:ln>
        </p:spPr>
      </p:pic>
      <p:pic>
        <p:nvPicPr>
          <p:cNvPr id="263" name="Picture 20" descr="2 015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32360" y="1628640"/>
            <a:ext cx="3733920" cy="4419720"/>
          </a:xfrm>
          <a:prstGeom prst="rect">
            <a:avLst/>
          </a:prstGeom>
          <a:ln w="38160">
            <a:solidFill>
              <a:srgbClr val="dbdb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Правила написания синквейна Синквейн состоит из 5 строк; Его форма напоминает ёл"/>
          <p:cNvPicPr/>
          <p:nvPr/>
        </p:nvPicPr>
        <p:blipFill>
          <a:blip r:embed="rId1"/>
          <a:stretch/>
        </p:blipFill>
        <p:spPr>
          <a:xfrm>
            <a:off x="900000" y="620640"/>
            <a:ext cx="741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4b0"/>
                </a:solidFill>
                <a:latin typeface="Arial Black"/>
              </a:rPr>
              <a:t>Растения – </a:t>
            </a:r>
            <a:br>
              <a:rPr sz="4000"/>
            </a:br>
            <a:r>
              <a:rPr b="1" lang="en-US" sz="4000" spc="-1" strike="noStrike">
                <a:solidFill>
                  <a:srgbClr val="b004b0"/>
                </a:solidFill>
                <a:latin typeface="Arial Black"/>
              </a:rPr>
              <a:t>зелёная одежда Земли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08" name="Picture 12" descr="1922026L"/>
          <p:cNvPicPr/>
          <p:nvPr/>
        </p:nvPicPr>
        <p:blipFill>
          <a:blip r:embed="rId1"/>
          <a:stretch/>
        </p:blipFill>
        <p:spPr>
          <a:xfrm>
            <a:off x="2916360" y="2492280"/>
            <a:ext cx="3286080" cy="218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0447061L"/>
          <p:cNvPicPr/>
          <p:nvPr/>
        </p:nvPicPr>
        <p:blipFill>
          <a:blip r:embed="rId2"/>
          <a:stretch/>
        </p:blipFill>
        <p:spPr>
          <a:xfrm>
            <a:off x="5791320" y="4343400"/>
            <a:ext cx="26794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19280" y="692280"/>
            <a:ext cx="5761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4360" y="3357720"/>
            <a:ext cx="755964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ни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04b0"/>
                </a:solidFill>
                <a:latin typeface="Arial Black"/>
              </a:rPr>
              <a:t>Разнообразие растени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7280" y="3500280"/>
            <a:ext cx="2016000" cy="1224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547640" y="2781360"/>
            <a:ext cx="2087640" cy="122400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доро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4653000"/>
            <a:ext cx="1871640" cy="115236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1989000"/>
            <a:ext cx="2160720" cy="107964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порот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3640" y="2708280"/>
            <a:ext cx="2016000" cy="115236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4581360"/>
            <a:ext cx="2305080" cy="1152720"/>
          </a:xfrm>
          <a:prstGeom prst="ellipse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ветк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03640" y="3213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12000" y="3644640"/>
            <a:ext cx="431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4365720"/>
            <a:ext cx="50472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779640" y="4508640"/>
            <a:ext cx="4316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635280" y="3645000"/>
            <a:ext cx="43200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Обитают в в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Нет кор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Нет стебл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Нет лист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Нет цвет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Нет пл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384720" cy="2665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340000" y="4581360"/>
            <a:ext cx="2592360" cy="2016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50920" y="4653000"/>
            <a:ext cx="2305080" cy="1942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908000" y="404640"/>
            <a:ext cx="5399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c5851"/>
                  </a:solidFill>
                  <a:miter/>
                </a:ln>
                <a:solidFill>
                  <a:srgbClr val="1c5851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оросли</a:t>
            </a:r>
            <a:endParaRPr b="0" lang="en-US" sz="1800" spc="1" strike="noStrike">
              <a:ln w="9360">
                <a:solidFill>
                  <a:srgbClr val="1c5851"/>
                </a:solidFill>
                <a:miter/>
              </a:ln>
              <a:solidFill>
                <a:srgbClr val="1c5851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Растут во влаж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Имеют стебли и лис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Нет кор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Нет цвет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851"/>
                </a:solidFill>
                <a:latin typeface="Arial"/>
              </a:rPr>
              <a:t>Нет плод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160360" cy="2013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348000" y="1773360"/>
            <a:ext cx="792360" cy="1571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979640" y="3357720"/>
            <a:ext cx="2521080" cy="1428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2592720" cy="18608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987640" y="476280"/>
            <a:ext cx="31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c5851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хи</a:t>
            </a:r>
            <a:endParaRPr b="0" lang="en-US" sz="1800" spc="1" strike="noStrike">
              <a:ln w="0">
                <a:noFill/>
              </a:ln>
              <a:solidFill>
                <a:srgbClr val="1c5851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385120" cy="1441440"/>
          </a:xfrm>
          <a:prstGeom prst="rect">
            <a:avLst/>
          </a:prstGeom>
          <a:noFill/>
          <a:ln w="9360">
            <a:solidFill>
              <a:srgbClr val="1c5851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Име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ор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те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Лист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т цветков и пл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588000" y="479736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2552760" cy="1428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564000" y="4724280"/>
            <a:ext cx="2600280" cy="1428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2381400" cy="1428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403280" y="404640"/>
            <a:ext cx="597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c5851"/>
                  </a:solidFill>
                  <a:miter/>
                </a:ln>
                <a:solidFill>
                  <a:srgbClr val="1c585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поротники</a:t>
            </a:r>
            <a:endParaRPr b="0" lang="en-US" sz="1800" spc="1" strike="noStrike">
              <a:ln w="12600">
                <a:solidFill>
                  <a:srgbClr val="1c5851"/>
                </a:solidFill>
                <a:miter/>
              </a:ln>
              <a:solidFill>
                <a:srgbClr val="1c585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00360" y="19159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Име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ор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те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Листья (хвоин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т цветков и пл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емена созревают в шиш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1230480" cy="1729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1655640" cy="2089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763640" y="40464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вой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1164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меют все ча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Кор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Стеб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Лис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Цве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пл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449800" cy="2017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2305080" cy="1944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476360" y="404640"/>
            <a:ext cx="561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ветк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7:36:13Z</dcterms:created>
  <dc:creator>ЧИБИС</dc:creator>
  <dc:description/>
  <dc:language>en-US</dc:language>
  <cp:lastModifiedBy>ЧИБИС</cp:lastModifiedBy>
  <dcterms:modified xsi:type="dcterms:W3CDTF">2013-11-14T18:58:29Z</dcterms:modified>
  <cp:revision>3</cp:revision>
  <dc:subject/>
  <dc:title>Слайд 1</dc:title>
</cp:coreProperties>
</file>