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4.wmf" ContentType="image/x-wmf"/>
  <Override PartName="/ppt/media/image25.wmf" ContentType="image/x-wmf"/>
  <Override PartName="/ppt/media/image23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18.wmf" ContentType="image/x-wmf"/>
  <Override PartName="/ppt/media/image16.wmf" ContentType="image/x-wmf"/>
  <Override PartName="/ppt/media/image15.jpeg" ContentType="image/jpeg"/>
  <Override PartName="/ppt/media/image6.png" ContentType="image/png"/>
  <Override PartName="/ppt/media/image14.wmf" ContentType="image/x-wmf"/>
  <Override PartName="/ppt/media/image26.gif" ContentType="image/gif"/>
  <Override PartName="/ppt/media/image3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ACB-B500-4367-A30B-5B9A6071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960-3E14-4505-8AB1-7F5E416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3C8-19DC-4445-B483-484C7ED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080-381C-4CEF-ABE6-80A9EB3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B86-C968-4BB5-B918-CFFC7EA2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97C0-AE7C-4629-850A-B2AB9DA8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A98E-0805-4F9D-BC0A-0B313AF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B0A0-5DED-4B24-848A-F80B7D69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1DB-3617-473F-9BAF-8542B317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26C-C9D6-4AC0-91CF-B32661B7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17EF-EEE2-4E69-B174-E5FF1FE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063-80EC-403F-A908-8A93E50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5DB-AC99-439C-A242-E2597D4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492E-ADB4-4251-8E1F-E53FDE0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B73-D66E-4314-B23F-A127F32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DABA-52CD-41FA-91E1-2FF2A254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7171-B81B-4D42-843B-81621B99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DDE4-EC74-4C65-B9E5-D674C551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0A56-477E-4916-B861-7A9D79D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D834-EDE9-451A-BE5F-CE0C555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8D72-BE8E-4C33-A7E0-FA5F1A4E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E61E-B212-4B1A-B39C-576C74D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7F1-AAC2-4423-9D6E-DB12BC94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E05C-9142-4506-B6C9-A1BC397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1002-5EEF-484A-93C4-D298518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58E7-356C-4D1E-A56F-452DC62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8867-FECC-4B5C-8331-57B9DD43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8536-BA74-4607-A4C8-EC2223E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B08B-C77E-46AB-BDF2-25DF9E36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9ED4-5E3F-4904-83D8-14AB48BE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F5C7-64F4-4137-8646-91DC66F0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6F1A-DC82-4392-92C6-5F789E9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94C9-E79F-4AA9-8236-70B23001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C9B-CC81-4ED0-9580-101D122B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35A7-2A1F-4A7F-BA88-80A95CB7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4785-FFEA-41EB-B6DF-4F05F4B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203D-0998-4742-9CF6-A643CF21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9500-D220-43A1-9CF7-5AF73176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F643-2229-4A5E-92F0-BE729F85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71C9-4444-4E44-982A-2F40CC3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1C26-C1CE-403F-AE6A-E939CB4C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EA8C-9BF9-44BC-AD13-92F0496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94DE-D858-47A0-944B-817F482A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E86-2969-428E-8AEA-4091DBCD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8D4-3FB2-4A32-A470-5F58CAB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180-9C1D-4DC9-B773-D42D50E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FDA-F6BE-4081-A1C1-A38083A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399-B31B-4649-B174-58551E3D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53F-227B-4582-A4F9-58568144DA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C8EC-3918-424C-BB94-24D8FE165AE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B365-5D3B-4BED-9D4E-6A64034FB4A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497-BAE6-464F-8DFC-90D012DFEE9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46144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втор: Литвиненко И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английского языка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СОШ№20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D:\Мои документы\Мои рисунки\imagesCATNAWFD.jpg"/>
          <p:cNvPicPr/>
          <p:nvPr/>
        </p:nvPicPr>
        <p:blipFill>
          <a:blip r:embed="rId2"/>
          <a:stretch/>
        </p:blipFill>
        <p:spPr>
          <a:xfrm>
            <a:off x="500040" y="3500280"/>
            <a:ext cx="310032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d0d0d"/>
                </a:solidFill>
                <a:latin typeface="Calibri"/>
              </a:rPr>
              <a:t>Идиомы «в цвете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2214360"/>
            <a:ext cx="804384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2f2f2"/>
                </a:solidFill>
                <a:latin typeface="Constantia"/>
              </a:rPr>
              <a:t>Идиомо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зывают устойчивый оборот речи, который присущ только данному конкретному языку, и на другие языки не переводится. Синонимами идиомы – фразеологический оборот, фразеологиз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D:\Мои документы\Мои рисунки\Рисунок1.gif"/>
          <p:cNvPicPr/>
          <p:nvPr/>
        </p:nvPicPr>
        <p:blipFill>
          <a:blip r:embed="rId2"/>
          <a:stretch/>
        </p:blipFill>
        <p:spPr>
          <a:xfrm>
            <a:off x="6138720" y="4357800"/>
            <a:ext cx="26607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B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2680" y="1428480"/>
            <a:ext cx="7086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s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люз. Это спокойная, даже печальная музы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ue devils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ндра,  меланхол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I am feeling bl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значает, что человеку груст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lue law – это закон, обусловленный религией или традициями, который обязывает человека соблюдать некие моральные принципы в определенных ситуац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nce in a blue mo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йне редко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3" descr="BD07831_.WMF"/>
          <p:cNvPicPr/>
          <p:nvPr/>
        </p:nvPicPr>
        <p:blipFill>
          <a:blip r:embed="rId1"/>
          <a:stretch/>
        </p:blipFill>
        <p:spPr>
          <a:xfrm rot="858000">
            <a:off x="6453000" y="-186840"/>
            <a:ext cx="2896920" cy="2867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D:\Мои документы\Мои рисунки\Рисунок8.gif"/>
          <p:cNvPicPr/>
          <p:nvPr/>
        </p:nvPicPr>
        <p:blipFill>
          <a:blip r:embed="rId2"/>
          <a:stretch/>
        </p:blipFill>
        <p:spPr>
          <a:xfrm>
            <a:off x="0" y="4282920"/>
            <a:ext cx="17859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Gre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3840" y="2714400"/>
            <a:ext cx="403884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hey have green finger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одних людей дома и на огороде все очень быстро зеленеет, а у других при таких же усилиях – нет. Про таких, кто быстро находит общий язык с растительным миро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57840" y="428400"/>
            <a:ext cx="403848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to be green with envy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еленеть от зави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en-eyed monster 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е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4" descr="D:\Мои документы\Мои рисунки\9.jpg"/>
          <p:cNvPicPr/>
          <p:nvPr/>
        </p:nvPicPr>
        <p:blipFill>
          <a:blip r:embed="rId1"/>
          <a:stretch/>
        </p:blipFill>
        <p:spPr>
          <a:xfrm>
            <a:off x="3143160" y="64296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Program Files\Microsoft Office\CLIPART\PUB60COR\PE00013_.WMF"/>
          <p:cNvPicPr/>
          <p:nvPr/>
        </p:nvPicPr>
        <p:blipFill>
          <a:blip r:embed="rId2"/>
          <a:stretch/>
        </p:blipFill>
        <p:spPr>
          <a:xfrm>
            <a:off x="5572080" y="3286080"/>
            <a:ext cx="2214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19000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Re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7120" y="1357200"/>
            <a:ext cx="557208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's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red letter da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morrow in the company. It's our fiftieth birthday!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 red letter day 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здн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in the red –погрязнуть в долг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4214880"/>
            <a:ext cx="403848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Red Herrin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значает что-то отвлекающее внимание людей от основной тем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3" descr="FD00296_.WMF"/>
          <p:cNvPicPr/>
          <p:nvPr/>
        </p:nvPicPr>
        <p:blipFill>
          <a:blip r:embed="rId1"/>
          <a:stretch/>
        </p:blipFill>
        <p:spPr>
          <a:xfrm>
            <a:off x="5572080" y="1071720"/>
            <a:ext cx="3141720" cy="2428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AG00021_.GIF"/>
          <p:cNvPicPr/>
          <p:nvPr/>
        </p:nvPicPr>
        <p:blipFill>
          <a:blip r:embed="rId2"/>
          <a:stretch/>
        </p:blipFill>
        <p:spPr>
          <a:xfrm>
            <a:off x="1000080" y="4071960"/>
            <a:ext cx="17146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Whi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ite li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ожь, которая приводит к личной выг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ite elephant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рогостоящее приобретение, не приносящее пользы, но требующее больших затрат на содержани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3" descr="SO00183_.WMF"/>
          <p:cNvPicPr/>
          <p:nvPr/>
        </p:nvPicPr>
        <p:blipFill>
          <a:blip r:embed="rId1"/>
          <a:stretch/>
        </p:blipFill>
        <p:spPr>
          <a:xfrm>
            <a:off x="5267160" y="3627360"/>
            <a:ext cx="31338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4"/>
          <p:cNvSpPr/>
          <p:nvPr/>
        </p:nvSpPr>
        <p:spPr>
          <a:xfrm>
            <a:off x="285840" y="64296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 фразеологизмов представляет собой дополнительный источник страноведческих знаний. Приобщение к культуре страны изучаемого языка дает учащимся ощущение сопричастности к другому на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D:\Мои документы\Мои рисунки\Рисунок7.gif"/>
          <p:cNvPicPr/>
          <p:nvPr/>
        </p:nvPicPr>
        <p:blipFill>
          <a:blip r:embed="rId1"/>
          <a:stretch/>
        </p:blipFill>
        <p:spPr>
          <a:xfrm>
            <a:off x="357120" y="3025800"/>
            <a:ext cx="81439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786040" y="856800"/>
            <a:ext cx="5657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Фразеология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– ( греч. Phrases – выражение + logos – учение ) -   наука о сложных по составу языковых   единицах, имеющих устойчивый характер:   вверх тормашками, попасть впросак, кот   наплака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D:\Мои документы\Мои рисунки\imagesCA0LISN1.jpg"/>
          <p:cNvPicPr/>
          <p:nvPr/>
        </p:nvPicPr>
        <p:blipFill>
          <a:blip r:embed="rId1"/>
          <a:stretch/>
        </p:blipFill>
        <p:spPr>
          <a:xfrm>
            <a:off x="285840" y="192888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28760" y="214200"/>
            <a:ext cx="85010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Фразеологизм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фразеологическая единица, идиома,   устойчивое сочетание слов, которое   характеризуется постоянным лексическим   составом, грамматическим строением и   известным носителям данного языка   значением ( в большинстве случаев –  переносно-образным), не выводимым из   значения составляющих фразеологизм   компон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5" descr="D:\Мои документы\Мои рисунки\Рисунок6.gif"/>
          <p:cNvPicPr/>
          <p:nvPr/>
        </p:nvPicPr>
        <p:blipFill>
          <a:blip r:embed="rId1"/>
          <a:stretch/>
        </p:blipFill>
        <p:spPr>
          <a:xfrm>
            <a:off x="1785960" y="3571920"/>
            <a:ext cx="5357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2"/>
          <a:stretch/>
        </p:blipFill>
        <p:spPr>
          <a:xfrm>
            <a:off x="-85680" y="2097000"/>
            <a:ext cx="7991280" cy="4194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Program Files\Microsoft Office\CLIPART\PUB60COR\BL00524_.WMF"/>
          <p:cNvPicPr/>
          <p:nvPr/>
        </p:nvPicPr>
        <p:blipFill>
          <a:blip r:embed="rId3"/>
          <a:stretch/>
        </p:blipFill>
        <p:spPr>
          <a:xfrm>
            <a:off x="6000840" y="428760"/>
            <a:ext cx="260964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3" descr="photoreport_124_4866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Фразеологические единицы, отражающие традиции и обычаи английского народа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2643120"/>
            <a:ext cx="790092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aker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 dozen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чертова дюжина. (по старинному английскому обычаю, торговцы хлебом получали от булочников 13 хлебов вместо 12, причем 13-й шел в счет дохода торговцев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good vine needs no bush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«хорошее вино не нуждается в ярлыке» - хороший товар сам себя хвалит. (По старинному обычаю, трактирщики вывешивали ветки плюща в знак того, что в продаже имеется вино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разеологические единицы, связанные с  английскими реалиям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2499840"/>
            <a:ext cx="81867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 carry coal to Newcastl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 «возить уголь в Ньюкасл» т.е. возить что-то туда, где этого и так достаточно. Ньюкасл – центр английской угольной промышленности. Ср. ехать в Тулу со своим самова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TR00232_.WMF"/>
          <p:cNvPicPr/>
          <p:nvPr/>
        </p:nvPicPr>
        <p:blipFill>
          <a:blip r:embed="rId1"/>
          <a:stretch/>
        </p:blipFill>
        <p:spPr>
          <a:xfrm>
            <a:off x="6357960" y="4143240"/>
            <a:ext cx="2541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именами английских писателей, ученых, королей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0" y="300024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 связанные с поверьям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3214800"/>
            <a:ext cx="4040280" cy="3146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Tom</a:t>
            </a: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Dick and Harry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всякие, каждый, первый встречны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3280" y="4428720"/>
            <a:ext cx="4043520" cy="19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Black sheep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паршивая овца, позор в семье. (По преданию, черная овца была отмечена печатью дьявола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астрологи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86200" y="2928600"/>
            <a:ext cx="4114800" cy="142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взятые из сказок и басе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3214800"/>
            <a:ext cx="4140360" cy="3146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Be born under lucky star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родиться под счастливой звездо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3280" y="4428720"/>
            <a:ext cx="4043520" cy="193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orrowed plumes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ворона в павлиных перь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5" descr="J0196358.WMF"/>
          <p:cNvPicPr/>
          <p:nvPr/>
        </p:nvPicPr>
        <p:blipFill>
          <a:blip r:embed="rId1"/>
          <a:stretch/>
        </p:blipFill>
        <p:spPr>
          <a:xfrm>
            <a:off x="428760" y="4572000"/>
            <a:ext cx="1793880" cy="1833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NA01358_.WMF"/>
          <p:cNvPicPr/>
          <p:nvPr/>
        </p:nvPicPr>
        <p:blipFill>
          <a:blip r:embed="rId2"/>
          <a:stretch/>
        </p:blipFill>
        <p:spPr>
          <a:xfrm>
            <a:off x="6589800" y="214200"/>
            <a:ext cx="2554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3997440" cy="16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преда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0" y="857160"/>
            <a:ext cx="4114800" cy="16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Фразеологические единицы, связанные с историческими фак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514600"/>
            <a:ext cx="4040280" cy="12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Have kissed the Blarney ston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быть льстец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As well be hanged for a sheep as lamb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если уж суждено быть повешенным за овцу, то почему бы не украсть заодно и ягненка. (Отголосок старого английского закона, по которому кража овцы каралась смертной казнью через повешенье.)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Microsoft Office\CLIPART\PUB60COR\SO00212_.WMF"/>
          <p:cNvPicPr/>
          <p:nvPr/>
        </p:nvPicPr>
        <p:blipFill>
          <a:blip r:embed="rId1"/>
          <a:stretch/>
        </p:blipFill>
        <p:spPr>
          <a:xfrm>
            <a:off x="714240" y="3389400"/>
            <a:ext cx="3326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4:45:22Z</dcterms:created>
  <dc:creator>User</dc:creator>
  <dc:description/>
  <dc:language>en-US</dc:language>
  <cp:lastModifiedBy>User</cp:lastModifiedBy>
  <dcterms:modified xsi:type="dcterms:W3CDTF">2013-11-24T21:11:34Z</dcterms:modified>
  <cp:revision>38</cp:revision>
  <dc:subject/>
  <dc:title>Слайд 1</dc:title>
</cp:coreProperties>
</file>