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27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7.wmf" ContentType="image/x-wmf"/>
  <Override PartName="/ppt/media/image13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4.wmf" ContentType="image/x-wmf"/>
  <Override PartName="/ppt/media/image25.wmf" ContentType="image/x-wmf"/>
  <Override PartName="/ppt/media/image23.jpeg" ContentType="image/jpeg"/>
  <Override PartName="/ppt/media/image22.png" ContentType="image/png"/>
  <Override PartName="/ppt/media/image21.wmf" ContentType="image/x-wmf"/>
  <Override PartName="/ppt/media/image1.jpeg" ContentType="image/jpeg"/>
  <Override PartName="/ppt/media/image18.wmf" ContentType="image/x-wmf"/>
  <Override PartName="/ppt/media/image16.wmf" ContentType="image/x-wmf"/>
  <Override PartName="/ppt/media/image15.jpeg" ContentType="image/jpeg"/>
  <Override PartName="/ppt/media/image6.png" ContentType="image/png"/>
  <Override PartName="/ppt/media/image14.wmf" ContentType="image/x-wmf"/>
  <Override PartName="/ppt/media/image26.gif" ContentType="image/gif"/>
  <Override PartName="/ppt/media/image3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8106-B505-41E2-8831-731E9CEFE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B9FF-15E9-42A5-BF08-55957D5D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2AF3-54CA-41A2-B0EE-1D86C9AE2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DF21-565D-4D83-9999-56C0DB13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97BC-9BD1-4321-AEAB-4F1834FE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B9C2-952C-43A9-84B2-B1D4A7D9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7D26-2B54-4378-874D-FA6FD50D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0566-3C8E-4371-8799-88C29545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CCF6-038A-450A-9565-A01D79EE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B62D-0DF3-4190-874E-644F7B05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B7BF-77F7-4D0F-B62C-FDBA7DDE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A034-9CD5-47E3-A457-38BCE7C8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9E48-9922-4968-BE0E-59B730C6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315B-7D04-4AF9-B2D0-71688B42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611F-FEBC-4A76-907A-5B5B6C84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8759-771C-4E22-A1B6-CAE978D50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5A6F-936B-46F8-B4CA-187A4A51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64F60-44F5-45AE-BA7B-C8F91AA18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E8E06-02AF-4935-BCC5-E843FFED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BAD87-4B24-4169-BB16-6B4F126A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1DAC6-CE24-458A-A924-3FFC9BFF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4AF3B-C47C-423B-B4AC-0AE65CF4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469F-2295-4A9A-8D90-EE061F85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2E5F2-393C-4C02-B4F9-0012F97D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61ABB-0161-4FF4-8D63-A0277C1A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D15BC-5459-403B-9595-723983CD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6294A-0EE0-4E0C-8273-05504A47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D8B72-B687-4BDA-AFC2-3CEAFBDA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548BD-4682-44B4-AC36-AF18E373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5A681-38B7-4174-8E55-3AA861C8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A70A6-1A68-4C44-892C-40312B9EA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EBB52-DC95-4761-82F8-7F27E857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A5902-3513-4434-95BF-DC13A990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044F-D006-4B3E-B404-72E1DB4B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42A3F-65F4-42E2-B1DD-61A3A1BB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E5F6F-ACE2-4997-9E5D-38AD638D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14978-1382-4F69-9E86-6E4A3657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B3025-1118-4296-92B8-0A254F4A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413B4-62F1-4617-87B8-38F559AC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80E39-088E-42A6-983D-EE66A094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4B543-7916-4EAB-8970-DF5FD3F8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1831C-E70C-4B09-A74D-88F45924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897E0-7B45-43A7-A538-666E8D74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0EC6-E12C-42B7-90E0-50D098C8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0425-8A15-4423-A6F4-F690F32F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A97D-148F-4E65-97FE-D1FC994D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56B2-B543-4416-847C-8C515A06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C98B-F5BC-4D4B-A41E-2FCFE67E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5241-9294-43A0-953C-A817C6B66BC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3405-E8DD-43E6-962F-F28BF78BD15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540B-05A3-41D3-A874-A8A250DE08B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EFE2-CCE4-44B2-A92E-185287AB6AC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87440" y="701640"/>
            <a:ext cx="8461440" cy="2559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Автор: Литвиненко И.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читель английского языка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БОУ СОШ№20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6" descr="D:\Мои документы\Мои рисунки\imagesCATNAWFD.jpg"/>
          <p:cNvPicPr/>
          <p:nvPr/>
        </p:nvPicPr>
        <p:blipFill>
          <a:blip r:embed="rId2"/>
          <a:stretch/>
        </p:blipFill>
        <p:spPr>
          <a:xfrm>
            <a:off x="500040" y="3500280"/>
            <a:ext cx="310032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d0d0d"/>
                </a:solidFill>
                <a:latin typeface="Calibri"/>
              </a:rPr>
              <a:t>Идиомы «в цвете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57120" y="2214360"/>
            <a:ext cx="804384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2f2f2"/>
                </a:solidFill>
                <a:latin typeface="Constantia"/>
              </a:rPr>
              <a:t>Идиомой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называют устойчивый оборот речи, который присущ только данному конкретному языку, и на другие языки не переводится. Синонимами идиомы – фразеологический оборот, фразеологиз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4" descr="D:\Мои документы\Мои рисунки\Рисунок1.gif"/>
          <p:cNvPicPr/>
          <p:nvPr/>
        </p:nvPicPr>
        <p:blipFill>
          <a:blip r:embed="rId2"/>
          <a:stretch/>
        </p:blipFill>
        <p:spPr>
          <a:xfrm>
            <a:off x="6138720" y="4357800"/>
            <a:ext cx="266076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729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BLU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642680" y="1428480"/>
            <a:ext cx="7086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lues -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люз. Это спокойная, даже печальная музыка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lue devils -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хандра,  меланхол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I am feeling blu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-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означает, что человеку грустн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Blue law – это закон, обусловленный религией или традициями, который обязывает человека соблюдать некие моральные принципы в определенных ситуация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Once in a blue mo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райне редко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Рисунок 3" descr="BD07831_.WMF"/>
          <p:cNvPicPr/>
          <p:nvPr/>
        </p:nvPicPr>
        <p:blipFill>
          <a:blip r:embed="rId1"/>
          <a:stretch/>
        </p:blipFill>
        <p:spPr>
          <a:xfrm rot="858000">
            <a:off x="6453000" y="-186840"/>
            <a:ext cx="2896920" cy="28670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D:\Мои документы\Мои рисунки\Рисунок8.gif"/>
          <p:cNvPicPr/>
          <p:nvPr/>
        </p:nvPicPr>
        <p:blipFill>
          <a:blip r:embed="rId2"/>
          <a:stretch/>
        </p:blipFill>
        <p:spPr>
          <a:xfrm>
            <a:off x="0" y="4282920"/>
            <a:ext cx="178596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1828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Gree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13840" y="2714400"/>
            <a:ext cx="4038840" cy="37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they have green fingers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 одних людей дома и на огороде все очень быстро зеленеет, а у других при таких же усилиях – нет. Про таких, кто быстро находит общий язык с растительным миром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857840" y="428400"/>
            <a:ext cx="4038480" cy="18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to be green with envy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-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зеленеть от зави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een-eyed monster  -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ревно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Picture 4" descr="D:\Мои документы\Мои рисунки\9.jpg"/>
          <p:cNvPicPr/>
          <p:nvPr/>
        </p:nvPicPr>
        <p:blipFill>
          <a:blip r:embed="rId1"/>
          <a:stretch/>
        </p:blipFill>
        <p:spPr>
          <a:xfrm>
            <a:off x="3143160" y="64296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C:\Program Files\Microsoft Office\CLIPART\PUB60COR\PE00013_.WMF"/>
          <p:cNvPicPr/>
          <p:nvPr/>
        </p:nvPicPr>
        <p:blipFill>
          <a:blip r:embed="rId2"/>
          <a:stretch/>
        </p:blipFill>
        <p:spPr>
          <a:xfrm>
            <a:off x="5572080" y="3286080"/>
            <a:ext cx="22147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190008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Red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57120" y="1357200"/>
            <a:ext cx="557208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t's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 red letter day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morrow in the company. It's our fiftieth birthday! (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 red letter day  -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аздник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be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in the red –погрязнуть в долг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48320" y="4214880"/>
            <a:ext cx="4038480" cy="21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Red Herring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-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означает что-то отвлекающее внимание людей от основной темы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Рисунок 3" descr="FD00296_.WMF"/>
          <p:cNvPicPr/>
          <p:nvPr/>
        </p:nvPicPr>
        <p:blipFill>
          <a:blip r:embed="rId1"/>
          <a:stretch/>
        </p:blipFill>
        <p:spPr>
          <a:xfrm>
            <a:off x="5572080" y="1071720"/>
            <a:ext cx="3141720" cy="24285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4" descr="AG00021_.GIF"/>
          <p:cNvPicPr/>
          <p:nvPr/>
        </p:nvPicPr>
        <p:blipFill>
          <a:blip r:embed="rId2"/>
          <a:stretch/>
        </p:blipFill>
        <p:spPr>
          <a:xfrm>
            <a:off x="1000080" y="4071960"/>
            <a:ext cx="17146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Whit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W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hite lie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ожь, которая приводит к личной выгод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W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hite elephant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-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рогостоящее приобретение, не приносящее пользы, но требующее больших затрат на содержание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Рисунок 3" descr="SO00183_.WMF"/>
          <p:cNvPicPr/>
          <p:nvPr/>
        </p:nvPicPr>
        <p:blipFill>
          <a:blip r:embed="rId1"/>
          <a:stretch/>
        </p:blipFill>
        <p:spPr>
          <a:xfrm>
            <a:off x="5267160" y="3627360"/>
            <a:ext cx="313380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4"/>
          <p:cNvSpPr/>
          <p:nvPr/>
        </p:nvSpPr>
        <p:spPr>
          <a:xfrm>
            <a:off x="285840" y="642960"/>
            <a:ext cx="84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 фразеологизмов представляет собой дополнительный источник страноведческих знаний. Приобщение к культуре страны изучаемого языка дает учащимся ощущение сопричастности к другому нар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D:\Мои документы\Мои рисунки\Рисунок7.gif"/>
          <p:cNvPicPr/>
          <p:nvPr/>
        </p:nvPicPr>
        <p:blipFill>
          <a:blip r:embed="rId1"/>
          <a:stretch/>
        </p:blipFill>
        <p:spPr>
          <a:xfrm>
            <a:off x="357120" y="3025800"/>
            <a:ext cx="814392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c9f8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786040" y="856800"/>
            <a:ext cx="56577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Фразеология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– ( греч. Phrases – выражение + logos – учение ) -   наука о сложных по составу языковых   единицах, имеющих устойчивый характер:   вверх тормашками, попасть впросак, кот   наплакал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5" descr="D:\Мои документы\Мои рисунки\imagesCA0LISN1.jpg"/>
          <p:cNvPicPr/>
          <p:nvPr/>
        </p:nvPicPr>
        <p:blipFill>
          <a:blip r:embed="rId1"/>
          <a:stretch/>
        </p:blipFill>
        <p:spPr>
          <a:xfrm>
            <a:off x="285840" y="1928880"/>
            <a:ext cx="25002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c9f8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28760" y="214200"/>
            <a:ext cx="850104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Фразеологизм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фразеологическая единица, идиома,   устойчивое сочетание слов, которое   характеризуется постоянным лексическим   составом, грамматическим строением и   известным носителям данного языка   значением ( в большинстве случаев –  переносно-образным), не выводимым из   значения составляющих фразеологизм   компонент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5" descr="D:\Мои документы\Мои рисунки\Рисунок6.gif"/>
          <p:cNvPicPr/>
          <p:nvPr/>
        </p:nvPicPr>
        <p:blipFill>
          <a:blip r:embed="rId1"/>
          <a:stretch/>
        </p:blipFill>
        <p:spPr>
          <a:xfrm>
            <a:off x="1785960" y="3571920"/>
            <a:ext cx="53578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3" descr=""/>
          <p:cNvPicPr/>
          <p:nvPr/>
        </p:nvPicPr>
        <p:blipFill>
          <a:blip r:embed="rId2"/>
          <a:stretch/>
        </p:blipFill>
        <p:spPr>
          <a:xfrm>
            <a:off x="-85680" y="2097000"/>
            <a:ext cx="7991280" cy="4194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C:\Program Files\Microsoft Office\CLIPART\PUB60COR\BL00524_.WMF"/>
          <p:cNvPicPr/>
          <p:nvPr/>
        </p:nvPicPr>
        <p:blipFill>
          <a:blip r:embed="rId3"/>
          <a:stretch/>
        </p:blipFill>
        <p:spPr>
          <a:xfrm>
            <a:off x="6000840" y="428760"/>
            <a:ext cx="2609640" cy="34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Рисунок 3" descr="photoreport_124_4866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0040" y="17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Calibri"/>
              </a:rPr>
              <a:t>Фразеологические единицы, отражающие традиции и обычаи английского народа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2643120"/>
            <a:ext cx="7900920" cy="36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Baker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s dozen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– чертова дюжина. (по старинному английскому обычаю, торговцы хлебом получали от булочников 13 хлебов вместо 12, причем 13-й шел в счет дохода торговцев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good vine needs no bush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– «хорошее вино не нуждается в ярлыке» - хороший товар сам себя хвалит. (По старинному обычаю, трактирщики вывешивали ветки плюща в знак того, что в продаже имеется вино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295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Фразеологические единицы, связанные с  английскими реалиями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6840" y="2499840"/>
            <a:ext cx="818676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To carry coal to Newcastle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-  «возить уголь в Ньюкасл» т.е. возить что-то туда, где этого и так достаточно. Ньюкасл – центр английской угольной промышленности. Ср. ехать в Тулу со своим самовар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Рисунок 3" descr="TR00232_.WMF"/>
          <p:cNvPicPr/>
          <p:nvPr/>
        </p:nvPicPr>
        <p:blipFill>
          <a:blip r:embed="rId1"/>
          <a:stretch/>
        </p:blipFill>
        <p:spPr>
          <a:xfrm>
            <a:off x="6357960" y="4143240"/>
            <a:ext cx="254160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4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Фразеологические единицы, связанные с именами английских писателей, ученых, королей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29200" y="3000240"/>
            <a:ext cx="4114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Фразеологические единицы связанные с поверьям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3214800"/>
            <a:ext cx="4040280" cy="3146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Tom</a:t>
            </a: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Dick and Harry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– всякие, каждый, первый встречны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3280" y="4428720"/>
            <a:ext cx="4043520" cy="1932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Black sheep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– паршивая овца, позор в семье. (По преданию, черная овца была отмечена печатью дьявола)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Фразеологические единицы, связанные с астрологие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786200" y="2928600"/>
            <a:ext cx="4114800" cy="1428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Фразеологические единицы, взятые из сказок и басе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6760" y="3214800"/>
            <a:ext cx="4140360" cy="3146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Be born under lucky star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– родиться под счастливой звездой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643280" y="4428720"/>
            <a:ext cx="4043520" cy="1932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orrowed plumes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– ворона в павлиных перьях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Рисунок 5" descr="J0196358.WMF"/>
          <p:cNvPicPr/>
          <p:nvPr/>
        </p:nvPicPr>
        <p:blipFill>
          <a:blip r:embed="rId1"/>
          <a:stretch/>
        </p:blipFill>
        <p:spPr>
          <a:xfrm>
            <a:off x="428760" y="4572000"/>
            <a:ext cx="1793880" cy="183348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6" descr="NA01358_.WMF"/>
          <p:cNvPicPr/>
          <p:nvPr/>
        </p:nvPicPr>
        <p:blipFill>
          <a:blip r:embed="rId2"/>
          <a:stretch/>
        </p:blipFill>
        <p:spPr>
          <a:xfrm>
            <a:off x="6589800" y="214200"/>
            <a:ext cx="25542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00040" y="857160"/>
            <a:ext cx="3997440" cy="1657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Фразеологические единицы, связанные с преданиям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0" y="857160"/>
            <a:ext cx="4114800" cy="1657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Фразеологические единицы, связанные с историческими фактам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2514600"/>
            <a:ext cx="4040280" cy="1271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Have kissed the Blarney ston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быть льстецо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256320" indent="-2563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As well be hanged for a sheep as lamb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– если уж суждено быть повешенным за овцу, то почему бы не украсть заодно и ягненка. (Отголосок старого английского закона, по которому кража овцы каралась смертной казнью через повешенье.)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6" descr="C:\Program Files\Microsoft Office\CLIPART\PUB60COR\SO00212_.WMF"/>
          <p:cNvPicPr/>
          <p:nvPr/>
        </p:nvPicPr>
        <p:blipFill>
          <a:blip r:embed="rId1"/>
          <a:stretch/>
        </p:blipFill>
        <p:spPr>
          <a:xfrm>
            <a:off x="714240" y="3389400"/>
            <a:ext cx="33260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4:45:22Z</dcterms:created>
  <dc:creator>User</dc:creator>
  <dc:description/>
  <dc:language>en-US</dc:language>
  <cp:lastModifiedBy>User</cp:lastModifiedBy>
  <dcterms:modified xsi:type="dcterms:W3CDTF">2013-11-24T21:11:34Z</dcterms:modified>
  <cp:revision>38</cp:revision>
  <dc:subject/>
  <dc:title>Слайд 1</dc:title>
</cp:coreProperties>
</file>