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01E-E366-4A6E-B222-4026B915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840-6657-4D23-BF56-9C044637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04C-53FE-4F0B-8B4E-86389500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700-BF0D-4520-86A1-D1167C44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582-C10F-4FCD-B6DB-59E4480F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D69-FFDE-45CE-94F8-DBB06ECB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292-DABE-494E-8E54-919CEBC3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B86-5FE1-4C7A-AAAA-4C686460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47D-07CD-488F-AF1A-1BCD3900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109-2E18-4FAE-9F80-A4CFBE67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031-72D4-4272-8A11-B213245C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044-FE28-48C1-B0CD-FCF29499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6E39-8538-4265-AD0C-4B31C11E2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не было интерес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ы сегодня разобрали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 сегодня понял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809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3200" y="190440"/>
            <a:ext cx="77994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914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знакомить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чить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оспитывать в себе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809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80360" cy="6211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111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89308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78120" y="1916280"/>
            <a:ext cx="6365880" cy="4851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44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71640" y="1341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ож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5573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амё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492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олодц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2565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284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3429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364500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49417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обр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905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43588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казка – ложь, да в ней – намёк, добрым молодцам ур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90512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0:11:47Z</dcterms:created>
  <dc:creator>Лира</dc:creator>
  <dc:description/>
  <dc:language>en-US</dc:language>
  <cp:lastModifiedBy>Лира</cp:lastModifiedBy>
  <dcterms:modified xsi:type="dcterms:W3CDTF">2012-02-13T20:23:33Z</dcterms:modified>
  <cp:revision>5</cp:revision>
  <dc:subject/>
  <dc:title>Слайд 1</dc:title>
</cp:coreProperties>
</file>