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49CA-E0BC-440A-8D4F-8E0EF5A3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F168-417D-4217-9AFD-CF588B20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D9AF-54EB-4C51-A311-FF1A6FA2E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E608-B3D2-42CC-8A4A-42245F62B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109E-BCEA-41BC-B8B3-5A786AAF3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7AFE-B39D-4AB4-8805-21F5EDC6F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6A48-9F25-4A0E-829C-EE0E401F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756F-5559-4F69-AF6C-B895E68E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3ACB-2EF7-460A-A2D4-35DD2231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AFB-0A7D-46A9-9B89-F90F8C94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F63F-287E-414C-B68A-33D8223B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DD0F-1AE6-4346-8B63-8F9D4240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CB1F-BFA5-42CF-B607-E33486EA46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0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Мне было интересн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Мы сегодня разобрались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Я сегодня понял, чт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Мне было трудно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8097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73200" y="190440"/>
            <a:ext cx="77994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914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ознакомиться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Учиться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Воспитывать в себе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93080" y="189000"/>
            <a:ext cx="180972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8280360" cy="62118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24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111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8893080" cy="639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778120" y="1916280"/>
            <a:ext cx="6365880" cy="4851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84472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771640" y="13413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лож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1557360"/>
            <a:ext cx="215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амё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40000" y="2492280"/>
            <a:ext cx="36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олодца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72360" y="2565360"/>
            <a:ext cx="165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28464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00360" y="342900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788000" y="3645000"/>
            <a:ext cx="180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н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84360" y="4941720"/>
            <a:ext cx="33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добры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90512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4920" y="1412640"/>
            <a:ext cx="8435880" cy="40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казка – ложь, да в ней – намёк, добрым молодцам урок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905120" cy="165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20:11:47Z</dcterms:created>
  <dc:creator>Лира</dc:creator>
  <dc:description/>
  <dc:language>en-US</dc:language>
  <cp:lastModifiedBy>Лира</cp:lastModifiedBy>
  <dcterms:modified xsi:type="dcterms:W3CDTF">2012-02-13T20:23:33Z</dcterms:modified>
  <cp:revision>5</cp:revision>
  <dc:subject/>
  <dc:title>Слайд 1</dc:title>
</cp:coreProperties>
</file>