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A457-A911-4813-A9BD-0583A553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D108-C5D1-4D37-8969-138A38A2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FB55-4239-4218-9115-93860473B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C828-D70C-40BB-AB00-5AD4B15C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A6C4-835E-4693-823B-A58202D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78C2-E3FD-4D7C-BCE5-ED58B7D8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FB8D-335C-4573-B701-51466C91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C1F1D-4C7C-4029-87F1-9E26DBE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863B-FE8E-43C5-982B-1F767232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4A37F-EEEC-45E0-8096-0F942EE52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C804F-9852-4FB7-9D62-51E9D432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85F-3A92-4C4B-A09E-31AD460C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F41B-09B2-4BE0-A2AF-A5E3C703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FE57-3F97-466F-AF98-443D744D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66CD-3DB4-473A-B77A-099414EC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81C7B-1D1C-4CD5-9E2B-107A62D9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47F2-9B9B-474F-BB33-1A8E0C15F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0373-4E21-4DF3-9208-2962BFE9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DB28-F5CB-4B98-B89C-3A22393E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DF98-D808-44D1-8DAE-80E7DDA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FEA-A4BE-4CF8-A6E7-94F70E3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E786-F76F-44C8-9BBC-FED471D7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38B-326A-4C63-9E56-87012AEF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3343-1C45-46F7-9642-C959579E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9031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74D4-6650-4130-AE20-7D9EBB24C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498F-CDD0-4580-8561-B7D76C99A6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9031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1628280"/>
            <a:ext cx="61930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СОЗДАНИЕ ЦЕЛЕВОГО РАЗДЕЛА ООП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189000"/>
            <a:ext cx="4897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ГОРОДСКАЯ ЭКСПЕРИМЕНТАЛЬНАЯ ПЛОЩАДК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«Разработка Основной образовательной программы  основного общего образования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43280" y="4076640"/>
            <a:ext cx="511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УРНИНА ЕЛЕНА МИХАЙЛОВНА, директор МОУ СОШ №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ЯКИМОВИЧ  НАТАЛЬЯ ВИКТОРОВНА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заместитель директора школы по УВ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987640" y="6237360"/>
            <a:ext cx="58690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©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.Переславль-Залесский, 2013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2322360" cy="3095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364000" y="2205000"/>
            <a:ext cx="501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пояснительная записка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планируемые результа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*система оцен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Цели реализации ООП ООО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1413000"/>
          <a:ext cx="7925040" cy="4862520"/>
        </p:xfrm>
        <a:graphic>
          <a:graphicData uri="http://schemas.openxmlformats.org/drawingml/2006/table">
            <a:tbl>
              <a:tblPr/>
              <a:tblGrid>
                <a:gridCol w="3962520"/>
                <a:gridCol w="396252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Цели реализации </a:t>
                      </a:r>
                      <a:r>
                        <a:rPr b="1" i="1" lang="en-US" sz="20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ООП ОО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3300"/>
                          </a:solidFill>
                          <a:latin typeface="Times New Roman"/>
                          <a:ea typeface="Times New Roman"/>
                        </a:rPr>
                        <a:t>Какие подпрограммы направлены на решение целей ООП ОО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ланируемых результатов ООП ОО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целевых установок, знаний, умений, навыков, компетенций и компетентнос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личностных, семейных, общественных, государственных потребностей и возможностей обучающих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новление и развитие личности в её индивидуальности, самобытности, уникальности, неповторим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 индивидуальных особенностей развития обучающегося и состояния здоровь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4572000" y="2133720"/>
            <a:ext cx="3887640" cy="574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«Планируемые результат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ения обучающимися ООП ОО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2852640"/>
            <a:ext cx="3887640" cy="57492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ы отдельных учеб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дметов, курсов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645000"/>
            <a:ext cx="3888000" cy="790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чебный план основ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бщего образовани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724280"/>
            <a:ext cx="3887640" cy="649440"/>
          </a:xfrm>
          <a:prstGeom prst="rect">
            <a:avLst/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оциализации обучающих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5589720"/>
            <a:ext cx="3888000" cy="57456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грамма воспит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 социализации обучающих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обучающимися ООП ОО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26"/>
          <p:cNvSpPr/>
          <p:nvPr/>
        </p:nvSpPr>
        <p:spPr>
          <a:xfrm>
            <a:off x="611280" y="1484280"/>
            <a:ext cx="7777080" cy="72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ласс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чебно-познавательных и учебно-практ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rot="20884800">
            <a:off x="3563640" y="4869000"/>
            <a:ext cx="3313080" cy="6490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26"/>
          <p:cNvSpPr/>
          <p:nvPr/>
        </p:nvSpPr>
        <p:spPr>
          <a:xfrm>
            <a:off x="755640" y="1916280"/>
            <a:ext cx="7777080" cy="43164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АПРАВЛЕНЫ НА ФОРМИРОВАНИЕ И ОЦЕНКУ УМЕНИЙ И НАВЫ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6"/>
          <p:cNvSpPr/>
          <p:nvPr/>
        </p:nvSpPr>
        <p:spPr>
          <a:xfrm>
            <a:off x="250920" y="249228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6"/>
          <p:cNvSpPr/>
          <p:nvPr/>
        </p:nvSpPr>
        <p:spPr>
          <a:xfrm>
            <a:off x="395280" y="2637000"/>
            <a:ext cx="3025800" cy="576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пособствующих освоению систематических знан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6"/>
          <p:cNvSpPr/>
          <p:nvPr/>
        </p:nvSpPr>
        <p:spPr>
          <a:xfrm>
            <a:off x="7236000" y="544500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26"/>
          <p:cNvSpPr/>
          <p:nvPr/>
        </p:nvSpPr>
        <p:spPr>
          <a:xfrm>
            <a:off x="7236000" y="414972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26"/>
          <p:cNvSpPr/>
          <p:nvPr/>
        </p:nvSpPr>
        <p:spPr>
          <a:xfrm>
            <a:off x="250920" y="3789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26"/>
          <p:cNvSpPr/>
          <p:nvPr/>
        </p:nvSpPr>
        <p:spPr>
          <a:xfrm>
            <a:off x="4284720" y="2565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26"/>
          <p:cNvSpPr/>
          <p:nvPr/>
        </p:nvSpPr>
        <p:spPr>
          <a:xfrm>
            <a:off x="7236000" y="256536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26"/>
          <p:cNvSpPr/>
          <p:nvPr/>
        </p:nvSpPr>
        <p:spPr>
          <a:xfrm>
            <a:off x="324000" y="5157720"/>
            <a:ext cx="165564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26"/>
          <p:cNvSpPr/>
          <p:nvPr/>
        </p:nvSpPr>
        <p:spPr>
          <a:xfrm>
            <a:off x="6516720" y="5589720"/>
            <a:ext cx="2230560" cy="576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организации и саморегуля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26"/>
          <p:cNvSpPr/>
          <p:nvPr/>
        </p:nvSpPr>
        <p:spPr>
          <a:xfrm>
            <a:off x="468360" y="5300640"/>
            <a:ext cx="2952720" cy="7207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оммуникации, требующие создания письменного или устного текс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6"/>
          <p:cNvSpPr/>
          <p:nvPr/>
        </p:nvSpPr>
        <p:spPr>
          <a:xfrm>
            <a:off x="395280" y="3933720"/>
            <a:ext cx="3024360" cy="792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амостоятельного приобретения, переноса и интеграции зна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3924360" y="2708280"/>
            <a:ext cx="194292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зрешения проблем/проблемных ситуа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6443640" y="2708280"/>
            <a:ext cx="2232000" cy="1297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отрудничества, требующие совместной работы в парах или группах с распределением ролей/функ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26"/>
          <p:cNvSpPr/>
          <p:nvPr/>
        </p:nvSpPr>
        <p:spPr>
          <a:xfrm>
            <a:off x="6443640" y="4292640"/>
            <a:ext cx="2303640" cy="865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ормирование и оценку ИКТ-компетентности обуча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26"/>
          <p:cNvSpPr/>
          <p:nvPr/>
        </p:nvSpPr>
        <p:spPr>
          <a:xfrm>
            <a:off x="4356000" y="4149720"/>
            <a:ext cx="1656000" cy="57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26"/>
          <p:cNvSpPr/>
          <p:nvPr/>
        </p:nvSpPr>
        <p:spPr>
          <a:xfrm>
            <a:off x="3995640" y="4292640"/>
            <a:ext cx="1943280" cy="934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ценностно-смысловых установок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 rot="5400000">
            <a:off x="2771640" y="3141360"/>
            <a:ext cx="1800360" cy="21600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7"/>
          <p:cNvSpPr/>
          <p:nvPr/>
        </p:nvSpPr>
        <p:spPr>
          <a:xfrm rot="5400000">
            <a:off x="5292720" y="3213000"/>
            <a:ext cx="1800000" cy="216000"/>
          </a:xfrm>
          <a:custGeom>
            <a:avLst/>
            <a:gdLst>
              <a:gd name="textAreaLeft" fmla="*/ 281160 w 1800000"/>
              <a:gd name="textAreaRight" fmla="*/ 1575000 w 180000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50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1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 структуре планируемых результатов выделяются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68360" y="1600200"/>
          <a:ext cx="7991280" cy="4721400"/>
        </p:xfrm>
        <a:graphic>
          <a:graphicData uri="http://schemas.openxmlformats.org/drawingml/2006/table">
            <a:tbl>
              <a:tblPr/>
              <a:tblGrid>
                <a:gridCol w="2590920"/>
                <a:gridCol w="2736720"/>
                <a:gridCol w="2663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РУПП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ГДЕ приводятс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ЦЕНКА ДОСТИЖЕ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дущие целевые установки и основные ожидаемые результаты основного обще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пояснительных записках к планируемым результатам по каждой учебной или междисциплинарной программ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ходе процедур, допускающих предоставление и использование исключительно неперсонифицированной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уемые результаты освоения учебных и междисциплинарных программ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водятся в блоках «Выпускник научится» и «Выпускник получит возможность научиться»  к каждому разделу учебной программы и отдельных междисциплинарных  Програм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 описанным процедура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сонифицированн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40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ланируемые результаты освоения учебных и междисциплинарных программ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AutoShape 26"/>
          <p:cNvSpPr/>
          <p:nvPr/>
        </p:nvSpPr>
        <p:spPr>
          <a:xfrm>
            <a:off x="324000" y="1413000"/>
            <a:ext cx="180000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 универсальных учебных действ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6"/>
          <p:cNvSpPr/>
          <p:nvPr/>
        </p:nvSpPr>
        <p:spPr>
          <a:xfrm>
            <a:off x="4643280" y="1413000"/>
            <a:ext cx="180036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новы учебно-исследовательской и проект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6"/>
          <p:cNvSpPr/>
          <p:nvPr/>
        </p:nvSpPr>
        <p:spPr>
          <a:xfrm>
            <a:off x="6877080" y="1413000"/>
            <a:ext cx="172728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ы смыслового чтения и работа с текс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6"/>
          <p:cNvSpPr/>
          <p:nvPr/>
        </p:nvSpPr>
        <p:spPr>
          <a:xfrm>
            <a:off x="2411280" y="1413000"/>
            <a:ext cx="1871640" cy="143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-46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Формирование ИКТ-компетентности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>
            <a:off x="2268360" y="3213000"/>
            <a:ext cx="2089440" cy="3384720"/>
          </a:xfrm>
          <a:custGeom>
            <a:avLst/>
            <a:gdLst>
              <a:gd name="textAreaLeft" fmla="*/ 101880 w 2089440"/>
              <a:gd name="textAreaRight" fmla="*/ 1987560 w 2089440"/>
              <a:gd name="textAreaTop" fmla="*/ 101880 h 3384720"/>
              <a:gd name="textAreaBottom" fmla="*/ 3282840 h 3384720"/>
            </a:gdLst>
            <a:ahLst/>
            <a:rect l="textAreaLeft" t="textAreaTop" r="textAreaRight" b="textAreaBottom"/>
            <a:pathLst>
              <a:path w="21600" h="34988">
                <a:moveTo>
                  <a:pt x="3600" y="0"/>
                </a:moveTo>
                <a:arcTo wR="3600" hR="3600" stAng="16200000" swAng="-5400000"/>
                <a:lnTo>
                  <a:pt x="0" y="31388"/>
                </a:lnTo>
                <a:arcTo wR="3600" hR="3600" stAng="10800000" swAng="-5400000"/>
                <a:lnTo>
                  <a:pt x="18000" y="3498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коммуникация и социальное взаимодейств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оиск и организация хранения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анализ информации, математическая обработка данных в исследован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моделирование, проектирование и управление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6"/>
          <p:cNvSpPr/>
          <p:nvPr/>
        </p:nvSpPr>
        <p:spPr>
          <a:xfrm>
            <a:off x="179280" y="3213000"/>
            <a:ext cx="1944720" cy="338472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3384720"/>
              <a:gd name="textAreaBottom" fmla="*/ 3290040 h 3384720"/>
            </a:gdLst>
            <a:ahLst/>
            <a:rect l="textAreaLeft" t="textAreaTop" r="textAreaRight" b="textAreaBottom"/>
            <a:pathLst>
              <a:path w="21600" h="37591">
                <a:moveTo>
                  <a:pt x="3600" y="0"/>
                </a:moveTo>
                <a:arcTo wR="3600" hR="3600" stAng="16200000" swAng="-5400000"/>
                <a:lnTo>
                  <a:pt x="0" y="33991"/>
                </a:lnTo>
                <a:arcTo wR="3600" hR="3600" stAng="10800000" swAng="-5400000"/>
                <a:lnTo>
                  <a:pt x="18000" y="375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личностные УУ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егулятивные У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коммуникативные УУД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познавательные УУ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6"/>
          <p:cNvSpPr/>
          <p:nvPr/>
        </p:nvSpPr>
        <p:spPr>
          <a:xfrm>
            <a:off x="4572000" y="3213000"/>
            <a:ext cx="2089080" cy="3456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456000"/>
              <a:gd name="textAreaBottom" fmla="*/ 3354120 h 3456000"/>
            </a:gdLst>
            <a:ahLst/>
            <a:rect l="textAreaLeft" t="textAreaTop" r="textAreaRight" b="textAreaBottom"/>
            <a:pathLst>
              <a:path w="21600" h="35731">
                <a:moveTo>
                  <a:pt x="3600" y="0"/>
                </a:moveTo>
                <a:arcTo wR="3600" hR="3600" stAng="16200000" swAng="-5400000"/>
                <a:lnTo>
                  <a:pt x="0" y="32131"/>
                </a:lnTo>
                <a:arcTo wR="3600" hR="3600" stAng="10800000" swAng="-5400000"/>
                <a:lnTo>
                  <a:pt x="18000" y="35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планировать и выполнять учебное исследование и учебный про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выбирать и использовать мето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распознавать и ставить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ясно, логично и точно излагать свою точку з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66"/>
                </a:solidFill>
                <a:latin typeface="Arial"/>
              </a:rPr>
              <a:t>отличать факты от суждений, мнений и оцено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6"/>
          <p:cNvSpPr/>
          <p:nvPr/>
        </p:nvSpPr>
        <p:spPr>
          <a:xfrm>
            <a:off x="6804000" y="3213000"/>
            <a:ext cx="2089080" cy="3456000"/>
          </a:xfrm>
          <a:custGeom>
            <a:avLst/>
            <a:gdLst>
              <a:gd name="textAreaLeft" fmla="*/ 101880 w 2089080"/>
              <a:gd name="textAreaRight" fmla="*/ 1987200 w 2089080"/>
              <a:gd name="textAreaTop" fmla="*/ 101880 h 3456000"/>
              <a:gd name="textAreaBottom" fmla="*/ 3354120 h 3456000"/>
            </a:gdLst>
            <a:ahLst/>
            <a:rect l="textAreaLeft" t="textAreaTop" r="textAreaRight" b="textAreaBottom"/>
            <a:pathLst>
              <a:path w="21600" h="35731">
                <a:moveTo>
                  <a:pt x="3600" y="0"/>
                </a:moveTo>
                <a:arcTo wR="3600" hR="3600" stAng="16200000" swAng="-5400000"/>
                <a:lnTo>
                  <a:pt x="0" y="32131"/>
                </a:lnTo>
                <a:arcTo wR="3600" hR="3600" stAng="10800000" swAng="-5400000"/>
                <a:lnTo>
                  <a:pt x="18000" y="357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поиск информации и понимание прочитанного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преобразование и интерпретация информ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680" indent="22320">
              <a:spcBef>
                <a:spcPts val="34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Работа с текстом: оценка информ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4292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03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435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67640" y="29242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71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Что формировали, работая по старым стандартам, а что будем формировать в рамках ФГОС ООО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394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) Назвать раздел, с текстом которого работала групп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) Познакомить присутствующих с планируемыми результатами данного разде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) Представить мнение группы о том, какие учебные действия формировали всегда, а какие – будем формировать в рамках ФГО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) Ответить на вопросы слушателей, выслушать их мнение по данной проблеме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Планируемые результаты учебных программ по всем предметам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8483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22280" r="0" b="8416"/>
          <a:stretch/>
        </p:blipFill>
        <p:spPr>
          <a:xfrm>
            <a:off x="539640" y="1773360"/>
            <a:ext cx="8131320" cy="4225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343240" y="141300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РУКТУРА РАЗ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68360" y="1557360"/>
            <a:ext cx="7993080" cy="719280"/>
          </a:xfrm>
          <a:prstGeom prst="roundRect">
            <a:avLst>
              <a:gd name="adj" fmla="val 1666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ключает в себя две согласованные между собой системы оц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796000" y="249228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71640" y="3068640"/>
            <a:ext cx="2448000" cy="20890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уществляе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ешни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 отнош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к школ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лужбами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2708280"/>
            <a:ext cx="19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ВНЕШНЯЯ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263700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ВНУТРЕННЯЯ ОЦЕН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997360"/>
            <a:ext cx="2448000" cy="21603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цен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существляем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школой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учающими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дагог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дминистрацией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7"/>
          <p:cNvSpPr/>
          <p:nvPr/>
        </p:nvSpPr>
        <p:spPr>
          <a:xfrm rot="7380600">
            <a:off x="4674240" y="3991320"/>
            <a:ext cx="838080" cy="325440"/>
          </a:xfrm>
          <a:custGeom>
            <a:avLst/>
            <a:gdLst>
              <a:gd name="textAreaLeft" fmla="*/ 130680 w 838080"/>
              <a:gd name="textAreaRight" fmla="*/ 733320 w 83808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4724280"/>
            <a:ext cx="1656000" cy="1368720"/>
          </a:xfrm>
          <a:prstGeom prst="ellipse">
            <a:avLst/>
          </a:prstGeom>
          <a:solidFill>
            <a:srgbClr val="00ff00"/>
          </a:solidFill>
          <a:ln w="25560">
            <a:solidFill>
              <a:srgbClr val="cc0000"/>
            </a:solidFill>
            <a:miter/>
          </a:ln>
          <a:effectLst>
            <a:outerShdw dist="107932" dir="18900000" blurRad="0" rotWithShape="0">
              <a:srgbClr val="ffff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7"/>
          <p:cNvSpPr/>
          <p:nvPr/>
        </p:nvSpPr>
        <p:spPr>
          <a:xfrm rot="3801600">
            <a:off x="3407400" y="3955320"/>
            <a:ext cx="768240" cy="325440"/>
          </a:xfrm>
          <a:custGeom>
            <a:avLst/>
            <a:gdLst>
              <a:gd name="textAreaLeft" fmla="*/ 119880 w 768240"/>
              <a:gd name="textAreaRight" fmla="*/ 672480 w 76824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Категории, основные объекты, процедуры оценивания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95280" y="1413000"/>
          <a:ext cx="8280360" cy="5075280"/>
        </p:xfrm>
        <a:graphic>
          <a:graphicData uri="http://schemas.openxmlformats.org/drawingml/2006/table">
            <a:tbl>
              <a:tblPr/>
              <a:tblGrid>
                <a:gridCol w="1982880"/>
                <a:gridCol w="2985840"/>
                <a:gridCol w="33116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Катег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цени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Объект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  <a:ea typeface="Times New Roman"/>
                        </a:rPr>
                        <a:t>Процедура оцени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оценка подготовки выпуск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содержания блоков «Выпускник научится» всех изучаемых програм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вая аттестация выпуск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1440" indent="-27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езультатов деятельности образовательных учреждений и работников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 освоения основной образовательной программы, составляющие содержание блоков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пускник научится» и «Выпускник получит возможность научиться» всех изучаем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кредитация образовательных учреждений, аттестация педагогических кадров, а также мониторинговые исследования разного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стояния и тенденций развития систем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ущие целевые установки и основные ожидаемые результаты основного общего образования, составляющие содержание первых, целевых блоков планируемых результатов всех изучаемых програ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овые исследования разного уровня. При этом дополнительно используются обобщённые данные, полученные по результатам итоговой оценки, аккредитации образовательных учреждений и аттестации педагогических кад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Внешняя  оценка планируемых результатов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9640" y="1413000"/>
          <a:ext cx="8064720" cy="5049720"/>
        </p:xfrm>
        <a:graphic>
          <a:graphicData uri="http://schemas.openxmlformats.org/drawingml/2006/table">
            <a:tbl>
              <a:tblPr/>
              <a:tblGrid>
                <a:gridCol w="1295640"/>
                <a:gridCol w="2232000"/>
                <a:gridCol w="453708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Г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, КТ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те (в начале 5-го класса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регионального мониторинга качества  образования силами региональных структур оценки качества образ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готовность пятиклассников обучаться на следующей ступени школьного образова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е аккредитации образователь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ми региональной службы по контролю и надзору в сфере образования с привлечением общественных институтов независимой оценки качеств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ить возможности образовательного учреждения выполнить взятые на себя обязательства в рамках  созданной основной  образовательной  программы основного  общего  образования и дать оценку достижений запланированных образовательных результатов всеми субъектами ООП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рамках </a:t>
                      </a: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сударственной  итоговой аттестации (9 клас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лами региональной службы по контролю и надзору в сфере образования с привлечением общественных институтов независимой оценки качества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ом государственной итоговой аттестации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я обучающимися основной образовательной программы основного общего образования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вляются достижения предметных и метапредметных результатов освоения основной образовательной программы основного общего образования в рамках учебных дисциплин, необходимых для продолжения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51280" y="1268280"/>
            <a:ext cx="4619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чащийся должен показать умение формулировать гипотезу, определять цели и задачи своего исследования, выстраивать процесс реализации проекта, рассчитывать необходимый ресурс, получать нужный результат и проводить итоговую презентацию. </a:t>
            </a:r>
            <a:br>
              <a:rPr sz="22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А.М.Кондак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2933640" cy="453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Внутренняя оценка планируемых результатами силами О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2060640"/>
            <a:ext cx="1944720" cy="4032360"/>
          </a:xfrm>
          <a:custGeom>
            <a:avLst/>
            <a:gdLst>
              <a:gd name="textAreaLeft" fmla="*/ 94680 w 1944720"/>
              <a:gd name="textAreaRight" fmla="*/ 1850040 w 1944720"/>
              <a:gd name="textAreaTop" fmla="*/ 94680 h 4032360"/>
              <a:gd name="textAreaBottom" fmla="*/ 3937680 h 4032360"/>
            </a:gdLst>
            <a:ahLst/>
            <a:rect l="textAreaLeft" t="textAreaTop" r="textAreaRight" b="textAreaBottom"/>
            <a:pathLst>
              <a:path w="21600" h="44783">
                <a:moveTo>
                  <a:pt x="3600" y="0"/>
                </a:moveTo>
                <a:arcTo wR="3600" hR="3600" stAng="16200000" swAng="-5400000"/>
                <a:lnTo>
                  <a:pt x="0" y="41183"/>
                </a:lnTo>
                <a:arcTo wR="3600" hR="3600" stAng="10800000" swAng="-5400000"/>
                <a:lnTo>
                  <a:pt x="18000" y="44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87640" y="15573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Внутренняя оце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предметных и метапредметных результатов образовательного учре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71640" y="220500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артовое, теку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формирующ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3500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межуточн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итогово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ценив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4869000"/>
            <a:ext cx="2448000" cy="10792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тог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истема оценки достижения планируемых результатов освоения ООП ОО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395280" y="4221000"/>
          <a:ext cx="8137440" cy="2243160"/>
        </p:xfrm>
        <a:graphic>
          <a:graphicData uri="http://schemas.openxmlformats.org/drawingml/2006/table">
            <a:tbl>
              <a:tblPr/>
              <a:tblGrid>
                <a:gridCol w="4070520"/>
                <a:gridCol w="4066920"/>
              </a:tblGrid>
              <a:tr h="44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сновные функ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сновной объек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8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иентация образовательного процесс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на достижение планируемых результатов и обеспечение эффективной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тной связ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позволяющей осуществлять </a:t>
                      </a:r>
                      <a:r>
                        <a:rPr b="1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правление образовательным процессом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ния Стандарта,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торые конкретизируются в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планируемых результатах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своения обучающимися основной образовательной программы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ного обще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435640" y="1628640"/>
            <a:ext cx="3097080" cy="231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3" name=""/>
          <p:cNvSpPr/>
          <p:nvPr/>
        </p:nvSpPr>
        <p:spPr>
          <a:xfrm>
            <a:off x="539640" y="1484280"/>
            <a:ext cx="4753080" cy="2592360"/>
          </a:xfrm>
          <a:prstGeom prst="rect">
            <a:avLst/>
          </a:prstGeom>
          <a:solidFill>
            <a:srgbClr val="0000ff"/>
          </a:solidFill>
          <a:ln w="22320">
            <a:solidFill>
              <a:srgbClr val="000000"/>
            </a:solidFill>
            <a:miter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соответствии с ФГО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стема оценки планируем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зультат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воения основной образователь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граммы включае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ичностн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апредметный результа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едметный 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Особенности оценки личнос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2679" t="1570" r="0" b="0"/>
          <a:stretch/>
        </p:blipFill>
        <p:spPr>
          <a:xfrm>
            <a:off x="539640" y="2492280"/>
            <a:ext cx="7993080" cy="40323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26920" y="1413000"/>
            <a:ext cx="7056720" cy="1008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м объектом оценки личностных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ит    сформирован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ниверсальных учебных дей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ФРАГМЕНТ ООП ФГОС ООО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МОУ СОШ №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11280" y="1828800"/>
            <a:ext cx="7696080" cy="50292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627280" y="1412280"/>
            <a:ext cx="30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 2.1.1.1. ООП ОО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Особенности оценки личнос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09480" y="1600200"/>
          <a:ext cx="7925040" cy="4540320"/>
        </p:xfrm>
        <a:graphic>
          <a:graphicData uri="http://schemas.openxmlformats.org/drawingml/2006/table">
            <a:tbl>
              <a:tblPr/>
              <a:tblGrid>
                <a:gridCol w="1514520"/>
                <a:gridCol w="6410520"/>
              </a:tblGrid>
              <a:tr h="84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 результаты формируют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ходе реализации всех компонентов образовательного процесса, включая внеурочную деятельность, реализуемую семьёй и школо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оценки личност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ность универсальных учебных действий, включаемых в следующие три основных бло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) сформирован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 гражданской идентичност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ичност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 готовность к переходу к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образованию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основе учебно-познавательной мотиваци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 том числе готовность к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бору направления профильного образования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 сформированность 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х компетенц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включая ценностно-смысловые установки и моральные нормы, опыт социальных и межличностных отношений, правосознани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ы личностных достижен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выносятся на итоговую оценку обучающихся,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являются предметом оценки эффективности воспитательно-образовательной деятельности образовательного учреждения и образовательных систем разного уровн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80" indent="2232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результатов образователь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в ходе внешних неперсонифицированных мониторинговых исследований на основе централизованно разработанного инструмента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04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ценка мета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610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метапредметных результатов представляет собой оценку достижения планируемых результатов освоения основной образовательной программы, представленных в раздел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гулятивные универсальные учебные действия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Коммуникативные универсальные учебные действия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Познавательные универсальные учебные действ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граммы формирования универсальных учебных действий, а так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уемых результат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едставленных во всех разделах междисциплинарных учебных про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Особенности оценки метапредметных результатов 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48258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м объектом оценки метапредметных результатов явл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 готовность к освоению систематических знаний, их самостоятельному пополнению, переносу и интегр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сотрудничеству и коммуника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решению личностно и социально значимых проблем и воплощению найденных решений в практику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и готовность к использованию ИКТ в целях обучения и развития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ь к самоорганизации, саморегуляции и рефлек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Формы, методы, инструментарий контроля метапредметных результатов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57360"/>
            <a:ext cx="79250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а сформированности ключевых компетентностей в рамках оценивания  проектной деятель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84247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0" y="1096920"/>
          <a:ext cx="8929800" cy="5761080"/>
        </p:xfrm>
        <a:graphic>
          <a:graphicData uri="http://schemas.openxmlformats.org/drawingml/2006/table">
            <a:tbl>
              <a:tblPr/>
              <a:tblGrid>
                <a:gridCol w="1559160"/>
                <a:gridCol w="2754360"/>
                <a:gridCol w="3057480"/>
                <a:gridCol w="882720"/>
                <a:gridCol w="67608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в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планируем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ение заданий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мет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8e4"/>
                    </a:solidFill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о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 и высокий уровни достижения отличаются по полноте освоения планируемых результатов, уровню овладения учебными действиями и сформированностью интересов к данной предметной области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</a:tr>
              <a:tr h="75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ы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0ca"/>
                    </a:solidFill>
                  </a:tcPr>
                </a:tc>
              </a:tr>
              <a:tr h="74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з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воение учебных действий с опорной системой знаний в рамках диапазона (круга) выделенных задач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аточный уровень для продолжения обучения на следующей ступени образования, но не по профильному направлению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иж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сутствие систематической базовой подготовки,  обучающимся не освоено даже и половины планируемых результатов, которые осваивает большинство обучающихся,  имеются значительные пробелы в знаниях, дальнейшее обучение затруднено. При этом обучающийся может выполнять отдельные задания повышенного уровня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ная группа обучающихся  требует специальной диагностики затруднений в обучении, пробелов в системе знаний и оказании целенаправленной помощи в достижении базового уровн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</a:tr>
              <a:tr h="17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з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только отдельных фрагментарных знаний по предмету, дальнейшее обучение практически невозможно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учающимся требуется специальная помощь не только по учебному предмету, но и по </a:t>
                      </a:r>
                      <a:r>
                        <a:rPr b="1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ормированию мотивации к обучению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развитию интереса к изучаемой предметной области, пониманию значимости предмета для жизни и др. Только наличие положительной мотивации может стать основой ликвидации пробелов в обучении для данной группы обучающихся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-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7cbda"/>
                    </a:solidFill>
                  </a:tcPr>
                </a:tc>
              </a:tr>
            </a:tbl>
          </a:graphicData>
        </a:graphic>
      </p:graphicFrame>
      <p:sp>
        <p:nvSpPr>
          <p:cNvPr id="251" name=""/>
          <p:cNvSpPr/>
          <p:nvPr/>
        </p:nvSpPr>
        <p:spPr>
          <a:xfrm>
            <a:off x="324000" y="18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ровневый подход к оценке достижений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редметных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526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ИТОГОВАЯ ОЦЕНКА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439236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ов внутришкольного мониторинга образовательных достижений по всем предметам, зафиксированных в оценочных листах, в том числе за промежуточные и итоговые комплексные работы на межпредметной осно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к за выполнение итоговых работ по всем учебным предмета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ки за выполнение и защиту индивидуального проек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к за работы, выносимые на государственную итоговую аттестацию (т.е.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5640" y="1557360"/>
            <a:ext cx="7993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Итоговая оценка выпускника формируется на основе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7667640" y="5300640"/>
            <a:ext cx="1008000" cy="1224000"/>
          </a:xfrm>
          <a:prstGeom prst="irregularSeal1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9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Нормативно-правовая основа  разработки и существования ООП  в ОУ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40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кон Российской Федерации "Об  образовании в РФ"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в  ред. Федерального закона от 29 декабря 2012 г. N 273-ФЗ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едеральный государственный образовательный стандарт основного общего образовани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твержденный приказом Министерства образования и науки Российской Федерации от 17 декабря 2010 г. N 1897  (Зарегистрирован Министерством юстиции Российской Федерации 1 февраля 2011 г. регистрационный N 19644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новление Главного государственного санитарного врача Российской Федераци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29 декабря 2010 г. N 189 г. Москва «Об утверждении СанПиН 2.4.2.2821-10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Санитарно-эпидемиологические требования»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о  в   Минюсте    РФ 3 марта 2011 г. Регистрационный N 19993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   Министерства образования и науки Российской Федерации от 4 октября 2010 №98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 в Минюсте РФ 3 февраля 2011 г. Регистрационный N 19682)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«Об утверждении Федеральных требований к образовательным учреждениям в части минимальной оснащенности учебного процесса и оборудования учебных помещений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каз   Министерства образования и науки Российской Федерации от 28 декабря 2010 № 2106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Зарегистрирован в Минюсте РФ 2 февраля 2011 г. Регистрационный N 19676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«Об утверждении Федеральных требований к образовательным учреждениям в части охраны здоровья обучающихся, воспитанников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ЯСНИТЕЛЬНАЯ ЗАПИСКА</a:t>
            </a: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 ООП ФГОС ООО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611280" y="2060640"/>
          <a:ext cx="3527280" cy="4074840"/>
        </p:xfrm>
        <a:graphic>
          <a:graphicData uri="http://schemas.openxmlformats.org/drawingml/2006/table">
            <a:tbl>
              <a:tblPr/>
              <a:tblGrid>
                <a:gridCol w="3527280"/>
              </a:tblGrid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о назначение данного структурного компонента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Что собой представляет ООП (что это за документ, каково его предназначение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ы основания для разработ­ки ООП ОУ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а структура и содержание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ahoma"/>
                          <a:ea typeface="Arial Unicode MS"/>
                        </a:rPr>
                        <a:t>Какова цель, на достижение ко­торой направлена данная ООП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8" name=""/>
          <p:cNvSpPr/>
          <p:nvPr/>
        </p:nvSpPr>
        <p:spPr>
          <a:xfrm>
            <a:off x="539640" y="1413000"/>
            <a:ext cx="56880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опросы к Пояснительной запис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4402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8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660033"/>
                </a:solidFill>
                <a:latin typeface="Rockwell"/>
              </a:rPr>
              <a:t>Но, если говорить предельно просто, какие бы прекрасные законы мы ни принимали, главным в системе образования по-прежнему остаётся Учитель – Учитель с большой буквы. Только талантливые, только современные и только неравнодушные преподаватели могут воспитать хорошо образованного и, что не менее важно, просто достойного человека.</a:t>
            </a:r>
            <a:r>
              <a:rPr b="0" lang="ru-RU" sz="2400" spc="-1" strike="noStrike">
                <a:solidFill>
                  <a:srgbClr val="660033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640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Rockwell"/>
              </a:rPr>
              <a:t>Д.А.Медвед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38C2-5EBC-47CF-B34A-70D176867DBC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A0622-BE9F-48B8-A256-1F600A9E72F7}" type="datetime8">
              <a:rPr lang="en-US"/>
              <a:t>07/28/26 09: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0000"/>
                </a:solidFill>
                <a:latin typeface="Goudy Stout"/>
              </a:rPr>
              <a:t>СПАСИБО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28240"/>
            <a:ext cx="835344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Федеральный закон Российской Федерации</a:t>
            </a:r>
            <a:br>
              <a:rPr sz="1900"/>
            </a:b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от 29 декабря 2012 г. N 273-ФЗ</a:t>
            </a:r>
            <a:br>
              <a:rPr sz="1900"/>
            </a:br>
            <a:r>
              <a:rPr b="1" lang="en-US" sz="2900" spc="-1" strike="noStrike">
                <a:solidFill>
                  <a:srgbClr val="ffffff"/>
                </a:solidFill>
                <a:latin typeface="Arial"/>
              </a:rPr>
              <a:t>"Об образовании в Российской Федерации"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атья 12. Образовательные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Образовательные про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определяют содержание образования. Содержание образования должно содействовать взаимопониманию и сотрудничеству между людьми, народами независимо от расовой, национальной, этнической, религиозной и социальной принадлежности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К основным образовательным программам относятс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основные общеобразовательные программы - образовательные программы дошкольного образования, образовательные программы начального общего образования, образовательные программы основного общего образования, образовательные программы среднего общего обра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. Образовательные про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мостоятельно разрабатываются и утверждаются организацией, осуществляющей образовательную деятельность,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49000" y="1451160"/>
            <a:ext cx="5626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инят Государственной Думой 21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добрен Советом Федерации 26 декабря 2012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Глава 1. Общие по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Позиции в «Законе об образовании в РФ»,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которые содержательно поддерживают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ГОС ОО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7925040" cy="19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50920" y="1484280"/>
            <a:ext cx="223200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озможность выб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учебных курсов как в ОУ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ак и вне 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68360" y="2133720"/>
            <a:ext cx="223200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ругие О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нешкольные ОУ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чреждения культур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по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6227640" y="1484280"/>
            <a:ext cx="2592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ккреди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5867280" y="1844640"/>
            <a:ext cx="2810160" cy="11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правленна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 содержательну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ценку образовате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грамм, а не на присво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ту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8"/>
          <p:cNvSpPr/>
          <p:nvPr/>
        </p:nvSpPr>
        <p:spPr>
          <a:xfrm>
            <a:off x="3132000" y="4869000"/>
            <a:ext cx="2737080" cy="180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истанционное образова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сетевое взаимодейств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250920" y="3284640"/>
            <a:ext cx="237636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мативно-подушев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8"/>
          <p:cNvSpPr/>
          <p:nvPr/>
        </p:nvSpPr>
        <p:spPr>
          <a:xfrm>
            <a:off x="250920" y="515772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чет особ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>
            <a:off x="6443640" y="501336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8"/>
          <p:cNvSpPr/>
          <p:nvPr/>
        </p:nvSpPr>
        <p:spPr>
          <a:xfrm>
            <a:off x="6443640" y="3068640"/>
            <a:ext cx="2376360" cy="1440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ценка качеств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9"/>
          <p:cNvSpPr/>
          <p:nvPr/>
        </p:nvSpPr>
        <p:spPr>
          <a:xfrm>
            <a:off x="395280" y="3789360"/>
            <a:ext cx="2521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финансовые механиз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целевое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граммы развит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образовательное кредито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 так дале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9"/>
          <p:cNvSpPr/>
          <p:nvPr/>
        </p:nvSpPr>
        <p:spPr>
          <a:xfrm>
            <a:off x="395280" y="5445000"/>
            <a:ext cx="24480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учения образ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детьми с ограничен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можностя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здоров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3348000" y="5445000"/>
            <a:ext cx="230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ак расши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озмож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индивидуаль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9"/>
          <p:cNvSpPr/>
          <p:nvPr/>
        </p:nvSpPr>
        <p:spPr>
          <a:xfrm>
            <a:off x="6012000" y="3573360"/>
            <a:ext cx="259380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ерех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т распред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тусов 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одержательно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ценке результа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6300720" y="5373720"/>
            <a:ext cx="230508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расширени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олномоч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аличие компетен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2060640"/>
            <a:ext cx="1873080" cy="1800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ЗИЦИИ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ЗАК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7"/>
          <p:cNvSpPr/>
          <p:nvPr/>
        </p:nvSpPr>
        <p:spPr>
          <a:xfrm rot="20445000">
            <a:off x="5292720" y="234936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7"/>
          <p:cNvSpPr/>
          <p:nvPr/>
        </p:nvSpPr>
        <p:spPr>
          <a:xfrm rot="12329400">
            <a:off x="2843280" y="2275920"/>
            <a:ext cx="574560" cy="21564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5640"/>
              <a:gd name="textAreaBottom" fmla="*/ 162000 h 21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rot="8067000">
            <a:off x="2935440" y="4193280"/>
            <a:ext cx="1150920" cy="21600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7"/>
          <p:cNvSpPr/>
          <p:nvPr/>
        </p:nvSpPr>
        <p:spPr>
          <a:xfrm rot="5400000">
            <a:off x="4105440" y="418464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7"/>
          <p:cNvSpPr/>
          <p:nvPr/>
        </p:nvSpPr>
        <p:spPr>
          <a:xfrm rot="1375200">
            <a:off x="5364000" y="3500280"/>
            <a:ext cx="574920" cy="216000"/>
          </a:xfrm>
          <a:custGeom>
            <a:avLst/>
            <a:gdLst>
              <a:gd name="textAreaLeft" fmla="*/ 89640 w 574920"/>
              <a:gd name="textAreaRight" fmla="*/ 503280 w 57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7"/>
          <p:cNvSpPr/>
          <p:nvPr/>
        </p:nvSpPr>
        <p:spPr>
          <a:xfrm rot="2806200">
            <a:off x="4845600" y="4091400"/>
            <a:ext cx="1114200" cy="220680"/>
          </a:xfrm>
          <a:custGeom>
            <a:avLst/>
            <a:gdLst>
              <a:gd name="textAreaLeft" fmla="*/ 173880 w 1114200"/>
              <a:gd name="textAreaRight" fmla="*/ 975240 w 1114200"/>
              <a:gd name="textAreaTop" fmla="*/ 55080 h 220680"/>
              <a:gd name="textAreaBottom" fmla="*/ 165600 h 220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9037200">
            <a:off x="2987640" y="3573360"/>
            <a:ext cx="574560" cy="216000"/>
          </a:xfrm>
          <a:custGeom>
            <a:avLst/>
            <a:gdLst>
              <a:gd name="textAreaLeft" fmla="*/ 89640 w 574560"/>
              <a:gd name="textAreaRight" fmla="*/ 502920 w 5745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Основная образовательная программа основного общего образования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ООП ООО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50920" y="4869000"/>
            <a:ext cx="1800000" cy="18000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130" name="AutoShape 26"/>
          <p:cNvSpPr/>
          <p:nvPr/>
        </p:nvSpPr>
        <p:spPr>
          <a:xfrm>
            <a:off x="539640" y="1557360"/>
            <a:ext cx="7848720" cy="72072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Arial"/>
              </a:rPr>
              <a:t>Локальный нормативный документ, описывающий содержание образования и механизм реализации требований ФГОС ООО в 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6"/>
          <p:cNvSpPr/>
          <p:nvPr/>
        </p:nvSpPr>
        <p:spPr>
          <a:xfrm>
            <a:off x="1258920" y="2708280"/>
            <a:ext cx="511164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зрабатывается ОУ самостоятель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1116000" y="3284640"/>
            <a:ext cx="2736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соответствии с федера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государствен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тандартам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4067280" y="3284640"/>
            <a:ext cx="2736720" cy="10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 учетом соответствую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имерных основны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разовательных програм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ст.12, п.7)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6"/>
          <p:cNvSpPr/>
          <p:nvPr/>
        </p:nvSpPr>
        <p:spPr>
          <a:xfrm>
            <a:off x="3419640" y="4797360"/>
            <a:ext cx="5111640" cy="7923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вает реализацию ФГО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9"/>
          <p:cNvSpPr/>
          <p:nvPr/>
        </p:nvSpPr>
        <p:spPr>
          <a:xfrm>
            <a:off x="2916360" y="5157720"/>
            <a:ext cx="273672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с учетом типа и вида ОУ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запросов участник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образовате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роцесс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5796000" y="5157720"/>
            <a:ext cx="3097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в соответствии с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которым осуществляет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рганизация образователь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роизводственного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правленческого процессов в О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 rot="9115800">
            <a:off x="6371640" y="2565360"/>
            <a:ext cx="1150920" cy="216000"/>
          </a:xfrm>
          <a:custGeom>
            <a:avLst/>
            <a:gdLst>
              <a:gd name="textAreaLeft" fmla="*/ 179640 w 1150920"/>
              <a:gd name="textAreaRight" fmla="*/ 1007280 w 1150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7"/>
          <p:cNvSpPr/>
          <p:nvPr/>
        </p:nvSpPr>
        <p:spPr>
          <a:xfrm rot="5400000">
            <a:off x="7019640" y="3357360"/>
            <a:ext cx="1800360" cy="216000"/>
          </a:xfrm>
          <a:custGeom>
            <a:avLst/>
            <a:gdLst>
              <a:gd name="textAreaLeft" fmla="*/ 281160 w 1800360"/>
              <a:gd name="textAreaRight" fmla="*/ 1575360 w 1800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 соответствии с требованиями ФГОС ООО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720080" y="1512000"/>
            <a:ext cx="4914360" cy="5202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ОП ОО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826920" y="2708280"/>
            <a:ext cx="2880000" cy="2233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бяза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27"/>
          <p:cNvSpPr/>
          <p:nvPr/>
        </p:nvSpPr>
        <p:spPr>
          <a:xfrm rot="18527400">
            <a:off x="2448720" y="2167920"/>
            <a:ext cx="574560" cy="360360"/>
          </a:xfrm>
          <a:custGeom>
            <a:avLst/>
            <a:gdLst>
              <a:gd name="textAreaLeft" fmla="*/ 89640 w 574560"/>
              <a:gd name="textAreaRight" fmla="*/ 502920 w 574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27"/>
          <p:cNvSpPr/>
          <p:nvPr/>
        </p:nvSpPr>
        <p:spPr>
          <a:xfrm rot="14863800">
            <a:off x="5041080" y="2167560"/>
            <a:ext cx="574560" cy="360360"/>
          </a:xfrm>
          <a:custGeom>
            <a:avLst/>
            <a:gdLst>
              <a:gd name="textAreaLeft" fmla="*/ 89640 w 574560"/>
              <a:gd name="textAreaRight" fmla="*/ 502920 w 5745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6"/>
          <p:cNvSpPr/>
          <p:nvPr/>
        </p:nvSpPr>
        <p:spPr>
          <a:xfrm>
            <a:off x="1692360" y="5373720"/>
            <a:ext cx="3600360" cy="792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660033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ыполняется при разработ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аждого раздела О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8"/>
          <p:cNvSpPr/>
          <p:nvPr/>
        </p:nvSpPr>
        <p:spPr>
          <a:xfrm>
            <a:off x="5076720" y="2708280"/>
            <a:ext cx="2662200" cy="1511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бществен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6012000" y="3789360"/>
            <a:ext cx="2662200" cy="1871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вает различ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просы обучающих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в том числе этнокультурны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5219640" y="3213000"/>
            <a:ext cx="3095640" cy="144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>
                  <a:alpha val="50196"/>
                </a:srgbClr>
              </a:gs>
              <a:gs pos="100000">
                <a:srgbClr val="f66200">
                  <a:alpha val="50196"/>
                </a:srgbClr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Часть, формируем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участник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образовательного проце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599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Требования к структуре основной образовательной программы основного общего образования — преемственность и развитие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136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ГОС О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II. Требования к структуре основной образовательной программы основного обще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468360" y="2060640"/>
            <a:ext cx="338436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ГОС НОО: СТРУКТУРА О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ОП НОО ДОЛЖ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ТЬ СЛЕДУЮЩИЕ РАЗДЕ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5148360" y="2060640"/>
            <a:ext cx="3456000" cy="143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33cc"/>
            </a:solidFill>
            <a:miter/>
          </a:ln>
          <a:effectLst>
            <a:outerShdw dist="17819" dir="2700000" blurRad="0" rotWithShape="0">
              <a:srgbClr val="00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ФГОС ООО: СТРУКТУРА О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ООО ДОЛЖ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СОДЕРЖАТЬ ТРИ РАЗДЕ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1280" y="2708280"/>
            <a:ext cx="3744720" cy="3960720"/>
          </a:xfrm>
          <a:custGeom>
            <a:avLst/>
            <a:gdLst>
              <a:gd name="textAreaLeft" fmla="*/ 182520 w 3744720"/>
              <a:gd name="textAreaRight" fmla="*/ 3562200 w 3744720"/>
              <a:gd name="textAreaTop" fmla="*/ 182520 h 3960720"/>
              <a:gd name="textAreaBottom" fmla="*/ 3778200 h 3960720"/>
            </a:gdLst>
            <a:ahLst/>
            <a:rect l="textAreaLeft" t="textAreaTop" r="textAreaRight" b="textAreaBottom"/>
            <a:pathLst>
              <a:path w="21600" h="22846">
                <a:moveTo>
                  <a:pt x="3600" y="0"/>
                </a:moveTo>
                <a:arcTo wR="3600" hR="3600" stAng="16200000" swAng="-5400000"/>
                <a:lnTo>
                  <a:pt x="0" y="19246"/>
                </a:lnTo>
                <a:arcTo wR="3600" hR="3600" stAng="10800000" swAng="-5400000"/>
                <a:lnTo>
                  <a:pt x="18000" y="228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.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.Планируемые результат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освоения обучающимися ОО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.Учебный пл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.Программа формирования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универсальных учебных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действий (УУД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.Программы конкретных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учебных предметов ( КУП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.Программа духовно –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нравственного развития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бучающихс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7.Программа формирования культуры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здорового и безопасного образа жиз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.Программа коррекционно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.Система оценки достижения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освоения ООП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852640"/>
            <a:ext cx="4032360" cy="3816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1. Целевой разде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400" spc="-1" strike="noStrike" u="sng">
                <a:solidFill>
                  <a:srgbClr val="490310"/>
                </a:solidFill>
                <a:uFillTx/>
                <a:latin typeface="Arial"/>
                <a:hlinkClick r:id="rId1" action="ppaction://hlinksldjump"/>
              </a:rPr>
              <a:t>Пояснительная запис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ланируемые результ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Система оценки достижения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ланируемых результ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2. Содержательный разд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а развития УУ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ы отдельных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учебных предметов, кур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ы воспитания и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ци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Программа коррекционной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0000"/>
                </a:solidFill>
                <a:uFillTx/>
                <a:latin typeface="Arial"/>
              </a:rPr>
              <a:t>3.Организационный разде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Учебный план ОО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Система условий реал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«Красные нити» ООП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4000" y="1484280"/>
            <a:ext cx="453528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Концепция УМ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задачи, результаты, подход, содержание, технологии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Социальный заказ родителей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результаты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 содержание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49031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Традиции школы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цели, задачи, результаты, содержание, технологии, формы, средства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5749-314F-4780-883A-EC82064B1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5:27:30Z</dcterms:created>
  <dc:creator>natasha</dc:creator>
  <dc:description/>
  <dc:language>en-US</dc:language>
  <cp:lastModifiedBy>natasha</cp:lastModifiedBy>
  <dcterms:modified xsi:type="dcterms:W3CDTF">2013-11-25T15:13:36Z</dcterms:modified>
  <cp:revision>89</cp:revision>
  <dc:subject/>
  <dc:title>Слайд 1</dc:title>
</cp:coreProperties>
</file>