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2CE-AC80-4494-AD21-856C103C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39E-CAC7-46C2-9950-5BE5DBD6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9C1-13C1-419F-A66F-608744D7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348-8166-4609-B84A-DF1FA54B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FD4C-88D2-43F2-A527-6A401E2B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C0FC-9030-496E-865F-9DAB2B0F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AE5D-65AF-4B0E-9216-15D58EF7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EEBF-43D1-48C5-A1D1-8FB3B158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E66E-26B3-4706-AF4B-4C4F5B43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C3D4-69A8-4EB9-90AD-B94C6CA8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76E7-1B27-4941-BF1A-E0F887BE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D43-A662-4CB7-8CDF-3EEB71B3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45E9-8C90-4F27-98A6-AFF55FE1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930B-0F8F-4073-98A7-7A9D803C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9818-A98D-483D-AB0A-5F5DE10E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3AB8-0965-4571-BCE9-3BC3BFF0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E9A7-AC0C-46E2-B1BB-E211BE3D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48E-EE62-446F-A2CC-F91D525C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A1B-A5F3-4A2A-A7D6-570B99B3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4CE-8DDC-4BD0-AFD7-DFEEAF3B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4C1-2D86-4C24-B128-DD74CB78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1F0-9928-4F8E-BACD-E21ACD39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409-4153-4C14-8AA1-01CB880F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D43-3040-40B6-BF25-9485A1C0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9031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D6C2-235A-49F7-83F5-4346672EB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4695-3D93-40B0-94E6-D53E03BC9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9031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1628280"/>
            <a:ext cx="6193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СОЗДАНИЕ ЦЕЛЕВОГО РАЗДЕЛА ООП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18900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ГОРОДСКАЯ ЭКСПЕРИМЕНТАЛЬНАЯ ПЛОЩАД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«Разработка Основной образовательной программы  основного общего образования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43280" y="4076640"/>
            <a:ext cx="511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УРНИНА ЕЛЕНА МИХАЙЛОВНА, директор МОУ СОШ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ЯКИМОВИЧ  НАТАЛЬЯ ВИКТОРОВНА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заместитель директора школы по УВ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7640" y="6237360"/>
            <a:ext cx="5869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Переславль-Залесский,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2322360" cy="309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64000" y="2205000"/>
            <a:ext cx="50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пояснительная записка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планируемые 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система 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реализации ООП ОО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1413000"/>
          <a:ext cx="7925040" cy="486252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Цели реализации </a:t>
                      </a:r>
                      <a:r>
                        <a:rPr b="1" i="1" lang="en-US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ООП ОО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Какие подпрограммы направлены на решение целей ООП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ланируемых результатов ООП О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левых установок, знаний, умений, навыков, компетенций и компетент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личностных, семейных, общественных, государственных потребностей и возможностей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ление и развитие личности в её индивидуальности, самобытности, уникальности, неповтори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индивидуальных особенностей развития обучающегося и состояния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4572000" y="2133720"/>
            <a:ext cx="3887640" cy="574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«Планируемые результа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своения обучающимися ООП ОО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852640"/>
            <a:ext cx="3887640" cy="574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граммы отдельных учеб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метов, курс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645000"/>
            <a:ext cx="3888000" cy="79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ебный план основ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щего образов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724280"/>
            <a:ext cx="3887640" cy="64944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грамма воспи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социализации обучающих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5589720"/>
            <a:ext cx="3888000" cy="574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грамма воспи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социализации обучающих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ланируемые результаты освоения обучающимися ООП ООО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6"/>
          <p:cNvSpPr/>
          <p:nvPr/>
        </p:nvSpPr>
        <p:spPr>
          <a:xfrm>
            <a:off x="611280" y="1484280"/>
            <a:ext cx="777708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ас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ебно-познавательных и учебно-практ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884800">
            <a:off x="3563640" y="4869000"/>
            <a:ext cx="3313080" cy="649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6"/>
          <p:cNvSpPr/>
          <p:nvPr/>
        </p:nvSpPr>
        <p:spPr>
          <a:xfrm>
            <a:off x="755640" y="1916280"/>
            <a:ext cx="7777080" cy="4316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ПРАВЛЕНЫ НА ФОРМИРОВАНИЕ И ОЦЕНКУ УМЕНИЙ И НАВЫ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6"/>
          <p:cNvSpPr/>
          <p:nvPr/>
        </p:nvSpPr>
        <p:spPr>
          <a:xfrm>
            <a:off x="250920" y="249228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6"/>
          <p:cNvSpPr/>
          <p:nvPr/>
        </p:nvSpPr>
        <p:spPr>
          <a:xfrm>
            <a:off x="395280" y="2637000"/>
            <a:ext cx="3025800" cy="576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собствующих освоению систематических зн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6"/>
          <p:cNvSpPr/>
          <p:nvPr/>
        </p:nvSpPr>
        <p:spPr>
          <a:xfrm>
            <a:off x="7236000" y="544500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6"/>
          <p:cNvSpPr/>
          <p:nvPr/>
        </p:nvSpPr>
        <p:spPr>
          <a:xfrm>
            <a:off x="7236000" y="414972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6"/>
          <p:cNvSpPr/>
          <p:nvPr/>
        </p:nvSpPr>
        <p:spPr>
          <a:xfrm>
            <a:off x="250920" y="378936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6"/>
          <p:cNvSpPr/>
          <p:nvPr/>
        </p:nvSpPr>
        <p:spPr>
          <a:xfrm>
            <a:off x="4284720" y="256536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7236000" y="256536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6"/>
          <p:cNvSpPr/>
          <p:nvPr/>
        </p:nvSpPr>
        <p:spPr>
          <a:xfrm>
            <a:off x="324000" y="515772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6"/>
          <p:cNvSpPr/>
          <p:nvPr/>
        </p:nvSpPr>
        <p:spPr>
          <a:xfrm>
            <a:off x="6516720" y="5589720"/>
            <a:ext cx="2230560" cy="576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моорганизации и саморегуля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468360" y="5300640"/>
            <a:ext cx="2952720" cy="720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ммуникации, требующие создания письменного или устного текс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6"/>
          <p:cNvSpPr/>
          <p:nvPr/>
        </p:nvSpPr>
        <p:spPr>
          <a:xfrm>
            <a:off x="395280" y="3933720"/>
            <a:ext cx="302436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мостоятельного приобретения, переноса и интеграции зн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3924360" y="2708280"/>
            <a:ext cx="194292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ешения проблем/проблемных ситу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6443640" y="2708280"/>
            <a:ext cx="2232000" cy="1297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трудничества, требующие совместной работы в парах или группах с распределением ролей/фун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6"/>
          <p:cNvSpPr/>
          <p:nvPr/>
        </p:nvSpPr>
        <p:spPr>
          <a:xfrm>
            <a:off x="6443640" y="4292640"/>
            <a:ext cx="2303640" cy="865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рмирование и оценку ИКТ-компетентности обучаю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6"/>
          <p:cNvSpPr/>
          <p:nvPr/>
        </p:nvSpPr>
        <p:spPr>
          <a:xfrm>
            <a:off x="4356000" y="4149720"/>
            <a:ext cx="1656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6"/>
          <p:cNvSpPr/>
          <p:nvPr/>
        </p:nvSpPr>
        <p:spPr>
          <a:xfrm>
            <a:off x="3995640" y="4292640"/>
            <a:ext cx="1943280" cy="934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енностно-смысловых устано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 rot="5400000">
            <a:off x="2771640" y="3141360"/>
            <a:ext cx="1800360" cy="216000"/>
          </a:xfrm>
          <a:custGeom>
            <a:avLst/>
            <a:gdLst>
              <a:gd name="textAreaLeft" fmla="*/ 281160 w 1800360"/>
              <a:gd name="textAreaRight" fmla="*/ 1575360 w 180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 rot="5400000">
            <a:off x="5292720" y="3213000"/>
            <a:ext cx="1800000" cy="21600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В структуре планируемых результатов выделяются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8360" y="1600200"/>
          <a:ext cx="7991280" cy="4721400"/>
        </p:xfrm>
        <a:graphic>
          <a:graphicData uri="http://schemas.openxmlformats.org/drawingml/2006/table">
            <a:tbl>
              <a:tblPr/>
              <a:tblGrid>
                <a:gridCol w="2590920"/>
                <a:gridCol w="2736720"/>
                <a:gridCol w="2663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ГДЕ приводя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ЦЕНКА ДОСТИЖ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целевые установки и основные ожидаемые результаты основного общего образ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ояснительных записках к планируемым результатам по каждой учебной или междисциплинарной программ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ходе процедур, допускающих предоставление и использование исключительно неперсонифицирован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уемые результаты освоения учебных и междисциплинарных программ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одятся в блоках «Выпускник научится» и «Выпускник получит возможность научиться»  к каждому разделу учебной программы и отдельных междисциплинарных  Програм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писанным процедур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ифицированная информ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ланируемые результаты освоения учебных и междисциплинарных программ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26"/>
          <p:cNvSpPr/>
          <p:nvPr/>
        </p:nvSpPr>
        <p:spPr>
          <a:xfrm>
            <a:off x="324000" y="1413000"/>
            <a:ext cx="1800000" cy="143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рмирование 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6"/>
          <p:cNvSpPr/>
          <p:nvPr/>
        </p:nvSpPr>
        <p:spPr>
          <a:xfrm>
            <a:off x="4643280" y="1413000"/>
            <a:ext cx="1800360" cy="143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ы учебно-исследовательской и проект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6"/>
          <p:cNvSpPr/>
          <p:nvPr/>
        </p:nvSpPr>
        <p:spPr>
          <a:xfrm>
            <a:off x="6877080" y="1413000"/>
            <a:ext cx="1727280" cy="143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ы смыслового чтения и работа с тек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6"/>
          <p:cNvSpPr/>
          <p:nvPr/>
        </p:nvSpPr>
        <p:spPr>
          <a:xfrm>
            <a:off x="2411280" y="1413000"/>
            <a:ext cx="1871640" cy="143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рмирование ИКТ-компетентности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>
            <a:off x="2268360" y="3213000"/>
            <a:ext cx="2089440" cy="3384720"/>
          </a:xfrm>
          <a:custGeom>
            <a:avLst/>
            <a:gdLst>
              <a:gd name="textAreaLeft" fmla="*/ 101880 w 2089440"/>
              <a:gd name="textAreaRight" fmla="*/ 1987560 w 2089440"/>
              <a:gd name="textAreaTop" fmla="*/ 101880 h 3384720"/>
              <a:gd name="textAreaBottom" fmla="*/ 3282840 h 3384720"/>
            </a:gdLst>
            <a:ahLst/>
            <a:rect l="textAreaLeft" t="textAreaTop" r="textAreaRight" b="textAreaBottom"/>
            <a:pathLst>
              <a:path w="21600" h="34988">
                <a:moveTo>
                  <a:pt x="3600" y="0"/>
                </a:moveTo>
                <a:arcTo wR="3600" hR="3600" stAng="16200000" swAng="-5400000"/>
                <a:lnTo>
                  <a:pt x="0" y="31388"/>
                </a:lnTo>
                <a:arcTo wR="3600" hR="3600" stAng="10800000" swAng="-5400000"/>
                <a:lnTo>
                  <a:pt x="18000" y="349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>
              <a:spcBef>
                <a:spcPts val="300"/>
              </a:spcBef>
              <a:buClr>
                <a:srgbClr val="49031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коммуникация и социальное взаимодейств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оиск и организация хранения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анализ информации, математическая обработка данных в исследова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моделирование, проектирование и управление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179280" y="3213000"/>
            <a:ext cx="1944720" cy="33847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384720"/>
              <a:gd name="textAreaBottom" fmla="*/ 3290040 h 3384720"/>
            </a:gdLst>
            <a:ahLst/>
            <a:rect l="textAreaLeft" t="textAreaTop" r="textAreaRight" b="textAreaBottom"/>
            <a:pathLst>
              <a:path w="21600" h="37591">
                <a:moveTo>
                  <a:pt x="3600" y="0"/>
                </a:moveTo>
                <a:arcTo wR="3600" hR="3600" stAng="16200000" swAng="-5400000"/>
                <a:lnTo>
                  <a:pt x="0" y="33991"/>
                </a:lnTo>
                <a:arcTo wR="3600" hR="3600" stAng="10800000" swAng="-5400000"/>
                <a:lnTo>
                  <a:pt x="18000" y="37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личностные УУ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регулятивные УУ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коммуникативные УУ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познавательные УУ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6"/>
          <p:cNvSpPr/>
          <p:nvPr/>
        </p:nvSpPr>
        <p:spPr>
          <a:xfrm>
            <a:off x="4572000" y="3213000"/>
            <a:ext cx="2089080" cy="345600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3456000"/>
              <a:gd name="textAreaBottom" fmla="*/ 3354120 h 3456000"/>
            </a:gdLst>
            <a:ahLst/>
            <a:rect l="textAreaLeft" t="textAreaTop" r="textAreaRight" b="textAreaBottom"/>
            <a:pathLst>
              <a:path w="21600" h="35731">
                <a:moveTo>
                  <a:pt x="3600" y="0"/>
                </a:moveTo>
                <a:arcTo wR="3600" hR="3600" stAng="16200000" swAng="-5400000"/>
                <a:lnTo>
                  <a:pt x="0" y="32131"/>
                </a:lnTo>
                <a:arcTo wR="3600" hR="3600" stAng="10800000" swAng="-5400000"/>
                <a:lnTo>
                  <a:pt x="18000" y="35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>
              <a:spcBef>
                <a:spcPts val="3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ланировать и выполнять учебное исследование и учебный про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выбирать и использовать мет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распознавать и ставить вопро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ясно, логично и точно излагать свою точку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отличать факты от суждений, мнений и оцен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6"/>
          <p:cNvSpPr/>
          <p:nvPr/>
        </p:nvSpPr>
        <p:spPr>
          <a:xfrm>
            <a:off x="6804000" y="3213000"/>
            <a:ext cx="2089080" cy="345600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3456000"/>
              <a:gd name="textAreaBottom" fmla="*/ 3354120 h 3456000"/>
            </a:gdLst>
            <a:ahLst/>
            <a:rect l="textAreaLeft" t="textAreaTop" r="textAreaRight" b="textAreaBottom"/>
            <a:pathLst>
              <a:path w="21600" h="35731">
                <a:moveTo>
                  <a:pt x="3600" y="0"/>
                </a:moveTo>
                <a:arcTo wR="3600" hR="3600" stAng="16200000" swAng="-5400000"/>
                <a:lnTo>
                  <a:pt x="0" y="32131"/>
                </a:lnTo>
                <a:arcTo wR="3600" hR="3600" stAng="10800000" swAng="-5400000"/>
                <a:lnTo>
                  <a:pt x="18000" y="35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Работа с текстом: поиск информации и понимание прочитанн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Работа с текстом: преобразование и интерпретация информ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Работа с текстом: оценка информ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29242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3640" y="29242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29242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7640" y="29242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Что формировали, работая по старым стандартам, а что будем формировать в рамках ФГОС ОО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39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Назвать раздел, с текстом которого работала груп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 Познакомить присутствующих с планируемыми результатами данного разде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 Представить мнение группы о том, какие учебные действия формировали всегда, а какие – будем формировать в рамках ФГО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 Ответить на вопросы слушателей, выслушать их мнение по данной проблем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Планируемые результаты учебных программ по всем предметам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8483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истема оценки достижения планируемых результатов освоения ООП ОО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0" t="22280" r="0" b="8416"/>
          <a:stretch/>
        </p:blipFill>
        <p:spPr>
          <a:xfrm>
            <a:off x="539640" y="1773360"/>
            <a:ext cx="8131320" cy="4225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343240" y="141300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УКТУРА РАЗ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истема оценки достижения планируемых результатов освоения ООП ОО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55736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 оценки достижения планируемых результа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ключает в себя две согласованные между собой системы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565360"/>
            <a:ext cx="2376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0" y="2492280"/>
            <a:ext cx="2376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3068640"/>
            <a:ext cx="2448000" cy="2089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це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уществляе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ешн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 отнош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 школ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ужбами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270828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ВНЕШНЯЯ ОЦ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263700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ВНУТРЕННЯЯ ОЦ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997360"/>
            <a:ext cx="2448000" cy="2160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це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уществляе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колой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учающими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дагог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дминистраци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7"/>
          <p:cNvSpPr/>
          <p:nvPr/>
        </p:nvSpPr>
        <p:spPr>
          <a:xfrm rot="7380600">
            <a:off x="4674240" y="3991320"/>
            <a:ext cx="838080" cy="325440"/>
          </a:xfrm>
          <a:custGeom>
            <a:avLst/>
            <a:gdLst>
              <a:gd name="textAreaLeft" fmla="*/ 130680 w 838080"/>
              <a:gd name="textAreaRight" fmla="*/ 733320 w 83808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724280"/>
            <a:ext cx="1656000" cy="13687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7"/>
          <p:cNvSpPr/>
          <p:nvPr/>
        </p:nvSpPr>
        <p:spPr>
          <a:xfrm rot="3801600">
            <a:off x="3407400" y="3955320"/>
            <a:ext cx="768240" cy="325440"/>
          </a:xfrm>
          <a:custGeom>
            <a:avLst/>
            <a:gdLst>
              <a:gd name="textAreaLeft" fmla="*/ 119880 w 768240"/>
              <a:gd name="textAreaRight" fmla="*/ 672480 w 76824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Категории, основные объекты, процедуры оценивания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95280" y="1413000"/>
          <a:ext cx="8280360" cy="5075280"/>
        </p:xfrm>
        <a:graphic>
          <a:graphicData uri="http://schemas.openxmlformats.org/drawingml/2006/table">
            <a:tbl>
              <a:tblPr/>
              <a:tblGrid>
                <a:gridCol w="1982880"/>
                <a:gridCol w="2985840"/>
                <a:gridCol w="3311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атегор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бъект оцен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роцедура оцен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ая оценка подготовки выпуск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содержания блоков «Выпускник научится» всех изучаемых програм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ая аттестация выпуск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1440" indent="-27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результатов деятельности образовательных учреждений и работников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освоения основной образовательной программы, составляющие содержание блоков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ыпускник научится» и «Выпускник получит возможность научиться» всех изучаемых пр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редитация образовательных учреждений, аттестация педагогических кадров, а также мониторинговые исследования разного уров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стояния и тенденций развития систем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целевые установки и основные ожидаемые результаты основного общего образования, составляющие содержание первых, целевых блоков планируемых результатов всех изучаемых пр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овые исследования разного уровня. При этом дополнительно используются обобщённые данные, полученные по результатам итоговой оценки, аккредитации образовательных учреждений и аттестации педагогических кад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Внешняя  оценка планируемых результатов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9640" y="1413000"/>
          <a:ext cx="8064720" cy="5049720"/>
        </p:xfrm>
        <a:graphic>
          <a:graphicData uri="http://schemas.openxmlformats.org/drawingml/2006/table">
            <a:tbl>
              <a:tblPr/>
              <a:tblGrid>
                <a:gridCol w="1295640"/>
                <a:gridCol w="2232000"/>
                <a:gridCol w="453708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, КТ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те (в начале 5-го класс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мках регионального мониторинга качества  образования силами региональных структур оценки качества образ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ь готовность пятиклассников обучаться на следующей ступени школьного образ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е аккредитации образовательн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ами региональной службы по контролю и надзору в сфере образования с привлечением общественных институтов независимой оценки качеств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ь возможности образовательного учреждения выполнить взятые на себя обязательства в рамках  созданной основной  образовательной  программы основного  общего  образования и дать оценку достижений запланированных образовательных результатов всеми субъектами О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мках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й  итоговой аттестации (9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ами региональной службы по контролю и надзору в сфере образования с привлечением общественных институтов независимой оценки качеств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м государственной итоговой аттестац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ия обучающимися основной образовательной программы основного общего обра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яются достижения предметных и метапредметных результатов освоения основной образовательной программы основного общего образования в рамках учебных дисциплин, необходимых для продолж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51280" y="1268280"/>
            <a:ext cx="4619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чащийся должен показать умение формулировать гипотезу, определять цели и задачи своего исследования, выстраивать процесс реализации проекта, рассчитывать необходимый ресурс, получать нужный результат и проводить итоговую презентацию. </a:t>
            </a:r>
            <a:br>
              <a:rPr sz="22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.М.Кондак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93364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нутренняя оценка планируемых результатами силами ОУ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2060640"/>
            <a:ext cx="1944720" cy="403236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4032360"/>
              <a:gd name="textAreaBottom" fmla="*/ 3937680 h 4032360"/>
            </a:gdLst>
            <a:ahLst/>
            <a:rect l="textAreaLeft" t="textAreaTop" r="textAreaRight" b="textAreaBottom"/>
            <a:pathLst>
              <a:path w="21600" h="44783">
                <a:moveTo>
                  <a:pt x="3600" y="0"/>
                </a:moveTo>
                <a:arcTo wR="3600" hR="3600" stAng="16200000" swAng="-5400000"/>
                <a:lnTo>
                  <a:pt x="0" y="41183"/>
                </a:lnTo>
                <a:arcTo wR="3600" hR="3600" stAng="10800000" swAng="-5400000"/>
                <a:lnTo>
                  <a:pt x="18000" y="44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87640" y="1557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Внутренняя оц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едметных и метапредметных результатов 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2205000"/>
            <a:ext cx="2448000" cy="107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ртовое, теку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формирую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3500280"/>
            <a:ext cx="2448000" cy="107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межуто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итогово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ценив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4869000"/>
            <a:ext cx="2448000" cy="1079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тог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истема оценки достижения планируемых результатов освоения ООП ОО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95280" y="4221000"/>
          <a:ext cx="8137440" cy="2243160"/>
        </p:xfrm>
        <a:graphic>
          <a:graphicData uri="http://schemas.openxmlformats.org/drawingml/2006/table">
            <a:tbl>
              <a:tblPr/>
              <a:tblGrid>
                <a:gridCol w="4070520"/>
                <a:gridCol w="406692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сновные 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сновной 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ация образовательного процесс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 достижение планируемых результатов и обеспечение эффективной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ной связ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зволяющей осуществлять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образовательным процессо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Стандарта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ые конкретизируются 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ланируемых результата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своения обучающимися основной образовательной программы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го общего образ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097080" cy="231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539640" y="1484280"/>
            <a:ext cx="4753080" cy="2592360"/>
          </a:xfrm>
          <a:prstGeom prst="rect">
            <a:avLst/>
          </a:prstGeom>
          <a:solidFill>
            <a:srgbClr val="0000ff"/>
          </a:solidFill>
          <a:ln w="22320">
            <a:solidFill>
              <a:srgbClr val="00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соответствии с ФГО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стема оценки планируем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зульта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воения основной образов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ы включа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ичностный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етапредмет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дметный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Особенности оценки личностных результатов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2679" t="1570" r="0" b="0"/>
          <a:stretch/>
        </p:blipFill>
        <p:spPr>
          <a:xfrm>
            <a:off x="539640" y="2492280"/>
            <a:ext cx="7993080" cy="4032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26920" y="1413000"/>
            <a:ext cx="7056720" cy="100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ым объектом оценки личностны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жит    сформ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ФРАГМЕНТ ООП ФГОС ООО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ОУ СОШ №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11280" y="1828800"/>
            <a:ext cx="7696080" cy="5029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627280" y="1412280"/>
            <a:ext cx="30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дел 2.1.1.1. ООП ОО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Особенности оценки личностных результатов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09480" y="1600200"/>
          <a:ext cx="7925040" cy="4540320"/>
        </p:xfrm>
        <a:graphic>
          <a:graphicData uri="http://schemas.openxmlformats.org/drawingml/2006/table">
            <a:tbl>
              <a:tblPr/>
              <a:tblGrid>
                <a:gridCol w="1514520"/>
                <a:gridCol w="6410520"/>
              </a:tblGrid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результаты формиру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реализации всех компонентов образовательного процесса, включая внеурочную деятельность, реализуемую семьёй и школ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оценки личност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универсальных учебных действий, включаемых в следующие три основных бло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 сформирован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 гражданской идентич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ич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 готовность к переходу к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бразованию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снове учебно-познавательной мотивац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 том числе готовность к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у направления профильного образова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 сформирован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х компетенц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ключая ценностно-смысловые установки и моральные нормы, опыт социальных и межличностных отношений, правосозн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личностных достиж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носятся на итоговую оценку обучающихся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являются предметом оценки эффективности воспитательно-образовательной деятельности образовательного учреждения и образовательных систем разного уров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результатов образователь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в ходе внешних неперсонифицированных мониторинговых исследований на основе централизованно разработанного инструмент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04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Оценка метапредметных результат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610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метапредметных результатов представляет собой оценку достижения планируемых результатов освоения основной образовательной программы, представленных в разде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гулятивные универсальные учебные действия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ммуникативные универсальные учебные действия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знавательные универсальные учебные действ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граммы формирования универсальных учебных действий, а так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емых результ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ставленных во всех разделах междисциплинарных учеб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Особенности оценки метапредметных результатов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825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объектом оценки метапредметных результатов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и готовность к освоению систематических знаний, их самостоятельному пополнению, переносу и интегр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сотрудничеству и коммун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решению личностно и социально значимых проблем и воплощению найденных решений в практик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и готовность к использованию ИКТ в целях обучения и разви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самоорганизации, саморегуляции и рефлек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ормы, методы, инструментарий контроля метапредметных результат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9250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сформированности ключевых компетентностей в рамках оценивания  проект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4247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0" y="1096920"/>
          <a:ext cx="8929800" cy="5761080"/>
        </p:xfrm>
        <a:graphic>
          <a:graphicData uri="http://schemas.openxmlformats.org/drawingml/2006/table">
            <a:tbl>
              <a:tblPr/>
              <a:tblGrid>
                <a:gridCol w="1559160"/>
                <a:gridCol w="2754360"/>
                <a:gridCol w="3057480"/>
                <a:gridCol w="882720"/>
                <a:gridCol w="6760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ие планируем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заданий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e4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ный и высокий уровни достижения отличаются по полноте освоения планируемых результатов, уровню овладения учебными действиями и сформированностью интересов к данной предметной облас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</a:tr>
              <a:tr h="7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ие учебных действий с опорной системой знаний в рамках диапазона (круга) выделенных задач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ый уровень для продолжения обучения на следующей ступени образования, но не по профильному направлению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ж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систематической базовой подготовки,  обучающимся не освоено даже и половины планируемых результатов, которые осваивает большинство обучающихся,  имеются значительные пробелы в знаниях, дальнейшее обучение затруднено. При этом обучающийся может выполнять отдельные задания повышенного уровня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ая группа обучающихся  требует специальной диагностики затруднений в обучении, пробелов в системе знаний и оказании целенаправленной помощи в достижении базового уровн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только отдельных фрагментарных знаний по предмету, дальнейшее обучение практически невозмож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имся требуется специальная помощь не только по учебному предмету, но и по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ормированию мотивации к обучению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азвитию интереса к изучаемой предметной области, пониманию значимости предмета для жизни и др. Только наличие положительной мотивации может стать основой ликвидации пробелов в обучении для данной группы обучающихс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24000" y="18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ровневый подход к оценке достижений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редмет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526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ИТОГОВАЯ ОЦЕНК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43923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ов внутришкольного мониторинга образовательных достижений по всем предметам, зафиксированных в оценочных листах, в том числе за промежуточные и итоговые комплексные работы на межпредметной осно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к за выполнение итоговых работ по всем учебным предме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и за выполнение и защиту индивидуального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к за работы, выносимые на государственную итоговую аттестацию (т.е. ГИ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1557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тоговая оценка выпускника формируется на основе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667640" y="5300640"/>
            <a:ext cx="1008000" cy="1224000"/>
          </a:xfrm>
          <a:prstGeom prst="irregularSeal1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Нормативно-правовая основа  разработки и существования ООП  в ОУ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он Российской Федерации "Об  образовании в РФ"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  ред. Федерального закона от 29 декабря 2012 г. N 273-ФЗ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основного общего образовани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енный приказом Министерства образования и науки Российской Федерации от 17 декабря 2010 г. N 1897  (Зарегистрирован Министерством юстиции Российской Федерации 1 февраля 2011 г. регистрационный N 19644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новление Главного государственного санитарного врача Российской Федерац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29 декабря 2010 г. N 189 г. Москва «Об утверждении СанПиН 2.4.2.2821-1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анитарно-эпидемиологические требования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регистрировано  в   Минюсте    РФ 3 марта 2011 г. Регистрационный N 1999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каз   Министерства образования и науки Российской Федерации от 4 октября 2010 №986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регистрирован в Минюсте РФ 3 февраля 2011 г. Регистрационный N 1968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Об утверждении Федеральных требований к образовательным учреждениям в части минимальной оснащенности учебного процесса и оборудования учебных помещени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каз   Министерства образования и науки Российской Федерации от 28 декабря 2010 № 2106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регистрирован в Минюсте РФ 2 февраля 2011 г. Регистрационный N 19676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Об утверждении Федеральных требований к образовательным учреждениям в части охраны здоровья обучающихся, воспитанник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ПОЯСНИТЕЛЬНАЯ ЗАПИСКА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ООП ФГОС ОО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11280" y="2060640"/>
          <a:ext cx="3527280" cy="407484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Каково назначение данного структурного компонента ООП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Что собой представляет ООП (что это за документ, каково его предназначение)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Каковы основания для разработ­ки ООП ОУ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Какова структура и содержание ООП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Какова цель, на достижение ко­торой направлена данная ООП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539640" y="1413000"/>
            <a:ext cx="5688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Вопросы к Пояснительной запис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4402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Rockwell"/>
              </a:rPr>
              <a:t>Но, если говорить предельно просто, какие бы прекрасные законы мы ни принимали, главным в системе образования по-прежнему остаётся Учитель – Учитель с большой буквы. Только талантливые, только современные и только неравнодушные преподаватели могут воспитать хорошо образованного и, что не менее важно, просто достойного человека.</a:t>
            </a:r>
            <a:r>
              <a:rPr b="0" lang="ru-RU" sz="2400" spc="-1" strike="noStrike">
                <a:solidFill>
                  <a:srgbClr val="660033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"/>
              </a:rPr>
              <a:t>Д.А.Медвед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2AD9-8C62-44A8-B4A1-D8CE7758A6A9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E10A0-997C-4E04-B5D6-3DAAC910C6AC}" type="datetime8">
              <a:rPr lang="en-US"/>
              <a:t>07/30/26 14: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00"/>
                </a:solidFill>
                <a:latin typeface="Goudy Stout"/>
              </a:rPr>
              <a:t>СПАСИБО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Федеральный закон Российской Федерации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от 29 декабря 2012 г. N 273-ФЗ</a:t>
            </a:r>
            <a:br>
              <a:rPr sz="1900"/>
            </a:b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"Об образовании в Российской Федерации" 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тья 12. Образовательные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Образовательные про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пределяют содержание образования. Содержание образования должно содействовать взаимопониманию и сотрудничеству между людьми, народами независимо от расовой, национальной, этнической, религиозной и социальной принадлежност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 основным образовательным программам относят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основные общеобразовательные программы - образовательные программы дошкольного образования, образовательные программы начального общего образования, образовательные программы основного общего образования, образовательные программы среднего обще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Образовательные про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амостоятельно разрабатываются и утверждаются организацией, осуществляющей образовательную деятельность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9000" y="1451160"/>
            <a:ext cx="5626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нят Государственной Думой 21 декабря 2012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обрен Советом Федерации 26 декабря 2012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а 1. Общие 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озиции в «Законе об образовании в РФ»,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торые содержательно поддерживаю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ГОС ОО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792504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50920" y="1484280"/>
            <a:ext cx="223200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зможность выб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ебных курсов как в О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ак и вне 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68360" y="2133720"/>
            <a:ext cx="2232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ругие О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нешкольные О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чреждения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6227640" y="1484280"/>
            <a:ext cx="2592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креди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5867280" y="1844640"/>
            <a:ext cx="281016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правле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 содержатель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ценку образовате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грамм, а не на присво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тату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3132000" y="4869000"/>
            <a:ext cx="2737080" cy="180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станционное образ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тевое взаимо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250920" y="3284640"/>
            <a:ext cx="2376360" cy="143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мативно-подушев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250920" y="5157720"/>
            <a:ext cx="2376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ет особен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443640" y="5013360"/>
            <a:ext cx="2376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6443640" y="3068640"/>
            <a:ext cx="2376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ценка каче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395280" y="3789360"/>
            <a:ext cx="2521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инансовые механиз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целевое финансиро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ограммы развит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разовательное кредит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так дале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95280" y="5445000"/>
            <a:ext cx="2448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лучения 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етьми с ограничен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зможност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доров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348000" y="5445000"/>
            <a:ext cx="2305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расшир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змож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ндивидуа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разов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6012000" y="3573360"/>
            <a:ext cx="25938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ерех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т распре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татусов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одержате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ценке результа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6300720" y="5373720"/>
            <a:ext cx="2305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сшир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лномоч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личие компетен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060640"/>
            <a:ext cx="1873080" cy="1800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ЗИЦИИ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 rot="20445000">
            <a:off x="5292720" y="2349360"/>
            <a:ext cx="574560" cy="21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"/>
          <p:cNvSpPr/>
          <p:nvPr/>
        </p:nvSpPr>
        <p:spPr>
          <a:xfrm rot="12329400">
            <a:off x="2843280" y="2275920"/>
            <a:ext cx="574560" cy="215640"/>
          </a:xfrm>
          <a:custGeom>
            <a:avLst/>
            <a:gdLst>
              <a:gd name="textAreaLeft" fmla="*/ 89640 w 574560"/>
              <a:gd name="textAreaRight" fmla="*/ 502920 w 57456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rot="8067000">
            <a:off x="2935440" y="4193280"/>
            <a:ext cx="1150920" cy="21600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 rot="5400000">
            <a:off x="4105440" y="4184640"/>
            <a:ext cx="574560" cy="21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7"/>
          <p:cNvSpPr/>
          <p:nvPr/>
        </p:nvSpPr>
        <p:spPr>
          <a:xfrm rot="1375200">
            <a:off x="5364000" y="3500280"/>
            <a:ext cx="574920" cy="216000"/>
          </a:xfrm>
          <a:custGeom>
            <a:avLst/>
            <a:gdLst>
              <a:gd name="textAreaLeft" fmla="*/ 89640 w 574920"/>
              <a:gd name="textAreaRight" fmla="*/ 503280 w 5749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 rot="2806200">
            <a:off x="4845600" y="4091400"/>
            <a:ext cx="1114200" cy="220680"/>
          </a:xfrm>
          <a:custGeom>
            <a:avLst/>
            <a:gdLst>
              <a:gd name="textAreaLeft" fmla="*/ 173880 w 1114200"/>
              <a:gd name="textAreaRight" fmla="*/ 975240 w 1114200"/>
              <a:gd name="textAreaTop" fmla="*/ 55080 h 220680"/>
              <a:gd name="textAreaBottom" fmla="*/ 165600 h 220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9037200">
            <a:off x="2987640" y="3573360"/>
            <a:ext cx="574560" cy="21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сновная образовательная программа основного общего образования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ООП ОО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4869000"/>
            <a:ext cx="1800000" cy="18000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130" name="AutoShape 26"/>
          <p:cNvSpPr/>
          <p:nvPr/>
        </p:nvSpPr>
        <p:spPr>
          <a:xfrm>
            <a:off x="539640" y="1557360"/>
            <a:ext cx="7848720" cy="720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Локальный нормативный документ, описывающий содержание образования и механизм реализации требований ФГОС ООО в 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6"/>
          <p:cNvSpPr/>
          <p:nvPr/>
        </p:nvSpPr>
        <p:spPr>
          <a:xfrm>
            <a:off x="1258920" y="2708280"/>
            <a:ext cx="511164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рабатывается ОУ самостоя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1116000" y="3284640"/>
            <a:ext cx="273672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соответствии с федераль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осударствен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разователь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тандарт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4067280" y="3284640"/>
            <a:ext cx="27367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 учетом соответствующ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мерных основ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разовательных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ст.12, п.7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6"/>
          <p:cNvSpPr/>
          <p:nvPr/>
        </p:nvSpPr>
        <p:spPr>
          <a:xfrm>
            <a:off x="3419640" y="4797360"/>
            <a:ext cx="5111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еспечивает реализацию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2916360" y="5157720"/>
            <a:ext cx="273672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 учетом типа и вида О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просов учас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бразовате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це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5796000" y="5157720"/>
            <a:ext cx="309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соответствии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оторым осуществля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рганизация образовательно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изводственно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вленческого процессов в 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 rot="9115800">
            <a:off x="6371640" y="2565360"/>
            <a:ext cx="1150920" cy="21600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7"/>
          <p:cNvSpPr/>
          <p:nvPr/>
        </p:nvSpPr>
        <p:spPr>
          <a:xfrm rot="5400000">
            <a:off x="7019640" y="3357360"/>
            <a:ext cx="1800360" cy="216000"/>
          </a:xfrm>
          <a:custGeom>
            <a:avLst/>
            <a:gdLst>
              <a:gd name="textAreaLeft" fmla="*/ 281160 w 1800360"/>
              <a:gd name="textAreaRight" fmla="*/ 1575360 w 180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 соответствии с требованиями ФГОС ООО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20080" y="1512000"/>
            <a:ext cx="4914360" cy="52020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ОП О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826920" y="2708280"/>
            <a:ext cx="2880000" cy="22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яз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7"/>
          <p:cNvSpPr/>
          <p:nvPr/>
        </p:nvSpPr>
        <p:spPr>
          <a:xfrm rot="18527400">
            <a:off x="2448720" y="2167920"/>
            <a:ext cx="574560" cy="360360"/>
          </a:xfrm>
          <a:custGeom>
            <a:avLst/>
            <a:gdLst>
              <a:gd name="textAreaLeft" fmla="*/ 89640 w 574560"/>
              <a:gd name="textAreaRight" fmla="*/ 502920 w 574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7"/>
          <p:cNvSpPr/>
          <p:nvPr/>
        </p:nvSpPr>
        <p:spPr>
          <a:xfrm rot="14863800">
            <a:off x="5041080" y="2167560"/>
            <a:ext cx="574560" cy="360360"/>
          </a:xfrm>
          <a:custGeom>
            <a:avLst/>
            <a:gdLst>
              <a:gd name="textAreaLeft" fmla="*/ 89640 w 574560"/>
              <a:gd name="textAreaRight" fmla="*/ 502920 w 574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1692360" y="5373720"/>
            <a:ext cx="3600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яется при разработ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ждого раздела О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5076720" y="2708280"/>
            <a:ext cx="2662200" cy="1511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6012000" y="3789360"/>
            <a:ext cx="2662200" cy="187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еспечивает различ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просы обучающих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 том числе этнокультурны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5219640" y="3213000"/>
            <a:ext cx="309564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Часть, формируем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аст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59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Требования к структуре основной образовательной программы основного общего образования — преемственность и развити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ГОС ОО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. Требования к структуре основной 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468360" y="2060640"/>
            <a:ext cx="3384360" cy="143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ГОС НОО: СТРУКТУРА О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ОП НОО ДОЛЖ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ДЕРЖАТЬ СЛЕДУЮЩИЕ РАЗД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5148360" y="2060640"/>
            <a:ext cx="3456000" cy="143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ГОС ООО: СТРУКТУРА О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ОО ДОЛЖ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ДЕРЖАТЬ ТРИ РАЗДЕ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708280"/>
            <a:ext cx="3744720" cy="3960720"/>
          </a:xfrm>
          <a:custGeom>
            <a:avLst/>
            <a:gdLst>
              <a:gd name="textAreaLeft" fmla="*/ 182520 w 3744720"/>
              <a:gd name="textAreaRight" fmla="*/ 3562200 w 3744720"/>
              <a:gd name="textAreaTop" fmla="*/ 182520 h 3960720"/>
              <a:gd name="textAreaBottom" fmla="*/ 3778200 h 3960720"/>
            </a:gdLst>
            <a:ahLst/>
            <a:rect l="textAreaLeft" t="textAreaTop" r="textAreaRight" b="textAreaBottom"/>
            <a:pathLst>
              <a:path w="21600" h="22846">
                <a:moveTo>
                  <a:pt x="3600" y="0"/>
                </a:moveTo>
                <a:arcTo wR="3600" hR="3600" stAng="16200000" swAng="-5400000"/>
                <a:lnTo>
                  <a:pt x="0" y="19246"/>
                </a:lnTo>
                <a:arcTo wR="3600" hR="3600" stAng="10800000" swAng="-5400000"/>
                <a:lnTo>
                  <a:pt x="18000" y="228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Планируемые результат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освоения обучающимися О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Учебный пл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Программа формирования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универсальных учебных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действий (УУ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Программы конкретных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учебных предметов ( КУ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Программа духовно –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равственного развития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учаю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Программа формирования культур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Программа коррекционн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.Система оценки достижения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своения ООП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852640"/>
            <a:ext cx="4032360" cy="381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1. Целевой разд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 u="sng">
                <a:solidFill>
                  <a:srgbClr val="490310"/>
                </a:solidFill>
                <a:uFillTx/>
                <a:latin typeface="Arial"/>
                <a:hlinkClick r:id="rId1" action="ppaction://hlinksldjump"/>
              </a:rPr>
              <a:t>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Планируемые результ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Система оценки достижения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2. Содержательный разд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Программа развития У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Программы отдельных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ебных предметов, к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Программы воспитания и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Программа коррекционной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3.Организационный разд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Учебный план ОО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Система условий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«Красные нити» ООП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1484280"/>
            <a:ext cx="45352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Концепция УМ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цели, задачи, результаты, подход, содержание, технологии, формы, средств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оциальный заказ родителе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цели, результаты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содержание, формы, средств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Традиции школ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цели, задачи, результаты, содержание, технологии, формы, средств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B2AD-B1BC-4E6E-A3C4-063782280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5:27:30Z</dcterms:created>
  <dc:creator>natasha</dc:creator>
  <dc:description/>
  <dc:language>en-US</dc:language>
  <cp:lastModifiedBy>natasha</cp:lastModifiedBy>
  <dcterms:modified xsi:type="dcterms:W3CDTF">2013-11-25T15:13:36Z</dcterms:modified>
  <cp:revision>89</cp:revision>
  <dc:subject/>
  <dc:title>Слайд 1</dc:title>
</cp:coreProperties>
</file>