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88E-AB34-40F6-BE6A-47B090C9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38E-A976-4711-848A-FD6AB62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65A-6736-4872-90A0-8DBFB225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E5E-2E72-4A1D-AAFF-E5E405AE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857A-70B3-4D3E-ACF3-2C579057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3A1D-8A26-4B3D-8130-32126A91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4829-E1DA-4816-AC5D-E86F93A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3445-25A7-4713-B056-34297F6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B85B-2223-4077-991D-E7BC80BB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692-FD17-41D7-8538-3ACB445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5A3-54CE-4E34-80DA-D954DC4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8E7-A78F-4914-A5E3-6C3873A8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224-E8CE-4C7E-B42B-55394C5E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69B-E908-4F8A-BC0A-02F9512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D4FC-C056-4D4E-8C6A-07C2F42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E4B1-AF32-485E-82AE-67B32F8E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67D-8573-44DE-9B61-32C25005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E28-33C4-4DC7-963F-EF1BA6E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AC8-8B36-4AC2-8FEF-D7A2301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E5D-B1E4-46B3-9C7C-0B0977D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305-76C9-43F5-938F-C2B0D98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125-916B-4156-A8A7-211520B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B53-B95B-4933-97C5-1BA3456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461-95A2-4F7B-A98C-C4738AD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EF0E-4A21-419A-B94E-2B1A33E25F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A0F-2B7C-48D1-B744-51C125B7F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хнология хранения тов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0058"/>
                </a:solidFill>
                <a:latin typeface="Comic Sans MS"/>
              </a:rPr>
              <a:t>Рассмотреть основные этапы и условия хранения товаров в магазин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го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танавливаемый производителем период, по истечении которого товар считается непригодным для использования по назначению. Устанавливая срок годности, изготовитель должен гарантировать при соблюдении условий хранения, соответствие товара требованиям безопасности для жизни и здоровья потреб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реализ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, до которой товар может предлагаться потребителю для использования по назначению и до которой он не теряет своих потребительских свойств. Срок реализации устанавливают с учётом некоторого разумного периода хранения товаров в домашни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ежим хранения тов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тносительная влажно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отношение количества водяного пара, содержащегося в воздухе, к наибольшему количеству пара, насыщающего воздух при данной температуре, выраженное в процентах. Средняя влажность при хранении 60-7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няя температура  хранения 12-18 градус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пературу и относительную влажность воздуха в помещениях контролируют специальными приборами-термометрами и психрометр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вышеной влажности помещение отапливают, проветривают, используют влагопоглащяющие сред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ниженой влажности воздух в помещении увлажня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ранение товаров поизводятт с учётом их физико-химических свойств, соблюдения правильного товарного соседства, исключающего возможность вредного воздействия товаров друг на друга(передача запахов, влаг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ываются сроки хранения и реализации и.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состоянием товаров, их качеством, необходимо вести постоянное наблюдение и ух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обходимо следить за сроком годности това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омещении для хранения товаров необходимо соблюдать санитарный реж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116000" y="1844640"/>
            <a:ext cx="7272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1. Какие основные принципы технологии хранения товаров в магазин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2. Как необходимо размещать товары на хра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3. Какие вы узнали методы укладки товаров на хра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4. Что такое срок хранения това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5. Какие существуют режимы хранения това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ы для самоконтрол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сем спасибо за работ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рок оконче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41300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евое государственное образовательное учреждение начального профессионального образования профессиональное училище № 9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 Солонешн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032520" cy="24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f0000"/>
                </a:solidFill>
                <a:latin typeface="Comic Sans MS"/>
              </a:rPr>
              <a:t>Предмет: Организация  и технология розничной торгов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012000" y="5157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те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кова С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ассмотрим следующи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Основные принципы технологии хранения товаров в магаз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Размещение товаров на хра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Методы укладки товаров на хра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Сроки хранения това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Режимы хранения това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979640" y="333360"/>
            <a:ext cx="511344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е товар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1197000"/>
            <a:ext cx="259236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товаро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хран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132000" y="1197000"/>
            <a:ext cx="251964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хра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6012000" y="1197000"/>
            <a:ext cx="288108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и ух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овар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3"/>
          <p:cNvSpPr/>
          <p:nvPr/>
        </p:nvSpPr>
        <p:spPr>
          <a:xfrm rot="5400000">
            <a:off x="1097640" y="1357920"/>
            <a:ext cx="647640" cy="248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 rot="5400000">
            <a:off x="7272360" y="3176640"/>
            <a:ext cx="432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5"/>
          <p:cNvSpPr/>
          <p:nvPr/>
        </p:nvSpPr>
        <p:spPr>
          <a:xfrm rot="5400000">
            <a:off x="6876360" y="1340280"/>
            <a:ext cx="1224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6"/>
          <p:cNvSpPr/>
          <p:nvPr/>
        </p:nvSpPr>
        <p:spPr>
          <a:xfrm rot="5400000">
            <a:off x="7031160" y="4138560"/>
            <a:ext cx="9144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7"/>
          <p:cNvSpPr/>
          <p:nvPr/>
        </p:nvSpPr>
        <p:spPr>
          <a:xfrm rot="5400000">
            <a:off x="3969720" y="3814560"/>
            <a:ext cx="91440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42920" y="2565000"/>
            <a:ext cx="720720" cy="2448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9"/>
          <p:cNvSpPr/>
          <p:nvPr/>
        </p:nvSpPr>
        <p:spPr>
          <a:xfrm rot="5400000">
            <a:off x="4030920" y="1305360"/>
            <a:ext cx="79236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23"/>
          <p:cNvSpPr/>
          <p:nvPr/>
        </p:nvSpPr>
        <p:spPr>
          <a:xfrm rot="5400000">
            <a:off x="7272360" y="2455560"/>
            <a:ext cx="432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4"/>
          <p:cNvSpPr/>
          <p:nvPr/>
        </p:nvSpPr>
        <p:spPr>
          <a:xfrm rot="5400000">
            <a:off x="3969720" y="2517480"/>
            <a:ext cx="91440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6836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41497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b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397440" y="2349360"/>
            <a:ext cx="21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табельный способ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396360" y="364500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елажный способ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61440" y="2421000"/>
            <a:ext cx="256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здание оптимальног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жим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3350520" y="3645000"/>
            <a:ext cx="19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бодный выбор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3060360" y="4869000"/>
            <a:ext cx="27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репление постоянного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6168600" y="2349360"/>
            <a:ext cx="26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истка от ржавчин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смазывание машинны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сл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6591960" y="3716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мо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5"/>
          <p:cNvSpPr/>
          <p:nvPr/>
        </p:nvSpPr>
        <p:spPr>
          <a:xfrm>
            <a:off x="6591960" y="45086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влаг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6374880" y="5300640"/>
            <a:ext cx="24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солнечног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ета, пы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азмещение товара на хра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мещаемые на хранение товары группируют по признаку однородности режимов хра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азмещении на хранение учитываются правила товарного сосед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азмещении товара на хранение применяют стеллажный и штабельный методы укла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пособы укладки товаров в та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ая уклад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63528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76364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76364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70036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7200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70036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70036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57200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63528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76364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363528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457200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Перекрёстная укл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187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12400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99564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12400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059280" y="3429000"/>
            <a:ext cx="18730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187280" y="3429000"/>
            <a:ext cx="1872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059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059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99564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493236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5867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4932360" y="3429000"/>
            <a:ext cx="187164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93236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867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Обратная укл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няется для товаров упакованных в меш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826920" y="5013360"/>
            <a:ext cx="163512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48436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4284720" y="5013360"/>
            <a:ext cx="156204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419640" y="5013360"/>
            <a:ext cx="86508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586728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680400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826920" y="458136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1692360" y="458136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2627280" y="4581360"/>
            <a:ext cx="165744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284720" y="4653000"/>
            <a:ext cx="914400" cy="409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5148360" y="4653000"/>
            <a:ext cx="914400" cy="411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556000" y="4149720"/>
            <a:ext cx="91440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826920" y="4149720"/>
            <a:ext cx="180036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6084720" y="4653000"/>
            <a:ext cx="1582920" cy="411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3419640" y="4149720"/>
            <a:ext cx="91440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4284720" y="4221000"/>
            <a:ext cx="172872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6012000" y="422100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6877080" y="422100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хра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иод, в течении которого свойства товара, указанные в нормативной или технической документации, не изменгяются( при соблюдении установленых условий их хранения). По истечению этого срока товар пригоден для потребления, однако его потребительские характеристики могут быть сниже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5:19:24Z</dcterms:created>
  <dc:creator>User</dc:creator>
  <dc:description/>
  <dc:language>en-US</dc:language>
  <cp:lastModifiedBy>DNA7 X86</cp:lastModifiedBy>
  <dcterms:modified xsi:type="dcterms:W3CDTF">2013-10-28T09:00:02Z</dcterms:modified>
  <cp:revision>9</cp:revision>
  <dc:subject/>
  <dc:title>Технология хранения товаров</dc:title>
</cp:coreProperties>
</file>