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1B6-2559-45C5-8F9F-D05A764C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DE2-B073-4127-8653-B943F710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57D-8987-49CE-B893-0264CC80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455-92FB-40EB-A59A-D7841DBB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474C-9092-4B01-8D5A-C67906ED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B074-F481-46E6-B716-F2E39061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1D36-7716-496C-940A-E1B36E61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7FC2-3F98-44FE-AA25-D1107278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3A6F-6EE4-4455-B71A-1E5728C2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643A-3483-4F93-95C6-CF23DEA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E4B7-0964-48F1-A02F-9239098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C5D-CE49-4874-8348-27051ECB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F010-180C-4776-B37A-D912B66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7411-C753-4786-ABDE-834211B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8D90-C137-4A68-B859-A8F01406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E8A2-6B53-4B8C-A10F-7EB6B0BE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73D7-68C5-4FF5-9DCA-5FD33075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A05-9797-4FA7-B4E3-985216E1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6FA-827C-4ABE-826D-76AA077D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AA0-9BDE-4206-8845-71765E0F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E1F-E747-4657-B7EB-4536B061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D99-1092-4B6E-863E-B42FC78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02B-6BDA-4236-9BA0-94B410A7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F99-BADC-405F-8865-9072438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F422-377B-4D5F-A90A-9EF9A6AA37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74C5-925A-4725-9A8A-7898BDF2CE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хнология хранения тов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ль урок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0058"/>
                </a:solidFill>
                <a:latin typeface="Comic Sans MS"/>
              </a:rPr>
              <a:t>Рассмотреть основные этапы и условия хранения товаров в магазин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рок год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станавливаемый производителем период, по истечении которого товар считается непригодным для использования по назначению. Устанавливая срок годности, изготовитель должен гарантировать при соблюдении условий хранения, соответствие товара требованиям безопасности для жизни и здоровья потребит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рок реализ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та, до которой товар может предлагаться потребителю для использования по назначению и до которой он не теряет своих потребительских свойств. Срок реализации устанавливают с учётом некоторого разумного периода хранения товаров в домашних услови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Режим хранения тов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тносительная влажност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отношение количества водяного пара, содержащегося в воздухе, к наибольшему количеству пара, насыщающего воздух при данной температуре, выраженное в процентах. Средняя влажность при хранении 60-7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едняя температура  хранения 12-18 градус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76960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пературу и относительную влажность воздуха в помещениях контролируют специальными приборами-термометрами и психрометр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повышеной влажности помещение отапливают, проветривают, используют влагопоглащяющие сред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пониженой влажности воздух в помещении увлажня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ранение товаров поизводятт с учётом их физико-химических свойств, соблюдения правильного товарного соседства, исключающего возможность вредного воздействия товаров друг на друга(передача запахов, влаг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ываются сроки хранения и реализации и.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 состоянием товаров, их качеством, необходимо вести постоянное наблюдение и ухо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обходимо следить за сроком годности това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омещении для хранения товаров необходимо соблюдать санитарный реж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116000" y="1844640"/>
            <a:ext cx="72723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1. Какие основные принципы технологии хранения товаров в магазин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2. Как необходимо размещать товары на хранени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3. Какие вы узнали методы укладки товаров на хранени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4. Что такое срок хранения товар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0050"/>
                </a:solidFill>
                <a:latin typeface="Comic Sans MS"/>
              </a:rPr>
              <a:t>5. Какие существуют режимы хранения товар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ы для самоконтрол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сем спасибо за работу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Урок оконче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41300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евое государственное образовательное учреждение начального профессионального образования профессиональное училище № 9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. Солонешно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565000"/>
            <a:ext cx="6032520" cy="24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f0000"/>
                </a:solidFill>
                <a:latin typeface="Comic Sans MS"/>
              </a:rPr>
              <a:t>Предмет: Организация  и технология розничной торговл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6012000" y="515772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подавате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кова С.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Рассмотрим следующи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Основные принципы технологии хранения товаров в магаз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Размещение товаров на хран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Методы укладки товаров на хран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Сроки хранения това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50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0050"/>
                </a:solidFill>
                <a:latin typeface="Comic Sans MS"/>
              </a:rPr>
              <a:t>Режимы хранения това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1979640" y="333360"/>
            <a:ext cx="511344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ение товар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79280" y="1197000"/>
            <a:ext cx="2592360" cy="79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щение товаро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хран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132000" y="1197000"/>
            <a:ext cx="2519640" cy="79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хран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6012000" y="1197000"/>
            <a:ext cx="2881080" cy="79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и ух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товар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3"/>
          <p:cNvSpPr/>
          <p:nvPr/>
        </p:nvSpPr>
        <p:spPr>
          <a:xfrm rot="5400000">
            <a:off x="1097640" y="1357920"/>
            <a:ext cx="647640" cy="248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 rot="5400000">
            <a:off x="7272360" y="3176640"/>
            <a:ext cx="432000" cy="295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5"/>
          <p:cNvSpPr/>
          <p:nvPr/>
        </p:nvSpPr>
        <p:spPr>
          <a:xfrm rot="5400000">
            <a:off x="6876360" y="1340280"/>
            <a:ext cx="1224000" cy="295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6"/>
          <p:cNvSpPr/>
          <p:nvPr/>
        </p:nvSpPr>
        <p:spPr>
          <a:xfrm rot="5400000">
            <a:off x="7031160" y="4138560"/>
            <a:ext cx="914400" cy="295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17"/>
          <p:cNvSpPr/>
          <p:nvPr/>
        </p:nvSpPr>
        <p:spPr>
          <a:xfrm rot="5400000">
            <a:off x="3969720" y="3814560"/>
            <a:ext cx="914400" cy="2879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8"/>
          <p:cNvSpPr/>
          <p:nvPr/>
        </p:nvSpPr>
        <p:spPr>
          <a:xfrm rot="5400000">
            <a:off x="1042920" y="2565000"/>
            <a:ext cx="720720" cy="2448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9"/>
          <p:cNvSpPr/>
          <p:nvPr/>
        </p:nvSpPr>
        <p:spPr>
          <a:xfrm rot="5400000">
            <a:off x="4030920" y="1305360"/>
            <a:ext cx="792360" cy="2879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23"/>
          <p:cNvSpPr/>
          <p:nvPr/>
        </p:nvSpPr>
        <p:spPr>
          <a:xfrm rot="5400000">
            <a:off x="7272360" y="2455560"/>
            <a:ext cx="432000" cy="295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24"/>
          <p:cNvSpPr/>
          <p:nvPr/>
        </p:nvSpPr>
        <p:spPr>
          <a:xfrm rot="5400000">
            <a:off x="3969720" y="2517480"/>
            <a:ext cx="914400" cy="2879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6836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24000" y="41497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b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397440" y="2349360"/>
            <a:ext cx="218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Штабельный способ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396360" y="3645000"/>
            <a:ext cx="20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елажный способ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3061440" y="2421000"/>
            <a:ext cx="256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здание оптимальног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жима хран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7"/>
          <p:cNvSpPr/>
          <p:nvPr/>
        </p:nvSpPr>
        <p:spPr>
          <a:xfrm>
            <a:off x="3350520" y="3645000"/>
            <a:ext cx="190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вободный выбор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ста хран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3060360" y="4869000"/>
            <a:ext cx="27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репление постоянного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ста хран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1"/>
          <p:cNvSpPr/>
          <p:nvPr/>
        </p:nvSpPr>
        <p:spPr>
          <a:xfrm>
            <a:off x="6168600" y="2349360"/>
            <a:ext cx="26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чистка от ржавчин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смазывание машинны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сло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3"/>
          <p:cNvSpPr/>
          <p:nvPr/>
        </p:nvSpPr>
        <p:spPr>
          <a:xfrm>
            <a:off x="6591960" y="3716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щита от мол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45"/>
          <p:cNvSpPr/>
          <p:nvPr/>
        </p:nvSpPr>
        <p:spPr>
          <a:xfrm>
            <a:off x="6591960" y="450864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щита от влаг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7"/>
          <p:cNvSpPr/>
          <p:nvPr/>
        </p:nvSpPr>
        <p:spPr>
          <a:xfrm>
            <a:off x="6374880" y="5300640"/>
            <a:ext cx="247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щита от солнечног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вета, пыл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Размещение товара на хра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мещаемые на хранение товары группируют по признаку однородности режимов хра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размещении на хранение учитываются правила товарного сосед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размещении товара на хранение применяют стеллажный и штабельный методы уклад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пособы укладки товаров в тар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ямая уклад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635280" y="429264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763640" y="429264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763640" y="3357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700360" y="429264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572000" y="429264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700360" y="3357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2700360" y="242100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572000" y="3357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3635280" y="242100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1763640" y="242100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3635280" y="3357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4572000" y="242100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Перекрёстная укла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18728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12400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399564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12400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18728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059280" y="3429000"/>
            <a:ext cx="18730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187280" y="3429000"/>
            <a:ext cx="18720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05928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305928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99564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493236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5867280" y="436572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4932360" y="3429000"/>
            <a:ext cx="187164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93236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867280" y="2492280"/>
            <a:ext cx="9144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Обратная укла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меняется для товаров упакованных в меш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826920" y="5013360"/>
            <a:ext cx="163512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2484360" y="5013360"/>
            <a:ext cx="91440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4284720" y="5013360"/>
            <a:ext cx="156204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3419640" y="5013360"/>
            <a:ext cx="86508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5867280" y="5013360"/>
            <a:ext cx="91440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6804000" y="5013360"/>
            <a:ext cx="914400" cy="482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826920" y="4581360"/>
            <a:ext cx="91440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1692360" y="4581360"/>
            <a:ext cx="91440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2627280" y="4581360"/>
            <a:ext cx="165744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4284720" y="4653000"/>
            <a:ext cx="914400" cy="4096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5148360" y="4653000"/>
            <a:ext cx="914400" cy="411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556000" y="4149720"/>
            <a:ext cx="914400" cy="4809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826920" y="4149720"/>
            <a:ext cx="1800360" cy="4809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6084720" y="4653000"/>
            <a:ext cx="1582920" cy="411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3419640" y="4149720"/>
            <a:ext cx="914400" cy="4809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4284720" y="4221000"/>
            <a:ext cx="172872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21"/>
          <p:cNvSpPr/>
          <p:nvPr/>
        </p:nvSpPr>
        <p:spPr>
          <a:xfrm>
            <a:off x="6012000" y="4221000"/>
            <a:ext cx="91440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22"/>
          <p:cNvSpPr/>
          <p:nvPr/>
        </p:nvSpPr>
        <p:spPr>
          <a:xfrm>
            <a:off x="6877080" y="4221000"/>
            <a:ext cx="914400" cy="4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рок хра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иод, в течении которого свойства товара, указанные в нормативной или технической документации, не изменгяются( при соблюдении установленых условий их хранения). По истечению этого срока товар пригоден для потребления, однако его потребительские характеристики могут быть сниже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5:19:24Z</dcterms:created>
  <dc:creator>User</dc:creator>
  <dc:description/>
  <dc:language>en-US</dc:language>
  <cp:lastModifiedBy>DNA7 X86</cp:lastModifiedBy>
  <dcterms:modified xsi:type="dcterms:W3CDTF">2013-10-28T09:00:02Z</dcterms:modified>
  <cp:revision>9</cp:revision>
  <dc:subject/>
  <dc:title>Технология хранения товаров</dc:title>
</cp:coreProperties>
</file>