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FC5-CA31-4B2A-93B6-AD23B2F6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869-1C58-4B8B-8CB1-10F028FB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955-891D-406A-A26A-9FA82B40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FA5-0C1D-4735-A506-48127DAE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AD4A-F61B-4B15-9F6A-42EE495C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B72B-F7FD-44BF-9A07-FD53A6C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3C15-57B0-4E16-897E-E2202E9A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C350-AE65-42CF-897A-A6B7B4F1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8F01-819B-4400-8D43-173608FB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98C8-8549-460A-9194-8FB1A784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780-0D28-443D-AFBC-D551304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1C7-A178-4CF7-A317-36D74D52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4D50-AEE5-4797-9857-DB160A1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8755-4FD6-452B-ACC7-9FF59C92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E418-1F84-4FAC-9D63-BB5B4FD7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BA5F-3B56-40B4-95B9-1FB0143A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A256-1655-4894-8B1E-5C3C9935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0B7-2F86-490D-A0CB-11259BC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6B9-5EB1-4603-AD71-D44272F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322-9D99-43F2-96D6-3F30CDC1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F82-7EE1-4100-9CAE-996724B7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B1F-9B11-418C-9546-7FCED944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985-2DC6-4E7F-9969-42DF6A63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8B0-E824-4BDA-8897-03A3671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9068-D5BD-4D98-AEFC-C39D8E895F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2382-FA1B-4DF1-9873-041974FD43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77120" cy="2925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Юный эрудит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 для 2 коман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исьменное долговое обязательство. 2. Согласие на оплату денежных и товарных документов. 3. Масса товара без упаков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Часть бухгалтерского баланса, отражающая все принадлежащие предприятию материальные ценности. 5. Источник информации, отражающей в денежном выражении состояние имущества организации по составу и размещению. 6. Часть отчета бухгалтерского учета. 7. Упаковка, предназначенная для хранения това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Остаток на счете. 9. Денежные средства, полученные организацией за проданный това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онкурс 4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«Составить баланс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для  коман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4. «Нематериальные активы»-20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6. «Расчеты по краткосрочным кредитам и займам»-535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. «Основное производство»-95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4. «Нераспределенная прибыль»-96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«Материалы»-42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0. «Уставной капитал»-15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. «Касса»-485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онкурс 5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«Конкурс капитанов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46353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6960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питаны команд соревнуются в задании Плана счетов бухгалтерского учета. Им предлагается вытащить из мешка бочонок с номером счета. Тот капитан, который даст больше правильных ответов, принесет дополнительные баллы своей команд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59920"/>
            <a:ext cx="37720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Игра со зрителям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284720" y="2205000"/>
            <a:ext cx="40384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199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lvl="1" marL="65376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Поздравляем победителе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411360" cy="3276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808360" y="60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онкурс 1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Угада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лово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2353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для 1 коман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268280"/>
          <a:ext cx="7696080" cy="4635720"/>
        </p:xfrm>
        <a:graphic>
          <a:graphicData uri="http://schemas.openxmlformats.org/drawingml/2006/table">
            <a:tbl>
              <a:tblPr/>
              <a:tblGrid>
                <a:gridCol w="717480"/>
                <a:gridCol w="4897440"/>
                <a:gridCol w="2081160"/>
              </a:tblGrid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евая сторона баланс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нная бумаг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тепенный износ основных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вичный документ, которым оформляется поступление и отпуск това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кумент, который должен быть зарегистрирован в Книге учета продаж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3040" y="6165360"/>
            <a:ext cx="932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о первым буквам вы прочтете слово, которое обозначает предварительную о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для 2 коман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268280"/>
          <a:ext cx="7696080" cy="4656240"/>
        </p:xfrm>
        <a:graphic>
          <a:graphicData uri="http://schemas.openxmlformats.org/drawingml/2006/table">
            <a:tbl>
              <a:tblPr/>
              <a:tblGrid>
                <a:gridCol w="717480"/>
                <a:gridCol w="4897440"/>
                <a:gridCol w="208116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кумент, удостоверяющий качество това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стема мероприятий по изучению рынка и возможности воздействия на покупательный спро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меньшение количества товарно-материальных ценностей при хране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меты, предназначены для упаковки продук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нежная сумма, выдаваемая в счет предстоящих платеж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332000" y="606528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 первым буквам вы прочтете название документа по исчислению предстоящих расходов и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онкурс 2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5905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Реши-ка задачку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880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для 1 коман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ча № 1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бочему предоставлен отпуск на 28 календарных дней, с 10 ноября. Его заработок за 12 предшествующих календарных месяцев составил 67540 т.р. Расчетный период отработан полностью. Определить оплату за дни отпус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ча №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ие налоговые счета предоставляются: -на одного ребенка, на 2 ребенка, на 3 ребенка и последующих дет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для 2 коман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ча №1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бочий повременщик 4 разряда отработал в марте 267 часов. Часовая тарифная ставка по этому разряду 42 р. Определить его заработок за месяц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ча №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бочий имеет заработную плату 12000 т.р. в месяц, имеет двух несовершеннолетних детей. Произвести налоговые выче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онкурс 3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Кроссворд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00720" y="2133720"/>
          <a:ext cx="4170240" cy="39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417024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 для 1 команд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числение себестоимости единицы произведенной продукции или выполненных работ. 2. Единица измерения. 3. Место, где каждый месяц получают зарплату. 4. Правая сторона баланса. 5. «Место жительства» расчетного сче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Левая сторона баланса. 7. Деловая бумага, подтверждающая какой-нибудь факт или право на что-нибудь. 8. Элемент метода бухгалтерского учета. 9. «Весы» бухгалтер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6:42:04Z</dcterms:created>
  <dc:creator>ГОУ СПО МЭК</dc:creator>
  <dc:description/>
  <dc:language>en-US</dc:language>
  <cp:lastModifiedBy>ГОУ СПО МЭК</cp:lastModifiedBy>
  <dcterms:modified xsi:type="dcterms:W3CDTF">2013-02-12T06:18:32Z</dcterms:modified>
  <cp:revision>3</cp:revision>
  <dc:subject/>
  <dc:title>«Юный эрудит»</dc:title>
</cp:coreProperties>
</file>