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15975-FBFB-4BFF-B3FA-4A9FC5B77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EE03-0802-4FCF-87E9-9BB20A5A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5AAE-ECD4-4E46-9177-3C727754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EF64-4847-4661-AA7B-B57BB7916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FFE67-F900-41F4-86BB-6FE6AB93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2525-532D-465E-BEB7-0C708AB7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2DDB-064B-4B20-B58B-4994D68F6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0EF9-0D99-4179-A20E-58818D730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4660-1860-4F81-84B8-358C74BC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26F7-FE95-4E5A-865D-354E998A8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5ADA-23F9-4446-8D7E-B0317F3AF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510C-4D8F-4329-8FA7-7FDC89C76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cc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19AC2-5621-4FD0-A331-5D8AE3E98F8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685800" y="1600200"/>
            <a:ext cx="8458200" cy="28954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Запрещающие 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 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знаки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     </a:t>
            </a: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Arial Black"/>
              </a:rPr>
              <a:t>в  природе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5"/>
          <p:cNvGraphicFramePr/>
          <p:nvPr/>
        </p:nvGraphicFramePr>
        <p:xfrm>
          <a:off x="304920" y="685800"/>
          <a:ext cx="5371920" cy="510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371920" cy="510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Rectangle 6"/>
          <p:cNvSpPr/>
          <p:nvPr/>
        </p:nvSpPr>
        <p:spPr>
          <a:xfrm>
            <a:off x="5791320" y="685800"/>
            <a:ext cx="304776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лови и не уноси домой здоровых птенцов птиц и детёнышей звере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приро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 них позаботятся взрослые живо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8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3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Object 4"/>
          <p:cNvGraphicFramePr/>
          <p:nvPr/>
        </p:nvGraphicFramePr>
        <p:xfrm>
          <a:off x="304920" y="838080"/>
          <a:ext cx="5105160" cy="495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838080"/>
                    <a:ext cx="5105160" cy="49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Rectangle 6"/>
          <p:cNvSpPr/>
          <p:nvPr/>
        </p:nvSpPr>
        <p:spPr>
          <a:xfrm>
            <a:off x="5410080" y="457200"/>
            <a:ext cx="3505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подходить близко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 гнёздам птиц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 твоим следам гнёзда могут отыскать и разорить хищн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касайся к гнёзду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аче птицы-родит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огут совсем покинуть ег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8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880"/>
                            </p:stCondLst>
                            <p:childTnLst>
                              <p:par>
                                <p:cTn id="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8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nodeType="afterEffect" fill="hold">
                            <p:stCondLst>
                              <p:cond delay="4440"/>
                            </p:stCondLst>
                            <p:childTnLst>
                              <p:par>
                                <p:cTn id="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528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6080"/>
                            </p:stCondLst>
                            <p:childTnLst>
                              <p:par>
                                <p:cTn id="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5410080" y="838080"/>
            <a:ext cx="3505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бери с собой в лес весной 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начале лет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ак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а может поймат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лохо летающих птенцов и беспомощных детёнышей звер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4"/>
          <p:cNvGraphicFramePr/>
          <p:nvPr/>
        </p:nvGraphicFramePr>
        <p:xfrm>
          <a:off x="304920" y="914400"/>
          <a:ext cx="5029200" cy="50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914400"/>
                    <a:ext cx="5029200" cy="50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3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8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960"/>
                            </p:stCondLst>
                            <p:childTnLst>
                              <p:par>
                                <p:cTn id="9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8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440"/>
                            </p:stCondLst>
                            <p:childTnLst>
                              <p:par>
                                <p:cTn id="1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8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5410080" y="533520"/>
            <a:ext cx="35053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льзя мыть в водоёмах машины, мотоциклы, мопеды и даже велосипеды (некоторые их части тоже смазаны машинным маслом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этого могут погибнуть мальки рыб и другие обитатели водоё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Object 4"/>
          <p:cNvGraphicFramePr/>
          <p:nvPr/>
        </p:nvGraphicFramePr>
        <p:xfrm>
          <a:off x="304920" y="762120"/>
          <a:ext cx="51544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51544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0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8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5080"/>
                            </p:stCondLst>
                            <p:childTnLst>
                              <p:par>
                                <p:cTn id="1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8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5334120" y="990720"/>
            <a:ext cx="350496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икогда не выбрасыва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воду мусора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 оставляй его и на берегу, потому чт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бере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н может легк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асть в 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4"/>
          <p:cNvGraphicFramePr/>
          <p:nvPr/>
        </p:nvGraphicFramePr>
        <p:xfrm>
          <a:off x="304920" y="685800"/>
          <a:ext cx="517500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685800"/>
                    <a:ext cx="517500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232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364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960"/>
                            </p:stCondLst>
                            <p:childTnLst>
                              <p:par>
                                <p:cTn id="17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6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7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" dur="80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4480"/>
                            </p:stCondLst>
                            <p:childTnLst>
                              <p:par>
                                <p:cTn id="1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4" dur="80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Екатерина</dc:creator>
  <dc:description/>
  <dc:language>en-US</dc:language>
  <cp:lastModifiedBy>Екатерина</cp:lastModifiedBy>
  <dcterms:modified xsi:type="dcterms:W3CDTF">2013-11-25T15:13:4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