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077C8-9FB6-4030-A7FF-48F76107B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4F2C-85B6-4A5F-97DA-F383649E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6BFC-9564-4836-92A9-569C56A1A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818-DFD3-429F-835E-80BB56BE3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8848-C5C4-4919-9F90-B3D05E4E3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8E24A-F83C-4742-A63E-12E4C50A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05B-9C6E-46BC-AE90-294CE2078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8D17-9B52-4AD4-951E-0180FA3E0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DEE83-2663-4DCB-B774-0981D0CF0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91E4-1E3A-4854-84E7-364459A1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823D-B22A-4B4F-BEE0-241FC9E54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8EAE-BAA2-48DD-87C9-234CCEE6E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2F44-51A1-4528-B7AB-6E6145B6C31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1600200"/>
            <a:ext cx="8458200" cy="2895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Запрещающие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     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зна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    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в  природ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Object 5"/>
          <p:cNvGraphicFramePr/>
          <p:nvPr/>
        </p:nvGraphicFramePr>
        <p:xfrm>
          <a:off x="304920" y="685800"/>
          <a:ext cx="5371920" cy="51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537192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Rectangle 6"/>
          <p:cNvSpPr/>
          <p:nvPr/>
        </p:nvSpPr>
        <p:spPr>
          <a:xfrm>
            <a:off x="5791320" y="685800"/>
            <a:ext cx="3047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лови и не уноси домой здоровых птенцов птиц и детёнышей зве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них позаботятся взрослые 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304920" y="838080"/>
          <a:ext cx="510516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51051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Rectangle 6"/>
          <p:cNvSpPr/>
          <p:nvPr/>
        </p:nvSpPr>
        <p:spPr>
          <a:xfrm>
            <a:off x="5410080" y="457200"/>
            <a:ext cx="3505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 подходить близ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гнёздам пт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твоим следам гнёзда могут отыскать и разорить хищн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икасайся к гнёз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аче птицы-родит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гут совсем покинуть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44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410080" y="838080"/>
            <a:ext cx="3505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бери с собой в лес весной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але л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а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а может пойм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хо летающих птенцов и беспомощных детёнышей зве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4"/>
          <p:cNvGraphicFramePr/>
          <p:nvPr/>
        </p:nvGraphicFramePr>
        <p:xfrm>
          <a:off x="304920" y="914400"/>
          <a:ext cx="5029200" cy="50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502920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5410080" y="533520"/>
            <a:ext cx="3505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 мыть в водоёмах машины, мотоциклы, мопеды и даже велосипеды (некоторые их части тоже смазаны машинным масл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этого могут погибнуть мальки рыб и другие обитатели водоё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304920" y="762120"/>
          <a:ext cx="51544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5154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5334120" y="990720"/>
            <a:ext cx="3504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гда не выбрасыва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воду мусо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ставляй его и на берегу, потому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бер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может 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асть в в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304920" y="685800"/>
          <a:ext cx="5175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5175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48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катерина</dc:creator>
  <dc:description/>
  <dc:language>en-US</dc:language>
  <cp:lastModifiedBy>Екатерина</cp:lastModifiedBy>
  <dcterms:modified xsi:type="dcterms:W3CDTF">2013-11-25T15:13:4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