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AED6-126E-4214-8CC7-B3AD396E96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8D80F-A8C9-481D-884C-45F0E60BB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F21783-2F00-4F56-8DDB-723F92E2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43F1A-B646-40FF-977C-5046DEE25E2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FBA12E-B6A2-41B8-9F9A-B3063CA6422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823217-AB0C-4D67-9607-A074B6E5F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5C961C-84E0-4CBC-9245-184641BEA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DD944-BC8B-4A5B-A241-281EDF02B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9875-5E85-49EF-9F5F-1617A4F84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6896AE-798E-40EB-9112-1BAA125A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95A81-C623-4CAD-99CC-A7F1FBF56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E8C7E-8D4A-4E89-BB27-5AEAC9CC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36B9D-4516-44E9-9B78-08204E9E5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FEE84-699F-4C1F-9820-985C520FA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1AB75D-2667-4C61-87A5-12CD2EB56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9CE312-B0FD-42F2-B1A4-6988ECDBA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0425A-3A3C-4786-A889-EC6564607D2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AD768-8CCD-47EE-9854-A0871D252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29B20-A8F3-40A1-A507-5CF068CB4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62C96-C16B-4594-AF5E-25FD6352A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61759-5690-4EAB-986E-3E8575143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D95DF1-B3DC-45BC-9792-1C824DC45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5FFCC3-FDE0-42F4-B02C-EB26B483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758B70-AF4D-46EB-B769-0183C2C6A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5AF0E2-6A65-43C9-BAF6-168217DD7A9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cap="sq"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65317-D443-4D62-A0EC-FF6B06E97E10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360" y="333360"/>
            <a:ext cx="7488000" cy="150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school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560" y="36360"/>
            <a:ext cx="8686800" cy="65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When does the school year start in Brit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At what age do British children go to secondary  scho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How long does a lesson in a British school l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Do British students wear a school uni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What are the most popular colours for the school uniform in Brit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Do children in Britain like to wear a school uni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. Do British children learn foreign languages at scho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. What school holidays do British children ha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9. What do children in Britain have in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middle of each te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. How long do these special holidays l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408720" y="4464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1160"/>
            <a:ext cx="6870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The history of the school uniform in Great Brita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358128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's Hospital School in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5120" y="55627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o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for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382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lue Coa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62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blue jackets, knee breeches and yellow stock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was the cheapest dy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ed humility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ир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up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6367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86920"/>
            <a:ext cx="6870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History of the School Uniform in Great Britai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267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Gir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louse, a tunic dress and a pinafo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9th century - most schools had their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343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Times New Roman"/>
              </a:rPr>
              <a:t>Boy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eches/trousers  and a bl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7800" y="2448000"/>
            <a:ext cx="33098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7920"/>
            <a:ext cx="7932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ool unifor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72360" y="692280"/>
            <a:ext cx="2587320" cy="36018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780000" y="1844640"/>
            <a:ext cx="2528640" cy="4332240"/>
            <a:chOff x="3780000" y="1844640"/>
            <a:chExt cx="2528640" cy="433224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780000" y="1844640"/>
              <a:ext cx="252864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80000" y="1844640"/>
              <a:ext cx="2528640" cy="43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9640" y="43354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407280" y="4437000"/>
            <a:ext cx="27367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34640"/>
            <a:ext cx="6870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School Uniform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 Modern Great Britai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02280" cy="397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6019920" cy="400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6019920" cy="398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752480" y="1676520"/>
            <a:ext cx="6019920" cy="450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333360"/>
            <a:ext cx="85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Georgia"/>
              </a:rPr>
              <a:t>I am for the school uni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1413000"/>
            <a:ext cx="5616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Georgia"/>
              </a:rPr>
              <a:t>And what abou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2000" y="2087640"/>
            <a:ext cx="7490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5:58:01Z</dcterms:created>
  <dc:creator>Учитель</dc:creator>
  <dc:description/>
  <dc:language>en-US</dc:language>
  <cp:lastModifiedBy>дом</cp:lastModifiedBy>
  <dcterms:modified xsi:type="dcterms:W3CDTF">2009-10-09T03:07:38Z</dcterms:modified>
  <cp:revision>70</cp:revision>
  <dc:subject/>
  <dc:title>Слайд 1</dc:title>
</cp:coreProperties>
</file>