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41B2A-820A-4203-907D-1AF3324786B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1080"/>
            <a:ext cx="8218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5EF47A-50D1-4E29-AF1A-D67021B60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108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120" y="396108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1514AB-FB91-45A8-A04B-B10438A6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680" y="160020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4160" y="160020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108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680" y="396108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4160" y="396108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01D1C7-E7E2-47F9-9385-6A925FCC71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2DE8D6-1334-4B91-894F-0F01A1DBC9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1844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26CC83-659E-4FBD-98DC-741895321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D9F89B-3FE2-4A3F-806D-96FE4A3D0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E8518A-3726-4330-89D0-E465AA5D9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2A40B0-46BC-4377-B124-23BFB0BB2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7920"/>
            <a:ext cx="821844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9D4234-8EC0-4108-93B8-8476AE046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108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80434B-3799-4148-9F94-9E32CD378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21844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2E67E4-DE83-4236-AAFF-D2830B1AF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120" y="396108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941500-CACE-46A4-BD81-1D2BA739E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1080"/>
            <a:ext cx="8218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FDFA39-2EB6-405D-9EEC-024779385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1080"/>
            <a:ext cx="8218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9D165D-BB30-4FC8-A459-087B18208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108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120" y="396108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075F6B-0E9D-4A19-8241-4A38A9E94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5680" y="160020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4160" y="160020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108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5680" y="396108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4160" y="3961080"/>
            <a:ext cx="26460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BF2ACA-6C5C-4CA4-B145-E09A6B34D2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C9E4B7-9700-4C5A-9EF7-93E339596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D7633-04A8-43DA-A215-146D040BA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7A405-BD3D-470A-BAC7-98F23DD54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7920"/>
            <a:ext cx="8218440" cy="636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18573-4063-43A2-9095-ADA9D528E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108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C6DC9-590B-4CCC-8DC2-C6ADC3C21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120" y="396108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DD360-67EE-41E3-A5FA-256F7681F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120" y="1600200"/>
            <a:ext cx="4010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1080"/>
            <a:ext cx="821844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9EFCB-279F-490B-BC39-C5C4F4C0B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50000">
              <a:srgbClr val="fee7f2"/>
            </a:gs>
            <a:gs pos="100000">
              <a:srgbClr val="fbeac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1844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1680"/>
            <a:ext cx="212256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241680"/>
            <a:ext cx="212256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4F917D-53CB-4DDE-85FB-495DBF4C49C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cap="sq"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1440"/>
          </a:xfrm>
          <a:prstGeom prst="line">
            <a:avLst/>
          </a:prstGeom>
          <a:ln cap="sq"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50000">
              <a:srgbClr val="fee7f2"/>
            </a:gs>
            <a:gs pos="100000">
              <a:srgbClr val="fbeac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cap="sq"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3962520"/>
            <a:ext cx="6512040" cy="1440"/>
          </a:xfrm>
          <a:prstGeom prst="line">
            <a:avLst/>
          </a:prstGeom>
          <a:ln cap="sq"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218440" cy="13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821844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3"/>
          </p:nvPr>
        </p:nvSpPr>
        <p:spPr>
          <a:xfrm>
            <a:off x="457200" y="6241680"/>
            <a:ext cx="212256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Garamond"/>
                <a:ea typeface="Segoe U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  <a:ea typeface="Segoe U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4"/>
          </p:nvPr>
        </p:nvSpPr>
        <p:spPr>
          <a:xfrm>
            <a:off x="6553080" y="6241680"/>
            <a:ext cx="2122560" cy="44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200" spc="-1" strike="noStrike">
                <a:solidFill>
                  <a:srgbClr val="000000"/>
                </a:solidFill>
                <a:latin typeface="Garamond"/>
                <a:ea typeface="Segoe U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4252F1-E2B1-4C02-A675-E0324178B748}" type="slidenum">
              <a:rPr b="0" lang="en-US" sz="1200" spc="-1" strike="noStrike">
                <a:solidFill>
                  <a:srgbClr val="000000"/>
                </a:solidFill>
                <a:latin typeface="Garamond"/>
                <a:ea typeface="Segoe U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684360" y="333360"/>
            <a:ext cx="7488000" cy="1503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British school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50000">
              <a:srgbClr val="fee7f2"/>
            </a:gs>
            <a:gs pos="100000">
              <a:srgbClr val="fbeac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5560" y="36360"/>
            <a:ext cx="8686800" cy="657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1. When does the school year start in Britai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2. At what age do British children go to secondary  school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3. How long does a lesson in a British school las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4. Do British students wear a school uniform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5. What are the most popular colours for the school uniform in Britai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6. Do children in Britain like to wear a school uniform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7. Do British children learn foreign languages at school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8. What school holidays do British children hav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9. What do children in Britain have in t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middle of each term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10. How long do these special holidays las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408720" y="4464000"/>
            <a:ext cx="2286000" cy="171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61760" y="11160"/>
            <a:ext cx="68706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The history of the school uniform in Great Britai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105520" y="1905120"/>
            <a:ext cx="3581280" cy="20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16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ent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rist's Hospital School in Lond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spcBef>
                <a:spcPts val="700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04920" y="175248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905120" y="5562720"/>
            <a:ext cx="289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blu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coa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” for the p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5715000" y="3733920"/>
            <a:ext cx="2382840" cy="289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440" y="150480"/>
            <a:ext cx="6870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The Blue Coa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962520" cy="46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 blue jackets, knee breeches and yellow stocking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ue was the cheapest dye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раск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-3301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showed humility (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мире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pup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120" indent="0">
              <a:spcBef>
                <a:spcPts val="700"/>
              </a:spcBef>
              <a:buNone/>
              <a:tabLst>
                <a:tab algn="l" pos="0"/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648320" y="1523880"/>
            <a:ext cx="363672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1760" y="286920"/>
            <a:ext cx="6870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The History of the School Uniform in Great Britain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2971800"/>
            <a:ext cx="42674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0120" indent="-330120">
              <a:lnSpc>
                <a:spcPct val="90000"/>
              </a:lnSpc>
              <a:spcBef>
                <a:spcPts val="799"/>
              </a:spcBef>
              <a:buClr>
                <a:srgbClr val="00b200"/>
              </a:buClr>
              <a:buFont typeface="Comic Sans MS"/>
              <a:buChar char="•"/>
              <a:tabLst>
                <a:tab algn="l" pos="330120"/>
                <a:tab algn="l" pos="434880"/>
                <a:tab algn="l" pos="884160"/>
                <a:tab algn="l" pos="1333440"/>
                <a:tab algn="l" pos="1782720"/>
                <a:tab algn="l" pos="2232000"/>
                <a:tab algn="l" pos="2681280"/>
                <a:tab algn="l" pos="3130560"/>
                <a:tab algn="l" pos="3579840"/>
                <a:tab algn="l" pos="4029120"/>
                <a:tab algn="l" pos="4478400"/>
                <a:tab algn="l" pos="4927680"/>
                <a:tab algn="l" pos="5376960"/>
                <a:tab algn="l" pos="5826240"/>
                <a:tab algn="l" pos="6275520"/>
                <a:tab algn="l" pos="6724800"/>
                <a:tab algn="l" pos="7174080"/>
                <a:tab algn="l" pos="7623000"/>
                <a:tab algn="l" pos="8072280"/>
                <a:tab algn="l" pos="8521560"/>
                <a:tab algn="l" pos="897084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Arial"/>
              </a:rPr>
              <a:t>Girl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 blouse, a tunic dress and a pinafor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09480" y="182880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19th century - most schools had their uni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09480" y="4343400"/>
            <a:ext cx="480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b200"/>
              </a:buClr>
              <a:buFont typeface="Comic Sans MS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b200"/>
                </a:solidFill>
                <a:latin typeface="Times New Roman"/>
              </a:rPr>
              <a:t>Boys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reeches/trousers  and a bla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257800" y="2448000"/>
            <a:ext cx="3309840" cy="42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50000">
              <a:srgbClr val="fee7f2"/>
            </a:gs>
            <a:gs pos="100000">
              <a:srgbClr val="fbeac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457200" y="277920"/>
            <a:ext cx="7932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School uniform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6372360" y="692280"/>
            <a:ext cx="2587320" cy="3601800"/>
          </a:xfrm>
          <a:prstGeom prst="rect">
            <a:avLst/>
          </a:prstGeom>
          <a:ln w="0">
            <a:noFill/>
          </a:ln>
        </p:spPr>
      </p:pic>
      <p:grpSp>
        <p:nvGrpSpPr>
          <p:cNvPr id="105" name=""/>
          <p:cNvGrpSpPr/>
          <p:nvPr/>
        </p:nvGrpSpPr>
        <p:grpSpPr>
          <a:xfrm>
            <a:off x="3780000" y="1844640"/>
            <a:ext cx="2528640" cy="4332240"/>
            <a:chOff x="3780000" y="1844640"/>
            <a:chExt cx="2528640" cy="4332240"/>
          </a:xfrm>
        </p:grpSpPr>
        <p:pic>
          <p:nvPicPr>
            <p:cNvPr id="106" name="" descr=""/>
            <p:cNvPicPr/>
            <p:nvPr/>
          </p:nvPicPr>
          <p:blipFill>
            <a:blip r:embed="rId3"/>
            <a:stretch/>
          </p:blipFill>
          <p:spPr>
            <a:xfrm>
              <a:off x="3780000" y="1844640"/>
              <a:ext cx="2528640" cy="433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3780000" y="1844640"/>
              <a:ext cx="2528640" cy="433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539640" y="4335480"/>
            <a:ext cx="3168720" cy="22334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6407280" y="4437000"/>
            <a:ext cx="2736720" cy="221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34640"/>
            <a:ext cx="6870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The School Uniform</a:t>
            </a:r>
            <a:br>
              <a:rPr sz="4000"/>
            </a:br>
            <a:r>
              <a:rPr b="0" lang="en-US" sz="4000" spc="-1" strike="noStrike">
                <a:solidFill>
                  <a:srgbClr val="006633"/>
                </a:solidFill>
                <a:latin typeface="Garamond"/>
              </a:rPr>
              <a:t>in Modern Great Britain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752480" y="1676520"/>
            <a:ext cx="6002280" cy="39700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1752480" y="1676520"/>
            <a:ext cx="6019920" cy="4002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1752480" y="1676520"/>
            <a:ext cx="6019920" cy="39830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1752480" y="1676520"/>
            <a:ext cx="6019920" cy="450360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1752480" y="1676520"/>
            <a:ext cx="6019920" cy="45050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1752480" y="1676520"/>
            <a:ext cx="6019920" cy="450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3000" fill="hold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dur="indefinite" fill="hold">
                            <p:stCondLst>
                              <p:cond delay="3000"/>
                            </p:stCondLst>
                            <p:childTnLst>
                              <p:par>
                                <p:cTn id="11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3000" fill="hold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dur="indefinite" fill="hold">
                            <p:stCondLst>
                              <p:cond delay="6000"/>
                            </p:stCondLst>
                            <p:childTnLst>
                              <p:par>
                                <p:cTn id="17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3000" fill="hold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dur="indefinite" fill="hold">
                            <p:stCondLst>
                              <p:cond delay="9000"/>
                            </p:stCondLst>
                            <p:childTnLst>
                              <p:par>
                                <p:cTn id="23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3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3000" fill="hold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dur="indefinite" fill="hold">
                            <p:stCondLst>
                              <p:cond delay="12000"/>
                            </p:stCondLst>
                            <p:childTnLst>
                              <p:par>
                                <p:cTn id="29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3000" fill="hold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dur="indefinite" fill="hold">
                            <p:stCondLst>
                              <p:cond delay="15000"/>
                            </p:stCondLst>
                            <p:childTnLst>
                              <p:par>
                                <p:cTn id="35" dur="indefinite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3000" fill="hold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ac7"/>
            </a:gs>
            <a:gs pos="50000">
              <a:srgbClr val="fee7f2"/>
            </a:gs>
            <a:gs pos="100000">
              <a:srgbClr val="fbeac7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95280" y="333360"/>
            <a:ext cx="85694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1920" indent="-331920">
              <a:lnSpc>
                <a:spcPct val="10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331920"/>
                <a:tab algn="l" pos="779400"/>
                <a:tab algn="l" pos="1228680"/>
                <a:tab algn="l" pos="1677960"/>
                <a:tab algn="l" pos="2127240"/>
                <a:tab algn="l" pos="2576520"/>
                <a:tab algn="l" pos="3025800"/>
                <a:tab algn="l" pos="3475080"/>
                <a:tab algn="l" pos="3924360"/>
                <a:tab algn="l" pos="4373640"/>
                <a:tab algn="l" pos="4822920"/>
                <a:tab algn="l" pos="5272200"/>
                <a:tab algn="l" pos="5721480"/>
                <a:tab algn="l" pos="6170760"/>
                <a:tab algn="l" pos="6620040"/>
                <a:tab algn="l" pos="7068960"/>
                <a:tab algn="l" pos="7518240"/>
                <a:tab algn="l" pos="7967520"/>
                <a:tab algn="l" pos="8416800"/>
                <a:tab algn="l" pos="8866080"/>
                <a:tab algn="l" pos="93153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Georgia"/>
              </a:rPr>
              <a:t>I am for the school uniform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987640" y="1413000"/>
            <a:ext cx="56167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3360" indent="-331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Georgia"/>
              </a:rPr>
              <a:t>And what about you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92000" y="2087640"/>
            <a:ext cx="7490160" cy="4724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5T05:58:01Z</dcterms:created>
  <dc:creator>Учитель</dc:creator>
  <dc:description/>
  <dc:language>en-US</dc:language>
  <cp:lastModifiedBy>дом</cp:lastModifiedBy>
  <dcterms:modified xsi:type="dcterms:W3CDTF">2009-10-09T03:07:38Z</dcterms:modified>
  <cp:revision>70</cp:revision>
  <dc:subject/>
  <dc:title>Слайд 1</dc:title>
</cp:coreProperties>
</file>