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98C7D-2FB3-4A19-8BD0-1D20A981C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4C329-CF5F-4285-A07F-593D46A1B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A4DCC-D909-489C-992C-EEA584031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D1F15-C5C0-49B3-B1C4-1273F0E83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BAC73-016D-4114-8132-B10DC1121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36A8-232E-4A40-83E9-FE9FBC8F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1B6B7-54D9-4EDE-9797-367949E3A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A2276-D88C-4976-9032-7E74A351E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24EA-4FD1-4BBF-A4C8-AC5640984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6108-065D-4ABD-836B-C487A203E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85B4-7DC7-425A-9CEB-61DCCA3D3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677B-0A2C-4DF9-90FD-98E14A8F3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53EB-67BA-4CF9-89E4-D311460CC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51640" y="-1230840"/>
            <a:ext cx="1224000" cy="25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179280" y="6556320"/>
            <a:ext cx="6400800" cy="122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3" name=""/>
          <p:cNvSpPr/>
          <p:nvPr/>
        </p:nvSpPr>
        <p:spPr>
          <a:xfrm>
            <a:off x="468360" y="1150560"/>
            <a:ext cx="7416720" cy="429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Пути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обеспечения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деятельностного</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a:t>
            </a:r>
            <a:r>
              <a:rPr b="1" i="1" lang="en-US" sz="4800" spc="-1" strike="noStrike">
                <a:solidFill>
                  <a:srgbClr val="000000"/>
                </a:solidFill>
                <a:latin typeface="Arial"/>
              </a:rPr>
              <a:t>подхода в обучении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географии</a:t>
            </a:r>
            <a:r>
              <a:rPr b="1" i="1" lang="en-US"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по ФГОС)</a:t>
            </a:r>
            <a:endParaRPr b="0" lang="en-US" sz="3600" spc="-1" strike="noStrike">
              <a:solidFill>
                <a:srgbClr val="000000"/>
              </a:solidFill>
              <a:latin typeface="Arial"/>
            </a:endParaRPr>
          </a:p>
        </p:txBody>
      </p:sp>
      <p:pic>
        <p:nvPicPr>
          <p:cNvPr id="44" name="" descr=""/>
          <p:cNvPicPr/>
          <p:nvPr/>
        </p:nvPicPr>
        <p:blipFill>
          <a:blip r:embed="rId1"/>
          <a:stretch/>
        </p:blipFill>
        <p:spPr>
          <a:xfrm>
            <a:off x="324000" y="4365720"/>
            <a:ext cx="2143080" cy="2143080"/>
          </a:xfrm>
          <a:prstGeom prst="rect">
            <a:avLst/>
          </a:prstGeom>
          <a:ln w="0">
            <a:noFill/>
          </a:ln>
        </p:spPr>
      </p:pic>
      <p:pic>
        <p:nvPicPr>
          <p:cNvPr id="45" name="" descr="10 фактов относительно географических аномалиях Земли (фото)"/>
          <p:cNvPicPr/>
          <p:nvPr/>
        </p:nvPicPr>
        <p:blipFill>
          <a:blip r:embed="rId2"/>
          <a:stretch/>
        </p:blipFill>
        <p:spPr>
          <a:xfrm>
            <a:off x="6372360" y="189000"/>
            <a:ext cx="2471760" cy="185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0" y="188640"/>
            <a:ext cx="8748720" cy="56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r>
              <a:rPr b="1" i="1" lang="ru-RU" sz="2000" spc="-1" strike="noStrike">
                <a:solidFill>
                  <a:srgbClr val="000000"/>
                </a:solidFill>
                <a:latin typeface="Arial"/>
              </a:rPr>
              <a:t>овершенствование обучения в школе элементам картографической грамотности предполагае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а) изучение видов и типов карт, атласов, аэро- и космических снимко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б) освоение языка карты (системы условных знаков, картографические способы изображения, правила генерализ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в) умение работать с картами (чтение, сопоставление, анализ, владение навыками извлечения информации из кар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бучению учащихся знанию карты, ее пониманию, чтению уделяется много внимания в методике обучения географии. Методика формирования    умений    работать    с    картами    различного которые требуют своей дальнейшей разработки в связи с новыми содержания хорошо описана, поэтому мы остановимся лишь на тех аспектах, современными требованиями.</a:t>
            </a:r>
            <a:endParaRPr b="0" lang="en-US" sz="2000" spc="-1" strike="noStrike">
              <a:solidFill>
                <a:srgbClr val="000000"/>
              </a:solidFill>
              <a:latin typeface="Arial"/>
            </a:endParaRPr>
          </a:p>
        </p:txBody>
      </p:sp>
      <p:pic>
        <p:nvPicPr>
          <p:cNvPr id="70" name="" descr="«Вот мы взяли краски в руки и избавились от скуки». Наш девиз."/>
          <p:cNvPicPr/>
          <p:nvPr/>
        </p:nvPicPr>
        <p:blipFill>
          <a:blip r:embed="rId1"/>
          <a:stretch/>
        </p:blipFill>
        <p:spPr>
          <a:xfrm>
            <a:off x="4211640" y="5373720"/>
            <a:ext cx="2736720" cy="129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2000" spc="-1" strike="noStrike">
                <a:solidFill>
                  <a:srgbClr val="000000"/>
                </a:solidFill>
                <a:latin typeface="Arial"/>
              </a:rPr>
              <a:t>Во-первых, это более глубокое овладение учащимися картографическим методом исследования, для чего необходимо предусмотреть выполнение школьниками таких заданий, которые помогали бы им осознать те действия, с помощью которых они находят решени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Наприм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 По карте климатических поясов и областей покажите 2 - 3 территории, где круговорот веществ и энергии происходит особенно интенсивно, а где очень медленно. Чем это объясняетс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2. Совершите путешествие по физической карте Австралии (маршрут выберите сами, в работе используйте и другие карты). Расскажите, какая природа, будет вас окружать и с какой хозяйственной деятельностью вы встретитесь.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73" name="" descr=""/>
          <p:cNvPicPr/>
          <p:nvPr/>
        </p:nvPicPr>
        <p:blipFill>
          <a:blip r:embed="rId1"/>
          <a:stretch/>
        </p:blipFill>
        <p:spPr>
          <a:xfrm>
            <a:off x="1908000" y="4575240"/>
            <a:ext cx="3527640" cy="209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324000" y="333000"/>
            <a:ext cx="8229600" cy="633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о-вторых, необходимо организовать практическую работу с картографическими изображениями, выводимыми на экранах школьных компьютер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настоящее время задача учителя заключается в том, чтобы сделать учебный процесс более значимым для учащегося, представляющим непосредственный, жизненно важный интерес. Он должен отражать реалии сегодняшнего дня, те события, которыми живет вся страна, не быть изолирован от проблем современной жизн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последние годы в практике преподавания географии в средней школе широко применяется прием </a:t>
            </a:r>
            <a:r>
              <a:rPr b="1" i="1" lang="en-US" sz="2000" spc="-1" strike="noStrike" u="sng">
                <a:solidFill>
                  <a:srgbClr val="000000"/>
                </a:solidFill>
                <a:uFillTx/>
                <a:latin typeface="Arial"/>
              </a:rPr>
              <a:t>моделирования</a:t>
            </a:r>
            <a:r>
              <a:rPr b="1" i="1" lang="en-US" sz="2000" spc="-1" strike="noStrike">
                <a:solidFill>
                  <a:srgbClr val="000000"/>
                </a:solidFill>
                <a:latin typeface="Arial"/>
              </a:rPr>
              <a:t> новых карт. Этот прием позволяет учащимся глубже усвоить причинно-следственную зависимость изучаемых явлений природ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Таким образом, карта является необходимым источником знаний, а умение работать с картой: читать ее, анализировать, сопоставлять карты различного содержания, создавать модели новых карт — является одним из основных географических умений, которым должны овладеть учащиеся в процессе обуче­ния географ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1283760" y="620640"/>
            <a:ext cx="7859880" cy="623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дной из актуальных проблем школьно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бразования является е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u="sng">
                <a:solidFill>
                  <a:srgbClr val="000000"/>
                </a:solidFill>
                <a:uFillTx/>
                <a:latin typeface="Arial"/>
              </a:rPr>
              <a:t>компьютеризац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о мнению ряда исследователей, не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лучшего способа изучить поведение географического объекта или явления, чем экспериментировать с его компьютерной моделью. Компьютер имеет большие возможности для демонстрации многих географических процессов и явлений с помощью графических средств изображения (схем, графиков, диаграмм и т.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Компьютерные программы способствуют пониманию и усвоению учащимися главного, существенного в содержании материала, выявлению причинно-следственных связей, формированию знаний о географических закономерностях. Применение компьютерной техники — дело новое, хотя уже создаются географические компьютерные программы.</a:t>
            </a:r>
            <a:endParaRPr b="0" lang="en-US" sz="2000" spc="-1" strike="noStrike">
              <a:solidFill>
                <a:srgbClr val="000000"/>
              </a:solidFill>
              <a:latin typeface="Arial"/>
            </a:endParaRPr>
          </a:p>
        </p:txBody>
      </p:sp>
      <p:pic>
        <p:nvPicPr>
          <p:cNvPr id="78" name="" descr=""/>
          <p:cNvPicPr/>
          <p:nvPr/>
        </p:nvPicPr>
        <p:blipFill>
          <a:blip r:embed="rId1"/>
          <a:stretch/>
        </p:blipFill>
        <p:spPr>
          <a:xfrm>
            <a:off x="179280" y="189000"/>
            <a:ext cx="1584360" cy="19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Еще один тип педагогических программных средств — имитационно-моделирующие программы, предназначенные для выработки навыков решения проблем. В работе с одной программой могут быть заняты сразу несколько учащихся. В этом случае в процессе решения проблем вырабатываются навыки совместного принятия решений. Проблемы должны быть взяты, из жизни и реально быть значимыми для школьников. В имитационно-моделирующих программах формулируется проблема, предлагаются требующие выбора возможные варианты ее решения, представляются последствия каждого из возможных решений. </a:t>
            </a:r>
            <a:endParaRPr b="0" lang="en-US" sz="2400" spc="-1" strike="noStrike">
              <a:solidFill>
                <a:srgbClr val="000000"/>
              </a:solidFill>
              <a:latin typeface="Arial"/>
            </a:endParaRPr>
          </a:p>
        </p:txBody>
      </p:sp>
      <p:pic>
        <p:nvPicPr>
          <p:cNvPr id="81" name="" descr="География"/>
          <p:cNvPicPr/>
          <p:nvPr/>
        </p:nvPicPr>
        <p:blipFill>
          <a:blip r:embed="rId1"/>
          <a:stretch/>
        </p:blipFill>
        <p:spPr>
          <a:xfrm>
            <a:off x="4572000" y="5084640"/>
            <a:ext cx="266400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457200" y="404640"/>
            <a:ext cx="82296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одержание учебных, компьютерных программ обеспечивает работу каждого ученика по индивидуальному плану. Они состоят из нескольких самостоятельных частей, что дает возможность использовать их не только в рамках одного урока, но и всей темы, а также и в разных класса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и выполнении тренировочных упражнений ученик получит немедленное подкрепление правильности ответа. В случае ошибки компьютер проводит корректировку знаний и дает возможность ввести правильный отв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преподавании географии широко применяются наглядные методы. В процессе обучения географии наглядные методы особенно важны, так как чувственное познание по времени предшествует рациональному </a:t>
            </a:r>
            <a:endParaRPr b="0" lang="en-US" sz="2000" spc="-1" strike="noStrike">
              <a:solidFill>
                <a:srgbClr val="000000"/>
              </a:solidFill>
              <a:latin typeface="Arial"/>
            </a:endParaRPr>
          </a:p>
        </p:txBody>
      </p:sp>
      <p:pic>
        <p:nvPicPr>
          <p:cNvPr id="84" name="" descr="«РАДУГА УСПЕХА» Основные направления реализации."/>
          <p:cNvPicPr/>
          <p:nvPr/>
        </p:nvPicPr>
        <p:blipFill>
          <a:blip r:embed="rId1"/>
          <a:stretch/>
        </p:blipFill>
        <p:spPr>
          <a:xfrm>
            <a:off x="2843280" y="4508640"/>
            <a:ext cx="3889440" cy="2074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Главное направление совершенствования наглядных методов — организация деятельности школьников на разных уровнях самостоятельност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Наприме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составить сравнительное описание саванн Африки и Южной Америки - требует от учащихся выполнения работы с широким привлечением иллюстраций учебника, картин, таблиц (Типы почв Земли; Растительный мир материков; Животный мир материк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Использование выше перечисленных приемов поможет учителю реализовать деятельностный подход к обучен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5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уть деятельностного обучения состоит в том, что учитель ставит учебную задачу и организует деятельность учащихся по усвоению способов действий с географическими объектами или их моделями, обучает извлекать из них новые для школьников знан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пример: читать, анализировать тектоническую карту, сопоставлять ее с физической картой для установления связей современного рельефа со строением земной кор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блюдать объекты явлений в природе и на производстве (а также в непроизводственной сфере); работать со схемами, профилями, статистическими показателям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сё это способствуют применению географических знаний и умений в социально значимой работе учащихся, в их общественно-полезной деятельности (прогнозы неблагоприятных явлений в атмосфере, предупреждение роста оврагов, борьба с загрязнением водоемов и т. д.)</a:t>
            </a:r>
            <a:endParaRPr b="0" lang="en-US" sz="2000" spc="-1" strike="noStrike">
              <a:solidFill>
                <a:srgbClr val="000000"/>
              </a:solidFill>
              <a:latin typeface="Arial"/>
            </a:endParaRPr>
          </a:p>
        </p:txBody>
      </p:sp>
      <p:pic>
        <p:nvPicPr>
          <p:cNvPr id="89" name="" descr="Географическая оболочка – область зарождения жизни на Земле, зона активной деятельности человеческого общества. Ей свойствен ряд специфических особенностей. К главным относят целостность и ритмичность, а также непрерывность ее развития."/>
          <p:cNvPicPr/>
          <p:nvPr/>
        </p:nvPicPr>
        <p:blipFill>
          <a:blip r:embed="rId1"/>
          <a:stretch/>
        </p:blipFill>
        <p:spPr>
          <a:xfrm>
            <a:off x="1476360" y="5030640"/>
            <a:ext cx="3456000" cy="16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0" y="333360"/>
            <a:ext cx="8229600" cy="518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Для того чтобы в процессе обучения географии использовать деятельностный подход, необходимы соответствующие материальные условия: оборудование рабочего места ученика, наличие приборов и инструментов (планшет, компас, мерная лента и т. д. для съемки плана местности), наличие тетрадей, атласов, инструкций, планов описаний и характеристик, справочников других источников географической информации.</a:t>
            </a:r>
            <a:endParaRPr b="0" lang="en-US" sz="2800" spc="-1" strike="noStrike">
              <a:solidFill>
                <a:srgbClr val="000000"/>
              </a:solidFill>
              <a:latin typeface="Arial"/>
            </a:endParaRPr>
          </a:p>
        </p:txBody>
      </p:sp>
      <p:pic>
        <p:nvPicPr>
          <p:cNvPr id="92" name="" descr="Домашнее задание. § 34 читать, отвечать на вопросы после §. Сочинение «Охрана атмосферы»."/>
          <p:cNvPicPr/>
          <p:nvPr/>
        </p:nvPicPr>
        <p:blipFill>
          <a:blip r:embed="rId1"/>
          <a:stretch/>
        </p:blipFill>
        <p:spPr>
          <a:xfrm>
            <a:off x="5867280" y="4724280"/>
            <a:ext cx="252108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бразовательные стандарты второго поколения направлены на обновление и даже пере­стройку методического мастерства учителя. Поэтому,  каждому педагогу  необходимо работать над своей компетентностью, развивать методи­ческое мышление и профессиональное самосознани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офессиональная компетентность учителя географии развивается в процессе овладения опы­том педагогической деятельности на основе формирования функциональной и личностной готовности учителя к осуществлению этой деятельности. Компетентность учителя прояв­ляется в его способности и готовности осваи­вать новые концепции предмета, новые педа­гогические технологии, выбирать программу и учебники из нескольких альтернативных, оцени­вать их с позиции методики своего предмета, своих возможностей, типа учебного заведения и особенностей обучаемых школьник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4212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громное значение для нашего образования будет иметь переход на Федеральные государственные образователь­ные стандарты второго поколения (ФГОС), которые исходят из нового социального зака­за общества к этой сфере. Особенно важно отметить две черты новых ФГ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о-первых, гуманистический подход в них преобладает над технологическим. Это значит, что акцент делается, прежде всего, на воспитание широко образованного человека, гражданина постиндустриального информационного обществ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о-вторых, в ФГОС сохранена традиционная для советской и российской школы ориентация на фундамен­тальные научные знания. Об этом свидетель­ствует опора на специально разработанное для каждого предмета «фундаментальное ядро», которое позволит будущим выпускникам школы овладевать высоконаучными инновационными технологиями, необходимыми для повышения конкурентоспособности России на мировом рынке. </a:t>
            </a:r>
            <a:endParaRPr b="0" lang="en-US" sz="2000" spc="-1" strike="noStrike">
              <a:solidFill>
                <a:srgbClr val="000000"/>
              </a:solidFill>
              <a:latin typeface="Arial"/>
            </a:endParaRPr>
          </a:p>
        </p:txBody>
      </p:sp>
      <p:pic>
        <p:nvPicPr>
          <p:cNvPr id="48" name="" descr=""/>
          <p:cNvPicPr/>
          <p:nvPr/>
        </p:nvPicPr>
        <p:blipFill>
          <a:blip r:embed="rId1"/>
          <a:stretch/>
        </p:blipFill>
        <p:spPr>
          <a:xfrm>
            <a:off x="6227640" y="5294160"/>
            <a:ext cx="1584360" cy="156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учебно-воспитательном процессе современный педагог не только организует учебно-воспитательную работу и проектирует образовательный процесс, направляет познавательную деятельность учащихся и контролирует ход и результаты обучения, но осуществляет стимулирующие, реагирующие, организующие педагогические функции. При этом поведение учителя основывается на его профессиональном самосознании, которое определяется уровнем раз­вития методического мышл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етодическое мышление неразрывно связано с методическим мастерством и личностью учителя. Оно определяет способы решения методических задач, выбор педагогических средств (способов мотивации, форм, методов и приемов обучения), индивидуальный стиль общения и отношение к самосовершенствованию. Современный педагог должен иметь широкий кругозор в области содержания учебного предмета и методики его преподавания, уметь вести исследовательскую работу, изучать отечественный и зарубежный опы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826920" y="692280"/>
            <a:ext cx="8661600" cy="568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Методическое мастерство подразумевает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владение системой определенных методически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мений: проектировочных, адаптацион­ны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рганизационных, мотивационны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коммуникативных, контролирующих,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ознаватель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ыделим некоторые пути обновления мето­дического мастерства учителя географ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1. Усиливается роль психологических и дидакти­ческих концепций модернизации среднего обра­зования, знание которых поможет педагогу творчески подойти к выбору программы, учебников, планированию учебного процес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Стандарте второго поколения главной целью образования названо развитие личности учащихся, выдвинуто требование учета их интересов и возможностей. Научное содержание географии рассматривается как база личностного развития </a:t>
            </a:r>
            <a:endParaRPr b="0" lang="en-US" sz="2000" spc="-1" strike="noStrike">
              <a:solidFill>
                <a:srgbClr val="000000"/>
              </a:solidFill>
              <a:latin typeface="Arial"/>
            </a:endParaRPr>
          </a:p>
        </p:txBody>
      </p:sp>
      <p:pic>
        <p:nvPicPr>
          <p:cNvPr id="99" name="" descr=""/>
          <p:cNvPicPr/>
          <p:nvPr/>
        </p:nvPicPr>
        <p:blipFill>
          <a:blip r:embed="rId1"/>
          <a:stretch/>
        </p:blipFill>
        <p:spPr>
          <a:xfrm>
            <a:off x="179280" y="189000"/>
            <a:ext cx="1930680" cy="194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 Одна из задач совершенствования методического мастерства учителя географии — ориентация на формирование не только фундаментальных географических знаний и умений, но и на их прикладной характер. Прикладная роль географических знаний и умений реализуется в форме воспитания у школьников ключевых ком­петенций, т.е. учитель целенаправленно обучает приемам учебной работы, особое внимание уделяет организации самостоятельной познавательной деятельности.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Таким образом, основная идея обновления методического мастерства учителя географии состоит в развитии его умения организовать активную учебно-познавательную деятельность учащихся, формировать творческое мышление школьников на основе их собственной самостоятельной, в том числе исследовательской, деятельности. </a:t>
            </a:r>
            <a:endParaRPr b="0" lang="en-US" sz="2000" spc="-1" strike="noStrike">
              <a:solidFill>
                <a:srgbClr val="000000"/>
              </a:solidFill>
              <a:latin typeface="Arial"/>
            </a:endParaRPr>
          </a:p>
        </p:txBody>
      </p:sp>
      <p:pic>
        <p:nvPicPr>
          <p:cNvPr id="102" name="" descr=""/>
          <p:cNvPicPr/>
          <p:nvPr/>
        </p:nvPicPr>
        <p:blipFill>
          <a:blip r:embed="rId1"/>
          <a:stretch/>
        </p:blipFill>
        <p:spPr>
          <a:xfrm>
            <a:off x="3276720" y="4437000"/>
            <a:ext cx="3095640" cy="23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395280" y="836280"/>
            <a:ext cx="8229600" cy="572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Фундаментальное ядро общего содержания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бразования фиксирует основополагающие элемент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научного знания — ведущие теории, научные идеи и категории, методы научного познания, предназначенные для обязательного изучения, т. е.  фундаментальное ядро по географии определяет объём знаний, которым должен овладеть выпускник школы.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Достижение личности  предметных результатов, определяемых стандартом применительно к освоению основных образовательных программ, обеспечивает примерная программа по географии. Она разработана н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основе предъявляемых стандартом требований к выпускнику.</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Главным материалом для формирования примерных программ являются программы по формированию универсальных учебных действий вместе с фундаментальным ядром содержания общего образования.</a:t>
            </a:r>
            <a:endParaRPr b="0" lang="en-US" sz="1800" spc="-1" strike="noStrike">
              <a:solidFill>
                <a:srgbClr val="000000"/>
              </a:solidFill>
              <a:latin typeface="Arial"/>
            </a:endParaRPr>
          </a:p>
        </p:txBody>
      </p:sp>
      <p:pic>
        <p:nvPicPr>
          <p:cNvPr id="51" name="" descr=""/>
          <p:cNvPicPr/>
          <p:nvPr/>
        </p:nvPicPr>
        <p:blipFill>
          <a:blip r:embed="rId1"/>
          <a:stretch/>
        </p:blipFill>
        <p:spPr>
          <a:xfrm>
            <a:off x="179280" y="260280"/>
            <a:ext cx="2519640" cy="186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1492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68360" y="765000"/>
            <a:ext cx="822960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 базе примерных программ каждый преподаватель может создавать свою рабочую программу. Это поле для творчества, различных комбинаций, касающихся расположения материала, последовательности его изложения, тех или иных понятий, умений, очередности их формирования, формы урока (лабораторная работа, семинар, защита проекта, экскурсия).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ряду с функциональным знанием багаж выпускника современной школы немыслим без системы универсальных учебных действий,  обеспечивающих его функциональную грамотность. Универсальные учебные действия означают умение учиться; это совокупность способов действий учащегося, которые обеспечивают самостоятельное усвоение новых знаний. Универсальные учебные действия позволяют учащимся самостоятельно осуществлять учебную деятельность, ставить учебные цели, искать и использовать необходимые средства и способы их достижения, контролировать и оценивать процесс и результаты деятельности. Поэтому формируемые географические знания должны стать действенными, фундаментом практической деятельности, а умения - основой для формирования ключевых компетенций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457200" y="404280"/>
            <a:ext cx="822960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мение приобретать знания в процессе самостоятельной работы с литературой формируется </a:t>
            </a:r>
            <a:r>
              <a:rPr b="1" i="1" lang="en-US" sz="2000" spc="-1" strike="noStrike" u="sng">
                <a:solidFill>
                  <a:srgbClr val="000000"/>
                </a:solidFill>
                <a:uFillTx/>
                <a:latin typeface="Arial"/>
              </a:rPr>
              <a:t>в процессе работы с учебником, географической и научно-популярной литературы, работы с ресурсами Интерн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чебник относится к информационным средствам обучения</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Он не только обеспечивает усвоение знаний, но и организует самостоятельную учебную деятельность школьни­ков. Учебники нового поколения формируют географическую культуру учащихся, которая включает географические знания и умения, географическое (пространственное) мышление и специфический язык географии, создают яркую и запоминаю­щуюся научную картину мир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Основу учебников географии составляет текст. При работе с объяснительным текстом учащиеся должны выявить причину развития изучаемого явления или объекта, раскрыть причинно-следственные связи, усвоить теорию, научные понятия, законы, принципы, обобщающие мировоззренческие вывод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Для учащихся наиболее приемлем познавательный уровень, включающий в себя наиболее распространенные </a:t>
            </a:r>
            <a:r>
              <a:rPr b="1" i="1" lang="en-US" sz="2000" spc="-1" strike="noStrike" u="sng">
                <a:solidFill>
                  <a:srgbClr val="000000"/>
                </a:solidFill>
                <a:uFillTx/>
                <a:latin typeface="Arial"/>
              </a:rPr>
              <a:t>приемы работы с книгой:</a:t>
            </a:r>
            <a:r>
              <a:rPr b="1"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а) выделение существенного;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б) смысловая группиров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в) составление плана, тезисов, конспект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г) составление схем, графиков, диаграм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д) формулирование выводов;</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е) чтение-поиск (на вопрос в конц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параграфа найти ответ в тексте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чебник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ж) составление вопросов к тем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з) на основе текста учебника составить алгоритм (учебные действия) описания географического объект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Уже делая выписки отдельных фактов, названий, терминов, определений, выводов, цифровых данных и т.п., вдумчивый ученик разбирается в смысле текста, отбирает наиболее существенное для усвоения, устанавливает связи между отдельными частями текста, дает им оценку. Учителю следует обращать внимание на умение делать нужные выводы, время от времени проводить соответствующие беседы, демонстрируя при этом образцы наиболее удачных выписок, сделанных учащимися.</a:t>
            </a:r>
            <a:endParaRPr b="0" lang="en-US" sz="2000" spc="-1" strike="noStrike">
              <a:solidFill>
                <a:srgbClr val="000000"/>
              </a:solidFill>
              <a:latin typeface="Arial"/>
            </a:endParaRPr>
          </a:p>
        </p:txBody>
      </p:sp>
      <p:pic>
        <p:nvPicPr>
          <p:cNvPr id="58" name="" descr=""/>
          <p:cNvPicPr/>
          <p:nvPr/>
        </p:nvPicPr>
        <p:blipFill>
          <a:blip r:embed="rId1"/>
          <a:stretch/>
        </p:blipFill>
        <p:spPr>
          <a:xfrm>
            <a:off x="324000" y="189000"/>
            <a:ext cx="22366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97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620640"/>
            <a:ext cx="7283520" cy="4608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В современных учебниках представлены разнообразные задания, которые можно использовать не только для контроля за усвоением знаний учащихся, но и для обобщения их, а также в качестве познавательной задачи при изучении нового материала. Проверить понимание содержания текста позволяют многочисленные вопросы и задания учебника различного уровня сложности</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1" name="" descr="Итог работы. Спасибо за внимание ! Накоплена информация о вулканах Создан буклет вулкана Создан макет вулкана Создана презентация о мировых вулканах, планируется её использование на уроках географии."/>
          <p:cNvPicPr/>
          <p:nvPr/>
        </p:nvPicPr>
        <p:blipFill>
          <a:blip r:embed="rId1"/>
          <a:stretch/>
        </p:blipFill>
        <p:spPr>
          <a:xfrm>
            <a:off x="6732720" y="4508640"/>
            <a:ext cx="207000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1116000" y="2060280"/>
            <a:ext cx="7570800" cy="4537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Образовательная роль географии как школьного предмета во многом определяется тем, что ее основной частью являются карты, позволяющие человеку ориентироваться в пространстве, извлекать из них самую разнообразную информацию. Следует иметь в виду, что пользователем картографической информации становятся не только специалисты-географы, но и каждый современный человек.</a:t>
            </a:r>
            <a:endParaRPr b="0" lang="en-US" sz="2800" spc="-1" strike="noStrike">
              <a:solidFill>
                <a:srgbClr val="000000"/>
              </a:solidFill>
              <a:latin typeface="Arial"/>
            </a:endParaRPr>
          </a:p>
        </p:txBody>
      </p:sp>
      <p:pic>
        <p:nvPicPr>
          <p:cNvPr id="64" name="" descr=""/>
          <p:cNvPicPr/>
          <p:nvPr/>
        </p:nvPicPr>
        <p:blipFill>
          <a:blip r:embed="rId1"/>
          <a:stretch/>
        </p:blipFill>
        <p:spPr>
          <a:xfrm>
            <a:off x="3059280" y="147600"/>
            <a:ext cx="244944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684000" y="333000"/>
            <a:ext cx="8002440" cy="5111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В содержании школьных курсов географии заложены знания об особенностях карт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карта рассматривается как объект изучения), а также знания географического содержания, (карта выступает как источник знаний и как средство наглядности). Однако уровень картографической подготовки в школе еще достаточно низкий.</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Жизнь ставит перед школой новые задачи, одна из которых — ликвидация картографической безграмотности. Картографическая грамотность нужна современному человеку не менее, чем компьютерная. Карты, атласы, космические снимки становятся предметом повседневного спроса, массового использования. Научная картография обеспечивает все виды исследований в науках о Земле и планетах.</a:t>
            </a:r>
            <a:endParaRPr b="0" lang="en-US" sz="2000" spc="-1" strike="noStrike">
              <a:solidFill>
                <a:srgbClr val="000000"/>
              </a:solidFill>
              <a:latin typeface="Arial"/>
            </a:endParaRPr>
          </a:p>
        </p:txBody>
      </p:sp>
      <p:pic>
        <p:nvPicPr>
          <p:cNvPr id="67" name="" descr=""/>
          <p:cNvPicPr/>
          <p:nvPr/>
        </p:nvPicPr>
        <p:blipFill>
          <a:blip r:embed="rId1"/>
          <a:stretch/>
        </p:blipFill>
        <p:spPr>
          <a:xfrm>
            <a:off x="3419640" y="4941720"/>
            <a:ext cx="2879640" cy="17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2:24:30Z</dcterms:created>
  <dc:creator>Мзоков</dc:creator>
  <dc:description/>
  <dc:language>en-US</dc:language>
  <cp:lastModifiedBy>Мзоков</cp:lastModifiedBy>
  <dcterms:modified xsi:type="dcterms:W3CDTF">2013-03-20T10:35:51Z</dcterms:modified>
  <cp:revision>4</cp:revision>
  <dc:subject/>
  <dc:title>Слайд 1</dc:title>
</cp:coreProperties>
</file>