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50.jpeg" ContentType="image/jpeg"/>
  <Override PartName="/ppt/media/image52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38.jpeg" ContentType="image/jpeg"/>
  <Override PartName="/ppt/media/image15.jpeg" ContentType="image/jpeg"/>
  <Override PartName="/ppt/media/image6.jpeg" ContentType="image/jpeg"/>
  <Override PartName="/ppt/media/image63.jpeg" ContentType="image/jpeg"/>
  <Override PartName="/ppt/media/image29.png" ContentType="image/png"/>
  <Override PartName="/ppt/media/image21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61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56.png" ContentType="image/png"/>
  <Override PartName="/ppt/media/image4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5F4F-7EC6-4883-ACEF-30EDDDBD1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4F19-850D-4B28-AA6A-98DBA9C5B3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3303-079B-4270-90F4-35D2510B75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3C0B-7046-4F9A-A9EE-E2DB2A41C5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9DE4-0AB7-4B52-8A11-44263FC1B2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FECB-4E2D-4039-9AAB-14A7A3C948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BEE9-0AED-45D3-897E-6928A86F2A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2F7A-E229-44D7-88C1-97AA8482A8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12CA-AE94-4FFF-A07C-C5B474E9FB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1C10-009A-4F04-9AF7-E5C59C9760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7E3B-5E56-4948-85EB-D34FCEC758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773C-5A48-4870-B664-59272575A9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83A4-52C2-4E46-9816-5A97D838C3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82B0-C390-4216-8A65-B4B7297643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4A51-A4BE-47B4-897F-842749E771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C40E-731D-4CC4-929B-09E931EB4F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9E6D-656D-4882-8489-0DB23BB15F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CE04-126C-4288-B1CF-E5C2B36E4A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BE1F-8B10-4847-B189-2B61C0002C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9662-9E43-4FAF-8D0D-172F7BFFC4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977F-9281-45E4-9499-8B3B359C29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7AE3-2152-4693-A6B1-1266C7DCD0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659B-ACA5-47B5-8B82-E9DE5727F0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F97A-020F-4FA6-9708-78026E835C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02FF-88D1-4A8F-85AD-D51EA92172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12A7-FB18-42FA-96CE-E235F5251A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B44A-481F-43A3-8DFF-76AEEDEB9C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4256-3412-4413-BCBC-5546D7AAE8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122F-648A-46F8-9C0A-60AFD2F342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26E6-C1FD-46F3-8359-146AB78811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B1E7-69D7-4198-BB82-193F0961C7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443F-7E26-4FAF-9294-5FCAEC707C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1608-7E4C-4AFF-92DF-56A0E87558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A32A-B87E-4DE9-83DB-3C328A0420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46D5-DF33-4323-9DA1-2D6657688F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F6B2-3830-40D2-81C2-91AECC8FF1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2B29-E4E4-4CA8-A495-73C4D355C8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7363-E38C-4604-917A-81B2C56CB1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4242-64CB-453F-A79C-F38A01DE49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A358-49A5-49B5-BEFC-486D80BE5D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3392-DD22-4F4B-809C-DE42DBE611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1EFB-B906-43F6-82D3-74A92D6B85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6E53-DCCE-4DBE-92DF-8BF07B54FB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DDED-3AEB-494C-8979-C4B865FA09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D6D9-9A5C-4432-BCEB-E17753FDB1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AD8D-2D74-47CA-8731-600D87736D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19B5-7171-4ABA-A8A6-C7C604BFD0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070A-658D-4742-ABBB-F8E6A57FB4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F00-BE23-40FA-BBBE-B0B1AAA1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4F5-56B5-4AF9-88CB-36872E77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E51-7607-4CA8-BF56-08408C21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399-9352-4595-8AAF-80A2E260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04F0-C756-4C53-9A50-79ED6669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7E26-9F30-4530-9AA2-ECC189F4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B849-4A91-4754-9715-0CF6202D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152B-ADB2-4E19-A77F-411717EF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961A-73EC-4E37-9979-4CC5C05F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F2C4-8533-48A5-9213-AF0E93F9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A5D3-D0D5-4F06-83A4-E95A953F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3F6-6A23-45CF-B5E7-1369FC03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F223-2F09-4ED4-B9DC-C4FFA80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7B1F-7911-4B68-A4D5-61539B79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11D8-5973-4B1D-8601-DB3CC95C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CDA2-88B8-44C7-B63B-6D081FC0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2E02-DE23-4DC3-81DE-42FB66B2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C04-0348-4CBF-B2FC-01BA5B34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EDA-105F-4CF5-862A-95A9BDD9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2F8-C08E-459E-AE0E-EF18711B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539-BE22-4E8F-8860-BA4DFD9C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5A2-0B10-4C3A-AD03-827CCF78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15D-A0E8-4C6C-9BF2-9D25DF9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7CF-FCF2-4599-A761-A6A0C465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7AEE-EAAB-4AA5-8768-C546A8A999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9c7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33427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7a5852"/>
                </a:gs>
                <a:gs pos="100000">
                  <a:srgbClr val="8661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4CAF-F286-43AC-9D87-1A2821FC584F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695960" y="333360"/>
            <a:ext cx="51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Классный час по теме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«12 декабря – День Конститу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Российской Федер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30360" y="1916280"/>
            <a:ext cx="7617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Цель мероприят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Ознакомить учащихся с конституцие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Провести сравнительный анализ конститу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Воспитывать патриотиз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) Развивать творческие способности учащихся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ние излагать свои мысл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нализировать и систематизировать фак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Форма проведения – устный журна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4445280" y="260280"/>
            <a:ext cx="42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ddcd"/>
                </a:solidFill>
                <a:latin typeface="Verdana"/>
              </a:rPr>
              <a:t>ВЕЛИКОБРИТ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501720" y="1197000"/>
            <a:ext cx="500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Высший законодательный орган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двухпалатный парламен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Высший исполнительный орган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совет министр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Государственный язык – английски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Религия – 47% - протестанты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16% - катол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ациональный праздник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День рождения королев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(вторая суббота июл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Член ООН (1945г.) и НАТО (1949г.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6" descr="GWHCA0RG5HOCASKDMQNCA71N1R9CAW28N2YCAP4MYZ0CADPZ04TCA8ONDOTCAR0UQGTCAM4NDNBCATNO1AZCAMYOU5DCAKYYZ1PCA1BFJW5CAO1T2AMCARM42EACA3O4L70CAF21P0RCAVN9QMICAEHSQ0P"/>
          <p:cNvPicPr/>
          <p:nvPr/>
        </p:nvPicPr>
        <p:blipFill>
          <a:blip r:embed="rId1"/>
          <a:stretch/>
        </p:blipFill>
        <p:spPr>
          <a:xfrm>
            <a:off x="250920" y="189000"/>
            <a:ext cx="2449440" cy="38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S0BCAHVUB6HCA206XUFCA9PJNIACALABTWMCA9C53LWCA01D3PICA792SRXCAAB70G3CALIXGP0CAT9ALPFCA7FQBCZCAMF9NTKCAW3PV3RCA7KO5J0CAQYK1YECADYYNVHCAP1RN1YCAEQLIR9CAVLSDWY"/>
          <p:cNvPicPr/>
          <p:nvPr/>
        </p:nvPicPr>
        <p:blipFill>
          <a:blip r:embed="rId2"/>
          <a:stretch/>
        </p:blipFill>
        <p:spPr>
          <a:xfrm>
            <a:off x="179280" y="4292640"/>
            <a:ext cx="3672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995360" y="189000"/>
            <a:ext cx="36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ddcd"/>
                </a:solidFill>
                <a:latin typeface="Verdana"/>
              </a:rPr>
              <a:t>ВЕЛИКОБРИТ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148360" y="620640"/>
            <a:ext cx="3504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Состав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Англичане-81,5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Шотландцы-9,6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Ирландцы-2,4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Уэльсцы (валлийцы)-1,9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Ольстерцы-1,8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55640" y="4195800"/>
            <a:ext cx="4028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олитические парти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Лейбористская (партия вигов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ЛПВ (с1890); лидер – Э.Блэ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Консервативная (тори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с конца </a:t>
            </a:r>
            <a:r>
              <a:rPr b="0" lang="en-US" sz="2000" spc="-1" strike="noStrike">
                <a:solidFill>
                  <a:srgbClr val="e2e705"/>
                </a:solidFill>
                <a:latin typeface="Verdana"/>
              </a:rPr>
              <a:t>XII</a:t>
            </a: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 век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лидер У.Хейг (1997г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7" descr="i[1]"/>
          <p:cNvPicPr/>
          <p:nvPr/>
        </p:nvPicPr>
        <p:blipFill>
          <a:blip r:embed="rId1"/>
          <a:stretch/>
        </p:blipFill>
        <p:spPr>
          <a:xfrm>
            <a:off x="5580000" y="3470400"/>
            <a:ext cx="2529000" cy="3387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244080" y="3284640"/>
            <a:ext cx="27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Флаг Великобритан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(рисунок учащихс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9" descr="File0089"/>
          <p:cNvPicPr/>
          <p:nvPr/>
        </p:nvPicPr>
        <p:blipFill>
          <a:blip r:embed="rId2"/>
          <a:stretch/>
        </p:blipFill>
        <p:spPr>
          <a:xfrm>
            <a:off x="179280" y="189000"/>
            <a:ext cx="45370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9"/>
          <p:cNvSpPr/>
          <p:nvPr/>
        </p:nvSpPr>
        <p:spPr>
          <a:xfrm>
            <a:off x="4850640" y="260280"/>
            <a:ext cx="36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ddcd"/>
                </a:solidFill>
                <a:latin typeface="Verdana"/>
              </a:rPr>
              <a:t>ВЕЛИКОБРИТ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10" descr="F5ICAX5FVHZCAW4T22GCA9K1Y8UCAD2H41HCAJ405LMCAM9QTD9CAEZO9IXCA8E999WCAE5HC4QCASSO2VUCAA0DWE5CA2P480TCA0NV07TCA7ASPYKCABLBRABCAT98H46CANAXTQNCAXRU9LBCAHUD36T"/>
          <p:cNvPicPr/>
          <p:nvPr/>
        </p:nvPicPr>
        <p:blipFill>
          <a:blip r:embed="rId1"/>
          <a:stretch/>
        </p:blipFill>
        <p:spPr>
          <a:xfrm>
            <a:off x="4427640" y="3141720"/>
            <a:ext cx="4500360" cy="2959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i"/>
          <p:cNvPicPr/>
          <p:nvPr/>
        </p:nvPicPr>
        <p:blipFill>
          <a:blip r:embed="rId2"/>
          <a:stretch/>
        </p:blipFill>
        <p:spPr>
          <a:xfrm>
            <a:off x="250920" y="189000"/>
            <a:ext cx="4033800" cy="2682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4356000" y="1125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Великобритания не имее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единого 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кодифицированног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основного закон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319680" y="3429000"/>
            <a:ext cx="401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Располагает комплексо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юридических актов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начина с «Хабеас корпус акт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и «Билля о правах» (</a:t>
            </a:r>
            <a:r>
              <a:rPr b="0" lang="en-US" sz="2000" spc="-1" strike="noStrike">
                <a:solidFill>
                  <a:srgbClr val="ecae00"/>
                </a:solidFill>
                <a:latin typeface="Verdana"/>
              </a:rPr>
              <a:t>XVII</a:t>
            </a: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в.)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а так же традици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составляющих в совокуп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ее Конституцию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3490200" y="739800"/>
            <a:ext cx="55191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Городское управлени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Большой Лондон образуе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особую административную единицу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метрополитенское граф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Управляется Советом Большого Лондон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впервые избранного в апреле 1964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Члены совета избираются на три год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Каждый округ имеет свой совет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особое положение имеет Сит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управляемый лорд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мэром и корпорацией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в которую входят олдермен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(избираются пожизненно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и обширные советник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(избираются на один год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347720" y="133200"/>
            <a:ext cx="36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ddcd"/>
                </a:solidFill>
                <a:latin typeface="Verdana"/>
              </a:rPr>
              <a:t>ВЕЛИКОБРИТ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6" descr="i[7]"/>
          <p:cNvPicPr/>
          <p:nvPr/>
        </p:nvPicPr>
        <p:blipFill>
          <a:blip r:embed="rId1"/>
          <a:stretch/>
        </p:blipFill>
        <p:spPr>
          <a:xfrm>
            <a:off x="179280" y="189000"/>
            <a:ext cx="3240360" cy="216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K4JCACZO859CA5C3N7LCA7NP3KKCA0MVJECCAYO5QIDCAIKAAAACAHM28QQCAUHSTFXCAB8X9EBCAGUTT6DCA05CQ6QCAPJXS9QCAPTBYAWCA63T2VJCA0BO4T0CA4Y09Z0CA0P1UXOCABAHWNPCAL8URVQ"/>
          <p:cNvPicPr/>
          <p:nvPr/>
        </p:nvPicPr>
        <p:blipFill>
          <a:blip r:embed="rId2"/>
          <a:stretch/>
        </p:blipFill>
        <p:spPr>
          <a:xfrm>
            <a:off x="179280" y="4132440"/>
            <a:ext cx="381636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6271200" y="33336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ЯПО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97560" y="4797360"/>
            <a:ext cx="23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Карта Япон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(рисунок учащихс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6" descr="File0090"/>
          <p:cNvPicPr/>
          <p:nvPr/>
        </p:nvPicPr>
        <p:blipFill>
          <a:blip r:embed="rId1"/>
          <a:stretch/>
        </p:blipFill>
        <p:spPr>
          <a:xfrm>
            <a:off x="179280" y="189000"/>
            <a:ext cx="2316240" cy="45306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2889000" y="1052640"/>
            <a:ext cx="607572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Государство Япония в Восточной Азии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расположено на четырех островах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о.Кюсю, о.Сикоку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о.Хонсю, о.Хокайдо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островах Рюк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и более чем на тысяч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мелких остров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Столица Японии – Токи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J41CANQNGKKCAWRJLX1CAMCHSVBCAWAHR5QCAWOMZUWCA2S5VL2CALBB6M7CAYEJUGGCAN48GBBCAF7AZFMCABKCI2VCAA2L4XECAZA2B0LCAP6RW49CAODGZ2BCAJPJ2DLCAP268QZCA51JFGVCA8QAM8A"/>
          <p:cNvPicPr/>
          <p:nvPr/>
        </p:nvPicPr>
        <p:blipFill>
          <a:blip r:embed="rId2"/>
          <a:stretch/>
        </p:blipFill>
        <p:spPr>
          <a:xfrm>
            <a:off x="5003640" y="4087800"/>
            <a:ext cx="3862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8"/>
          <p:cNvSpPr/>
          <p:nvPr/>
        </p:nvSpPr>
        <p:spPr>
          <a:xfrm>
            <a:off x="6055200" y="18900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ЯПО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97560" y="2781360"/>
            <a:ext cx="23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Флаг Япон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(рисунок учащихс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10" descr="File0091"/>
          <p:cNvPicPr/>
          <p:nvPr/>
        </p:nvPicPr>
        <p:blipFill>
          <a:blip r:embed="rId1"/>
          <a:stretch/>
        </p:blipFill>
        <p:spPr>
          <a:xfrm>
            <a:off x="0" y="0"/>
            <a:ext cx="4033800" cy="2793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349880" y="907920"/>
            <a:ext cx="447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Имеет дипломатические отноше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с Россие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Национальный праздник 23 декабря 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день рождения император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569040" y="2803680"/>
            <a:ext cx="5312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Япония - конституционная монарх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Согласно действующе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с 3 мая 1947года конституци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император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является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«Символом государств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и единства народа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его статус определяетс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волей всего народ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которому принадлежи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суверенная вла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13" descr="15JCAZVHH8QCAE6MGHACAYXDXF7CAP2J2KTCAA14CE6CALQYTMECA79KS76CABLJJQ8CAO5Z92MCA2Z24PYCA3LLXXICA6LC04YCAVPKHPSCAJ7LG08CAT8IX58CAR7DOZICA8YZ6ABCAGXIPGXCAR3JG3C"/>
          <p:cNvPicPr/>
          <p:nvPr/>
        </p:nvPicPr>
        <p:blipFill>
          <a:blip r:embed="rId2"/>
          <a:stretch/>
        </p:blipFill>
        <p:spPr>
          <a:xfrm>
            <a:off x="250920" y="3857760"/>
            <a:ext cx="3168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7"/>
          <p:cNvSpPr/>
          <p:nvPr/>
        </p:nvSpPr>
        <p:spPr>
          <a:xfrm>
            <a:off x="6342480" y="33336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ЯПО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273040" y="907920"/>
            <a:ext cx="645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Высший орган государственной вла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и единственный законодательный орган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парламент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состоящий из двух палат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палаты представителей (512 депутатов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и палаты советников (252 депутат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Глава правительств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премьер-министр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Япония входит в состав ОО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10" descr="KDKCAVPMQVVCAR0DKYPCAHXIZ6CCAK3NRBJCAH1DAR9CAOXYZQOCA2FWIZOCAFYBKEGCAZ1Q206CA8WJWM0CAR85DSSCAVEB55SCAPOEAJPCAQPGA37CACXH7W6CA1GZTPJCAUQ8LQGCA21S6EWCAVNRV60"/>
          <p:cNvPicPr/>
          <p:nvPr/>
        </p:nvPicPr>
        <p:blipFill>
          <a:blip r:embed="rId1"/>
          <a:stretch/>
        </p:blipFill>
        <p:spPr>
          <a:xfrm>
            <a:off x="0" y="1844640"/>
            <a:ext cx="2131920" cy="3456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2"/>
          <p:cNvSpPr/>
          <p:nvPr/>
        </p:nvSpPr>
        <p:spPr>
          <a:xfrm>
            <a:off x="4984200" y="5084640"/>
            <a:ext cx="355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Большое значени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Япония придае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развитию отношен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со странами АСЕ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6"/>
          <p:cNvSpPr/>
          <p:nvPr/>
        </p:nvSpPr>
        <p:spPr>
          <a:xfrm>
            <a:off x="6487200" y="33336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ЯПО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508560" y="1052640"/>
            <a:ext cx="544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Согласно конституц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все действия император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относящиеся к делам государств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могут быть предпринят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не иначе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как по совету 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с одобрения правительств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правительство нес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за них ответствен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317040" y="4653000"/>
            <a:ext cx="5286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Согласно конституци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парламент имеет прав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распоряжаться финанс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Верховный суд выполняет так ж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функции конституционного суд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0" descr="HANCAUEPMKKCAK4X2GVCA1X3O5MCA53EGIRCA67HMY2CAHAB8MMCA7OMWP8CA7KPIFLCAQQ6ODQCA5Y8H04CAW4IHVHCANU2Q0FCALA7Y0ICA99586MCA0QGGTICAC6KUVMCA81E6DICAB24Y33CA96ZMFW"/>
          <p:cNvPicPr/>
          <p:nvPr/>
        </p:nvPicPr>
        <p:blipFill>
          <a:blip r:embed="rId1"/>
          <a:stretch/>
        </p:blipFill>
        <p:spPr>
          <a:xfrm>
            <a:off x="324000" y="1844640"/>
            <a:ext cx="244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24000" y="4221000"/>
            <a:ext cx="4176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Избирательное прав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предоставляется всем гражданам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достигшим 20 лет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107760" y="40644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ЯПО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5" descr="XKPCAPZBMXACASN4B54CAW0NL22CA9VDFGSCAW22NNPCA56WCC9CA7ZZG82CA24FSB9CADHFR5BCAVYV61QCAAYF47QCA436P7HCAALRMH0CAO0NFBJCAKUABWYCA9MP4R3CA825KRUCANHFQH9CAJ2B5J7"/>
          <p:cNvPicPr/>
          <p:nvPr/>
        </p:nvPicPr>
        <p:blipFill>
          <a:blip r:embed="rId1"/>
          <a:stretch/>
        </p:blipFill>
        <p:spPr>
          <a:xfrm>
            <a:off x="250920" y="189000"/>
            <a:ext cx="3744720" cy="3002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Q8PCA4J0U7XCA50ZYEOCAV28918CAPX1VK4CAZM0W82CAWAEHSFCAG7WOC4CA06YR15CAZ65C38CAPLXGE0CAB107PWCAWI046RCADZEKJ9CAQD8YCQCA1DXVIQCA49AHKOCAV4JQQUCAU9ZJTDCA3DEJ4L"/>
          <p:cNvPicPr/>
          <p:nvPr/>
        </p:nvPicPr>
        <p:blipFill>
          <a:blip r:embed="rId2"/>
          <a:stretch/>
        </p:blipFill>
        <p:spPr>
          <a:xfrm>
            <a:off x="4859280" y="3508200"/>
            <a:ext cx="3954600" cy="3087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5230440" y="1197000"/>
            <a:ext cx="312984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Вероисповедание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синтоизм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буддизм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христианство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867280" y="333360"/>
            <a:ext cx="28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9ddcd"/>
                </a:solidFill>
                <a:latin typeface="Verdana"/>
              </a:rPr>
              <a:t>ШВЕЦ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260880" y="1052640"/>
            <a:ext cx="588312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Швеция- крупнейшая страна северной Европ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Она расположена на востоке и юг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Скандинавского полуостров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и граничит с Норвегией и Финлянди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Столица Швеции - Стокголь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6" descr="XG7CA6CSI8ZCA5S3CUUCALOC82NCAFD2252CA1Y1662CA1N7AVWCANLVWS2CA9TSB9CCAJR0VPLCAVNX22KCAB4RBX0CAKT16A6CAHKGOOOCAKY1OA5CA2VZAG8CA1NLMW1CAO2U9VRCACWK7ENCABALPGK"/>
          <p:cNvPicPr/>
          <p:nvPr/>
        </p:nvPicPr>
        <p:blipFill>
          <a:blip r:embed="rId1"/>
          <a:stretch/>
        </p:blipFill>
        <p:spPr>
          <a:xfrm>
            <a:off x="98280" y="0"/>
            <a:ext cx="3171960" cy="39337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7"/>
          <p:cNvSpPr/>
          <p:nvPr/>
        </p:nvSpPr>
        <p:spPr>
          <a:xfrm>
            <a:off x="2163960" y="3645000"/>
            <a:ext cx="674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В Швеции конституционная монарх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Действующая конституция вступила в силу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1 января 1975 г. 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она состоит из трех актов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Форма правления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Акт о престолонаслед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и Акт о свободе печа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(принято 27 февраля 1974 г.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971280" y="333360"/>
            <a:ext cx="371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ae00"/>
                </a:solidFill>
                <a:latin typeface="Verdana"/>
              </a:rPr>
              <a:t>Классный час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71720" y="1628640"/>
            <a:ext cx="811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12 Декабр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День Конституции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Российской Федерации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6" descr="41dda332152d10bda902df4b98ee2c88"/>
          <p:cNvPicPr/>
          <p:nvPr/>
        </p:nvPicPr>
        <p:blipFill>
          <a:blip r:embed="rId1"/>
          <a:stretch/>
        </p:blipFill>
        <p:spPr>
          <a:xfrm>
            <a:off x="6516720" y="26028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85WCA3PNL97CA400L0TCAMP188VCAQ53W82CA13QOR6CAHXG3APCAGB6R4TCA76H5DRCAQTYI2RCACTUMUFCAVIZMGWCAYM8O7NCA8O8CXYCANH7Y2ZCAV816NVCAONRGH3CADWKD85CAK3128LCAY1C6ZA"/>
          <p:cNvPicPr/>
          <p:nvPr/>
        </p:nvPicPr>
        <p:blipFill>
          <a:blip r:embed="rId2"/>
          <a:stretch/>
        </p:blipFill>
        <p:spPr>
          <a:xfrm>
            <a:off x="468360" y="4149720"/>
            <a:ext cx="2325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6012000" y="189000"/>
            <a:ext cx="28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9ddcd"/>
                </a:solidFill>
                <a:latin typeface="Verdana"/>
              </a:rPr>
              <a:t>ШВЕЦ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29960" y="189000"/>
            <a:ext cx="5618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Высший законодательный орган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-однопалатный парламент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риксдач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(состоит из 349 депутатов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избираемых населением на 3 года п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опорциональной систем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едставительства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Риксдач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принимает законы, бюджет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устанавливает налоги и сборы, займы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избирает премьер-министра и утверждае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состав правительства и т.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равительство подготавливае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овые законопроек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о поручению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риксдач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может принимать акты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имеющие силу закон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азначать дипломатически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редставителей за границей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губернаторов высших чинов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руководит вооруженными силам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органами управления и т.д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6" descr="A56CA3RSI1NCACE15JOCAXOPOGUCAIQ4ZVRCAUJR1GGCA0EOTKECAJ14Q4LCAARIAUBCA0E6U1ECAEG6NRHCAPUA99NCA41JLVQCAB392MRCAXL72ZTCA66TPX7CAGBW7X8CAGB21OUCAI8WTQGCAUII7VR"/>
          <p:cNvPicPr/>
          <p:nvPr/>
        </p:nvPicPr>
        <p:blipFill>
          <a:blip r:embed="rId1"/>
          <a:stretch/>
        </p:blipFill>
        <p:spPr>
          <a:xfrm>
            <a:off x="5867280" y="836640"/>
            <a:ext cx="3083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6443640" y="260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9ddcd"/>
                </a:solidFill>
                <a:latin typeface="Verdana"/>
              </a:rPr>
              <a:t>ШВЕЦ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356000" y="126828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Центральную власть представляет губернатор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который возглавляет социально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административное бюро из 10 члено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(5 назначаются правительством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другие 5 ландстингом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Судебная система включает верховный суд, 6 апелляционных судов, окружные и городские. Имеются специальные суды по разделу имущества, по земельным делам, полицейские, суды административной юсти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10" descr="673CARV6C4KCA7FI66ICANAJYBUCARE6I8MCABUY566CAQ6NFQQCAAR1GBACA6UI1H1CAQX0TGPCAUXWHZECAZ2IBHUCABI5PIWCAMB3KIGCANW9RFOCAN15WXMCAI5Q4X7CAKFZKP1CAJ3YIQ7CAW29YHN"/>
          <p:cNvPicPr/>
          <p:nvPr/>
        </p:nvPicPr>
        <p:blipFill>
          <a:blip r:embed="rId1"/>
          <a:stretch/>
        </p:blipFill>
        <p:spPr>
          <a:xfrm>
            <a:off x="179280" y="0"/>
            <a:ext cx="1889280" cy="3284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L3OCAKCZHX1CAWKU6A2CAKMH4RFCAD2S2N6CA82NSEVCA7Z0KTBCAMD6JJSCAK8NY6CCANEKYM6CAM0C9NDCACWLYH0CA3HUIYMCAB86C5WCA2C27D6CARGUWPOCAU1XXAZCAUY6JLZCA5IBJMSCA2Q8UPL"/>
          <p:cNvPicPr/>
          <p:nvPr/>
        </p:nvPicPr>
        <p:blipFill>
          <a:blip r:embed="rId2"/>
          <a:stretch/>
        </p:blipFill>
        <p:spPr>
          <a:xfrm>
            <a:off x="250920" y="3510000"/>
            <a:ext cx="4105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6413400" y="18900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9ddcd"/>
                </a:solidFill>
                <a:latin typeface="Verdana"/>
              </a:rPr>
              <a:t>ШВЕЦ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189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Глава государства - король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осуществляет представительные функции.</a:t>
            </a: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6" descr="ZOZCA87OXS4CAFELFJGCAZLOE60CAVBRUCKCATVPG9TCA9821ZKCA4A1Z6ECAZZ2QIMCA7L5ULCCAWSEDAGCAJW1B4ZCAIWPXSDCAJZX00CCAXUJNDMCAVD3WOVCAMRNLYWCAN15MFTCACWR01ACAHHQARL"/>
          <p:cNvPicPr/>
          <p:nvPr/>
        </p:nvPicPr>
        <p:blipFill>
          <a:blip r:embed="rId1"/>
          <a:stretch/>
        </p:blipFill>
        <p:spPr>
          <a:xfrm>
            <a:off x="4859280" y="3860640"/>
            <a:ext cx="4284720" cy="28562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91800" y="3860640"/>
            <a:ext cx="214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9ddcd"/>
                </a:solidFill>
                <a:latin typeface="Verdana"/>
              </a:rPr>
              <a:t>Флаг Швеции </a:t>
            </a:r>
            <a:br>
              <a:rPr sz="1600"/>
            </a:br>
            <a:r>
              <a:rPr b="0" lang="ru-RU" sz="1600" spc="-1" strike="noStrike">
                <a:solidFill>
                  <a:srgbClr val="e9ddcd"/>
                </a:solidFill>
                <a:latin typeface="Verdana"/>
              </a:rPr>
              <a:t>(рисунок учащихся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8" descr="File0092"/>
          <p:cNvPicPr/>
          <p:nvPr/>
        </p:nvPicPr>
        <p:blipFill>
          <a:blip r:embed="rId2"/>
          <a:stretch/>
        </p:blipFill>
        <p:spPr>
          <a:xfrm>
            <a:off x="0" y="4470480"/>
            <a:ext cx="3673440" cy="23875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9"/>
          <p:cNvSpPr/>
          <p:nvPr/>
        </p:nvSpPr>
        <p:spPr>
          <a:xfrm>
            <a:off x="2144880" y="1247760"/>
            <a:ext cx="684828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Нынешний король Карл 16 Густо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инадлежит к династии Бернадотов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ишедших к власти в начале 19 ве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Основателем династии стал француз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Жан – Батист – Жюль   Бернадот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один из маршалов Наполеон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Он был усыновлен королем Швеции Карлом 13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осле восхождения на престол получил имя Карл 14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51280" y="0"/>
            <a:ext cx="303516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9ddcd"/>
                </a:solidFill>
                <a:latin typeface="Garamond"/>
              </a:rPr>
              <a:t>ШВЕЦИЯ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06560" y="765000"/>
            <a:ext cx="6337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Социал-демократическая парт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Швеции основана в 1889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Объединяет преимущественн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рабочих и служащих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часть представителе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средних слоев насел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Партия центр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основана в 1918 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Объединяет мелких и средних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фермеров, часть мелкой городской буржуази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а так же служащих и рабочи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Народная партия основана в 1934 г. 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объединяет представителе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мелкой, средней и крупной буржуази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служащих, некоторая часть рабочи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Христианско-демократически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оюз основан в 1977 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У власти свыше 40 лет находилась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Times New Roman"/>
              </a:rPr>
              <a:t>социал-демократическая рабочая партия Шве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4" descr="VBRCA045W6HCAZQGGLUCAGWQOWICAQ76CUHCAHGIGBBCARU32D6CAJZJQ3CCAAW574KCARE87B4CAXB3WEFCA84AX4MCAI3HHRBCAY07U8ACA9K01I9CA08DP93CAYZ0PV1CAYKI5R2CA0CL1CJCAD3UCDF"/>
          <p:cNvPicPr/>
          <p:nvPr/>
        </p:nvPicPr>
        <p:blipFill>
          <a:blip r:embed="rId1"/>
          <a:stretch/>
        </p:blipFill>
        <p:spPr>
          <a:xfrm>
            <a:off x="0" y="0"/>
            <a:ext cx="33256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517320" y="189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ddcd"/>
                </a:solidFill>
                <a:latin typeface="Verdana"/>
              </a:rPr>
              <a:t>СОЕДИНЕННЫЕ ШТАТЫ АМЕРИК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250920" y="981000"/>
            <a:ext cx="5240160" cy="56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4 июля каждого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американская нац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азднует свое рождени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как независимой нации салютом 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традиционными гуляния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Когда первое в истори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празднование независимост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закончилось, те, кто его осуществи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встали перед проблемо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сохранения этой независимо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Они прошли через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революционную войн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и объединение тридцат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езависимых государст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в одну функционирующую единицу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7" descr="i"/>
          <p:cNvPicPr/>
          <p:nvPr/>
        </p:nvPicPr>
        <p:blipFill>
          <a:blip r:embed="rId1"/>
          <a:stretch/>
        </p:blipFill>
        <p:spPr>
          <a:xfrm>
            <a:off x="5940360" y="90792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rwwgrewewgrewrgewsgrewtgwfs"/>
          <p:cNvPicPr/>
          <p:nvPr/>
        </p:nvPicPr>
        <p:blipFill>
          <a:blip r:embed="rId2"/>
          <a:stretch/>
        </p:blipFill>
        <p:spPr>
          <a:xfrm>
            <a:off x="5940360" y="4149720"/>
            <a:ext cx="30243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7369920" y="17604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Ш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284720" y="90792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Одиннадцать лет спустя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многие из тех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кто работал на независимость, собрались в Филадельфи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чтобы под именем конституционного конвента обсудить укреплени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ациональной системы правительства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Делегаты Конвента решили устранить существовани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статьи Конфедераци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ервой конституции наций, и предложить совсем новую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федеральную Конституцию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6" descr="реку"/>
          <p:cNvPicPr/>
          <p:nvPr/>
        </p:nvPicPr>
        <p:blipFill>
          <a:blip r:embed="rId1"/>
          <a:stretch/>
        </p:blipFill>
        <p:spPr>
          <a:xfrm>
            <a:off x="179280" y="328680"/>
            <a:ext cx="4249800" cy="2238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мств"/>
          <p:cNvPicPr/>
          <p:nvPr/>
        </p:nvPicPr>
        <p:blipFill>
          <a:blip r:embed="rId2"/>
          <a:stretch/>
        </p:blipFill>
        <p:spPr>
          <a:xfrm>
            <a:off x="179280" y="3357720"/>
            <a:ext cx="417672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7153920" y="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Ш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833640" y="765000"/>
            <a:ext cx="531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Конституция США отличается логичностью и ясностью построения, лаконизмом без излишней детализации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Она состоит из семи статей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разделенных на ча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ервые три стать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устанавливают форму власти: Законодательной, Исполнительной и Судебно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Статья четвертая определяе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отношения между штатами, а также между штатами и федеральным правительство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Статья шестая близка к ней по смыслу, по- скольку характеризует природу и роль Конституции, как «высшего закона государства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Picture 6" descr="ерку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274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екуку"/>
          <p:cNvPicPr/>
          <p:nvPr/>
        </p:nvPicPr>
        <p:blipFill>
          <a:blip r:embed="rId2"/>
          <a:stretch/>
        </p:blipFill>
        <p:spPr>
          <a:xfrm>
            <a:off x="755640" y="3213000"/>
            <a:ext cx="25192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7369920" y="26028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Ш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746800" y="836640"/>
            <a:ext cx="6061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С 1787г. произошли серьезные перемен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з-за формальных изменений в конституции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а так же из-за эволюции в интерпрет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 применении документ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Это сочетание преемственности и перемен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лучше всего представлено в федеральной системе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созданной Конституцие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С одной стороны, местные правительств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 правительства штатов продолжают играть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значительную роль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американской политической систем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 берут на себя довольно широкий спектр задач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 то время как центральной прерогативо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федерального правительств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остаются вопросы международной политик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 дел общенациональной важ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С другой стороны, в нашем век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полномочия федеральной власт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интерпретируются на столько широко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что Конгресс в принципе может регулировать все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что он считает проблематичным для всей н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6" descr="sfds"/>
          <p:cNvPicPr/>
          <p:nvPr/>
        </p:nvPicPr>
        <p:blipFill>
          <a:blip r:embed="rId1"/>
          <a:stretch/>
        </p:blipFill>
        <p:spPr>
          <a:xfrm>
            <a:off x="0" y="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rewgrw"/>
          <p:cNvPicPr/>
          <p:nvPr/>
        </p:nvPicPr>
        <p:blipFill>
          <a:blip r:embed="rId2"/>
          <a:stretch/>
        </p:blipFill>
        <p:spPr>
          <a:xfrm>
            <a:off x="0" y="2565360"/>
            <a:ext cx="2736720" cy="1824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hte"/>
          <p:cNvPicPr/>
          <p:nvPr/>
        </p:nvPicPr>
        <p:blipFill>
          <a:blip r:embed="rId3"/>
          <a:stretch/>
        </p:blipFill>
        <p:spPr>
          <a:xfrm>
            <a:off x="395280" y="4724280"/>
            <a:ext cx="19731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356000" y="1052280"/>
            <a:ext cx="454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В 1994г. Верховный суд СШ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объявил один федеральны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закон неконституционным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так как тот вторгалс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в сферу полномочия штат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Составители Конституции СШ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четко распределили полномочия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которыми было наделен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федеральное правительство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imes New Roman"/>
              </a:rPr>
              <a:t>а все остальные отдали властям штат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Таким образом, централизованном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правительству принадлежит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исполнительное прав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проведения внешне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и оборонной полит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7092720" y="260280"/>
            <a:ext cx="17269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9ddcd"/>
                </a:solidFill>
                <a:latin typeface="Arial"/>
              </a:rPr>
              <a:t>США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pic>
        <p:nvPicPr>
          <p:cNvPr id="247" name="Picture 5" descr="dgfdgdgdggdgd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293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tretete"/>
          <p:cNvPicPr/>
          <p:nvPr/>
        </p:nvPicPr>
        <p:blipFill>
          <a:blip r:embed="rId2"/>
          <a:stretch/>
        </p:blipFill>
        <p:spPr>
          <a:xfrm>
            <a:off x="395280" y="306864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395280" y="33336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9ddcd"/>
                </a:solidFill>
                <a:latin typeface="Verdana"/>
              </a:rPr>
              <a:t>ГОСУДАРСТВЕННЫЕ СИМВОЛЫ РОСС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271080" y="5902200"/>
            <a:ext cx="214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cae00"/>
                </a:solidFill>
                <a:latin typeface="Verdana"/>
              </a:rPr>
              <a:t>Герб Российско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cae00"/>
                </a:solidFill>
                <a:latin typeface="Verdana"/>
              </a:rPr>
              <a:t>Федерации</a:t>
            </a:r>
            <a:br>
              <a:rPr sz="1600"/>
            </a:br>
            <a:r>
              <a:rPr b="0" lang="ru-RU" sz="1600" spc="-1" strike="noStrike">
                <a:solidFill>
                  <a:srgbClr val="ecae00"/>
                </a:solidFill>
                <a:latin typeface="Verdana"/>
              </a:rPr>
              <a:t>(рисунок учащихся</a:t>
            </a:r>
            <a:r>
              <a:rPr b="0" lang="ru-RU" sz="1600" spc="-1" strike="noStrike">
                <a:solidFill>
                  <a:srgbClr val="e9ddcd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6" descr="File0093"/>
          <p:cNvPicPr/>
          <p:nvPr/>
        </p:nvPicPr>
        <p:blipFill>
          <a:blip r:embed="rId1"/>
          <a:stretch/>
        </p:blipFill>
        <p:spPr>
          <a:xfrm>
            <a:off x="0" y="1125360"/>
            <a:ext cx="3633840" cy="4708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3957840" y="9079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Гер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4151160" y="1422360"/>
            <a:ext cx="489276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Является символо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достоинства любой н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Истории Российского герб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идет от оттиснутой в 1497г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красновойсковой  печа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великого князя московског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Ивана </a:t>
            </a:r>
            <a:r>
              <a:rPr b="0" lang="en-US" sz="2400" spc="-1" strike="noStrike">
                <a:solidFill>
                  <a:srgbClr val="e2e705"/>
                </a:solidFill>
                <a:latin typeface="Verdana"/>
              </a:rPr>
              <a:t>III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который принял титу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«государя Всея Руси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На лицевой стороне печа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был изображен всадник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который колет змия –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символ борьбы добра со злом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старинный герб Визант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ffff"/>
                </a:solidFill>
                <a:latin typeface="Garamond"/>
              </a:rPr>
              <a:t>Конституции разных стран и их виды.</a:t>
            </a:r>
            <a:endParaRPr b="0" lang="en-US" sz="51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632720" cy="4969080"/>
          </a:xfrm>
          <a:prstGeom prst="rect">
            <a:avLst/>
          </a:prstGeom>
          <a:noFill/>
          <a:ln w="38160">
            <a:solidFill>
              <a:srgbClr val="86615a"/>
            </a:solidFill>
            <a:miter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Содержание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Введение. Понятие конституции. Виды конституц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)Конституции различных стра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1) Великобрит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2)Япо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3)Швец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4)СШ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5)Государственные символы Ро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2.6)Этапы развития конституции РФ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Викторина «Знаешь ли ты историю конституции?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YJ2CA314IIDCAI1JB8ZCAX7QOU7CAAM666CCA3GN28DCA3ON4JOCA8W0GLRCAEFR73MCATTAWINCAJFVDJHCAZ1SA6JCAIEWPNXCAHY4B95CAZMTZXLCAOL320DCAKIHCF9CAE4184UCAA1LE55CAIHP6WE"/>
          <p:cNvPicPr/>
          <p:nvPr/>
        </p:nvPicPr>
        <p:blipFill>
          <a:blip r:embed="rId1"/>
          <a:stretch/>
        </p:blipFill>
        <p:spPr>
          <a:xfrm>
            <a:off x="4211640" y="3154320"/>
            <a:ext cx="4697280" cy="35067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1954800" y="260280"/>
            <a:ext cx="675828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Двуглавый орел прижился на Рус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олюбился и утвердился на многие век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став символом Росс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Орел на Руси издавна считался символом мужеств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и проницательности, почитался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как птица гордая и независима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Двуглавый орел – древнейший симво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возникший на Восток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01160" y="2903400"/>
            <a:ext cx="408816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Двуглавый оре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одна голова смотрит на запад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другая на восток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как бы охраняет Россию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с двух сторон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Такой симво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удачно подоше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великому государству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раскинувшемус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на просторах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Европы и Ази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и соединившему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две части св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916360" y="260280"/>
            <a:ext cx="5975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При  царе Алексее Михайловиче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отце Петра </a:t>
            </a:r>
            <a:r>
              <a:rPr b="0" lang="en-US" sz="1800" spc="-1" strike="noStrike">
                <a:solidFill>
                  <a:srgbClr val="e2e705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, орел  высоко поднял крыль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В лапах у орла появились перевит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лентами стрелы –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молнии и факел, лавровый вен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Изменилось количество корон над головами – дв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одна, тр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С 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XVII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 века орел стал держать в лапах скипетр, в левой держав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После февральской революции 1917г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Временное правительство упростило герб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Times New Roman"/>
              </a:rPr>
              <a:t>орел опустил крыль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ну а потом государственный герб стал совершенно другим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без орла, с серпом и молотом на фоне земного шар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Сегодня государственный герб Росс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представляет собой двуглавого орл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помещенного на красном геральдическом щите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над орлом три короны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над головами – две малые и над ними – одна больша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в лапах орла – скипетр и держава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на груди орла старинный московский герб –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красный щит с изображением всадник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Times New Roman"/>
              </a:rPr>
              <a:t>поражающего копьем дракон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4" descr="RTFCAIVFE7XCA0VFSKHCAFINIXICAKTSBK1CAHHZHVCCAZ5UJX0CALVDBDYCASPQJDQCARE34NXCA22OUADCAPPXB43CAXU54T1CALYMQAZCA88C6JXCACR8EJQCASS54PWCAU0N9VACAE0TLWWCA0NNS41"/>
          <p:cNvPicPr/>
          <p:nvPr/>
        </p:nvPicPr>
        <p:blipFill>
          <a:blip r:embed="rId1"/>
          <a:stretch/>
        </p:blipFill>
        <p:spPr>
          <a:xfrm>
            <a:off x="0" y="692280"/>
            <a:ext cx="3059280" cy="2030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9GPCA8MJT2ICAG100JUCALIU9TRCALORGGCCAXG4OI5CAIOWJUQCAE7D1V8CA76FZK6CA8SVFMVCAHEW9NHCAYZH5WBCAVP91J0CANJ0DKECAWPF31ECAZ4V1PSCABWWULZCALDLADXCANPSSUYCAASHRMC"/>
          <p:cNvPicPr/>
          <p:nvPr/>
        </p:nvPicPr>
        <p:blipFill>
          <a:blip r:embed="rId2"/>
          <a:stretch/>
        </p:blipFill>
        <p:spPr>
          <a:xfrm>
            <a:off x="0" y="3860640"/>
            <a:ext cx="305928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0" y="189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ddcd"/>
                </a:solidFill>
                <a:latin typeface="Verdana"/>
              </a:rPr>
              <a:t>ГОСУДАРСТВЕННЫЕ СИМВОЛЫ РОСС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320200" y="107460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ла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6" descr="IADCA0ZTKOBCAW7YJY5CAXNGJX5CATN16JKCA0K798TCAAVVQW3CACDI6TNCALLI0PFCAGV61ZQCA24GBB3CAWZ67WDCA0I4H5WCAW1WYUQCAFUG3VKCA0PIPLBCAMD95EACAVH2H3QCATOJEQVCAH65GOY"/>
          <p:cNvPicPr/>
          <p:nvPr/>
        </p:nvPicPr>
        <p:blipFill>
          <a:blip r:embed="rId1"/>
          <a:stretch/>
        </p:blipFill>
        <p:spPr>
          <a:xfrm>
            <a:off x="0" y="2133720"/>
            <a:ext cx="3600360" cy="23922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3806280" y="1557360"/>
            <a:ext cx="518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Флаг в любом государств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так же является символ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достоинства и независимости наци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Недаром подъем государственного флаг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первая торжественная церемо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после провозглашения нового государ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537280" y="4848120"/>
            <a:ext cx="62157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Государственному флагу, как святыне отдаютс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высшие государственные почест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Достоинство его защищаетс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внутри страны и за ее предел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VRJCAOIET7RCAY4TNI1CAAVT3A7CA8DMXGHCAVW3ALRCAWQD71TCAWLP807CA74D77BCADHKQ00CAAA3I97CAZFKRESCANGC73WCA8OMWFWCAL9R8T2CAJ92Q3KCAS64EB7CAO60EURCA5XO8KHCAD4NNE7"/>
          <p:cNvPicPr/>
          <p:nvPr/>
        </p:nvPicPr>
        <p:blipFill>
          <a:blip r:embed="rId1"/>
          <a:stretch/>
        </p:blipFill>
        <p:spPr>
          <a:xfrm>
            <a:off x="5148360" y="4173480"/>
            <a:ext cx="3705120" cy="24703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2972520" y="333360"/>
            <a:ext cx="56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Трехцветный флаг был введен при отце Петра </a:t>
            </a:r>
            <a:r>
              <a:rPr b="0" lang="en-US" sz="1800" spc="-1" strike="noStrike">
                <a:solidFill>
                  <a:srgbClr val="e2e705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Алексее Михайловиче (1629-1676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2059920" y="1197000"/>
            <a:ext cx="647316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расный цвет символизировал отвагу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войну, героизм, огонь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Verdana"/>
              </a:rPr>
              <a:t>синий – небо, целомудрие, верность, духовность;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елый – мир, чистоту, правду, благород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Эти три цвета являлись самы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редпочтительными и традиционны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цветами русского народ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26440" y="3933720"/>
            <a:ext cx="4883760" cy="26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Петр </a:t>
            </a:r>
            <a:r>
              <a:rPr b="0" lang="en-US" sz="1800" spc="-1" strike="noStrike">
                <a:solidFill>
                  <a:srgbClr val="e2e705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 определил точно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расположение горизонтальных полос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которое совпадал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с древним пониманием строения мира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низу – физический, плотский (красный);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выше – небесный (синий)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ще выше – божественный (белый)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или (сверху вниз)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Вера, Надежда, Любов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101520" y="4437000"/>
            <a:ext cx="501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В апреле 1991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равительственная комисс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Совета Министров РСФСР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одобрила возвращение трехцвет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флага республик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7" descr="D31CALZPWJPCA48OSSGCA8A8PXRCAPQXSI5CAVR98FECAEP4PSRCAEGSQ3KCAXULDMECAMOF2STCARC342BCAMNMWNJCA5LYS5PCA1D48EYCAVZTB8TCAOULA0ICA80KCYLCALZCROUCAM6QCZJCAEPTIN5"/>
          <p:cNvPicPr/>
          <p:nvPr/>
        </p:nvPicPr>
        <p:blipFill>
          <a:blip r:embed="rId1"/>
          <a:stretch/>
        </p:blipFill>
        <p:spPr>
          <a:xfrm>
            <a:off x="406440" y="189000"/>
            <a:ext cx="3986280" cy="41288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4631760" y="450720"/>
            <a:ext cx="4493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Государственный флаг постоянн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однят над резиденци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Президента в Кремле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над зданиями Правительств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Государственной Думы 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другими государственны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e705"/>
                </a:solidFill>
                <a:latin typeface="Verdana"/>
              </a:rPr>
              <a:t>учреждения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Picture 9" descr="FXFCA75ECUDCAS4L9G4CATL98YMCA2OSFZWCAFPCKO7CA33F1VDCASUU3T8CADHMYYFCA1AHYSICA74FSOCCAYTJLPUCAE54DQWCARMBTQXCAV2UF3DCACDGDLGCABZGXSCCASOALV8CATKX6LHCADWUGMG"/>
          <p:cNvPicPr/>
          <p:nvPr/>
        </p:nvPicPr>
        <p:blipFill>
          <a:blip r:embed="rId2"/>
          <a:stretch/>
        </p:blipFill>
        <p:spPr>
          <a:xfrm>
            <a:off x="5148360" y="3429000"/>
            <a:ext cx="3727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765720" y="0"/>
            <a:ext cx="74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ddcd"/>
                </a:solidFill>
                <a:latin typeface="Verdana"/>
              </a:rPr>
              <a:t>ГОСУДАРСТВЕННЫЕ СИМВОЛЫ РОСС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9440" y="692280"/>
            <a:ext cx="10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Гим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238040" y="549360"/>
            <a:ext cx="40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так же является символом Росс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и имеет свою отдельную истори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346080" y="9079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cae00"/>
                </a:solidFill>
                <a:latin typeface="Verdana"/>
              </a:rPr>
              <a:t>Гимны Росси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-73800" y="1197000"/>
            <a:ext cx="9581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«Молитва русских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(«Боже, Царя храни!») появился  в 1816г., при Александре </a:t>
            </a: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I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2.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С 1833г. новый вариант «Боже, Царя храни!..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на слова В.А. Жуковского, музыка А.Ф. Льво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3.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В 1917г. Стали исполнять «Марсельезу» К.Ж. Руже де Ли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(временно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4. «Интернационал»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становится первым Государственным гимн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Советского государ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5. Государственный гимн СССР правительство одобрило в 1939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Музыка А.В. Александрова, Текст С.В. Михалков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и Г.А. Эль – Региста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6. После распада Советского Союза (25.12.1991г.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и образования Российской Федерации в качестве Государственного гим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была утверждена «Патриотическая песня» М.И. Глинки.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7.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27 декабря 200г. В качестве Государственного гимна была утвержде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музыка Александрова (с изменениями)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22 марта 2001г., в силу закона «О внесении изменений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дополнения в Федеральный закон «О Государственном гимне РФ»»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- новый текст гимна, который тоже сочинил Михалк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395280" y="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9ddcd"/>
                </a:solidFill>
                <a:latin typeface="Verdana"/>
              </a:rPr>
              <a:t>Конституция России в различные време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9ddcd"/>
                </a:solidFill>
                <a:latin typeface="Verdana"/>
              </a:rPr>
              <a:t>или этапы развития Конституции РФ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43160" y="1052640"/>
            <a:ext cx="490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нтерес представляют конституционны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оззрения декабристов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ыраженные в «Русской правде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П.И. Пестел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и конституционном проект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Н.М. Муравьев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а также «Манифес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к русскому народу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Северного обще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7" descr="KAWCALTKBK6CAPZ5V93CAQSFADICAJJS9RDCAMKFTU7CADGKA00CANC6J15CA3167CNCAWOTL0NCAWLDEDJCAUVAGZPCAGWRXEACAA9VILECAPNDSVACARVLJ5XCACIZ4UECAYGC7ZWCA8W0VBUCAU49SGR"/>
          <p:cNvPicPr/>
          <p:nvPr/>
        </p:nvPicPr>
        <p:blipFill>
          <a:blip r:embed="rId1"/>
          <a:stretch/>
        </p:blipFill>
        <p:spPr>
          <a:xfrm>
            <a:off x="5508720" y="1125360"/>
            <a:ext cx="3448080" cy="2538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167400" y="4365720"/>
            <a:ext cx="87807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Первым шагом на пути перехода от монархии к республике в Росс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стало оформление конституционной монархии путем принятия манифест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от 6 августа 1905г., который учредил Государственную дум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Затем последовали принятия следующих конституц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65640" cy="639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43214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9"/>
          <p:cNvSpPr/>
          <p:nvPr/>
        </p:nvSpPr>
        <p:spPr>
          <a:xfrm>
            <a:off x="2063880" y="303120"/>
            <a:ext cx="59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ституция России 1918 года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5" name="Picture 20" descr="0PYCAHNB0IVCAVO6LUECA6N99A5CAYD03KTCA65XOT6CAKZNRFLCAVEG25UCAZ5TZZWCAFI9EC6CAM6G3FOCA03K48ECARY2O1XCAH1X13YCAVNV1L4CAGEGUWCCA3BD3H5CAFYYTBFCA6X1G3ACA07ZOVS"/>
          <p:cNvPicPr/>
          <p:nvPr/>
        </p:nvPicPr>
        <p:blipFill>
          <a:blip r:embed="rId1"/>
          <a:stretch/>
        </p:blipFill>
        <p:spPr>
          <a:xfrm>
            <a:off x="250920" y="4094280"/>
            <a:ext cx="3960720" cy="25336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21"/>
          <p:cNvSpPr/>
          <p:nvPr/>
        </p:nvSpPr>
        <p:spPr>
          <a:xfrm>
            <a:off x="3481920" y="1197000"/>
            <a:ext cx="5737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Verdana"/>
              </a:rPr>
              <a:t>Принята 10 июля 1918 год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Verdana"/>
              </a:rPr>
              <a:t>На 5 Всероссийском съезде совет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Состояла из 6 частей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buClr>
                <a:srgbClr val="e2e70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Декларация прав трудящего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и эксплуатируемого народ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2. Общие полож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3. Конструкция советской власт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4. Активное и пассивно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збирательное прав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5. Бюджетное прав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6. О гербе и флаге РСФС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1341000" y="189000"/>
            <a:ext cx="66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новной закон ( Конституция ) СССР  1924 год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8" name="Picture 5" descr="W1ACA69ZSTYCA3JQMCHCATRG3ETCAIS0CEZCA29C4NXCAWNV2ZWCAJXG8X5CA9I14S5CAF5G7P6CANWVMV4CAY4D28UCAT7CO65CA3BXYLGCASN69RJCA7G575OCA5TVBBKCALN9RLOCACN1P4CCA1H9EXM"/>
          <p:cNvPicPr/>
          <p:nvPr/>
        </p:nvPicPr>
        <p:blipFill>
          <a:blip r:embed="rId1"/>
          <a:stretch/>
        </p:blipFill>
        <p:spPr>
          <a:xfrm>
            <a:off x="6230880" y="3068640"/>
            <a:ext cx="2589120" cy="36036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1384200" y="692280"/>
            <a:ext cx="65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Принята 31 января 1924 года. 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 Съездом Советов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359640" y="1557360"/>
            <a:ext cx="82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Состояла из двух разделов:  1. Декларация об образовании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                                   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2. Договор об образовании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169200" y="2205000"/>
            <a:ext cx="670392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Договор состоял из 11 гла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б определении верховных органов власти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равах суверенных республи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съездах Советов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олномочиях ЦИК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олномочиях Президиума ЦИК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олномочиях Совета Народных Комисса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олномочиях Верховного суда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 полномочиях общесоюзных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объединённых народных комисса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9. О работе объединенного государственног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олитического управл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10.О структуре органов власти Союзных республи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11.О гербе, флаге и столице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2708280" y="26028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ddcd"/>
                </a:solidFill>
                <a:latin typeface="Verdana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2FJCASLYEBZCAF3RLV6CABBDAP7CADMFHEICARO3QF0CAFH5F7LCA5JXQ3RCACP5ZVKCA8RDQ7DCA96Y61ZCAHKTM56CAMFDVBXCA4R98M0CAMAUYGWCAO1VHC6CAUV26S8CART9M08CAFER80PCAH0J0DY"/>
          <p:cNvPicPr/>
          <p:nvPr/>
        </p:nvPicPr>
        <p:blipFill>
          <a:blip r:embed="rId1"/>
          <a:stretch/>
        </p:blipFill>
        <p:spPr>
          <a:xfrm>
            <a:off x="5435640" y="189000"/>
            <a:ext cx="3492360" cy="2305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374400" y="1844640"/>
            <a:ext cx="550116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«Конституц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(от лат. </a:t>
            </a:r>
            <a:r>
              <a:rPr b="0" lang="en-US" sz="2400" spc="-1" strike="noStrike">
                <a:solidFill>
                  <a:srgbClr val="00ffff"/>
                </a:solidFill>
                <a:latin typeface="Verdana"/>
              </a:rPr>
              <a:t>Constitution 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- устройство)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основной закон государств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определяющий общественное 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государственное устройство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порядок и принципы образова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представителей органов власт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избирательную систему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права и обязанности гражда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Конституция – основа всег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законодательства государств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(определение из Советског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энциклопедического словаря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4248000" cy="6568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4643280" y="115920"/>
            <a:ext cx="4345200" cy="5545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4643280" y="5708520"/>
            <a:ext cx="432144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4264200" y="70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813960" y="18900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ституция ( Основной Закон ) СССР 1936 год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292320" y="907920"/>
            <a:ext cx="83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Принята 5 декабря 1936 года.  8 Чрезвычайным Съездом Советов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522360" y="1413000"/>
            <a:ext cx="791064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Конституция состояла из 13 глав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«Общественное устройство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«Государственное устройство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Высшие органы государственной власти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Высшие органы государственной власти Союзных республи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Органы государственного управления ССС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Органы государственного управления Союзных республи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Высшие органы государственной власти Автономных республи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Местные органы вла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Деятельность суда и прокуратур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Права и обязанности гражда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Избирательные пра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Государственная символика СССР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(герб, флаг, столица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13.  О внесении изменени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ff00"/>
                </a:solidFill>
                <a:latin typeface="Verdana"/>
              </a:rPr>
              <a:t>в Конституци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8" descr="ACDCAWJ2O7ECAZFSG7DCAFW3BQ5CAWQATBNCAVHWGL1CAIC4ZJUCAVMEHJKCAP0LP57CAPTD0YBCAMOSK6SCA2L0WEQCAWX363UCANS4VNSCAJUKJRICAUKKH9UCAQY3Y53CAJAPFEQCA0DT0ARCAGPV6OC"/>
          <p:cNvPicPr/>
          <p:nvPr/>
        </p:nvPicPr>
        <p:blipFill>
          <a:blip r:embed="rId1"/>
          <a:stretch/>
        </p:blipFill>
        <p:spPr>
          <a:xfrm>
            <a:off x="5076720" y="3859200"/>
            <a:ext cx="38768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939240" y="0"/>
            <a:ext cx="74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ституция ( Основной Закон ) СССР 1977 год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1157400" y="692280"/>
            <a:ext cx="711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Принята 7 октября 1977 год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На внеочередной  7 сессии Верховного Совета ССС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e705"/>
                </a:solidFill>
                <a:latin typeface="Verdana"/>
              </a:rPr>
              <a:t>Девятого созы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11" descr="2FJCASLYEBZCAF3RLV6CABBDAP7CADMFHEICARO3QF0CAFH5F7LCA5JXQ3RCACP5ZVKCA8RDQ7DCA96Y61ZCAHKTM56CAMFDVBXCA4R98M0CAMAUYGWCAO1VHC6CAUV26S8CART9M08CAFER80PCAH0J0DY"/>
          <p:cNvPicPr/>
          <p:nvPr/>
        </p:nvPicPr>
        <p:blipFill>
          <a:blip r:embed="rId1"/>
          <a:stretch/>
        </p:blipFill>
        <p:spPr>
          <a:xfrm>
            <a:off x="5219640" y="4257720"/>
            <a:ext cx="3667320" cy="24192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2"/>
          <p:cNvSpPr/>
          <p:nvPr/>
        </p:nvSpPr>
        <p:spPr>
          <a:xfrm>
            <a:off x="902160" y="2276640"/>
            <a:ext cx="670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Состояла из преамбулы и девяти раздел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В преамбуле содержалось освещени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исторического пути СССР за 60 л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И давалась характеристик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«Развитого Социалистического обществ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4505040" y="26028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9ddcd"/>
                </a:solidFill>
                <a:latin typeface="Verdana"/>
              </a:rPr>
              <a:t>Конституция Р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1029960" y="1052640"/>
            <a:ext cx="721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Принята всенародным референдумом 12 декабря 1993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6" name="Picture 7" descr="EE8CACEYQY5CA4K3CQ1CA7IG3N8CAIJBAWVCAGI761RCA3WS0I7CAYDI1ZNCA7JXH6ECAAODCGVCAUW8CWNCAVYKMR0CAMJI2IFCAJ8MXGZCAPO4P39CAHJE1HPCA82HGPUCA9RH36PCAP0YQ0QCAZRRABP"/>
          <p:cNvPicPr/>
          <p:nvPr/>
        </p:nvPicPr>
        <p:blipFill>
          <a:blip r:embed="rId1"/>
          <a:stretch/>
        </p:blipFill>
        <p:spPr>
          <a:xfrm>
            <a:off x="5929200" y="2249640"/>
            <a:ext cx="3214800" cy="4608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"/>
          <p:cNvSpPr/>
          <p:nvPr/>
        </p:nvSpPr>
        <p:spPr>
          <a:xfrm>
            <a:off x="167760" y="1773360"/>
            <a:ext cx="560448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 первой главе раскрываютс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Основы конституционного строя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ринципиально новый дл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Конституции раздел,в основу которог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оложены гуманистические иде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исходящие из незыблемости 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не отчуждаемости прав и свобод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человека и гражданин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 ней гражданин не ставится под иг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e705"/>
                </a:solidFill>
                <a:latin typeface="Verdana"/>
              </a:rPr>
              <a:t>всевластного государств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Государство лишь выступает как официальны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редставитель обществ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правомочный осуществлять функции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Verdana"/>
              </a:rPr>
              <a:t>которые закреплены за ним конституци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4505040" y="33336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9ddcd"/>
                </a:solidFill>
                <a:latin typeface="Verdana"/>
              </a:rPr>
              <a:t>Конституция Р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9" name="Picture 4" descr="B0FCAAAQR6XCAJWVF41CAHROQ4PCAT4HQXHCA1N86I7CA1D4MWACAJKRCXECATHS02CCA391UWFCAI3O6INCA0LWBN2CAJEFHGNCA2OM2BLCAQWE81ZCA45C21PCAYFW8DICAR8HW3ECAJ6GHPECAGMLTOI"/>
          <p:cNvPicPr/>
          <p:nvPr/>
        </p:nvPicPr>
        <p:blipFill>
          <a:blip r:embed="rId1"/>
          <a:stretch/>
        </p:blipFill>
        <p:spPr>
          <a:xfrm>
            <a:off x="250920" y="1989000"/>
            <a:ext cx="3816360" cy="29973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4211640" y="126828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Verdana"/>
              </a:rPr>
              <a:t>Во второй главе раскрыты права и свободы человека и граждани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2e705"/>
                </a:solidFill>
                <a:latin typeface="Verdana"/>
              </a:rPr>
              <a:t>В третьей главе раскрыто федеративное устройство Российской Федера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4"/>
          <p:cNvSpPr/>
          <p:nvPr/>
        </p:nvSpPr>
        <p:spPr>
          <a:xfrm>
            <a:off x="4505040" y="33336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9ddcd"/>
                </a:solidFill>
                <a:latin typeface="Verdana"/>
              </a:rPr>
              <a:t>Конституция Р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Picture 5" descr="TRECAZVBBR0CAA0V55ACAZ811FBCAD6DRFHCAS3TUYCCA99HS9ACA71N0QDCAVTP3LYCAYWVGZ1CAM9B5WNCAJVHIWVCA2Z6C0WCAAT5J87CA1IUC4XCA4DKHE5CA02ZSCCCAQ3K1PQCA75ZPWTCASK7FDR"/>
          <p:cNvPicPr/>
          <p:nvPr/>
        </p:nvPicPr>
        <p:blipFill>
          <a:blip r:embed="rId1"/>
          <a:stretch/>
        </p:blipFill>
        <p:spPr>
          <a:xfrm>
            <a:off x="324000" y="3645000"/>
            <a:ext cx="3887640" cy="29588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6"/>
          <p:cNvSpPr/>
          <p:nvPr/>
        </p:nvSpPr>
        <p:spPr>
          <a:xfrm>
            <a:off x="4284720" y="9810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В четвертой главе Конституции определен статус Президента Росс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Глава пятая посвящена структуре, функциям и порядку избрания Федерального Собра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705"/>
                </a:solidFill>
                <a:latin typeface="Verdana"/>
              </a:rPr>
              <a:t>Глава шестая посвящена структуре, функциям и порядку избрания Правительства РФ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7" descr="3"/>
          <p:cNvPicPr/>
          <p:nvPr/>
        </p:nvPicPr>
        <p:blipFill>
          <a:blip r:embed="rId2"/>
          <a:stretch/>
        </p:blipFill>
        <p:spPr>
          <a:xfrm>
            <a:off x="900000" y="260280"/>
            <a:ext cx="2853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733920" y="259920"/>
            <a:ext cx="541008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9ddcd"/>
                </a:solidFill>
                <a:latin typeface="Garamond"/>
              </a:rPr>
              <a:t>Конституция РФ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95640" y="1196640"/>
            <a:ext cx="4810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Глава седьмая – «Судебная власть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2e705"/>
                </a:solidFill>
                <a:latin typeface="Times New Roman"/>
              </a:rPr>
              <a:t>Глава восьмая – «Местное самоуправление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Глава девятая определяет порядо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внесения конституционных поправо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и пересмотра Конститу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7" name="Picture 8" descr="GXRCA54VEECCAF49P0JCA9UP3W3CA85B0PLCA5B6Y9QCAD9RADBCAO9GSTZCA0KBPT3CA4BL2TOCALQ4IKUCA4OBTAMCAM7TVECCA3M36VFCAXG9P3ZCAGLQ9AFCAM8DC31CASTSSGBCANKS3FNCAFWV95D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82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Garamond"/>
              </a:rPr>
              <a:t>ВИКТОРИНА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Сколько раз в России принимался основной закон государств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Какой праздник отмечают в России 12 июн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Сколько лет исполняется последней Конституции РФ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Автор слов гимна России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Что символизируют цвета флага РФ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еречислите ведущие политические партии РФ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Когда состоятся следующие выборы президента РФ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0" name="Picture 6" descr="9DVCAERHTU1CAUX4VYKCAYTQFSDCA2P25RWCA30KGLDCAOOJCCKCAH1QO3DCAVC0O0FCA1N8FLLCAPEX56QCA18BYQ7CAZ5TCBUCAKMEWG4CA6J6RU0CA69R68ZCAZCB69SCAMKCPSSCAIUAQS2CANSOF37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79280" y="549360"/>
            <a:ext cx="87854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овременн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воведении различаю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исанные и неписанны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конститу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Под писанной конституцией понимается принимаемый и изменяемый в особом порядке основной закон государства, обладающий высшей юридической сил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Если основной закон в государстве отсутствует, а его роль выполняют несколько актов, закрепляющих организацию верховной и государственной власти, права и свободы граждан, то можно говорить о неписанной конститу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9ddcd"/>
                </a:solidFill>
                <a:latin typeface="Verdana"/>
              </a:rPr>
              <a:t>Такая практика имеет место в Великобритани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ddcd"/>
                </a:solidFill>
                <a:latin typeface="Verdana"/>
              </a:rPr>
              <a:t>Новой Зеланд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900880" y="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иды конститу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6" descr="i[6]"/>
          <p:cNvPicPr/>
          <p:nvPr/>
        </p:nvPicPr>
        <p:blipFill>
          <a:blip r:embed="rId1"/>
          <a:stretch/>
        </p:blipFill>
        <p:spPr>
          <a:xfrm>
            <a:off x="0" y="0"/>
            <a:ext cx="1722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647640" y="1289160"/>
            <a:ext cx="84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 порядку установле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ституции подразделяют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</a:t>
            </a: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октроированны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не октроированны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 порядку изменения и дополнения конститу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ывают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гибким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жестким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 форме закрепления вла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личают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aa88a"/>
                </a:solidFill>
                <a:latin typeface="Verdana"/>
              </a:rPr>
              <a:t>монархическ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400" spc="-1" strike="noStrike">
                <a:solidFill>
                  <a:srgbClr val="baa88a"/>
                </a:solidFill>
                <a:latin typeface="Verdana"/>
              </a:rPr>
              <a:t>республиканск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конститу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Современными монархическими конституциями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ae00"/>
                </a:solidFill>
                <a:latin typeface="Verdana"/>
              </a:rPr>
              <a:t>являются конституции Бельгии, Испании, Швеции, Японии и др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республиканским относятся конституц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талии, Китая, США, Франции, ФРГ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оссии и республик в её составе и т.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399920" y="189000"/>
            <a:ext cx="37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иды конститу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6" descr="4C3CAQNN3LDCAM14CTMCAORZNKLCAMT6DDQCAVETFGUCA5T5B8BCA3JS8CMCAV2PFKYCA0BTS13CALXDRV4CA6CBXB8CA3ASH5TCA2ELOTHCAK0JJEZCA15FO6HCA5APT11CAXCIFEFCAYJDDDNCAAJ1HGI"/>
          <p:cNvPicPr/>
          <p:nvPr/>
        </p:nvPicPr>
        <p:blipFill>
          <a:blip r:embed="rId1"/>
          <a:stretch/>
        </p:blipFill>
        <p:spPr>
          <a:xfrm>
            <a:off x="0" y="0"/>
            <a:ext cx="24843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52192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9ddcd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9360">
            <a:solidFill>
              <a:srgbClr val="86615a"/>
            </a:solidFill>
            <a:miter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Конституция устанавливает предел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и характер государственного регулир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во всех основных сферах общественного развития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ae00"/>
                </a:solidFill>
                <a:latin typeface="Times New Roman"/>
              </a:rPr>
              <a:t>взаимоотношения государства с человеком и гражданин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Самое главное – конституция придает высшую юридическую сил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фундаментальным правам и свободам человека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защищает его честь и достоинство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1965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иды конститу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5" descr="5F5CAD5HYNQCABD435LCAELLU6SCA5W23L5CADRYUVHCAVZ5M0KCA97YFN7CA4TNVHSCALZ9J9RCAGFSZTGCA7U9JU3CAXW37Q8CA33L9RKCA7BJ4LCCA79SWOYCA28YWXYCAWZVBYNCARGGZWYCA822HTA"/>
          <p:cNvPicPr/>
          <p:nvPr/>
        </p:nvPicPr>
        <p:blipFill>
          <a:blip r:embed="rId1"/>
          <a:stretch/>
        </p:blipFill>
        <p:spPr>
          <a:xfrm>
            <a:off x="250920" y="0"/>
            <a:ext cx="331128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528480" y="981000"/>
            <a:ext cx="8253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ключений сегодня практически не существует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Даже Великобритания, в которой нет не еди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и кодифицированного основного закона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располагает комплексом юридических актов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начиная с «Хабеас корпус акт» и «Билля о правах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(оба приняты еще в </a:t>
            </a:r>
            <a:r>
              <a:rPr b="0" lang="en-US" sz="2000" spc="-1" strike="noStrike">
                <a:solidFill>
                  <a:srgbClr val="00ff00"/>
                </a:solidFill>
                <a:latin typeface="Verdana"/>
              </a:rPr>
              <a:t>XVII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веке), а так же традиции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Verdana"/>
              </a:rPr>
              <a:t>составляющих в совокупности ее конститу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Более того для </a:t>
            </a:r>
            <a:r>
              <a:rPr b="0" lang="en-US" sz="2000" spc="-1" strike="noStrike">
                <a:solidFill>
                  <a:srgbClr val="ecae00"/>
                </a:solidFill>
                <a:latin typeface="Verdana"/>
              </a:rPr>
              <a:t>XX</a:t>
            </a: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 столетия, особенно второй его половины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характерно обновление конституционного строя многих стран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включая Францию, Германию, Италию, Японию, Грецию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cae00"/>
                </a:solidFill>
                <a:latin typeface="Verdana"/>
              </a:rPr>
              <a:t>Португалию, Испанию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Это продиктовано серьезными политически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социальными переменам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исшедшими в названных страна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во всем мире, и условиями нового време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211640" y="260280"/>
            <a:ext cx="45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иды конститу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40000" y="277560"/>
            <a:ext cx="63468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9ddcd"/>
                </a:solidFill>
                <a:latin typeface="Garamond"/>
              </a:rPr>
              <a:t>ВЕЛИКОБРИТАНИЯ</a:t>
            </a:r>
            <a:endParaRPr b="0" lang="en-US" sz="4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cae00"/>
                </a:solidFill>
                <a:latin typeface="Times New Roman"/>
              </a:rPr>
              <a:t>Соединенное королевство Великобритании и Северной Ирланд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961560" y="242100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Герб Великобритан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9ddcd"/>
                </a:solidFill>
                <a:latin typeface="Verdana"/>
              </a:rPr>
              <a:t>(рисунок учащихс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10" descr="File0088"/>
          <p:cNvPicPr/>
          <p:nvPr/>
        </p:nvPicPr>
        <p:blipFill>
          <a:blip r:embed="rId1"/>
          <a:stretch/>
        </p:blipFill>
        <p:spPr>
          <a:xfrm>
            <a:off x="179280" y="3141720"/>
            <a:ext cx="4176720" cy="355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331520" y="2384280"/>
            <a:ext cx="467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Форма правления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онституционная монарх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Глава государства – монарх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верховный носитель власти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глава судебной систем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верховны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главнокомандующ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ролева – Елизавета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(195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1:42:05Z</dcterms:created>
  <dc:creator>Rassel</dc:creator>
  <dc:description/>
  <dc:language>en-US</dc:language>
  <cp:lastModifiedBy>Rauf</cp:lastModifiedBy>
  <dcterms:modified xsi:type="dcterms:W3CDTF">2013-11-26T21:37:24Z</dcterms:modified>
  <cp:revision>65</cp:revision>
  <dc:subject/>
  <dc:title>Слайд 1</dc:title>
</cp:coreProperties>
</file>