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38.jpeg" ContentType="image/jpeg"/>
  <Override PartName="/ppt/media/image15.jpeg" ContentType="image/jpeg"/>
  <Override PartName="/ppt/media/image6.jpeg" ContentType="image/jpeg"/>
  <Override PartName="/ppt/media/image63.jpeg" ContentType="image/jpeg"/>
  <Override PartName="/ppt/media/image29.png" ContentType="image/png"/>
  <Override PartName="/ppt/media/image21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61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56.png" ContentType="image/png"/>
  <Override PartName="/ppt/media/image4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82BA-7A35-4FB9-B8EB-F047594C4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DF92-1CAF-4C8D-A4B7-DEF391F7CE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B882-D612-438C-9FA1-7B36EBBA0D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F1D-716A-4D55-98BC-67A63A5A2B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592-892C-4253-839E-6BB74F61FF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90D-80C1-4571-B1F8-A5080214B1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D6F5-2778-432A-BAA6-B634E7ADF0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218E-E65B-4D79-A2B9-2399CB6E18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85F-5084-4292-BC49-FA42020F0D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053-D3AC-4E0E-A6B3-D16601B270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45B0-A0A3-454C-8891-E691CBA18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31A6-1AA0-4D6F-9136-2554D017DA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DB8B-1FE1-42D9-A30E-D30B9BB3CC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EAD-5FBE-4D90-AF6C-C2401DE216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E9DE-5C61-4F6A-82D7-10629B92E8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AC4E-0150-492A-B8CB-41918E6F92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DCD0-3A72-4C93-8D9C-8776BDEF2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5FC9-F527-49E4-BE6D-9313F2DF2F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4883-8858-4484-A38F-F42DF872A6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64D0-56A1-4CEF-8695-5CE02EB884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F4DA-19B3-4472-BA50-5B3963E732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ED3-89F3-494C-B83E-1C12118F95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2559-5ABE-4527-9F19-45B415069A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D13B-FFBD-432A-A242-BD1B2C1C78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E3F-C3CC-4834-861E-1436C9602B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EA64-895D-4F49-BCB1-74A7A2E1F7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EBE-A2EB-41FD-AC8F-1494FBEE6A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8661-D820-41EB-AF92-257193DF4F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E0E6-E9C1-438D-A9FE-4A7E0C1FB6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E95F-141D-4BCA-887C-4726CA2C72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B33-8118-4B26-8E30-B85F22339F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7720-02C1-4704-9402-A3C56F9054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81A-1ACC-43B9-8FF5-FB473FD49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D875-0647-40F0-A196-CF197BF2F2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4F2-2938-4EF5-B8A5-A46ECBF25C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A1E0-5BA8-45A0-A4B1-9FF779A29B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62D-C686-4DBF-AA80-4D0D506792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26FD-C0D0-4725-96C1-76B95B6017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8787-BC20-403A-8342-C6E53E7EB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12E-C0C5-485B-93F3-6BDAD2EDDE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217F-73CE-45D9-A8B8-52A38038B3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804-005C-4BD3-A8D8-D1959FA09A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D604-6424-41D9-A727-FF8076AFE4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E54D-B770-4388-BE73-D2E73F42C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8415-CA6F-4650-9722-E1306D8D61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E732-1BEC-4B0D-B2B6-3D63909C8C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353-C376-4C75-A792-357A9D4417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1C0-7BAD-46A7-8DB1-9F18719AA9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2A8-40BF-4D07-B0B8-4468D82D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391-B8FA-465A-831A-71C32069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CAB-9260-4D75-9B20-101B1686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982-CEA5-4CA7-9586-125FBB3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583-E171-4DC2-B8AE-8406BE36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3F1F-A034-44EA-90D3-C7162C2A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7B89-2597-4E8F-88D9-1134CEBA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CD34-E642-4864-A2F2-4F93DAE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1B2-7490-4110-80B2-B1E74A2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9D1B-B225-4DAA-9ED9-03B0FB2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619D-69A4-4A69-B10A-1F33E76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2BD-5F60-4D48-A3C3-8C446DD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7C1-BE9B-4E48-B9A0-458AF8B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2E31-9194-479D-9671-E73DFDC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50CF-BBC5-4021-88B4-AAFA1A1A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C5AF-D8A3-485C-B2AB-6A1FA5FE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1B34-4F3E-4ACA-93EF-D6CB9914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39C-DB33-4F5C-8B10-E3223D15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038-E2E7-4358-A4A4-2D785B0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3E3-56A8-4EEB-9C60-53B7E775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A4E-578F-4E91-A3EE-0632E6F9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0AD-49C3-491E-852E-980CD8B3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689-27E5-4EBA-B96A-ADE1A76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558-9FE3-47CE-9D16-CBD379A0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7B78-B5BA-4857-BE16-31DDA185E5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3ED-B54C-4963-979A-FDCC7750DFE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695960" y="333360"/>
            <a:ext cx="51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лассный час по тем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«12 декабря – День Конститу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Российской Федер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30360" y="1916280"/>
            <a:ext cx="761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ель мероприят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Ознакомить учащихся с конституцие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Провести сравнительный анализ конститу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Воспитывать патриотиз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Развивать творческие способности учащихс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ние излагать свои мысл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нализировать и систематизировать фак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Форма проведения – устный журна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445280" y="260280"/>
            <a:ext cx="42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501720" y="1197000"/>
            <a:ext cx="500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ысший законодательный орган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вухпалатный парламен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Высший исполнительный орган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совет министр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Государственный язык – английск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Религия – 47% - протестант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16% - катол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циональный праздник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ень рождения короле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вторая суббота июл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Член ООН (1945г.) и НАТО (1949г.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6" descr="GWHCA0RG5HOCASKDMQNCA71N1R9CAW28N2YCAP4MYZ0CADPZ04TCA8ONDOTCAR0UQGTCAM4NDNBCATNO1AZCAMYOU5DCAKYYZ1PCA1BFJW5CAO1T2AMCARM42EACA3O4L70CAF21P0RCAVN9QMICAEHSQ0P"/>
          <p:cNvPicPr/>
          <p:nvPr/>
        </p:nvPicPr>
        <p:blipFill>
          <a:blip r:embed="rId1"/>
          <a:stretch/>
        </p:blipFill>
        <p:spPr>
          <a:xfrm>
            <a:off x="250920" y="189000"/>
            <a:ext cx="244944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S0BCAHVUB6HCA206XUFCA9PJNIACALABTWMCA9C53LWCA01D3PICA792SRXCAAB70G3CALIXGP0CAT9ALPFCA7FQBCZCAMF9NTKCAW3PV3RCA7KO5J0CAQYK1YECADYYNVHCAP1RN1YCAEQLIR9CAVLSDWY"/>
          <p:cNvPicPr/>
          <p:nvPr/>
        </p:nvPicPr>
        <p:blipFill>
          <a:blip r:embed="rId2"/>
          <a:stretch/>
        </p:blipFill>
        <p:spPr>
          <a:xfrm>
            <a:off x="179280" y="4292640"/>
            <a:ext cx="3672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995360" y="1890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148360" y="62064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остав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нгличане-81,5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Шотландцы-9,6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рландцы-2,4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эльсцы (валлийцы)-1,9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Ольстерцы-1,8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5640" y="4195800"/>
            <a:ext cx="402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литические парт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Лейбористская (партия вигов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ЛПВ (с1890); лидер – Э.Блэ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Консервативная (тори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 конца </a:t>
            </a:r>
            <a:r>
              <a:rPr b="0" lang="en-US" sz="2000" spc="-1" strike="noStrike">
                <a:solidFill>
                  <a:srgbClr val="e2e705"/>
                </a:solidFill>
                <a:latin typeface="Verdana"/>
              </a:rPr>
              <a:t>XII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 век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лидер У.Хейг (1997г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7" descr="i[1]"/>
          <p:cNvPicPr/>
          <p:nvPr/>
        </p:nvPicPr>
        <p:blipFill>
          <a:blip r:embed="rId1"/>
          <a:stretch/>
        </p:blipFill>
        <p:spPr>
          <a:xfrm>
            <a:off x="5580000" y="3470400"/>
            <a:ext cx="2529000" cy="3387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244080" y="328464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Флаг Великобрита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9" descr="File0089"/>
          <p:cNvPicPr/>
          <p:nvPr/>
        </p:nvPicPr>
        <p:blipFill>
          <a:blip r:embed="rId2"/>
          <a:stretch/>
        </p:blipFill>
        <p:spPr>
          <a:xfrm>
            <a:off x="179280" y="189000"/>
            <a:ext cx="45370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9"/>
          <p:cNvSpPr/>
          <p:nvPr/>
        </p:nvSpPr>
        <p:spPr>
          <a:xfrm>
            <a:off x="4850640" y="26028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0" descr="F5ICAX5FVHZCAW4T22GCA9K1Y8UCAD2H41HCAJ405LMCAM9QTD9CAEZO9IXCA8E999WCAE5HC4QCASSO2VUCAA0DWE5CA2P480TCA0NV07TCA7ASPYKCABLBRABCAT98H46CANAXTQNCAXRU9LBCAHUD36T"/>
          <p:cNvPicPr/>
          <p:nvPr/>
        </p:nvPicPr>
        <p:blipFill>
          <a:blip r:embed="rId1"/>
          <a:stretch/>
        </p:blipFill>
        <p:spPr>
          <a:xfrm>
            <a:off x="4427640" y="3141720"/>
            <a:ext cx="4500360" cy="2959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i"/>
          <p:cNvPicPr/>
          <p:nvPr/>
        </p:nvPicPr>
        <p:blipFill>
          <a:blip r:embed="rId2"/>
          <a:stretch/>
        </p:blipFill>
        <p:spPr>
          <a:xfrm>
            <a:off x="250920" y="189000"/>
            <a:ext cx="4033800" cy="2682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4356000" y="1125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ликобритания не имее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единого 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кодифицированно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основного закон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19680" y="3429000"/>
            <a:ext cx="401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Располагает комплекс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юридических ак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начина с «Хабеас корпус акт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и «Билля о правах» (</a:t>
            </a:r>
            <a:r>
              <a:rPr b="0" lang="en-US" sz="2000" spc="-1" strike="noStrike">
                <a:solidFill>
                  <a:srgbClr val="ecae00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в.)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а так же традици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составляющих в совокуп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ее Конституц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490200" y="739800"/>
            <a:ext cx="5519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Городское управлени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Большой Лондон образу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особую административную единицу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метрополитенское граф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Управляется Советом Большого Лондон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первые избранного в апреле 1964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Члены совета избираются на три го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Каждый округ имеет свой совет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собое положение имеет Сит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управляемый лорд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мэром и корпорацие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 которую входят олдерме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избираются пожизненно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 обширные советни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избираются на один год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347720" y="1332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6" descr="i[7]"/>
          <p:cNvPicPr/>
          <p:nvPr/>
        </p:nvPicPr>
        <p:blipFill>
          <a:blip r:embed="rId1"/>
          <a:stretch/>
        </p:blipFill>
        <p:spPr>
          <a:xfrm>
            <a:off x="179280" y="189000"/>
            <a:ext cx="324036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K4JCACZO859CA5C3N7LCA7NP3KKCA0MVJECCAYO5QIDCAIKAAAACAHM28QQCAUHSTFXCAB8X9EBCAGUTT6DCA05CQ6QCAPJXS9QCAPTBYAWCA63T2VJCA0BO4T0CA4Y09Z0CA0P1UXOCABAHWNPCAL8URVQ"/>
          <p:cNvPicPr/>
          <p:nvPr/>
        </p:nvPicPr>
        <p:blipFill>
          <a:blip r:embed="rId2"/>
          <a:stretch/>
        </p:blipFill>
        <p:spPr>
          <a:xfrm>
            <a:off x="179280" y="4132440"/>
            <a:ext cx="38163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271200" y="333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560" y="479736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Карта Япо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6" descr="File0090"/>
          <p:cNvPicPr/>
          <p:nvPr/>
        </p:nvPicPr>
        <p:blipFill>
          <a:blip r:embed="rId1"/>
          <a:stretch/>
        </p:blipFill>
        <p:spPr>
          <a:xfrm>
            <a:off x="179280" y="189000"/>
            <a:ext cx="2316240" cy="4530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889000" y="1052640"/>
            <a:ext cx="607572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Государство Япония в Восточной Ази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расположено на четырех островах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о.Кюсю, о.Сикоку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о.Хонсю, о.Хокайдо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островах Рюк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 более чем на тыся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мелких остров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Столица Японии – Токи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J41CANQNGKKCAWRJLX1CAMCHSVBCAWAHR5QCAWOMZUWCA2S5VL2CALBB6M7CAYEJUGGCAN48GBBCAF7AZFMCABKCI2VCAA2L4XECAZA2B0LCAP6RW49CAODGZ2BCAJPJ2DLCAP268QZCA51JFGVCA8QAM8A"/>
          <p:cNvPicPr/>
          <p:nvPr/>
        </p:nvPicPr>
        <p:blipFill>
          <a:blip r:embed="rId2"/>
          <a:stretch/>
        </p:blipFill>
        <p:spPr>
          <a:xfrm>
            <a:off x="5003640" y="4087800"/>
            <a:ext cx="3862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6055200" y="18900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97560" y="278136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Флаг Япо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10" descr="File0091"/>
          <p:cNvPicPr/>
          <p:nvPr/>
        </p:nvPicPr>
        <p:blipFill>
          <a:blip r:embed="rId1"/>
          <a:stretch/>
        </p:blipFill>
        <p:spPr>
          <a:xfrm>
            <a:off x="0" y="0"/>
            <a:ext cx="4033800" cy="2793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349880" y="907920"/>
            <a:ext cx="447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Имеет дипломатические отнош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 Росс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Национальный праздник 23 декабря 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день рождения императо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569040" y="2803680"/>
            <a:ext cx="531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Япония - конституционная монарх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Согласно действующ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с 3 мая 1947года конституц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император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является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«Символом государств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и единства народа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его статус определяет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волей всего народ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которому принадлеж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суверенная вла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13" descr="15JCAZVHH8QCAE6MGHACAYXDXF7CAP2J2KTCAA14CE6CALQYTMECA79KS76CABLJJQ8CAO5Z92MCA2Z24PYCA3LLXXICA6LC04YCAVPKHPSCAJ7LG08CAT8IX58CAR7DOZICA8YZ6ABCAGXIPGXCAR3JG3C"/>
          <p:cNvPicPr/>
          <p:nvPr/>
        </p:nvPicPr>
        <p:blipFill>
          <a:blip r:embed="rId2"/>
          <a:stretch/>
        </p:blipFill>
        <p:spPr>
          <a:xfrm>
            <a:off x="250920" y="3857760"/>
            <a:ext cx="3168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7"/>
          <p:cNvSpPr/>
          <p:nvPr/>
        </p:nvSpPr>
        <p:spPr>
          <a:xfrm>
            <a:off x="6342480" y="333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73040" y="907920"/>
            <a:ext cx="645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ысший орган государственной вла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 единственный законодательный орган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парламент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состоящий из двух пал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алаты представителей (512 депутатов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и палаты советников (252 депутат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правительст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премьер-министр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Япония входит в состав ОО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10" descr="KDKCAVPMQVVCAR0DKYPCAHXIZ6CCAK3NRBJCAH1DAR9CAOXYZQOCA2FWIZOCAFYBKEGCAZ1Q206CA8WJWM0CAR85DSSCAVEB55SCAPOEAJPCAQPGA37CACXH7W6CA1GZTPJCAUQ8LQGCA21S6EWCAVNRV60"/>
          <p:cNvPicPr/>
          <p:nvPr/>
        </p:nvPicPr>
        <p:blipFill>
          <a:blip r:embed="rId1"/>
          <a:stretch/>
        </p:blipFill>
        <p:spPr>
          <a:xfrm>
            <a:off x="0" y="1844640"/>
            <a:ext cx="2131920" cy="345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4984200" y="5084640"/>
            <a:ext cx="355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Большое значен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Япония придае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развитию отношен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со странами АСЕ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6"/>
          <p:cNvSpPr/>
          <p:nvPr/>
        </p:nvSpPr>
        <p:spPr>
          <a:xfrm>
            <a:off x="6487200" y="333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508560" y="1052640"/>
            <a:ext cx="544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огласно конститу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все действия император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тносящиеся к делам государ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могут быть предпринят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не иначе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как по совету 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 одобрения правитель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равительство нес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за них ответствен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317040" y="4653000"/>
            <a:ext cx="5286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огласно конституци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парламент имеет прав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распоряжаться финанс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рховный суд выполняет так ж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функции конституционного су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0" descr="HANCAUEPMKKCAK4X2GVCA1X3O5MCA53EGIRCA67HMY2CAHAB8MMCA7OMWP8CA7KPIFLCAQQ6ODQCA5Y8H04CAW4IHVHCANU2Q0FCALA7Y0ICA99586MCA0QGGTICAC6KUVMCA81E6DICAB24Y33CA96ZMFW"/>
          <p:cNvPicPr/>
          <p:nvPr/>
        </p:nvPicPr>
        <p:blipFill>
          <a:blip r:embed="rId1"/>
          <a:stretch/>
        </p:blipFill>
        <p:spPr>
          <a:xfrm>
            <a:off x="324000" y="1844640"/>
            <a:ext cx="244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221000"/>
            <a:ext cx="4176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Избирательное прав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редоставляется всем граждана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достигшим 20 лет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107760" y="40644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XKPCAPZBMXACASN4B54CAW0NL22CA9VDFGSCAW22NNPCA56WCC9CA7ZZG82CA24FSB9CADHFR5BCAVYV61QCAAYF47QCA436P7HCAALRMH0CAO0NFBJCAKUABWYCA9MP4R3CA825KRUCANHFQH9CAJ2B5J7"/>
          <p:cNvPicPr/>
          <p:nvPr/>
        </p:nvPicPr>
        <p:blipFill>
          <a:blip r:embed="rId1"/>
          <a:stretch/>
        </p:blipFill>
        <p:spPr>
          <a:xfrm>
            <a:off x="250920" y="189000"/>
            <a:ext cx="3744720" cy="3002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Q8PCA4J0U7XCA50ZYEOCAV28918CAPX1VK4CAZM0W82CAWAEHSFCAG7WOC4CA06YR15CAZ65C38CAPLXGE0CAB107PWCAWI046RCADZEKJ9CAQD8YCQCA1DXVIQCA49AHKOCAV4JQQUCAU9ZJTDCA3DEJ4L"/>
          <p:cNvPicPr/>
          <p:nvPr/>
        </p:nvPicPr>
        <p:blipFill>
          <a:blip r:embed="rId2"/>
          <a:stretch/>
        </p:blipFill>
        <p:spPr>
          <a:xfrm>
            <a:off x="4859280" y="3508200"/>
            <a:ext cx="3954600" cy="3087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5230440" y="1197000"/>
            <a:ext cx="312984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ероисповедание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синтоиз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буддиз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христианств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867280" y="333360"/>
            <a:ext cx="28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60880" y="1052640"/>
            <a:ext cx="588312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Швеция- крупнейшая страна северной Европ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Она расположена на востоке и юг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кандинавского полуостро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 граничит с Норвегией и Финлянд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толица Швеции - Стокголь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XG7CA6CSI8ZCA5S3CUUCALOC82NCAFD2252CA1Y1662CA1N7AVWCANLVWS2CA9TSB9CCAJR0VPLCAVNX22KCAB4RBX0CAKT16A6CAHKGOOOCAKY1OA5CA2VZAG8CA1NLMW1CAO2U9VRCACWK7ENCABALPGK"/>
          <p:cNvPicPr/>
          <p:nvPr/>
        </p:nvPicPr>
        <p:blipFill>
          <a:blip r:embed="rId1"/>
          <a:stretch/>
        </p:blipFill>
        <p:spPr>
          <a:xfrm>
            <a:off x="98280" y="0"/>
            <a:ext cx="3171960" cy="3933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2163960" y="3645000"/>
            <a:ext cx="674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В Швеции конституционная монарх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Действующая конституция вступила в силу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1 января 1975 г. 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на состоит из трех актов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Форма правлени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Акт о престолонаслед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и Акт о свободе печа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(принято 27 февраля 1974 г.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971280" y="333360"/>
            <a:ext cx="37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ae00"/>
                </a:solidFill>
                <a:latin typeface="Verdana"/>
              </a:rPr>
              <a:t>Классный час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71720" y="1628640"/>
            <a:ext cx="811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12 Декабр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День Конституци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Российской Федераци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6" descr="41dda332152d10bda902df4b98ee2c88"/>
          <p:cNvPicPr/>
          <p:nvPr/>
        </p:nvPicPr>
        <p:blipFill>
          <a:blip r:embed="rId1"/>
          <a:stretch/>
        </p:blipFill>
        <p:spPr>
          <a:xfrm>
            <a:off x="6516720" y="26028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85WCA3PNL97CA400L0TCAMP188VCAQ53W82CA13QOR6CAHXG3APCAGB6R4TCA76H5DRCAQTYI2RCACTUMUFCAVIZMGWCAYM8O7NCA8O8CXYCANH7Y2ZCAV816NVCAONRGH3CADWKD85CAK3128LCAY1C6ZA"/>
          <p:cNvPicPr/>
          <p:nvPr/>
        </p:nvPicPr>
        <p:blipFill>
          <a:blip r:embed="rId2"/>
          <a:stretch/>
        </p:blipFill>
        <p:spPr>
          <a:xfrm>
            <a:off x="468360" y="4149720"/>
            <a:ext cx="2325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6012000" y="189000"/>
            <a:ext cx="28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29960" y="189000"/>
            <a:ext cx="5618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ысший законодательный орга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-однопалатный парламент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риксдач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(состоит из 349 депута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избираемых населением на 3 года п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опорциональной систем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едставительства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Риксдач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принимает законы, бюджет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устанавливает налоги и сборы, займы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избирает премьер-министра и утвержда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остав правительства и т.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авительство подготавлива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овые законопроек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о поручению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риксдач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может принимать акт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меющие силу закон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значать дипломатическ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едставителей за границей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губернаторов высших чин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руководит вооруженными сил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рганами управления и т.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6" descr="A56CA3RSI1NCACE15JOCAXOPOGUCAIQ4ZVRCAUJR1GGCA0EOTKECAJ14Q4LCAARIAUBCA0E6U1ECAEG6NRHCAPUA99NCA41JLVQCAB392MRCAXL72ZTCA66TPX7CAGBW7X8CAGB21OUCAI8WTQGCAUII7VR"/>
          <p:cNvPicPr/>
          <p:nvPr/>
        </p:nvPicPr>
        <p:blipFill>
          <a:blip r:embed="rId1"/>
          <a:stretch/>
        </p:blipFill>
        <p:spPr>
          <a:xfrm>
            <a:off x="5867280" y="836640"/>
            <a:ext cx="3083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6443640" y="260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356000" y="126828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Центральную власть представляет губернатор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который возглавляет социально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административное бюро из 10 член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5 назначаются правительством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ругие 5 ландстингом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удебная система включает верховный суд, 6 апелляционных судов, окружные и городские. Имеются специальные суды по разделу имущества, по земельным делам, полицейские, суды административной юсти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10" descr="673CARV6C4KCA7FI66ICANAJYBUCARE6I8MCABUY566CAQ6NFQQCAAR1GBACA6UI1H1CAQX0TGPCAUXWHZECAZ2IBHUCABI5PIWCAMB3KIGCANW9RFOCAN15WXMCAI5Q4X7CAKFZKP1CAJ3YIQ7CAW29YHN"/>
          <p:cNvPicPr/>
          <p:nvPr/>
        </p:nvPicPr>
        <p:blipFill>
          <a:blip r:embed="rId1"/>
          <a:stretch/>
        </p:blipFill>
        <p:spPr>
          <a:xfrm>
            <a:off x="179280" y="0"/>
            <a:ext cx="1889280" cy="328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L3OCAKCZHX1CAWKU6A2CAKMH4RFCAD2S2N6CA82NSEVCA7Z0KTBCAMD6JJSCAK8NY6CCANEKYM6CAM0C9NDCACWLYH0CA3HUIYMCAB86C5WCA2C27D6CARGUWPOCAU1XXAZCAUY6JLZCA5IBJMSCA2Q8UPL"/>
          <p:cNvPicPr/>
          <p:nvPr/>
        </p:nvPicPr>
        <p:blipFill>
          <a:blip r:embed="rId2"/>
          <a:stretch/>
        </p:blipFill>
        <p:spPr>
          <a:xfrm>
            <a:off x="250920" y="3510000"/>
            <a:ext cx="4105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6413400" y="18900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Глава государства - корол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осуществляет представительные функции.</a:t>
            </a: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6" descr="ZOZCA87OXS4CAFELFJGCAZLOE60CAVBRUCKCATVPG9TCA9821ZKCA4A1Z6ECAZZ2QIMCA7L5ULCCAWSEDAGCAJW1B4ZCAIWPXSDCAJZX00CCAXUJNDMCAVD3WOVCAMRNLYWCAN15MFTCACWR01ACAHHQARL"/>
          <p:cNvPicPr/>
          <p:nvPr/>
        </p:nvPicPr>
        <p:blipFill>
          <a:blip r:embed="rId1"/>
          <a:stretch/>
        </p:blipFill>
        <p:spPr>
          <a:xfrm>
            <a:off x="4859280" y="3860640"/>
            <a:ext cx="4284720" cy="2856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91800" y="386064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9ddcd"/>
                </a:solidFill>
                <a:latin typeface="Verdana"/>
              </a:rPr>
              <a:t>Флаг Швеции </a:t>
            </a:r>
            <a:br>
              <a:rPr sz="1600"/>
            </a:br>
            <a:r>
              <a:rPr b="0" lang="ru-RU" sz="16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8" descr="File0092"/>
          <p:cNvPicPr/>
          <p:nvPr/>
        </p:nvPicPr>
        <p:blipFill>
          <a:blip r:embed="rId2"/>
          <a:stretch/>
        </p:blipFill>
        <p:spPr>
          <a:xfrm>
            <a:off x="0" y="4470480"/>
            <a:ext cx="3673440" cy="23875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2144880" y="1247760"/>
            <a:ext cx="684828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Нынешний король Карл 16 Густ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инадлежит к династии Бернадо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ишедших к власти в начале 19 ве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снователем династии стал француз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Жан – Батист – Жюль   Бернадот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дин из маршалов Наполео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н был усыновлен королем Швеции Карлом 13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сле восхождения на престол получил имя Карл 14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51280" y="0"/>
            <a:ext cx="303516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ddcd"/>
                </a:solidFill>
                <a:latin typeface="Garamond"/>
              </a:rPr>
              <a:t>ШВЕЦИЯ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06560" y="765000"/>
            <a:ext cx="6337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Социал-демократическая парт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Швеции основана в 1889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Объединяет преимуществен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рабочих и служащих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часть представител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средних слоев насел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Партия центр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основана в 1918 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Объединяет мелких и средни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фермеров, часть мелкой городской буржуаз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а так же служащих и рабочи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Народная партия основана в 1934 г. 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объединяет представител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мелкой, средней и крупной буржуаз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служащих, некоторая часть рабочи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Христианско-демократически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юз основан в 1977 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У власти свыше 40 лет находилас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социал-демократическая рабочая партия Шве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4" descr="VBRCA045W6HCAZQGGLUCAGWQOWICAQ76CUHCAHGIGBBCARU32D6CAJZJQ3CCAAW574KCARE87B4CAXB3WEFCA84AX4MCAI3HHRBCAY07U8ACA9K01I9CA08DP93CAYZ0PV1CAYKI5R2CA0CL1CJCAD3UCDF"/>
          <p:cNvPicPr/>
          <p:nvPr/>
        </p:nvPicPr>
        <p:blipFill>
          <a:blip r:embed="rId1"/>
          <a:stretch/>
        </p:blipFill>
        <p:spPr>
          <a:xfrm>
            <a:off x="0" y="0"/>
            <a:ext cx="3325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517320" y="189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СОЕДИНЕННЫЕ ШТАТЫ АМЕРИ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50920" y="981000"/>
            <a:ext cx="524016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4 июля каждого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американская нац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азднует свое рождени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как независимой нации салютом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традиционными гуляни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Когда первое в истор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празднование независимос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закончилось, те, кто его осуществи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встали перед проблем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охранения этой независим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ни прошли чере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революционную войн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 объединение тридца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езависимых государст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 одну функционирующую единицу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7" descr="i"/>
          <p:cNvPicPr/>
          <p:nvPr/>
        </p:nvPicPr>
        <p:blipFill>
          <a:blip r:embed="rId1"/>
          <a:stretch/>
        </p:blipFill>
        <p:spPr>
          <a:xfrm>
            <a:off x="5940360" y="90792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rwwgrewewgrewrgewsgrewtgwfs"/>
          <p:cNvPicPr/>
          <p:nvPr/>
        </p:nvPicPr>
        <p:blipFill>
          <a:blip r:embed="rId2"/>
          <a:stretch/>
        </p:blipFill>
        <p:spPr>
          <a:xfrm>
            <a:off x="5940360" y="4149720"/>
            <a:ext cx="30243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7369920" y="1760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284720" y="90792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диннадцать лет спуст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многие из тех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кто работал на независимость, собрались в Филадельф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чтобы под именем конституционного конвента обсудить укреплени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циональной системы правительства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елегаты Конвента решили устранить существовани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татьи Конфедерац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ервой конституции наций, и предложить совсем новую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федеральную Конституц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6" descr="реку"/>
          <p:cNvPicPr/>
          <p:nvPr/>
        </p:nvPicPr>
        <p:blipFill>
          <a:blip r:embed="rId1"/>
          <a:stretch/>
        </p:blipFill>
        <p:spPr>
          <a:xfrm>
            <a:off x="179280" y="328680"/>
            <a:ext cx="4249800" cy="2238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мств"/>
          <p:cNvPicPr/>
          <p:nvPr/>
        </p:nvPicPr>
        <p:blipFill>
          <a:blip r:embed="rId2"/>
          <a:stretch/>
        </p:blipFill>
        <p:spPr>
          <a:xfrm>
            <a:off x="179280" y="3357720"/>
            <a:ext cx="41767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153920" y="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833640" y="765000"/>
            <a:ext cx="531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Конституция США отличается логичностью и ясностью построения, лаконизмом без излишней детализации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на состоит из семи статей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разделенных на ча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ервые три стать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устанавливают форму власти: Законодательной, Исполнительной и Судебно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татья четвертая определяе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отношения между штатами, а также между штатами и федеральным правительств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татья шестая близка к ней по смыслу, по- скольку характеризует природу и роль Конституции, как «высшего закона государства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6" descr="ерку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74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екуку"/>
          <p:cNvPicPr/>
          <p:nvPr/>
        </p:nvPicPr>
        <p:blipFill>
          <a:blip r:embed="rId2"/>
          <a:stretch/>
        </p:blipFill>
        <p:spPr>
          <a:xfrm>
            <a:off x="755640" y="3213000"/>
            <a:ext cx="2519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7369920" y="2602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746800" y="836640"/>
            <a:ext cx="6061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 1787г. произошли серьезные перемен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з-за формальных изменений в конституци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 так же из-за эволюции в интерпрет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применении докумен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Это сочетание преемственности и перемен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лучше всего представлено в федеральной систем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озданной Конституц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 одной стороны, местные правительств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правительства штатов продолжают игра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значительную роль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мериканской политической систем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берут на себя довольно широкий спектр задач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 то время как центральной прерогатив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федерального правительств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остаются вопросы международной политик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дел общенациональной важ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 другой стороны, в нашем век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олномочия федеральной вла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нтерпретируются на столько широко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что Конгресс в принципе может регулировать вс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что он считает проблематичным для всей н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6" descr="sfds"/>
          <p:cNvPicPr/>
          <p:nvPr/>
        </p:nvPicPr>
        <p:blipFill>
          <a:blip r:embed="rId1"/>
          <a:stretch/>
        </p:blipFill>
        <p:spPr>
          <a:xfrm>
            <a:off x="0" y="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rewgrw"/>
          <p:cNvPicPr/>
          <p:nvPr/>
        </p:nvPicPr>
        <p:blipFill>
          <a:blip r:embed="rId2"/>
          <a:stretch/>
        </p:blipFill>
        <p:spPr>
          <a:xfrm>
            <a:off x="0" y="256536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hte"/>
          <p:cNvPicPr/>
          <p:nvPr/>
        </p:nvPicPr>
        <p:blipFill>
          <a:blip r:embed="rId3"/>
          <a:stretch/>
        </p:blipFill>
        <p:spPr>
          <a:xfrm>
            <a:off x="395280" y="4724280"/>
            <a:ext cx="1973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356000" y="105228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В 1994г. Верховный суд СШ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объявил один федеральны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закон неконституционным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так как тот вторгал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в сферу полномочия шта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Составители Конституции СШ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четко распределили полномочи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которыми было наделе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федеральное правительство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а все остальные отдали властям штат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Таким образом, централизованном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правительству принадлеж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сполнительное прав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проведения внешн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 оборонной полит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7092720" y="260280"/>
            <a:ext cx="17269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dcd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pic>
        <p:nvPicPr>
          <p:cNvPr id="247" name="Picture 5" descr="dgfdgdgdggdgd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293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tretete"/>
          <p:cNvPicPr/>
          <p:nvPr/>
        </p:nvPicPr>
        <p:blipFill>
          <a:blip r:embed="rId2"/>
          <a:stretch/>
        </p:blipFill>
        <p:spPr>
          <a:xfrm>
            <a:off x="395280" y="3068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395280" y="333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ddcd"/>
                </a:solidFill>
                <a:latin typeface="Verdana"/>
              </a:rPr>
              <a:t>ГОСУДАРСТВЕННЫЕ СИМВОЛЫ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71080" y="5902200"/>
            <a:ext cx="214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cae00"/>
                </a:solidFill>
                <a:latin typeface="Verdana"/>
              </a:rPr>
              <a:t>Герб Российск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cae00"/>
                </a:solidFill>
                <a:latin typeface="Verdana"/>
              </a:rPr>
              <a:t>Федерации</a:t>
            </a:r>
            <a:br>
              <a:rPr sz="1600"/>
            </a:br>
            <a:r>
              <a:rPr b="0" lang="ru-RU" sz="1600" spc="-1" strike="noStrike">
                <a:solidFill>
                  <a:srgbClr val="ecae00"/>
                </a:solidFill>
                <a:latin typeface="Verdana"/>
              </a:rPr>
              <a:t>(рисунок учащихся</a:t>
            </a:r>
            <a:r>
              <a:rPr b="0" lang="ru-RU" sz="1600" spc="-1" strike="noStrike">
                <a:solidFill>
                  <a:srgbClr val="e9ddcd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6" descr="File0093"/>
          <p:cNvPicPr/>
          <p:nvPr/>
        </p:nvPicPr>
        <p:blipFill>
          <a:blip r:embed="rId1"/>
          <a:stretch/>
        </p:blipFill>
        <p:spPr>
          <a:xfrm>
            <a:off x="0" y="1125360"/>
            <a:ext cx="3633840" cy="4708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3957840" y="907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ер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4151160" y="1422360"/>
            <a:ext cx="48927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Является символ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достоинства любой н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стории Российского герб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дет от оттиснутой в 1497г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расновойсковой  печа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еликого князя московско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вана </a:t>
            </a:r>
            <a:r>
              <a:rPr b="0" lang="en-US" sz="2400" spc="-1" strike="noStrike">
                <a:solidFill>
                  <a:srgbClr val="e2e705"/>
                </a:solidFill>
                <a:latin typeface="Verdana"/>
              </a:rPr>
              <a:t>III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оторый принял титу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«государя Всея Руси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На лицевой стороне печа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был изображен всадник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который колет змия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имвол борьбы добра со зло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таринный герб Визант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ffff"/>
                </a:solidFill>
                <a:latin typeface="Garamond"/>
              </a:rPr>
              <a:t>Конституции разных стран и их виды.</a:t>
            </a:r>
            <a:endParaRPr b="0" lang="en-US" sz="51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632720" cy="4969080"/>
          </a:xfrm>
          <a:prstGeom prst="rect">
            <a:avLst/>
          </a:prstGeom>
          <a:noFill/>
          <a:ln w="38160">
            <a:solidFill>
              <a:srgbClr val="86615a"/>
            </a:solidFill>
            <a:miter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Содержание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Введение. Понятие конституции. Виды конституц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)Конституции различных стра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1) Великобрит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2)Япо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3)Швец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4)СШ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5)Государственные символы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6)Этапы развития конституции Р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Викторина «Знаешь ли ты историю конституции?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YJ2CA314IIDCAI1JB8ZCAX7QOU7CAAM666CCA3GN28DCA3ON4JOCA8W0GLRCAEFR73MCATTAWINCAJFVDJHCAZ1SA6JCAIEWPNXCAHY4B95CAZMTZXLCAOL320DCAKIHCF9CAE4184UCAA1LE55CAIHP6WE"/>
          <p:cNvPicPr/>
          <p:nvPr/>
        </p:nvPicPr>
        <p:blipFill>
          <a:blip r:embed="rId1"/>
          <a:stretch/>
        </p:blipFill>
        <p:spPr>
          <a:xfrm>
            <a:off x="4211640" y="3154320"/>
            <a:ext cx="4697280" cy="3506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1954800" y="260280"/>
            <a:ext cx="675828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вуглавый орел прижился на Рус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любился и утвердился на многие век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тав символом Росс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рел на Руси издавна считался символом мужеств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и проницательности, почиталс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как птица гордая и независима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вуглавый орел – древнейший симво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озникший на Вост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01160" y="2903400"/>
            <a:ext cx="408816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Двуглавый оре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одна голова смотрит на запад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другая на восток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как бы охраняет Россию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 двух сторон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Такой симво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удачно подоше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великому государству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раскинувшему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на простора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Европы и Аз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и соединившем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две части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916360" y="260280"/>
            <a:ext cx="5975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При  царе Алексее Михайлович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отце Петра </a:t>
            </a:r>
            <a:r>
              <a:rPr b="0" lang="en-US" sz="1800" spc="-1" strike="noStrike">
                <a:solidFill>
                  <a:srgbClr val="e2e705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, орел  высоко поднял крыль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В лапах у орла появились перевит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лентами стрелы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молнии и факел, лавровый вен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Изменилось количество корон над головами – дв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одна, тр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С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XVII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 века орел стал держать в лапах скипетр, в левой держав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После февральской революции 1917г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Временное правительство упростило герб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орел опустил крыль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ну а потом государственный герб стал совершенно другим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без орла, с серпом и молотом на фоне земного шар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Сегодня государственный герб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представляет собой двуглавого орл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помещенного на красном геральдическом щит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над орлом три короны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над головами – две малые и над ними – одна больша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в лапах орла – скипетр и держав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на груди орла старинный московский герб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красный щит с изображением всадни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поражающего копьем драко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RTFCAIVFE7XCA0VFSKHCAFINIXICAKTSBK1CAHHZHVCCAZ5UJX0CALVDBDYCASPQJDQCARE34NXCA22OUADCAPPXB43CAXU54T1CALYMQAZCA88C6JXCACR8EJQCASS54PWCAU0N9VACAE0TLWWCA0NNS41"/>
          <p:cNvPicPr/>
          <p:nvPr/>
        </p:nvPicPr>
        <p:blipFill>
          <a:blip r:embed="rId1"/>
          <a:stretch/>
        </p:blipFill>
        <p:spPr>
          <a:xfrm>
            <a:off x="0" y="692280"/>
            <a:ext cx="305928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9GPCA8MJT2ICAG100JUCALIU9TRCALORGGCCAXG4OI5CAIOWJUQCAE7D1V8CA76FZK6CA8SVFMVCAHEW9NHCAYZH5WBCAVP91J0CANJ0DKECAWPF31ECAZ4V1PSCABWWULZCALDLADXCANPSSUYCAASHRMC"/>
          <p:cNvPicPr/>
          <p:nvPr/>
        </p:nvPicPr>
        <p:blipFill>
          <a:blip r:embed="rId2"/>
          <a:stretch/>
        </p:blipFill>
        <p:spPr>
          <a:xfrm>
            <a:off x="0" y="3860640"/>
            <a:ext cx="30592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0" y="189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ddcd"/>
                </a:solidFill>
                <a:latin typeface="Verdana"/>
              </a:rPr>
              <a:t>ГОСУДАРСТВЕННЫЕ СИМВОЛ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320200" y="107460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ла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6" descr="IADCA0ZTKOBCAW7YJY5CAXNGJX5CATN16JKCA0K798TCAAVVQW3CACDI6TNCALLI0PFCAGV61ZQCA24GBB3CAWZ67WDCA0I4H5WCAW1WYUQCAFUG3VKCA0PIPLBCAMD95EACAVH2H3QCATOJEQVCAH65GOY"/>
          <p:cNvPicPr/>
          <p:nvPr/>
        </p:nvPicPr>
        <p:blipFill>
          <a:blip r:embed="rId1"/>
          <a:stretch/>
        </p:blipFill>
        <p:spPr>
          <a:xfrm>
            <a:off x="0" y="2133720"/>
            <a:ext cx="3600360" cy="23922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3806280" y="1557360"/>
            <a:ext cx="518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Флаг в любом государств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так же является символ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достоинства и независимости нац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Недаром подъем государственного флаг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ервая торжественная церем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осле провозглашения нового государ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37280" y="4848120"/>
            <a:ext cx="62157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Государственному флагу, как святыне отдают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ысшие государственные поче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остоинство его защищает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нутри страны и за ее предел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VRJCAOIET7RCAY4TNI1CAAVT3A7CA8DMXGHCAVW3ALRCAWQD71TCAWLP807CA74D77BCADHKQ00CAAA3I97CAZFKRESCANGC73WCA8OMWFWCAL9R8T2CAJ92Q3KCAS64EB7CAO60EURCA5XO8KHCAD4NNE7"/>
          <p:cNvPicPr/>
          <p:nvPr/>
        </p:nvPicPr>
        <p:blipFill>
          <a:blip r:embed="rId1"/>
          <a:stretch/>
        </p:blipFill>
        <p:spPr>
          <a:xfrm>
            <a:off x="5148360" y="4173480"/>
            <a:ext cx="3705120" cy="24703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2972520" y="33336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Трехцветный флаг был введен при отце Петра </a:t>
            </a:r>
            <a:r>
              <a:rPr b="0" lang="en-US" sz="1800" spc="-1" strike="noStrike">
                <a:solidFill>
                  <a:srgbClr val="e2e705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лексее Михайловиче (1629-1676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059920" y="1197000"/>
            <a:ext cx="647316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расный цвет символизировал отвагу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войну, героизм, огон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иний – небо, целомудрие, верность, духовность;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лый – мир, чистоту, правду, благород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Эти три цвета являлись сам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едпочтительными и традиционн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цветами русского нар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26440" y="3933720"/>
            <a:ext cx="4883760" cy="26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етр </a:t>
            </a:r>
            <a:r>
              <a:rPr b="0" lang="en-US" sz="1800" spc="-1" strike="noStrike">
                <a:solidFill>
                  <a:srgbClr val="e2e705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 определил точно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расположение горизонтальных полос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которое совпадал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 древним пониманием строения мира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низу – физический, плотский (красный);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выше – небесный (синий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е выше – божественный (белый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ли (сверху вниз)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Вера, Надежда, Любов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101520" y="4437000"/>
            <a:ext cx="50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 апреле 1991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авительственная комисс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Совета Министров РСФСР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добрила возвращение трехцвет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флага республи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7" descr="D31CALZPWJPCA48OSSGCA8A8PXRCAPQXSI5CAVR98FECAEP4PSRCAEGSQ3KCAXULDMECAMOF2STCARC342BCAMNMWNJCA5LYS5PCA1D48EYCAVZTB8TCAOULA0ICA80KCYLCALZCROUCAM6QCZJCAEPTIN5"/>
          <p:cNvPicPr/>
          <p:nvPr/>
        </p:nvPicPr>
        <p:blipFill>
          <a:blip r:embed="rId1"/>
          <a:stretch/>
        </p:blipFill>
        <p:spPr>
          <a:xfrm>
            <a:off x="406440" y="189000"/>
            <a:ext cx="3986280" cy="41288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631760" y="450720"/>
            <a:ext cx="4493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Государственный флаг постоян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днят над резиденци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езидента в Кремле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над зданиями Правительств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Государственной Думы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ругими государственн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учреждени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Picture 9" descr="FXFCA75ECUDCAS4L9G4CATL98YMCA2OSFZWCAFPCKO7CA33F1VDCASUU3T8CADHMYYFCA1AHYSICA74FSOCCAYTJLPUCAE54DQWCARMBTQXCAV2UF3DCACDGDLGCABZGXSCCASOALV8CATKX6LHCADWUGMG"/>
          <p:cNvPicPr/>
          <p:nvPr/>
        </p:nvPicPr>
        <p:blipFill>
          <a:blip r:embed="rId2"/>
          <a:stretch/>
        </p:blipFill>
        <p:spPr>
          <a:xfrm>
            <a:off x="5148360" y="3429000"/>
            <a:ext cx="372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765720" y="0"/>
            <a:ext cx="74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ГОСУДАРСТВЕННЫЕ СИМВОЛЫ РОС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9440" y="692280"/>
            <a:ext cx="10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им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238040" y="54936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так же является символом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и имеет свою отдельную истор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346080" y="9079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ae00"/>
                </a:solidFill>
                <a:latin typeface="Verdana"/>
              </a:rPr>
              <a:t>Гимны Росси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-73800" y="1197000"/>
            <a:ext cx="958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«Молитва русских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(«Боже, Царя храни!») появился  в 1816г., при Александре </a:t>
            </a: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 1833г. новый вариант «Боже, Царя храни!..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на слова В.А. Жуковского, музыка А.Ф. Льво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 1917г. Стали исполнять «Марсельезу» К.Ж. Руже де Ли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(временно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4. «Интернационал»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тановится первым Государственным гимн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оветского государ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5. Государственный гимн СССР правительство одобрило в 1939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Музыка А.В. Александрова, Текст С.В. Михалков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 Г.А. Эль – Региста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6. После распада Советского Союза (25.12.1991г.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и образования Российской Федерации в качестве Государственного гим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была утверждена «Патриотическая песня» М.И. Глинки.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7.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27 декабря 200г. В качестве Государственного гимна была утвержде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музыка Александрова (с изменениями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22 марта 2001г., в силу закона «О внесении изменений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дополнения в Федеральный закон «О Государственном гимне РФ»»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- новый текст гимна, который тоже сочинил Михалк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395280" y="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ddcd"/>
                </a:solidFill>
                <a:latin typeface="Verdana"/>
              </a:rPr>
              <a:t>Конституция России в различные време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ddcd"/>
                </a:solidFill>
                <a:latin typeface="Verdana"/>
              </a:rPr>
              <a:t>или этапы развития Конституции РФ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43160" y="1052640"/>
            <a:ext cx="490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нтерес представляют конституцио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оззрения декабристов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ыраженные в «Русской правде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.И. Пестел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конституционном проект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Н.М. Муравьев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 также «Манифес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к русскому народу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еверного обще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7" descr="KAWCALTKBK6CAPZ5V93CAQSFADICAJJS9RDCAMKFTU7CADGKA00CANC6J15CA3167CNCAWOTL0NCAWLDEDJCAUVAGZPCAGWRXEACAA9VILECAPNDSVACARVLJ5XCACIZ4UECAYGC7ZWCA8W0VBUCAU49SGR"/>
          <p:cNvPicPr/>
          <p:nvPr/>
        </p:nvPicPr>
        <p:blipFill>
          <a:blip r:embed="rId1"/>
          <a:stretch/>
        </p:blipFill>
        <p:spPr>
          <a:xfrm>
            <a:off x="5508720" y="1125360"/>
            <a:ext cx="3448080" cy="2538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167400" y="4365720"/>
            <a:ext cx="87807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ервым шагом на пути перехода от монархии к республике в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тало оформление конституционной монархии путем принятия манифес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т 6 августа 1905г., который учредил Государственную дум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Затем последовали принятия следующих конституц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5640" cy="639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3214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9"/>
          <p:cNvSpPr/>
          <p:nvPr/>
        </p:nvSpPr>
        <p:spPr>
          <a:xfrm>
            <a:off x="2063880" y="30312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ституция России 1918 года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20" descr="0PYCAHNB0IVCAVO6LUECA6N99A5CAYD03KTCA65XOT6CAKZNRFLCAVEG25UCAZ5TZZWCAFI9EC6CAM6G3FOCA03K48ECARY2O1XCAH1X13YCAVNV1L4CAGEGUWCCA3BD3H5CAFYYTBFCA6X1G3ACA07ZOVS"/>
          <p:cNvPicPr/>
          <p:nvPr/>
        </p:nvPicPr>
        <p:blipFill>
          <a:blip r:embed="rId1"/>
          <a:stretch/>
        </p:blipFill>
        <p:spPr>
          <a:xfrm>
            <a:off x="250920" y="4094280"/>
            <a:ext cx="3960720" cy="2533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1"/>
          <p:cNvSpPr/>
          <p:nvPr/>
        </p:nvSpPr>
        <p:spPr>
          <a:xfrm>
            <a:off x="3481920" y="1197000"/>
            <a:ext cx="573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Принята 10 июля 1918 г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На 5 Всероссийском съезде сове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Состояла из 6 частей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buClr>
                <a:srgbClr val="e2e7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Декларация прав трудящего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и эксплуатируемого нар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2. Общие полож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3. Конструкция советской вла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4. Активное и пассивно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ирательное пра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5. Бюджетное пра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6. О гербе и флаге РСФС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1341000" y="18900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ой закон ( Конституция ) СССР  1924 г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5" descr="W1ACA69ZSTYCA3JQMCHCATRG3ETCAIS0CEZCA29C4NXCAWNV2ZWCAJXG8X5CA9I14S5CAF5G7P6CANWVMV4CAY4D28UCAT7CO65CA3BXYLGCASN69RJCA7G575OCA5TVBBKCALN9RLOCACN1P4CCA1H9EXM"/>
          <p:cNvPicPr/>
          <p:nvPr/>
        </p:nvPicPr>
        <p:blipFill>
          <a:blip r:embed="rId1"/>
          <a:stretch/>
        </p:blipFill>
        <p:spPr>
          <a:xfrm>
            <a:off x="6230880" y="3068640"/>
            <a:ext cx="2589120" cy="36036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384200" y="692280"/>
            <a:ext cx="65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ринята 31 января 1924 года. 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 Съездом Советов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59640" y="1557360"/>
            <a:ext cx="82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остояла из двух разделов:  1. Декларация об образовани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                                   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2. Договор об образовани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69200" y="2205000"/>
            <a:ext cx="670392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Договор состоял из 11 гла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б определении верховных органов власт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равах суверен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съездах Советов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ЦИК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Президиума ЦИК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Совета Народных Комисса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Верховного суда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общесоюзных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бъединённых народных комисса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9. О работе объединенного государственно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олитического у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10.О структуре органов власти Союз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11.О гербе, флаге и столице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708280" y="26028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2FJCASLYEBZCAF3RLV6CABBDAP7CADMFHEICARO3QF0CAFH5F7LCA5JXQ3RCACP5ZVKCA8RDQ7DCA96Y61ZCAHKTM56CAMFDVBXCA4R98M0CAMAUYGWCAO1VHC6CAUV26S8CART9M08CAFER80PCAH0J0DY"/>
          <p:cNvPicPr/>
          <p:nvPr/>
        </p:nvPicPr>
        <p:blipFill>
          <a:blip r:embed="rId1"/>
          <a:stretch/>
        </p:blipFill>
        <p:spPr>
          <a:xfrm>
            <a:off x="5435640" y="189000"/>
            <a:ext cx="3492360" cy="2305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74400" y="1844640"/>
            <a:ext cx="550116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«Конституц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(от лат. </a:t>
            </a: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Constitution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- устройство)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сновной закон государ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пределяющий общественное 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государственное устройство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орядок и принципы образов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редставителей органов власт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избирательную систему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рава и обязанности гражда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онституция – основа все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законодательства государств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(определение из Советско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энциклопедического словаря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248000" cy="6568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345200" cy="5545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4643280" y="5708520"/>
            <a:ext cx="43214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4264200" y="70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813960" y="18900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титуция ( Основной Закон ) СССР 1936 год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292320" y="907920"/>
            <a:ext cx="83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ринята 5 декабря 1936 года.  8 Чрезвычайным Съездом Советов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22360" y="1413000"/>
            <a:ext cx="791064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Конституция состояла из 13 гла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«Общественное устройство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«Государственное устройство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ысшие органы государственной власт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ысшие органы государственной власти Союз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рганы государственного управления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рганы государственного управления Союз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ысшие органы государственной власти Автоном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Местные органы вла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Деятельность суда и прокурату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рава и обязанности гражда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збирательные пра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Государственная символика ССС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(герб, флаг, столиц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13.  О внесении изменен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 Конституц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ACDCAWJ2O7ECAZFSG7DCAFW3BQ5CAWQATBNCAVHWGL1CAIC4ZJUCAVMEHJKCAP0LP57CAPTD0YBCAMOSK6SCA2L0WEQCAWX363UCANS4VNSCAJUKJRICAUKKH9UCAQY3Y53CAJAPFEQCA0DT0ARCAGPV6OC"/>
          <p:cNvPicPr/>
          <p:nvPr/>
        </p:nvPicPr>
        <p:blipFill>
          <a:blip r:embed="rId1"/>
          <a:stretch/>
        </p:blipFill>
        <p:spPr>
          <a:xfrm>
            <a:off x="5076720" y="3859200"/>
            <a:ext cx="38768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939240" y="0"/>
            <a:ext cx="74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титуция ( Основной Закон ) СССР 1977 г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157400" y="692280"/>
            <a:ext cx="71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Принята 7 октября 1977 го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На внеочередной  7 сессии Верховного Совета ССС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Девятого созы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11" descr="2FJCASLYEBZCAF3RLV6CABBDAP7CADMFHEICARO3QF0CAFH5F7LCA5JXQ3RCACP5ZVKCA8RDQ7DCA96Y61ZCAHKTM56CAMFDVBXCA4R98M0CAMAUYGWCAO1VHC6CAUV26S8CART9M08CAFER80PCAH0J0DY"/>
          <p:cNvPicPr/>
          <p:nvPr/>
        </p:nvPicPr>
        <p:blipFill>
          <a:blip r:embed="rId1"/>
          <a:stretch/>
        </p:blipFill>
        <p:spPr>
          <a:xfrm>
            <a:off x="5219640" y="4257720"/>
            <a:ext cx="3667320" cy="24192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2"/>
          <p:cNvSpPr/>
          <p:nvPr/>
        </p:nvSpPr>
        <p:spPr>
          <a:xfrm>
            <a:off x="902160" y="2276640"/>
            <a:ext cx="67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остояла из преамбулы и девяти разде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 преамбуле содержалось освещен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сторического пути СССР за 60 л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 давалась характеристи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«Развитого Социалистического обществ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505040" y="26028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9ddcd"/>
                </a:solidFill>
                <a:latin typeface="Verdana"/>
              </a:rPr>
              <a:t>Конституция Р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1029960" y="1052640"/>
            <a:ext cx="72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инята всенародным референдумом 12 декабря 1993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Picture 7" descr="EE8CACEYQY5CA4K3CQ1CA7IG3N8CAIJBAWVCAGI761RCA3WS0I7CAYDI1ZNCA7JXH6ECAAODCGVCAUW8CWNCAVYKMR0CAMJI2IFCAJ8MXGZCAPO4P39CAHJE1HPCA82HGPUCA9RH36PCAP0YQ0QCAZRRABP"/>
          <p:cNvPicPr/>
          <p:nvPr/>
        </p:nvPicPr>
        <p:blipFill>
          <a:blip r:embed="rId1"/>
          <a:stretch/>
        </p:blipFill>
        <p:spPr>
          <a:xfrm>
            <a:off x="5929200" y="2249640"/>
            <a:ext cx="3214800" cy="4608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"/>
          <p:cNvSpPr/>
          <p:nvPr/>
        </p:nvSpPr>
        <p:spPr>
          <a:xfrm>
            <a:off x="167760" y="1773360"/>
            <a:ext cx="560448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 первой главе раскрывают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Основы конституционного строя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ринципиально новый дл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Конституции раздел,в основу которо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оложены гуманистические иде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исходящие из незыблемост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не отчуждаемости прав и свобод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человека и гражданин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 ней гражданин не ставится под и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севластного государств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Государство лишь выступает как официаль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редставитель обществ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равомочный осуществлять функци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которые закреплены за ним конституц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05040" y="33336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9ddcd"/>
                </a:solidFill>
                <a:latin typeface="Verdana"/>
              </a:rPr>
              <a:t>Конституция Р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9" name="Picture 4" descr="B0FCAAAQR6XCAJWVF41CAHROQ4PCAT4HQXHCA1N86I7CA1D4MWACAJKRCXECATHS02CCA391UWFCAI3O6INCA0LWBN2CAJEFHGNCA2OM2BLCAQWE81ZCA45C21PCAYFW8DICAR8HW3ECAJ6GHPECAGMLTOI"/>
          <p:cNvPicPr/>
          <p:nvPr/>
        </p:nvPicPr>
        <p:blipFill>
          <a:blip r:embed="rId1"/>
          <a:stretch/>
        </p:blipFill>
        <p:spPr>
          <a:xfrm>
            <a:off x="250920" y="1989000"/>
            <a:ext cx="3816360" cy="2997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4211640" y="12682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Verdana"/>
              </a:rPr>
              <a:t>Во второй главе раскрыты права и свободы человека и граждани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e705"/>
                </a:solidFill>
                <a:latin typeface="Verdana"/>
              </a:rPr>
              <a:t>В третьей главе раскрыто федеративное устройство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4505040" y="33336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9ddcd"/>
                </a:solidFill>
                <a:latin typeface="Verdana"/>
              </a:rPr>
              <a:t>Конституция Р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5" descr="TRECAZVBBR0CAA0V55ACAZ811FBCAD6DRFHCAS3TUYCCA99HS9ACA71N0QDCAVTP3LYCAYWVGZ1CAM9B5WNCAJVHIWVCA2Z6C0WCAAT5J87CA1IUC4XCA4DKHE5CA02ZSCCCAQ3K1PQCA75ZPWTCASK7FDR"/>
          <p:cNvPicPr/>
          <p:nvPr/>
        </p:nvPicPr>
        <p:blipFill>
          <a:blip r:embed="rId1"/>
          <a:stretch/>
        </p:blipFill>
        <p:spPr>
          <a:xfrm>
            <a:off x="324000" y="3645000"/>
            <a:ext cx="3887640" cy="29588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4284720" y="981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 четвертой главе Конституции определен статус Президента Росс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пятая посвящена структуре, функциям и порядку избрания Федерального Собр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Глава шестая посвящена структуре, функциям и порядку избрания Правительства РФ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7" descr="3"/>
          <p:cNvPicPr/>
          <p:nvPr/>
        </p:nvPicPr>
        <p:blipFill>
          <a:blip r:embed="rId2"/>
          <a:stretch/>
        </p:blipFill>
        <p:spPr>
          <a:xfrm>
            <a:off x="900000" y="260280"/>
            <a:ext cx="2853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733920" y="259920"/>
            <a:ext cx="541008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9ddcd"/>
                </a:solidFill>
                <a:latin typeface="Garamond"/>
              </a:rPr>
              <a:t>Конституция РФ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95640" y="1196640"/>
            <a:ext cx="4810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Глава седьмая – «Судебная влас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Глава восьмая – «Местное самоуправлени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Глава девятая определяет порядо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несения конституционных поправо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и пересмотра Конститу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8" descr="GXRCA54VEECCAF49P0JCA9UP3W3CA85B0PLCA5B6Y9QCAD9RADBCAO9GSTZCA0KBPT3CA4BL2TOCALQ4IKUCA4OBTAMCAM7TVECCA3M36VFCAXG9P3ZCAGLQ9AFCAM8DC31CASTSSGBCANKS3FNCAFWV95D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Garamond"/>
              </a:rPr>
              <a:t>ВИКТОРИНА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колько раз в России принимался основной закон государ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Какой праздник отмечают в России 12 июн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колько лет исполняется последней Конституции РФ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Автор слов гимна Росси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Что символизируют цвета флага Р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еречислите ведущие политические партии Р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Когда состоятся следующие выборы президента Р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6" descr="9DVCAERHTU1CAUX4VYKCAYTQFSDCA2P25RWCA30KGLDCAOOJCCKCAH1QO3DCAVC0O0FCA1N8FLLCAPEX56QCA18BYQ7CAZ5TCBUCAKMEWG4CA6J6RU0CA69R68ZCAZCB69SCAMKCPSSCAIUAQS2CANSOF37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79280" y="549360"/>
            <a:ext cx="87854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овременн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оведении различаю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исанные и неписанн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нститу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Под писанной конституцией понимается принимаемый и изменяемый в особом порядке основной закон государства, обладающий высшей юридической сил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Если основной закон в государстве отсутствует, а его роль выполняют несколько актов, закрепляющих организацию верховной и государственной власти, права и свободы граждан, то можно говорить о неписанной конститу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9ddcd"/>
                </a:solidFill>
                <a:latin typeface="Verdana"/>
              </a:rPr>
              <a:t>Такая практика имеет место в Великобритан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ddcd"/>
                </a:solidFill>
                <a:latin typeface="Verdana"/>
              </a:rPr>
              <a:t>Новой Зеланд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900880" y="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6" descr="i[6]"/>
          <p:cNvPicPr/>
          <p:nvPr/>
        </p:nvPicPr>
        <p:blipFill>
          <a:blip r:embed="rId1"/>
          <a:stretch/>
        </p:blipFill>
        <p:spPr>
          <a:xfrm>
            <a:off x="0" y="0"/>
            <a:ext cx="1722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647640" y="128916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 порядку установ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титуции подразделяю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октроированны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не октроированны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 порядку изменения и дополнения конститу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вают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гибким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жестким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 форме закрепления вла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личаю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aa88a"/>
                </a:solidFill>
                <a:latin typeface="Verdana"/>
              </a:rPr>
              <a:t>монархическ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baa88a"/>
                </a:solidFill>
                <a:latin typeface="Verdana"/>
              </a:rPr>
              <a:t>республиканск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конститу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Современными монархическими конституциями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являются конституции Бельгии, Испании, Швеции, Японии и др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республиканским относятся конститу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талии, Китая, США, Франции, ФРГ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ссии и республик в её составе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399920" y="189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6" descr="4C3CAQNN3LDCAM14CTMCAORZNKLCAMT6DDQCAVETFGUCA5T5B8BCA3JS8CMCAV2PFKYCA0BTS13CALXDRV4CA6CBXB8CA3ASH5TCA2ELOTHCAK0JJEZCA15FO6HCA5APT11CAXCIFEFCAYJDDDNCAAJ1HGI"/>
          <p:cNvPicPr/>
          <p:nvPr/>
        </p:nvPicPr>
        <p:blipFill>
          <a:blip r:embed="rId1"/>
          <a:stretch/>
        </p:blipFill>
        <p:spPr>
          <a:xfrm>
            <a:off x="0" y="0"/>
            <a:ext cx="24843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5219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9ddcd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9360">
            <a:solidFill>
              <a:srgbClr val="86615a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Конституция устанавливает предел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и характер государственного регулир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во всех основных сферах общественного развити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взаимоотношения государства с человеком и гражданин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Самое главное – конституция придает высшую юридическую сил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фундаментальным правам и свободам человек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щищает его честь и достоинств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1965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5" descr="5F5CAD5HYNQCABD435LCAELLU6SCA5W23L5CADRYUVHCAVZ5M0KCA97YFN7CA4TNVHSCALZ9J9RCAGFSZTGCA7U9JU3CAXW37Q8CA33L9RKCA7BJ4LCCA79SWOYCA28YWXYCAWZVBYNCARGGZWYCA822HTA"/>
          <p:cNvPicPr/>
          <p:nvPr/>
        </p:nvPicPr>
        <p:blipFill>
          <a:blip r:embed="rId1"/>
          <a:stretch/>
        </p:blipFill>
        <p:spPr>
          <a:xfrm>
            <a:off x="250920" y="0"/>
            <a:ext cx="3311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528480" y="981000"/>
            <a:ext cx="8253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ключений сегодня практически не существу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аже Великобритания, в которой нет не еди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 кодифицированного основного закон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располагает комплексом юридических ак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чиная с «Хабеас корпус акт» и «Билля о правах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оба приняты еще в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веке), а так же традици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составляющих в совокупности ее конститу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Более того для </a:t>
            </a:r>
            <a:r>
              <a:rPr b="0" lang="en-US" sz="2000" spc="-1" strike="noStrike">
                <a:solidFill>
                  <a:srgbClr val="ecae00"/>
                </a:solidFill>
                <a:latin typeface="Verdana"/>
              </a:rPr>
              <a:t>XX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 столетия, особенно второй его половин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характерно обновление конституционного строя многих стран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включая Францию, Германию, Италию, Японию, Грецию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Португалию, Испанию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Это продиктовано серьезными политически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социальными перемен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исшедшими в названных страна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во всем мире, и условиями нового време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211640" y="260280"/>
            <a:ext cx="45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40000" y="277560"/>
            <a:ext cx="63468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ddcd"/>
                </a:solidFill>
                <a:latin typeface="Garamond"/>
              </a:rPr>
              <a:t>ВЕЛИКОБРИТАНИЯ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ae00"/>
                </a:solidFill>
                <a:latin typeface="Times New Roman"/>
              </a:rPr>
              <a:t>Соединенное королевство Великобритании и Северной Ирланд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961560" y="242100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Герб Великобрита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0" descr="File0088"/>
          <p:cNvPicPr/>
          <p:nvPr/>
        </p:nvPicPr>
        <p:blipFill>
          <a:blip r:embed="rId1"/>
          <a:stretch/>
        </p:blipFill>
        <p:spPr>
          <a:xfrm>
            <a:off x="179280" y="3141720"/>
            <a:ext cx="4176720" cy="355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331520" y="2384280"/>
            <a:ext cx="467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Форма правления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онституционная монарх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государства – монарх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рховный носитель власт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судебной систем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рховн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нокомандующ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лева – Елизавета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195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1:42:05Z</dcterms:created>
  <dc:creator>Rassel</dc:creator>
  <dc:description/>
  <dc:language>en-US</dc:language>
  <cp:lastModifiedBy>Rauf</cp:lastModifiedBy>
  <dcterms:modified xsi:type="dcterms:W3CDTF">2013-11-26T21:37:24Z</dcterms:modified>
  <cp:revision>65</cp:revision>
  <dc:subject/>
  <dc:title>Слайд 1</dc:title>
</cp:coreProperties>
</file>