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F43-D1A1-48B1-8CB7-1C905D5B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2DC-2C5F-4E77-BB48-E69786C7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FDE-ADE7-41B9-9FCE-40B1227C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AB5-458B-4C0B-BEBE-BDE5A714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1678-B767-4D74-98D8-6929D60D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E210-3F7C-4E1E-80D3-C38EFFDF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3320-18F8-448A-ADA9-EDDD9E91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51ED-58EE-47D0-9C0C-325C91FD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A458-23F9-4F5F-9441-8B30286C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450A-8E6D-46EB-B9CA-C87465CB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2897-F55F-4F02-B7DB-9EF9551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AC7-3047-4DB5-B9B0-0688EF6B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D4D6-0493-4D45-B624-222E8B9D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FF44-7779-479F-B013-7C071330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45BB-1F32-4916-ADE5-FAB29F2D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B4EB-4495-4A6C-9BFC-24FA171E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2DDA-11C5-4A4C-BB83-1C7055C2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783-E269-4B6B-9D59-EDEC1901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2C2-46E3-424E-BB60-A6557C44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B7A-8014-4B3F-940D-1B76FC7A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B0F-3DAF-4866-98C8-F8A00F05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7B0-3D79-4969-BA55-D28DC67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D2A-F236-4EA6-9979-5075C8BF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D4B-8804-4C41-829C-85103F0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E9DF-9625-4B1D-ADD9-0FEB060ED9B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529C-0F9E-4AB1-AEC7-29B0F2B82E7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66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тематический праздн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2852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Мы бросаем скуке вызов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Эруд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779640" y="162828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4920" y="1557360"/>
          <a:ext cx="7351560" cy="4848120"/>
        </p:xfrm>
        <a:graphic>
          <a:graphicData uri="http://schemas.openxmlformats.org/drawingml/2006/table">
            <a:tbl>
              <a:tblPr/>
              <a:tblGrid>
                <a:gridCol w="7351560"/>
              </a:tblGrid>
              <a:tr h="51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 горизонтали:                По вертикали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Компонент математического                  2.самое маленькое натуральное           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йствия «вычитание»                                              число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6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.Компонент математического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исло .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йствия «умножение»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4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 Одно из измерений прямо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Единица измерения массы.                                Угольника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Число, которое не может быть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5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Результат делени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лителем                     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 7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Результат вычитания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1.Часть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прямой, ограниченная двумя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 8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Геометрическая фигура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чками                             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0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асть прямой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,                             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2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Запись, состоящая из одной или                    ограниченная одной точкой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скольких цифр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3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то находят, умножая длину прямоугольник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 ширину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3780000" y="1844640"/>
            <a:ext cx="71280" cy="4105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6966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бава М.Ю Лермонто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71280" y="1483920"/>
            <a:ext cx="564012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думайте число(не больше20).Прибавьте к нему 25, прибавьте еще 40, отнять 36, отнять задуманное число, остаток умножить на 2, отнять 8.  Получится 50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1483920"/>
            <a:ext cx="7445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 мы бросаем скуке вызов, потому что,  потому, жить на свете без сюрпризов невозможно никому. Пусть задачу  за задачей мы решим, получим приз. Только так, а не иначе , только так а не иначе и да здравствует сюрприз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738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Устный счё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7386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2060640"/>
            <a:ext cx="79200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916280"/>
            <a:ext cx="914400" cy="6267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03280" y="2133720"/>
            <a:ext cx="504720" cy="287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2205000"/>
            <a:ext cx="71892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205000"/>
            <a:ext cx="792360" cy="576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17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27640" y="2060280"/>
            <a:ext cx="57780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2492280"/>
            <a:ext cx="144720" cy="716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3640" y="1700280"/>
            <a:ext cx="79236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6000" y="2276640"/>
            <a:ext cx="43164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1989000"/>
            <a:ext cx="914400" cy="64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781360"/>
            <a:ext cx="647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116000" y="2852280"/>
            <a:ext cx="43164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2708280"/>
            <a:ext cx="987480" cy="8431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3068640"/>
            <a:ext cx="43200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3429000"/>
            <a:ext cx="72720" cy="730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2781360"/>
            <a:ext cx="649080" cy="720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120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492360" y="3068280"/>
            <a:ext cx="57492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2781360"/>
            <a:ext cx="1152360" cy="718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284640"/>
            <a:ext cx="64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997360"/>
            <a:ext cx="914400" cy="698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860640"/>
            <a:ext cx="914400" cy="9162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47640" y="4220640"/>
            <a:ext cx="792360" cy="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4005360"/>
            <a:ext cx="935280" cy="79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4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22100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80000" y="3933720"/>
            <a:ext cx="863280" cy="7905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365720"/>
            <a:ext cx="64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3860640"/>
            <a:ext cx="72072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1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436572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77080" y="3933720"/>
            <a:ext cx="57456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=8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5084640"/>
            <a:ext cx="719280" cy="914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258920" y="5373360"/>
            <a:ext cx="720720" cy="14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5157720"/>
            <a:ext cx="91440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916360" y="5300280"/>
            <a:ext cx="57600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19640" y="5229360"/>
            <a:ext cx="647640" cy="504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40360" y="5157360"/>
            <a:ext cx="431640" cy="358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013360"/>
            <a:ext cx="720720" cy="79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2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92720" y="5444640"/>
            <a:ext cx="503280" cy="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5157720"/>
            <a:ext cx="1008000" cy="719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=4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йди фиг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вая коман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торая коман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26920" y="2707920"/>
            <a:ext cx="1657440" cy="8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2708280"/>
            <a:ext cx="1006560" cy="158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26560" y="3429000"/>
            <a:ext cx="73080" cy="2087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5589720"/>
            <a:ext cx="25210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276720" y="4292640"/>
            <a:ext cx="287280" cy="1441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55640" y="2708280"/>
            <a:ext cx="1728720" cy="28098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350028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3500280"/>
            <a:ext cx="2737080" cy="8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826560" y="3428640"/>
            <a:ext cx="2449800" cy="2305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26920" y="4292640"/>
            <a:ext cx="2737080" cy="1224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284720" y="2133360"/>
            <a:ext cx="2303280" cy="2879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88000" y="2205000"/>
            <a:ext cx="863640" cy="360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5013360"/>
            <a:ext cx="3166920" cy="792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724000" y="2205000"/>
            <a:ext cx="863640" cy="316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148360" y="3933720"/>
            <a:ext cx="576000" cy="1440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4360" y="4221000"/>
            <a:ext cx="1297080" cy="1152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933720"/>
            <a:ext cx="194472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732720" y="4221000"/>
            <a:ext cx="287280" cy="136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577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аздели торт</a:t>
            </a:r>
            <a:br>
              <a:rPr sz="36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Разделить торт на 7 кусков( не обязательно одинаковых) тремя прямыми  , так ,чтобы на каждом куске было по одной розочке.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2637000"/>
            <a:ext cx="3529080" cy="2808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912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Задачи на внимание»</a:t>
            </a:r>
            <a:br>
              <a:rPr sz="3600"/>
            </a:br>
            <a:br>
              <a:rPr sz="36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Два сына и два отца несли три апельсина .Сколько нёс каждый?(по одному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У родителей  шесть сыновей и у каждого из них есть сестра Сколько детей в семье?(семь)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Цапля на одной ноге весит 10 кг.А на двух?(10 кг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Три человека ждали поезд 3 часа .Сколько ждал каждый(3ч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Верёвку разрезали на 5 частей. Сколько сделали разрезов?(4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Сколько концов у полки? У шести палок? У шести с половиной палок?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(2; 12;14)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Летело 10 уток .Двух убили. Сколько осталось? (две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На двух руках 10 пальцев. Сколько пальцев на10 руках? (50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Сколько орехов в пустом кармане? (0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офессор ложится в 20 часов. Ставит будильник на 9 утра. Сколько часов проспит профессор? ( 1час)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576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онкурс для болельщиков</a:t>
            </a:r>
            <a:br>
              <a:rPr sz="36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«Закончи пословицу или поговорку»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Лучше  один раз увидеть…………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Семеро одного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Семь пятниц на неделе……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с сошкой……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как ясный месяц…….</a:t>
            </a: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Два сапога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за всех……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Седьмая вода на……..</a:t>
            </a:r>
            <a:br>
              <a:rPr sz="1400"/>
            </a:b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65534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Найди цифру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63" name=""/>
          <p:cNvCxnSpPr/>
          <p:nvPr/>
        </p:nvCxnSpPr>
        <p:spPr>
          <a:xfrm>
            <a:off x="178920" y="3806640"/>
            <a:ext cx="1080" cy="1080"/>
          </a:xfrm>
          <a:prstGeom prst="straightConnector1">
            <a:avLst/>
          </a:prstGeom>
          <a:ln w="9360">
            <a:solidFill>
              <a:srgbClr val="2f1311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 «Эруд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7:55:22Z</dcterms:created>
  <dc:creator>user</dc:creator>
  <dc:description/>
  <dc:language>en-US</dc:language>
  <cp:lastModifiedBy>user</cp:lastModifiedBy>
  <dcterms:modified xsi:type="dcterms:W3CDTF">2013-10-27T17:01:13Z</dcterms:modified>
  <cp:revision>12</cp:revision>
  <dc:subject/>
  <dc:title>Математический праздник</dc:title>
</cp:coreProperties>
</file>