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312E-BA00-42E0-B61E-76D1C4204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6962-A08A-4617-91DF-B1D1CA89F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79E39-F3E9-45B7-98CA-717E2C37C1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1377-F31E-4143-843E-F2566F1D0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CD88F-0FF1-42ED-9F81-E11DE7032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15BAB-98D1-4413-A6A3-8DFF965DE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DE339-435B-4246-AD2C-59541898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615A1-BC7D-467A-9780-1F7FAF604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610C-D471-4B21-BE71-B52703FA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A5827-CA91-4A03-B12E-6D1B99660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C9AA8-D43E-4C3B-B768-05456DCE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2313-5195-4462-98B7-43F095E5D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44B9-690F-4A4B-8D37-6933C14B4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D8B75-83EC-4680-9295-FB9CD2E4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4B3E8-4C9F-4DBE-A864-6D13B259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EA81D-F418-41A4-AF11-F81D7B04E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B7060-6F4D-4DA2-B19D-266EEDD4A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677124-DFD3-4F86-A77A-096DCE7F9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714D4-9F64-41DB-A89D-78E432FA5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A970C-D54E-4293-8090-7BDE263B9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C9F44-CA4B-4689-A69E-4EECABE91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74C3D-5DF8-4684-AADD-1739B4C7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5AEE-B71C-4B8F-8352-18570E97E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EC7519-84D7-4063-84CF-3BC46C64C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0A138-5864-410F-BA81-9F434E1D8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072F5-B12A-4903-AAAA-BB88F0F9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A70668-B860-4F04-96B8-58C8DD029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85545-428F-45C0-80DF-94095129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F03CA-269D-41D4-A8D6-77D68461A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15B81-855F-4737-9E3F-9A482CE62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FDED-BCD3-4A95-9F24-9A7ECB734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D5CE-4709-4815-A61F-45131915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53CCB-A8FB-4C44-91DA-010829CB2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369F-0FC3-4E9E-AE66-5FE2CE1A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F1EB-0C6B-42B4-9367-275D1A2F2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59FC-3B83-4852-92AD-C1B9D4A0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A:\minispir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07B4-514C-4B74-BF08-FFBB2AD806AF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A:\minispir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E455C-10EB-4390-9DB7-5360F69598C6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90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91" name="Picture 4" descr="A:\minispir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5D171-7AD3-4191-A9CD-B71E93011196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o is the author of these character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35" name="Рисунок 3" descr="258184.jpg"/>
          <p:cNvPicPr/>
          <p:nvPr/>
        </p:nvPicPr>
        <p:blipFill>
          <a:blip r:embed="rId1"/>
          <a:stretch/>
        </p:blipFill>
        <p:spPr>
          <a:xfrm>
            <a:off x="1214280" y="1857240"/>
            <a:ext cx="7072560" cy="464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85840" y="5713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He is a famous writer and these words belong    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to one of his characters: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 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 am a Bear of Very Little Brain, and long  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ords bother me.”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o is this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65" name="Рисунок 2" descr="Милн.jpeg"/>
          <p:cNvPicPr/>
          <p:nvPr/>
        </p:nvPicPr>
        <p:blipFill>
          <a:blip r:embed="rId1"/>
          <a:stretch/>
        </p:blipFill>
        <p:spPr>
          <a:xfrm>
            <a:off x="4786200" y="2643120"/>
            <a:ext cx="3484800" cy="36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Содержимое 3" descr="Алиса в стране чудес.jpg"/>
          <p:cNvPicPr/>
          <p:nvPr/>
        </p:nvPicPr>
        <p:blipFill>
          <a:blip r:embed="rId1"/>
          <a:stretch/>
        </p:blipFill>
        <p:spPr>
          <a:xfrm>
            <a:off x="1714680" y="1714680"/>
            <a:ext cx="6057720" cy="45003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4"/>
          <p:cNvSpPr/>
          <p:nvPr/>
        </p:nvSpPr>
        <p:spPr>
          <a:xfrm>
            <a:off x="1071720" y="571680"/>
            <a:ext cx="735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alibri"/>
              </a:rPr>
              <a:t>          </a:t>
            </a:r>
            <a:r>
              <a:rPr b="1" lang="en-US" sz="3200" spc="-1" strike="noStrike">
                <a:solidFill>
                  <a:srgbClr val="402000"/>
                </a:solidFill>
                <a:latin typeface="Calibri"/>
              </a:rPr>
              <a:t>Where is this scene from? 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Calibri"/>
              </a:rPr>
              <a:t>           </a:t>
            </a:r>
            <a:r>
              <a:rPr b="1" lang="en-US" sz="3200" spc="-1" strike="noStrike">
                <a:solidFill>
                  <a:srgbClr val="402000"/>
                </a:solidFill>
                <a:latin typeface="Calibri"/>
              </a:rPr>
              <a:t>Who is the author?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57160" y="571320"/>
            <a:ext cx="701064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One of Shakespeare’s characters said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“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Have more than you show. Speak les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than you know.”        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                                     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                                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Who is he?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69" name="Picture 8" descr="высоцкий"/>
          <p:cNvPicPr/>
          <p:nvPr/>
        </p:nvPicPr>
        <p:blipFill>
          <a:blip r:embed="rId1"/>
          <a:stretch/>
        </p:blipFill>
        <p:spPr>
          <a:xfrm>
            <a:off x="1285920" y="3000240"/>
            <a:ext cx="2500200" cy="30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Содержимое 3" descr="остров сокровищ.jpg"/>
          <p:cNvPicPr/>
          <p:nvPr/>
        </p:nvPicPr>
        <p:blipFill>
          <a:blip r:embed="rId1"/>
          <a:stretch/>
        </p:blipFill>
        <p:spPr>
          <a:xfrm>
            <a:off x="2286000" y="1214280"/>
            <a:ext cx="4240080" cy="5168880"/>
          </a:xfrm>
          <a:prstGeom prst="rect">
            <a:avLst/>
          </a:prstGeom>
          <a:ln w="0">
            <a:noFill/>
          </a:ln>
        </p:spPr>
      </p:pic>
      <p:sp>
        <p:nvSpPr>
          <p:cNvPr id="171" name="TextBox 4"/>
          <p:cNvSpPr/>
          <p:nvPr/>
        </p:nvSpPr>
        <p:spPr>
          <a:xfrm>
            <a:off x="1042920" y="642960"/>
            <a:ext cx="76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Calibri"/>
              </a:rPr>
              <a:t>What is the name of this book? Who is the author?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Копия File0045"/>
          <p:cNvPicPr/>
          <p:nvPr/>
        </p:nvPicPr>
        <p:blipFill>
          <a:blip r:embed="rId1"/>
          <a:stretch/>
        </p:blipFill>
        <p:spPr>
          <a:xfrm>
            <a:off x="1000080" y="428760"/>
            <a:ext cx="3502080" cy="24876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648320" y="549360"/>
            <a:ext cx="403848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It is the story of a man who was so proud so egoistic that he could not understand a world around him. He heard only what he wanted to hear; he saw only what he wanted to see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What is the name of this story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74" name="Picture 8" descr="Korol Lire2"/>
          <p:cNvPicPr/>
          <p:nvPr/>
        </p:nvPicPr>
        <p:blipFill>
          <a:blip r:embed="rId2"/>
          <a:stretch/>
        </p:blipFill>
        <p:spPr>
          <a:xfrm>
            <a:off x="1357200" y="3071880"/>
            <a:ext cx="26812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8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2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35804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Whose books are they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76" name="Рисунок 4" descr="давид копперфилд.jpg"/>
          <p:cNvPicPr/>
          <p:nvPr/>
        </p:nvPicPr>
        <p:blipFill>
          <a:blip r:embed="rId1"/>
          <a:stretch/>
        </p:blipFill>
        <p:spPr>
          <a:xfrm>
            <a:off x="1071720" y="3357720"/>
            <a:ext cx="3643200" cy="31431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5" descr="литл доррит.jpg"/>
          <p:cNvPicPr/>
          <p:nvPr/>
        </p:nvPicPr>
        <p:blipFill>
          <a:blip r:embed="rId2"/>
          <a:stretch/>
        </p:blipFill>
        <p:spPr>
          <a:xfrm>
            <a:off x="4786200" y="3643200"/>
            <a:ext cx="2676600" cy="28767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6" descr="оливер твист.jpeg"/>
          <p:cNvPicPr/>
          <p:nvPr/>
        </p:nvPicPr>
        <p:blipFill>
          <a:blip r:embed="rId3"/>
          <a:stretch/>
        </p:blipFill>
        <p:spPr>
          <a:xfrm>
            <a:off x="1785960" y="1571760"/>
            <a:ext cx="2286000" cy="262224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5" descr="250px-Pickwickclub_serial.jpg"/>
          <p:cNvPicPr/>
          <p:nvPr/>
        </p:nvPicPr>
        <p:blipFill>
          <a:blip r:embed="rId4"/>
          <a:stretch/>
        </p:blipFill>
        <p:spPr>
          <a:xfrm>
            <a:off x="4857840" y="1643040"/>
            <a:ext cx="2322360" cy="271476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42920" y="642600"/>
            <a:ext cx="419256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02000"/>
                </a:solidFill>
                <a:latin typeface="Times New Roman"/>
              </a:rPr>
              <a:t>             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02000"/>
                </a:solidFill>
                <a:latin typeface="Times New Roman"/>
              </a:rPr>
              <a:t>             </a:t>
            </a:r>
            <a:r>
              <a:rPr b="1" lang="en-US" sz="17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. “To be or not to be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            </a:t>
            </a: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That is the question”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2. “All the world’s a     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           </a:t>
            </a: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stage, and all the men  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           </a:t>
            </a: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and women merely  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           </a:t>
            </a: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players”.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3. “How sharper than a  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         </a:t>
            </a: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serpent’s tooth it is to have 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a thankless child…”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4. “Something is rotten in 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            </a:t>
            </a: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the state of Denmark”.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5. “One that loved not  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             </a:t>
            </a: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wisely but too well”.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6. “Every inch a king”.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7. “Lord, what fools these 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              </a:t>
            </a: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mortals be”.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00720" y="714240"/>
            <a:ext cx="41954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. «…острей зубов змеиных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неблагодарность детища!»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b</a:t>
            </a: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. «Король, король – от головы </a:t>
            </a: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до ног!»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. «Быть или не быть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Вот в чем вопрос».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d</a:t>
            </a: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. «Весь мир – театр. В нем </a:t>
            </a: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женщины, мужчины – все </a:t>
            </a: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актеры».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e</a:t>
            </a: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. «Как безумен род людской!»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. «Подгнило что-то в датском </a:t>
            </a: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королевстве».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g</a:t>
            </a: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. «…этот человек любил без </a:t>
            </a: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меры и благоразумия».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TextBox 7"/>
          <p:cNvSpPr/>
          <p:nvPr/>
        </p:nvSpPr>
        <p:spPr>
          <a:xfrm>
            <a:off x="1943280" y="214200"/>
            <a:ext cx="36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402000"/>
                </a:solidFill>
                <a:latin typeface="Arial"/>
              </a:rPr>
              <a:t>Match the quotations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1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Where is this quotation taken from?</a:t>
            </a:r>
            <a:br>
              <a:rPr sz="4000"/>
            </a:b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Who is the author?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32968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uman history becomes more and more a  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ace between education and catastrophe”. “Mediocrity knows nothing higher than itself, 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ut talent instantly recognizes genius.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         </a:t>
            </a:r>
            <a:br>
              <a:rPr sz="2400"/>
            </a:b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Farewell to the mountains high cover’d with snow,</a:t>
            </a:r>
            <a:br>
              <a:rPr sz="2400"/>
            </a:b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           Farewell to the strath and green valleys  below…”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                       Who wrote this poem?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39" name="Содержимое 3" descr="Шекспир.jpg"/>
          <p:cNvPicPr/>
          <p:nvPr/>
        </p:nvPicPr>
        <p:blipFill>
          <a:blip r:embed="rId1"/>
          <a:stretch/>
        </p:blipFill>
        <p:spPr>
          <a:xfrm>
            <a:off x="1071720" y="2500200"/>
            <a:ext cx="3219120" cy="379116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4" descr="Роберт Бернс.jpg"/>
          <p:cNvPicPr/>
          <p:nvPr/>
        </p:nvPicPr>
        <p:blipFill>
          <a:blip r:embed="rId2"/>
          <a:stretch/>
        </p:blipFill>
        <p:spPr>
          <a:xfrm>
            <a:off x="4572000" y="2500200"/>
            <a:ext cx="4149720" cy="378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57120" y="642960"/>
            <a:ext cx="87868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1" lang="en-US" sz="2900" spc="-1" strike="noStrike">
                <a:solidFill>
                  <a:srgbClr val="402000"/>
                </a:solidFill>
                <a:latin typeface="Times New Roman"/>
              </a:rPr>
              <a:t>One of the greatest authors of “ghost” stories is…</a:t>
            </a:r>
            <a:endParaRPr b="0" lang="en-US" sz="29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2" name="Рисунок 3" descr="Conan_doyle.jpg"/>
          <p:cNvPicPr/>
          <p:nvPr/>
        </p:nvPicPr>
        <p:blipFill>
          <a:blip r:embed="rId1"/>
          <a:stretch/>
        </p:blipFill>
        <p:spPr>
          <a:xfrm>
            <a:off x="1071720" y="2214720"/>
            <a:ext cx="2255760" cy="32860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Марк Твен.jpeg"/>
          <p:cNvPicPr/>
          <p:nvPr/>
        </p:nvPicPr>
        <p:blipFill>
          <a:blip r:embed="rId2"/>
          <a:stretch/>
        </p:blipFill>
        <p:spPr>
          <a:xfrm>
            <a:off x="3484440" y="2214720"/>
            <a:ext cx="2589480" cy="328608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4" descr="edgar-allan-poe.jpg"/>
          <p:cNvPicPr/>
          <p:nvPr/>
        </p:nvPicPr>
        <p:blipFill>
          <a:blip r:embed="rId3"/>
          <a:stretch/>
        </p:blipFill>
        <p:spPr>
          <a:xfrm>
            <a:off x="6215040" y="2214720"/>
            <a:ext cx="2527200" cy="3357360"/>
          </a:xfrm>
          <a:prstGeom prst="rect">
            <a:avLst/>
          </a:prstGeom>
          <a:ln w="0">
            <a:noFill/>
          </a:ln>
        </p:spPr>
      </p:pic>
      <p:sp>
        <p:nvSpPr>
          <p:cNvPr id="145" name="TextBox 6"/>
          <p:cNvSpPr/>
          <p:nvPr/>
        </p:nvSpPr>
        <p:spPr>
          <a:xfrm>
            <a:off x="428760" y="564372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a) Conan Doyle      b) Mark Twain          c)  Edgar  Poe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Who was born in Ireland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47" name="Содержимое 3" descr="Артур Конан Дойл.jpg"/>
          <p:cNvPicPr/>
          <p:nvPr/>
        </p:nvPicPr>
        <p:blipFill>
          <a:blip r:embed="rId1"/>
          <a:stretch/>
        </p:blipFill>
        <p:spPr>
          <a:xfrm>
            <a:off x="928800" y="2143080"/>
            <a:ext cx="2523960" cy="34290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4" descr="Вальтер Скотт.jpg"/>
          <p:cNvPicPr/>
          <p:nvPr/>
        </p:nvPicPr>
        <p:blipFill>
          <a:blip r:embed="rId2"/>
          <a:stretch/>
        </p:blipFill>
        <p:spPr>
          <a:xfrm>
            <a:off x="3571920" y="2143080"/>
            <a:ext cx="271476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4" descr="georgebernardshaw.jpg"/>
          <p:cNvPicPr/>
          <p:nvPr/>
        </p:nvPicPr>
        <p:blipFill>
          <a:blip r:embed="rId3"/>
          <a:stretch/>
        </p:blipFill>
        <p:spPr>
          <a:xfrm>
            <a:off x="6357960" y="2143080"/>
            <a:ext cx="2451240" cy="3429000"/>
          </a:xfrm>
          <a:prstGeom prst="rect">
            <a:avLst/>
          </a:prstGeom>
          <a:ln w="0">
            <a:noFill/>
          </a:ln>
        </p:spPr>
      </p:pic>
      <p:sp>
        <p:nvSpPr>
          <p:cNvPr id="150" name="TextBox 7"/>
          <p:cNvSpPr/>
          <p:nvPr/>
        </p:nvSpPr>
        <p:spPr>
          <a:xfrm>
            <a:off x="714240" y="57862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a) R.L.Stevenson                  b) W. Scott                               c) G.B.Shaw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56760" y="214200"/>
            <a:ext cx="85726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                             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                             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                                      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Who is this character and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                                      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who is it written by 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 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52" name="Рисунок 3" descr="62986374_miss_marpl.jpg"/>
          <p:cNvPicPr/>
          <p:nvPr/>
        </p:nvPicPr>
        <p:blipFill>
          <a:blip r:embed="rId1"/>
          <a:stretch/>
        </p:blipFill>
        <p:spPr>
          <a:xfrm>
            <a:off x="1143000" y="428760"/>
            <a:ext cx="2928960" cy="228600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4" descr="Conan_doyle.jpg"/>
          <p:cNvPicPr/>
          <p:nvPr/>
        </p:nvPicPr>
        <p:blipFill>
          <a:blip r:embed="rId2"/>
          <a:stretch/>
        </p:blipFill>
        <p:spPr>
          <a:xfrm>
            <a:off x="3786120" y="3143160"/>
            <a:ext cx="2286000" cy="31244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5" descr="Агата Кристи.jpg"/>
          <p:cNvPicPr/>
          <p:nvPr/>
        </p:nvPicPr>
        <p:blipFill>
          <a:blip r:embed="rId3"/>
          <a:stretch/>
        </p:blipFill>
        <p:spPr>
          <a:xfrm>
            <a:off x="1143000" y="3143160"/>
            <a:ext cx="2286000" cy="314352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6" descr="Стивенсон.jpg"/>
          <p:cNvPicPr/>
          <p:nvPr/>
        </p:nvPicPr>
        <p:blipFill>
          <a:blip r:embed="rId4"/>
          <a:stretch/>
        </p:blipFill>
        <p:spPr>
          <a:xfrm>
            <a:off x="6357960" y="3143160"/>
            <a:ext cx="2428920" cy="337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7" descr="File0052"/>
          <p:cNvPicPr/>
          <p:nvPr/>
        </p:nvPicPr>
        <p:blipFill>
          <a:blip r:embed="rId1"/>
          <a:stretch/>
        </p:blipFill>
        <p:spPr>
          <a:xfrm>
            <a:off x="928800" y="1285920"/>
            <a:ext cx="3571920" cy="41371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42920" y="1071720"/>
            <a:ext cx="403884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It is a play about love and jealousy, a play about a person who believed the lie and killed his wife whom he loved dearly.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Whose play is this and what is its name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42960" y="57132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How many novels did Agatha Christie  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write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) More than a hundr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) 68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) 78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59" name="Рисунок 3" descr="Агата Кристи.jpg"/>
          <p:cNvPicPr/>
          <p:nvPr/>
        </p:nvPicPr>
        <p:blipFill>
          <a:blip r:embed="rId1"/>
          <a:stretch/>
        </p:blipFill>
        <p:spPr>
          <a:xfrm>
            <a:off x="5286240" y="1857240"/>
            <a:ext cx="3273480" cy="45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214200" y="50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The story written by this author is bas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on real adventures of a sailor. Who is he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61" name="Рисунок 3" descr="Стивенсон.jpg"/>
          <p:cNvPicPr/>
          <p:nvPr/>
        </p:nvPicPr>
        <p:blipFill>
          <a:blip r:embed="rId1"/>
          <a:stretch/>
        </p:blipFill>
        <p:spPr>
          <a:xfrm>
            <a:off x="3429000" y="1928880"/>
            <a:ext cx="2508120" cy="35560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4" descr="Льюис Кэрролл.jpg"/>
          <p:cNvPicPr/>
          <p:nvPr/>
        </p:nvPicPr>
        <p:blipFill>
          <a:blip r:embed="rId2"/>
          <a:stretch/>
        </p:blipFill>
        <p:spPr>
          <a:xfrm>
            <a:off x="6000840" y="2928960"/>
            <a:ext cx="2857320" cy="25398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5" descr="дефо.png"/>
          <p:cNvPicPr/>
          <p:nvPr/>
        </p:nvPicPr>
        <p:blipFill>
          <a:blip r:embed="rId3"/>
          <a:stretch/>
        </p:blipFill>
        <p:spPr>
          <a:xfrm>
            <a:off x="785880" y="2571840"/>
            <a:ext cx="2660760" cy="31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10:30:54Z</dcterms:created>
  <dc:creator>user</dc:creator>
  <dc:description/>
  <dc:language>en-US</dc:language>
  <cp:lastModifiedBy>user</cp:lastModifiedBy>
  <dcterms:modified xsi:type="dcterms:W3CDTF">2012-02-28T18:26:11Z</dcterms:modified>
  <cp:revision>44</cp:revision>
  <dc:subject/>
  <dc:title>Who is the author of these characters?</dc:title>
</cp:coreProperties>
</file>