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9D0-6EDB-4379-9D41-615FB5A2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831-BCF2-472A-A7E3-7D79877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849-22FA-4827-A4F0-6A77E176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2FA-EABD-45CC-B295-14492F63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647-F5EB-442F-B211-1942B4F5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CC9-5841-4249-BC50-F3736DED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7C6-105C-42D2-99BF-2A466DE3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D63-385E-4B02-A09B-161AAB07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391-979D-43F1-84F7-3E76A22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7A8-0D77-43CA-A17E-2B258B9A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CEA-A2F5-4949-B04D-850DE4C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754-D129-4CE9-B271-2DCD53A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5130-785D-486F-9BDA-B55CA921F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311940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ЗАБЛУДИЛАСЬ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28640" y="4266720"/>
            <a:ext cx="5334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Алексеенко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У «Урульгинская школа-интерна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590920" y="2164680"/>
            <a:ext cx="3809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 взял в руки богатыр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лодея им сраз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http://t2.gstatic.com/images?q=tbn:ANd9GcRsU75_edAv3cDRuzsOxwksoBucFyAvLXC_cUF27zTarqB9-niDVQY54YvX"/>
          <p:cNvPicPr/>
          <p:nvPr/>
        </p:nvPicPr>
        <p:blipFill>
          <a:blip r:embed="rId2"/>
          <a:stretch/>
        </p:blipFill>
        <p:spPr>
          <a:xfrm>
            <a:off x="1295280" y="327672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http://t3.gstatic.com/images?q=tbn:ANd9GcSnQXvoJNh7Wqnfr0xa5YeF8vw19hHDhldNmdsNhT2C6-mNJxy2q-_hv-FPKA"/>
          <p:cNvPicPr/>
          <p:nvPr/>
        </p:nvPicPr>
        <p:blipFill>
          <a:blip r:embed="rId3"/>
          <a:stretch/>
        </p:blipFill>
        <p:spPr>
          <a:xfrm>
            <a:off x="5181480" y="32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5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590920" y="151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пку для тетраде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купил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исал тетрадк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шапку полож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ttp://t2.gstatic.com/images?q=tbn:ANd9GcSmI0WNlWVZxki1gnfqWBSGVqs_v3_x9zFqgWfZ9Ezv-BFLtx21aOwIsUDJvg"/>
          <p:cNvPicPr/>
          <p:nvPr/>
        </p:nvPicPr>
        <p:blipFill>
          <a:blip r:embed="rId2"/>
          <a:stretch/>
        </p:blipFill>
        <p:spPr>
          <a:xfrm>
            <a:off x="1523880" y="327672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3.gstatic.com/images?q=tbn:ANd9GcQJqIRAIkpzSNBflS8ixFRIUh8fqfrflGwW5DPkGrzBwsLKTGcfwa3RgHEadQ"/>
          <p:cNvPicPr/>
          <p:nvPr/>
        </p:nvPicPr>
        <p:blipFill>
          <a:blip r:embed="rId3"/>
          <a:stretch/>
        </p:blipFill>
        <p:spPr>
          <a:xfrm>
            <a:off x="5257800" y="320040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2438280" y="17074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лето 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ки растут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осень придет, и они опа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http://t2.gstatic.com/images?q=tbn:ANd9GcRhMCWxzYELlU_wWnSSPljlTaDhnOu0oyTAXJL9_gj4WTP136jExTlKwXV6"/>
          <p:cNvPicPr/>
          <p:nvPr/>
        </p:nvPicPr>
        <p:blipFill>
          <a:blip r:embed="rId2"/>
          <a:stretch/>
        </p:blipFill>
        <p:spPr>
          <a:xfrm>
            <a:off x="2133720" y="342900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t3.gstatic.com/images?q=tbn:ANd9GcTsKyeDyU9X9Nt-l0Ab3HnFi5gYvGERIHyDNMaf-IsxijBPEJhTp7Q2wg"/>
          <p:cNvPicPr/>
          <p:nvPr/>
        </p:nvPicPr>
        <p:blipFill>
          <a:blip r:embed="rId3"/>
          <a:stretch/>
        </p:blipFill>
        <p:spPr>
          <a:xfrm>
            <a:off x="5029200" y="274320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133720" y="143136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ове буква заблудилась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мотри, что получило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t3.gstatic.com/images?q=tbn:ANd9GcQsyosBf7DTx0MviKLtvFy4Z7ZAJjjCwEzo4Z7h0qS4HW5DnrpXqRiKGw"/>
          <p:cNvPicPr/>
          <p:nvPr/>
        </p:nvPicPr>
        <p:blipFill>
          <a:blip r:embed="rId2"/>
          <a:stretch/>
        </p:blipFill>
        <p:spPr>
          <a:xfrm>
            <a:off x="1752480" y="2666880"/>
            <a:ext cx="19814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3048120" y="2421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певает виноград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зди сочные вис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ttp://t2.gstatic.com/images?q=tbn:ANd9GcQTAqSNMaWUoKi2TfVvUw1peC07BBTqa1CQI5-gKFd4gesBgUuQUaWKlKP_"/>
          <p:cNvPicPr/>
          <p:nvPr/>
        </p:nvPicPr>
        <p:blipFill>
          <a:blip r:embed="rId3"/>
          <a:stretch/>
        </p:blipFill>
        <p:spPr>
          <a:xfrm>
            <a:off x="5715000" y="3200400"/>
            <a:ext cx="2352600" cy="281952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5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95480" y="1509120"/>
            <a:ext cx="2895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устах распустились 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ы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юбуйтесь, какие пио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t0.gstatic.com/images?q=tbn:ANd9GcT-sUpRzx-OgKZD7CQ6Ocq1vOZjeS5HCEtRcA95hay_ijCOzH6jbEWy-w"/>
          <p:cNvPicPr/>
          <p:nvPr/>
        </p:nvPicPr>
        <p:blipFill>
          <a:blip r:embed="rId2"/>
          <a:stretch/>
        </p:blipFill>
        <p:spPr>
          <a:xfrm>
            <a:off x="2057400" y="31240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t1.gstatic.com/images?q=tbn:ANd9GcQ03u6LmRm2afNZQHNaH94Q4B43ZTe1ZYk1LcqIzUe908KJxsHF0hZ8eYUVJg"/>
          <p:cNvPicPr/>
          <p:nvPr/>
        </p:nvPicPr>
        <p:blipFill>
          <a:blip r:embed="rId3"/>
          <a:stretch/>
        </p:blipFill>
        <p:spPr>
          <a:xfrm>
            <a:off x="4952880" y="31240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743200" y="16779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ржу в 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е я карандаш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очу нарисовать пейз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t3.gstatic.com/images?q=tbn:ANd9GcRYgGyGd8YYleLSZ3gfxPi0hDNnA7zp8jPmCURNbEA5saVb0ZbGi5BPdA"/>
          <p:cNvPicPr/>
          <p:nvPr/>
        </p:nvPicPr>
        <p:blipFill>
          <a:blip r:embed="rId2"/>
          <a:stretch/>
        </p:blipFill>
        <p:spPr>
          <a:xfrm>
            <a:off x="5791320" y="32004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t3.gstatic.com/images?q=tbn:ANd9GcRL-PKi_piVKjVMRPNuBv6oeiF2Fain-ohenYL9ZLzgCXL-qFgt8CIRNT4"/>
          <p:cNvPicPr/>
          <p:nvPr/>
        </p:nvPicPr>
        <p:blipFill>
          <a:blip r:embed="rId3"/>
          <a:stretch/>
        </p:blipFill>
        <p:spPr>
          <a:xfrm>
            <a:off x="1066680" y="26668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3124080" y="1966320"/>
            <a:ext cx="2438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Мы пришли на огород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трим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пка там рас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http://t3.gstatic.com/images?q=tbn:ANd9GcRjXorkgclFEEwVkLruwy_UwDwMv1yFyJIKK4reg2ZmLW9XOMFRGHICDB48"/>
          <p:cNvPicPr/>
          <p:nvPr/>
        </p:nvPicPr>
        <p:blipFill>
          <a:blip r:embed="rId2"/>
          <a:stretch/>
        </p:blipFill>
        <p:spPr>
          <a:xfrm>
            <a:off x="1143000" y="297180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t1.gstatic.com/images?q=tbn:ANd9GcQEtzZxQpRZUGBcAwLJuDxfF6g2BHQrQ1nzobGXfvOMtLnRfKHyitjdewE"/>
          <p:cNvPicPr/>
          <p:nvPr/>
        </p:nvPicPr>
        <p:blipFill>
          <a:blip r:embed="rId3"/>
          <a:stretch/>
        </p:blipFill>
        <p:spPr>
          <a:xfrm>
            <a:off x="5562720" y="2895480"/>
            <a:ext cx="2133360" cy="209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590920" y="2059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дорожк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ка ползет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пине ракушку вез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http://t3.gstatic.com/images?q=tbn:ANd9GcTd1C2KS7cznHpB2T6CoJpP0EIZUvD5-oSD-aDPmF1Fu1heLGsDPstVXWw"/>
          <p:cNvPicPr/>
          <p:nvPr/>
        </p:nvPicPr>
        <p:blipFill>
          <a:blip r:embed="rId2"/>
          <a:stretch/>
        </p:blipFill>
        <p:spPr>
          <a:xfrm>
            <a:off x="1600200" y="335268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t3.gstatic.com/images?q=tbn:ANd9GcQRIh88pyfxP4HBL50TG6_4JhO1EvV8gwWcuDZ0W1nlm1nSX8bjTua9FL4V"/>
          <p:cNvPicPr/>
          <p:nvPr/>
        </p:nvPicPr>
        <p:blipFill>
          <a:blip r:embed="rId3"/>
          <a:stretch/>
        </p:blipFill>
        <p:spPr>
          <a:xfrm>
            <a:off x="5410080" y="304812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590920" y="1509120"/>
            <a:ext cx="3733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Б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ы пасутся на горных лугах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эхо разносит их голос в го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ttp://t2.gstatic.com/images?q=tbn:ANd9GcShe4G5qvnFmc8E0h-lqpKCQtwc6ZT3GgiFJxashdaBZpGRSnY5yNYD1--O3A"/>
          <p:cNvPicPr/>
          <p:nvPr/>
        </p:nvPicPr>
        <p:blipFill>
          <a:blip r:embed="rId2"/>
          <a:stretch/>
        </p:blipFill>
        <p:spPr>
          <a:xfrm>
            <a:off x="1523880" y="289548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t2.gstatic.com/images?q=tbn:ANd9GcQPUVy6KH5KXZbg19IbsrlJuzlaZZFbZZGpE6dsF2acquLTUEGnns11vmFD"/>
          <p:cNvPicPr/>
          <p:nvPr/>
        </p:nvPicPr>
        <p:blipFill>
          <a:blip r:embed="rId3"/>
          <a:stretch/>
        </p:blipFill>
        <p:spPr>
          <a:xfrm>
            <a:off x="5029200" y="30481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981080" y="224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аде б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свирепый бы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одаться он люб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http://t1.gstatic.com/images?q=tbn:ANd9GcTb5-T2S7vn7pRzGXZQxkrow7qLxZL49Q0aGAjO59jVTf1GBMPvzz2N4r8"/>
          <p:cNvPicPr/>
          <p:nvPr/>
        </p:nvPicPr>
        <p:blipFill>
          <a:blip r:embed="rId2"/>
          <a:stretch/>
        </p:blipFill>
        <p:spPr>
          <a:xfrm>
            <a:off x="1752480" y="30481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t0.gstatic.com/images?q=tbn:ANd9GcTDuH1WcR0iHcXaYudlwhZHtNsroA2i6DVd9SMyre4ivuKIPw6AzTv3cwOt"/>
          <p:cNvPicPr/>
          <p:nvPr/>
        </p:nvPicPr>
        <p:blipFill>
          <a:blip r:embed="rId3"/>
          <a:stretch/>
        </p:blipFill>
        <p:spPr>
          <a:xfrm>
            <a:off x="5029200" y="3276720"/>
            <a:ext cx="2514600" cy="2162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590920" y="189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чка, порхая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а на цветок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зор на крылья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еть я см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ttp://t3.gstatic.com/images?q=tbn:ANd9GcTqOufl9nswImpnvu1y4_mDWDUOLgsw8hc0qIuuBf7Z8i9JOnZN43gdf9w"/>
          <p:cNvPicPr/>
          <p:nvPr/>
        </p:nvPicPr>
        <p:blipFill>
          <a:blip r:embed="rId2"/>
          <a:stretch/>
        </p:blipFill>
        <p:spPr>
          <a:xfrm>
            <a:off x="1447920" y="3429000"/>
            <a:ext cx="213336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t3.gstatic.com/images?q=tbn:ANd9GcRRjnFE_HW2iOOa5k-vSf48XXAEzvdsB9bezZXj_zSrq7gxfOe79yFv7e2f"/>
          <p:cNvPicPr/>
          <p:nvPr/>
        </p:nvPicPr>
        <p:blipFill>
          <a:blip r:embed="rId3"/>
          <a:stretch/>
        </p:blipFill>
        <p:spPr>
          <a:xfrm>
            <a:off x="5181480" y="36576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en</dc:creator>
  <dc:description/>
  <dc:language>en-US</dc:language>
  <cp:lastModifiedBy>seven</cp:lastModifiedBy>
  <dcterms:modified xsi:type="dcterms:W3CDTF">2013-10-07T01:43:5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