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C5E-24F7-4FAE-A242-4F4F6D87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B1C-F09B-4D61-8132-31B5F26E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36B-349C-44BD-BE86-37DAF083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E8B-EF41-4951-A523-5466C579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4DF-AF0C-46BC-91D2-980D3B68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CF2-6E3B-4C33-B904-C4345CE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06E-3D64-4149-9B2A-26E268B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72C-3692-44D1-8C08-20785EC1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4E0-B24B-4A18-8FD7-FE92654E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5F2-A79B-4C87-83A6-1C1B0594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ECC-F61D-488B-BF15-3A0F1E2D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1BC-1DFF-457A-9857-2AB7AB29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0912-C5BE-4C60-9C45-AA175A49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0" r="0" b="84370"/>
          <a:stretch/>
        </p:blipFill>
        <p:spPr>
          <a:xfrm>
            <a:off x="1116000" y="189000"/>
            <a:ext cx="2852640" cy="1871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75619" t="51044" r="0" b="0"/>
          <a:stretch/>
        </p:blipFill>
        <p:spPr>
          <a:xfrm>
            <a:off x="6156360" y="3213000"/>
            <a:ext cx="2733480" cy="337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rcRect l="51876" t="0" r="0" b="74439"/>
          <a:stretch/>
        </p:blipFill>
        <p:spPr>
          <a:xfrm>
            <a:off x="6443640" y="147600"/>
            <a:ext cx="2049480" cy="176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995400">
            <a:off x="539640" y="765000"/>
            <a:ext cx="8280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8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100000">
                      <a:srgbClr val="66ff99"/>
                    </a:gs>
                  </a:gsLst>
                  <a:lin ang="4404000"/>
                </a:gradFill>
                <a:effectLst>
                  <a:outerShdw dist="102388" dir="17983194" blurRad="0" rotWithShape="0">
                    <a:srgbClr val="3399ff"/>
                  </a:outerShdw>
                </a:effectLst>
                <a:latin typeface="Magneto"/>
              </a:rPr>
              <a:t>Доказательства эволюции</a:t>
            </a:r>
            <a:endParaRPr b="0" lang="en-US" sz="1800" spc="1" strike="noStrike">
              <a:ln w="2844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100000">
                    <a:srgbClr val="66ff99"/>
                  </a:gs>
                </a:gsLst>
                <a:lin ang="4404000"/>
              </a:gradFill>
              <a:effectLst>
                <a:outerShdw dist="102388" dir="17983194" blurRad="0" rotWithShape="0">
                  <a:srgbClr val="3399ff"/>
                </a:outerShdw>
              </a:effectLst>
              <a:latin typeface="Magneto"/>
              <a:ea typeface="Magne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22920" y="692280"/>
            <a:ext cx="4321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latin typeface="Times New Roman"/>
              </a:rPr>
              <a:t>Колибри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latin typeface="Times New Roman"/>
              <a:ea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0" r="0" b="53853"/>
          <a:stretch/>
        </p:blipFill>
        <p:spPr>
          <a:xfrm>
            <a:off x="0" y="0"/>
            <a:ext cx="4680000" cy="334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0" t="47712" r="0" b="0"/>
          <a:stretch/>
        </p:blipFill>
        <p:spPr>
          <a:xfrm>
            <a:off x="4140360" y="2811600"/>
            <a:ext cx="50036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79280" y="0"/>
            <a:ext cx="87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Животные Голарктической области</a:t>
            </a:r>
            <a:endParaRPr b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47279" r="0" b="0"/>
          <a:stretch/>
        </p:blipFill>
        <p:spPr>
          <a:xfrm>
            <a:off x="5076720" y="3645000"/>
            <a:ext cx="3721320" cy="292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0" r="75625" b="51299"/>
          <a:stretch/>
        </p:blipFill>
        <p:spPr>
          <a:xfrm>
            <a:off x="395280" y="1197000"/>
            <a:ext cx="4400640" cy="5400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148360" y="213372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Благородный олень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9280" y="189000"/>
            <a:ext cx="8713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Monotype Corsiva"/>
              </a:rPr>
              <a:t>Эндемики Эфиопской и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Monotype Corsiva"/>
              </a:rPr>
              <a:t>Индомалайской областей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Monotype Corsiva"/>
              <a:ea typeface="Monotype Corsi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6624720" cy="4392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987640" y="6270480"/>
            <a:ext cx="302436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Панголин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79280" y="0"/>
            <a:ext cx="849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Monotype Corsiva"/>
              </a:rPr>
              <a:t>Эндемики Эфиопской области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Monotype Corsiva"/>
              <a:ea typeface="Monotype Corsiv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840720" cy="489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116000" y="6093000"/>
            <a:ext cx="669600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Африканский трубкозуб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24000" y="260280"/>
            <a:ext cx="302400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еликты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0360" y="1052640"/>
            <a:ext cx="864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Реликты – это виды растений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животных, сохранившиеся от древ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ныне исчезнувших флор и фаун. Для 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характерны признаки вымерших груп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прошлых эпо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156120"/>
            <a:ext cx="5651640" cy="3701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867280" y="5300640"/>
            <a:ext cx="302436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Гаттерия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24000" y="333360"/>
            <a:ext cx="52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Кистеперая рыба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2918" r="0" b="4585"/>
          <a:stretch/>
        </p:blipFill>
        <p:spPr>
          <a:xfrm>
            <a:off x="179280" y="1341360"/>
            <a:ext cx="86756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24000" y="18900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Опоссум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1360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260280"/>
            <a:ext cx="381636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Растение гинкго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0" b="1643"/>
          <a:stretch/>
        </p:blipFill>
        <p:spPr>
          <a:xfrm>
            <a:off x="250920" y="1052640"/>
            <a:ext cx="8497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Палеонтологические доказательства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58560" y="1484280"/>
            <a:ext cx="2808360" cy="223200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3860640"/>
            <a:ext cx="343836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составление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палеонтологических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рядов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1413000"/>
            <a:ext cx="2376360" cy="216036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27640" y="4005360"/>
            <a:ext cx="237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ископаемые 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переходные 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формы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928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Палеонтологический ряд лошади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0" t="14154" r="0" b="20542"/>
          <a:stretch/>
        </p:blipFill>
        <p:spPr>
          <a:xfrm>
            <a:off x="250920" y="1773360"/>
            <a:ext cx="86421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928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a10020"/>
                    </a:gs>
                  </a:gsLst>
                  <a:lin ang="5400000"/>
                </a:gradFill>
                <a:latin typeface="Monotype Corsiva"/>
              </a:rPr>
              <a:t>Сравнительно-анатомические доказательства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a1002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87208" b="11169"/>
          <a:stretch/>
        </p:blipFill>
        <p:spPr>
          <a:xfrm>
            <a:off x="611280" y="1197000"/>
            <a:ext cx="1081080" cy="453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2821" t="18879" r="65106" b="16838"/>
          <a:stretch/>
        </p:blipFill>
        <p:spPr>
          <a:xfrm>
            <a:off x="1908000" y="1557360"/>
            <a:ext cx="1646280" cy="2951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34899" t="9421" r="37185" b="5499"/>
          <a:stretch/>
        </p:blipFill>
        <p:spPr>
          <a:xfrm>
            <a:off x="4140360" y="1557360"/>
            <a:ext cx="1728720" cy="324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62821" t="0" r="0" b="5499"/>
          <a:stretch/>
        </p:blipFill>
        <p:spPr>
          <a:xfrm>
            <a:off x="6372360" y="1557360"/>
            <a:ext cx="230184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0920" y="5877000"/>
            <a:ext cx="16383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Человек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08000" y="4653000"/>
            <a:ext cx="16383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Лягушка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11640" y="4869000"/>
            <a:ext cx="1638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Летучая 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мышь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72360" y="5300640"/>
            <a:ext cx="237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Times New Roman"/>
              </a:rPr>
              <a:t>Дельфин  и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Times New Roman"/>
              </a:rPr>
              <a:t>лошадь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18900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Times New Roman"/>
              </a:rPr>
              <a:t>Архиоптерикс</a:t>
            </a:r>
            <a:endParaRPr b="1" i="1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Times New Roman"/>
              <a:ea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50492" t="0" r="0" b="0"/>
          <a:stretch/>
        </p:blipFill>
        <p:spPr>
          <a:xfrm>
            <a:off x="179280" y="1052640"/>
            <a:ext cx="4286520" cy="554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0" t="0" r="51387" b="0"/>
          <a:stretch/>
        </p:blipFill>
        <p:spPr>
          <a:xfrm>
            <a:off x="4572000" y="1052640"/>
            <a:ext cx="43783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Гомологичные органы у животных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767040" cy="57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 rot="5400000">
            <a:off x="4689000" y="3527280"/>
            <a:ext cx="5616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мология слуховых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5400000">
            <a:off x="5805720" y="3489840"/>
            <a:ext cx="4967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сточек позвоночных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720" y="1844640"/>
            <a:ext cx="172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66ff"/>
                </a:solidFill>
                <a:latin typeface="Times New Roman"/>
              </a:rPr>
              <a:t>Рыбы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66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348000" y="3573360"/>
            <a:ext cx="33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66ff"/>
                </a:solidFill>
                <a:latin typeface="Times New Roman"/>
              </a:rPr>
              <a:t>Пресмыкающиеся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66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35280" y="5445000"/>
            <a:ext cx="3097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66ff"/>
                </a:solidFill>
                <a:latin typeface="Times New Roman"/>
              </a:rPr>
              <a:t>Млекопитающие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Гомологичные органы у растений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3124"/>
          <a:stretch/>
        </p:blipFill>
        <p:spPr>
          <a:xfrm>
            <a:off x="395280" y="836640"/>
            <a:ext cx="389556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7400" y="2276640"/>
            <a:ext cx="424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Некоторые орг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растений морфолог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чески развиваются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листовых зачатк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я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видоизмене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лис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Аналогичные органы у животных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8064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50920" y="620640"/>
            <a:ext cx="8713800" cy="5675400"/>
            <a:chOff x="250920" y="620640"/>
            <a:chExt cx="8713800" cy="56754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50920" y="620640"/>
              <a:ext cx="8713800" cy="56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223240" y="5589720"/>
              <a:ext cx="13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хрустал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22880" y="39337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Рогови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72320" y="386064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етча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12320" y="5516640"/>
              <a:ext cx="160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Зрите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ер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22880" y="112536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Рогови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0320" y="119700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етча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0320" y="3068640"/>
              <a:ext cx="13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хрустал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8720" y="3141720"/>
              <a:ext cx="16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Зрите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ер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084720" y="5013360"/>
              <a:ext cx="648000" cy="64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812000" y="4220640"/>
              <a:ext cx="432000" cy="28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6084360" y="4292280"/>
              <a:ext cx="35892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28000" y="5229360"/>
              <a:ext cx="43164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796000" y="2276640"/>
              <a:ext cx="792000" cy="865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85080" y="2781360"/>
              <a:ext cx="43200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236000" y="1557000"/>
              <a:ext cx="504720" cy="358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6012000" y="1412640"/>
              <a:ext cx="28872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 txBox="1"/>
          <p:nvPr/>
        </p:nvSpPr>
        <p:spPr>
          <a:xfrm>
            <a:off x="179280" y="0"/>
            <a:ext cx="79218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Глаза головоногих молюсков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26920" y="6381720"/>
            <a:ext cx="51850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и млекопитающих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latin typeface="Monotype Corsiva"/>
              </a:rPr>
              <a:t>Аналогичные органы у растений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cc00"/>
              </a:solidFill>
              <a:latin typeface="Monotype Corsiva"/>
              <a:ea typeface="Monotype Corsiv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981000"/>
            <a:ext cx="8569080" cy="5559480"/>
            <a:chOff x="324000" y="981000"/>
            <a:chExt cx="8569080" cy="55594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24000" y="981000"/>
              <a:ext cx="856908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8920" y="5006880"/>
              <a:ext cx="1409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Барбари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(лис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00360" y="4724280"/>
              <a:ext cx="209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А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(прилистники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7280" y="5440320"/>
              <a:ext cx="170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Боярыш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(побег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03280" y="5661000"/>
              <a:ext cx="212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Ежев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(вырост кор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Рудиментарные органы-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578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1165320"/>
            <a:ext cx="86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это сравнительно упрощенные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недоразвитые структуры, утратившие с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первоначальное назначение. Эти орг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закладываются в период эмбрион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развития, но полностью не разви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5124600" cy="327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6227640" y="4437000"/>
            <a:ext cx="230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Птица </a:t>
            </a:r>
            <a:endParaRPr b="1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киви</a:t>
            </a:r>
            <a:endParaRPr b="1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716360" y="1700280"/>
            <a:ext cx="40338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Рудименты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578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у кита и 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578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питон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578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13800" cy="5684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Рудименты у человек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578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27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 rot="5400000">
            <a:off x="4320000" y="2959920"/>
            <a:ext cx="619128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e8989"/>
                    </a:gs>
                  </a:gsLst>
                  <a:lin ang="0"/>
                </a:gradFill>
                <a:latin typeface="Arial"/>
              </a:rPr>
              <a:t>доказательства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e8989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5400000">
            <a:off x="2735640" y="2959920"/>
            <a:ext cx="619128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e7e7e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Arial"/>
              </a:rPr>
              <a:t>Эмбриологические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e7e7e"/>
                  </a:gs>
                  <a:gs pos="100000">
                    <a:srgbClr val="ff505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0"/>
            <a:ext cx="87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a10020"/>
                    </a:gs>
                  </a:gsLst>
                  <a:lin ang="5400000"/>
                </a:gradFill>
                <a:latin typeface="Monotype Corsiva"/>
              </a:rPr>
              <a:t>Биогеографические доказательства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a1002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4720" y="981000"/>
            <a:ext cx="4859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7d00"/>
                    </a:gs>
                  </a:gsLst>
                  <a:lin ang="5400000"/>
                </a:gradFill>
                <a:latin typeface="Monotype Corsiva"/>
              </a:rPr>
              <a:t>Эволюция континентов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7d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53564" t="54212" r="4116" b="0"/>
          <a:stretch/>
        </p:blipFill>
        <p:spPr>
          <a:xfrm>
            <a:off x="5292720" y="4145040"/>
            <a:ext cx="3851280" cy="27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6472" t="54167" r="53564" b="0"/>
          <a:stretch/>
        </p:blipFill>
        <p:spPr>
          <a:xfrm>
            <a:off x="179280" y="4005360"/>
            <a:ext cx="3816360" cy="2846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52997" t="0" r="4682" b="49451"/>
          <a:stretch/>
        </p:blipFill>
        <p:spPr>
          <a:xfrm>
            <a:off x="4211640" y="1413000"/>
            <a:ext cx="3745080" cy="291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5875" t="1786" r="54131" b="49451"/>
          <a:stretch/>
        </p:blipFill>
        <p:spPr>
          <a:xfrm>
            <a:off x="179280" y="1125360"/>
            <a:ext cx="3672000" cy="29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9280" y="0"/>
            <a:ext cx="87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8000"/>
                </a:solidFill>
                <a:latin typeface="Monotype Corsiva"/>
              </a:rPr>
              <a:t>Зоогеографические области Земли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56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79280" y="0"/>
            <a:ext cx="87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9900"/>
                </a:solidFill>
                <a:latin typeface="Monotype Corsiva"/>
              </a:rPr>
              <a:t>Эндемики Австралийской области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ff9900"/>
              </a:solidFill>
              <a:latin typeface="Monotype Corsiva"/>
              <a:ea typeface="Monotype Corsiv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0" t="0" r="0" b="13173"/>
          <a:stretch/>
        </p:blipFill>
        <p:spPr>
          <a:xfrm>
            <a:off x="395280" y="1125360"/>
            <a:ext cx="3492360" cy="475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0" t="0" r="68618" b="0"/>
          <a:stretch/>
        </p:blipFill>
        <p:spPr>
          <a:xfrm>
            <a:off x="4284720" y="1197000"/>
            <a:ext cx="4608360" cy="451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042920" y="6021360"/>
            <a:ext cx="1873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Ехидна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508720" y="6021360"/>
            <a:ext cx="2232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Утконос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48243" t="0" r="0" b="0"/>
          <a:stretch/>
        </p:blipFill>
        <p:spPr>
          <a:xfrm>
            <a:off x="4784760" y="1268280"/>
            <a:ext cx="4179960" cy="525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0" t="0" r="54473" b="0"/>
          <a:stretch/>
        </p:blipFill>
        <p:spPr>
          <a:xfrm>
            <a:off x="179280" y="1268280"/>
            <a:ext cx="3997440" cy="5346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4360" y="260280"/>
            <a:ext cx="1800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Эму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67280" y="404640"/>
            <a:ext cx="1873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Казуар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79280" y="0"/>
            <a:ext cx="87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b40087"/>
                    </a:gs>
                  </a:gsLst>
                  <a:lin ang="5400000"/>
                </a:gradFill>
                <a:latin typeface="Monotype Corsiva"/>
              </a:rPr>
              <a:t>Эндемики Неотропической области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b40087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0" r="0" b="52583"/>
          <a:stretch/>
        </p:blipFill>
        <p:spPr>
          <a:xfrm>
            <a:off x="0" y="1052640"/>
            <a:ext cx="4753080" cy="345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47948" r="0" b="0"/>
          <a:stretch/>
        </p:blipFill>
        <p:spPr>
          <a:xfrm>
            <a:off x="4788000" y="3381480"/>
            <a:ext cx="4356000" cy="3476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11280" y="4797360"/>
            <a:ext cx="3024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Броненосец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580000" y="2205000"/>
            <a:ext cx="295272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Муравьед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50920" y="260280"/>
            <a:ext cx="432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latin typeface="Times New Roman"/>
              </a:rPr>
              <a:t>Туканы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latin typeface="Times New Roman"/>
              <a:ea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25747" t="0" r="50006" b="51876"/>
          <a:stretch/>
        </p:blipFill>
        <p:spPr>
          <a:xfrm>
            <a:off x="250920" y="1413000"/>
            <a:ext cx="383364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3610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17:18:20Z</dcterms:created>
  <dc:creator>Марина</dc:creator>
  <dc:description/>
  <dc:language>en-US</dc:language>
  <cp:lastModifiedBy>Марина</cp:lastModifiedBy>
  <dcterms:modified xsi:type="dcterms:W3CDTF">2004-12-13T20:28:25Z</dcterms:modified>
  <cp:revision>9</cp:revision>
  <dc:subject/>
  <dc:title>Слайд 1</dc:title>
</cp:coreProperties>
</file>