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E36-85ED-4BD5-A9D9-642D1996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2A9-3C22-491F-9167-8F4F82C1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750-B959-4834-821D-3A5D982B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536-4E49-46DA-9825-6DF6A5E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8CA-9DA0-4923-A8F0-DA845D22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571-3A24-40BD-BD41-8236FA6B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F4E-1C61-48E9-984A-98B587D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3B4-B2DD-4E1F-B1D9-46B0CD1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07D-362B-4EF2-85EA-25D0421E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78E-F780-4685-831D-4A64447B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309-2441-4585-B996-59E2B52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DF6-6D5E-452A-BD8C-C5C01A8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62DB-0B93-4094-BF31-CE397CEE1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84370"/>
          <a:stretch/>
        </p:blipFill>
        <p:spPr>
          <a:xfrm>
            <a:off x="1116000" y="189000"/>
            <a:ext cx="2852640" cy="187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75619" t="51044" r="0" b="0"/>
          <a:stretch/>
        </p:blipFill>
        <p:spPr>
          <a:xfrm>
            <a:off x="6156360" y="3213000"/>
            <a:ext cx="2733480" cy="33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51876" t="0" r="0" b="74439"/>
          <a:stretch/>
        </p:blipFill>
        <p:spPr>
          <a:xfrm>
            <a:off x="6443640" y="147600"/>
            <a:ext cx="2049480" cy="176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995400">
            <a:off x="539640" y="765000"/>
            <a:ext cx="8280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8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66ff99"/>
                    </a:gs>
                  </a:gsLst>
                  <a:lin ang="4404000"/>
                </a:gradFill>
                <a:effectLst>
                  <a:outerShdw dist="102388" dir="17983194" blurRad="0" rotWithShape="0">
                    <a:srgbClr val="3399ff"/>
                  </a:outerShdw>
                </a:effectLst>
                <a:latin typeface="Magneto"/>
              </a:rPr>
              <a:t>Доказательства эволюции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66ff99"/>
                  </a:gs>
                </a:gsLst>
                <a:lin ang="4404000"/>
              </a:gradFill>
              <a:effectLst>
                <a:outerShdw dist="102388" dir="17983194" blurRad="0" rotWithShape="0">
                  <a:srgbClr val="3399ff"/>
                </a:outerShdw>
              </a:effectLst>
              <a:latin typeface="Magneto"/>
              <a:ea typeface="Magnet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22920" y="692280"/>
            <a:ext cx="432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Колибри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0" r="0" b="53853"/>
          <a:stretch/>
        </p:blipFill>
        <p:spPr>
          <a:xfrm>
            <a:off x="0" y="0"/>
            <a:ext cx="4680000" cy="334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47712" r="0" b="0"/>
          <a:stretch/>
        </p:blipFill>
        <p:spPr>
          <a:xfrm>
            <a:off x="4140360" y="2811600"/>
            <a:ext cx="50036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Животные Голарктической области</a:t>
            </a:r>
            <a:endParaRPr b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47279" r="0" b="0"/>
          <a:stretch/>
        </p:blipFill>
        <p:spPr>
          <a:xfrm>
            <a:off x="5076720" y="3645000"/>
            <a:ext cx="3721320" cy="292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rcRect l="0" t="0" r="75625" b="51299"/>
          <a:stretch/>
        </p:blipFill>
        <p:spPr>
          <a:xfrm>
            <a:off x="395280" y="1197000"/>
            <a:ext cx="4400640" cy="5400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148360" y="2133720"/>
            <a:ext cx="3600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лагородный олень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89000"/>
            <a:ext cx="8713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Эндемики Эфиопской 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Индомалайской областей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624720" cy="4392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987640" y="6270480"/>
            <a:ext cx="3024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Панголин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0"/>
            <a:ext cx="849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660066"/>
                </a:solidFill>
                <a:latin typeface="Monotype Corsiva"/>
              </a:rPr>
              <a:t>Эндемики Эфиопской област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660066"/>
              </a:solidFill>
              <a:latin typeface="Monotype Corsiva"/>
              <a:ea typeface="Monotype Corsiv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6840720" cy="489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116000" y="6093000"/>
            <a:ext cx="669600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Африканский трубкозуб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24000" y="260280"/>
            <a:ext cx="302400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еликты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0360" y="1052640"/>
            <a:ext cx="864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Реликты – это виды растений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животных, сохранившиеся от древ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ныне исчезнувших флор и фаун. Для 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характерны признаки вымерших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прошлых эпо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56120"/>
            <a:ext cx="5651640" cy="3701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867280" y="5300640"/>
            <a:ext cx="3024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Гаттерия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000" y="33336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Кистеперая рыба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2918" r="0" b="4585"/>
          <a:stretch/>
        </p:blipFill>
        <p:spPr>
          <a:xfrm>
            <a:off x="179280" y="1341360"/>
            <a:ext cx="8675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24000" y="18900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Опоссум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8136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79280" y="260280"/>
            <a:ext cx="381636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Растение гинкго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1643"/>
          <a:stretch/>
        </p:blipFill>
        <p:spPr>
          <a:xfrm>
            <a:off x="250920" y="1052640"/>
            <a:ext cx="8497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е доказательства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258560" y="1484280"/>
            <a:ext cx="2808360" cy="223200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920" y="3860640"/>
            <a:ext cx="343836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составление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рядов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1413000"/>
            <a:ext cx="2376360" cy="216036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4005360"/>
            <a:ext cx="237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ископаемые 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ереходные 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формы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Палеонтологический ряд лошади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14154" r="0" b="20542"/>
          <a:stretch/>
        </p:blipFill>
        <p:spPr>
          <a:xfrm>
            <a:off x="250920" y="1773360"/>
            <a:ext cx="86421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a10020"/>
                    </a:gs>
                  </a:gsLst>
                  <a:lin ang="5400000"/>
                </a:gradFill>
                <a:latin typeface="Monotype Corsiva"/>
              </a:rPr>
              <a:t>Сравнительно-анатомические доказательств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a1002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87208" b="11169"/>
          <a:stretch/>
        </p:blipFill>
        <p:spPr>
          <a:xfrm>
            <a:off x="611280" y="1197000"/>
            <a:ext cx="108108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821" t="18879" r="65106" b="16838"/>
          <a:stretch/>
        </p:blipFill>
        <p:spPr>
          <a:xfrm>
            <a:off x="1908000" y="1557360"/>
            <a:ext cx="1646280" cy="295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34899" t="9421" r="37185" b="5499"/>
          <a:stretch/>
        </p:blipFill>
        <p:spPr>
          <a:xfrm>
            <a:off x="4140360" y="1557360"/>
            <a:ext cx="1728720" cy="324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62821" t="0" r="0" b="5499"/>
          <a:stretch/>
        </p:blipFill>
        <p:spPr>
          <a:xfrm>
            <a:off x="6372360" y="1557360"/>
            <a:ext cx="230184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5877000"/>
            <a:ext cx="163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Человек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8000" y="4653000"/>
            <a:ext cx="163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Лягушка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11640" y="4869000"/>
            <a:ext cx="163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Летучая 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мышь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72360" y="5300640"/>
            <a:ext cx="23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Times New Roman"/>
              </a:rPr>
              <a:t>Дельфин  и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Times New Roman"/>
              </a:rPr>
              <a:t>лошадь</a:t>
            </a:r>
            <a:endParaRPr b="1" i="1" lang="en-US" sz="1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4000" y="189000"/>
            <a:ext cx="324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6600cc"/>
                </a:solidFill>
                <a:latin typeface="Times New Roman"/>
              </a:rPr>
              <a:t>Архиоптерикс</a:t>
            </a:r>
            <a:endParaRPr b="1" i="1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6600cc"/>
              </a:solidFill>
              <a:latin typeface="Times New Roman"/>
              <a:ea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50492" t="0" r="0" b="0"/>
          <a:stretch/>
        </p:blipFill>
        <p:spPr>
          <a:xfrm>
            <a:off x="179280" y="1052640"/>
            <a:ext cx="4286520" cy="554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51387" b="0"/>
          <a:stretch/>
        </p:blipFill>
        <p:spPr>
          <a:xfrm>
            <a:off x="4572000" y="1052640"/>
            <a:ext cx="43783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Гомологичные органы у животны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767040" cy="57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 rot="5400000">
            <a:off x="4689000" y="3527280"/>
            <a:ext cx="56167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омология слуховы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5805720" y="3489840"/>
            <a:ext cx="4967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сточек позвоночных</a:t>
            </a:r>
            <a:endParaRPr b="0" lang="en-US" sz="1800" spc="1" strike="noStrike">
              <a:ln w="9360">
                <a:solidFill>
                  <a:srgbClr val="6666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4720" y="1844640"/>
            <a:ext cx="172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Рыбы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48000" y="3573360"/>
            <a:ext cx="33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Пресмыкающиеся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35280" y="5445000"/>
            <a:ext cx="3097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66ff"/>
                </a:solidFill>
                <a:latin typeface="Times New Roman"/>
              </a:rPr>
              <a:t>Млекопитающие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Гомологичные органы у растений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0" r="0" b="3124"/>
          <a:stretch/>
        </p:blipFill>
        <p:spPr>
          <a:xfrm>
            <a:off x="395280" y="836640"/>
            <a:ext cx="389556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7400" y="2276640"/>
            <a:ext cx="4245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Некотор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растений морфолог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чески развиваются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листовых зачатк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видоизменен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лис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6600cc"/>
                </a:solidFill>
                <a:latin typeface="Monotype Corsiva"/>
              </a:rPr>
              <a:t>Аналогичные органы у животны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6600cc"/>
              </a:solidFill>
              <a:latin typeface="Monotype Corsiva"/>
              <a:ea typeface="Monotype Corsiv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06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50920" y="620640"/>
            <a:ext cx="8713800" cy="5675400"/>
            <a:chOff x="250920" y="620640"/>
            <a:chExt cx="8713800" cy="5675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50920" y="620640"/>
              <a:ext cx="871380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223240" y="558972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хрустал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2880" y="39337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огов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72320" y="386064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етча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2320" y="5516640"/>
              <a:ext cx="160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Зр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р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22880" y="112536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огов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0320" y="1197000"/>
              <a:ext cx="119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етча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0320" y="3068640"/>
              <a:ext cx="133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хрустал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8720" y="314172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Зр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р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084720" y="5013360"/>
              <a:ext cx="648000" cy="64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7812000" y="4220640"/>
              <a:ext cx="432000" cy="28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084360" y="4292280"/>
              <a:ext cx="35892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28000" y="5229360"/>
              <a:ext cx="43164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96000" y="2276640"/>
              <a:ext cx="792000" cy="86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85080" y="2781360"/>
              <a:ext cx="432000" cy="28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236000" y="1557000"/>
              <a:ext cx="504720" cy="358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6012000" y="1412640"/>
              <a:ext cx="288720" cy="36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79280" y="0"/>
            <a:ext cx="7921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Глаза головоногих молюсков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26920" y="6381720"/>
            <a:ext cx="51850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4d4d4d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 млекопитающих</a:t>
            </a:r>
            <a:endParaRPr b="1" lang="en-US" sz="1800" spc="1" strike="noStrike">
              <a:ln w="9360">
                <a:solidFill>
                  <a:srgbClr val="4d4d4d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Monotype Corsiva"/>
              </a:rPr>
              <a:t>Аналогичные органы у растений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Monotype Corsiva"/>
              <a:ea typeface="Monotype Corsiv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981000"/>
            <a:ext cx="8569080" cy="5559480"/>
            <a:chOff x="324000" y="981000"/>
            <a:chExt cx="8569080" cy="55594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24000" y="981000"/>
              <a:ext cx="856908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48920" y="5006880"/>
              <a:ext cx="140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Барбари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лис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00360" y="4724280"/>
              <a:ext cx="209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А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прилистники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7280" y="5440320"/>
              <a:ext cx="170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Боярыш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побег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03280" y="5661000"/>
              <a:ext cx="212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Ежев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(вырост кор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арные органы-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1165320"/>
            <a:ext cx="86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это сравнительно упрощенные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недоразвитые структуры, утратившие с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первоначальное назначение. Эти орг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закладываются в период эмбрион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Arial"/>
              </a:rPr>
              <a:t>развития, но полностью не разви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5124600" cy="327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6227640" y="4437000"/>
            <a:ext cx="230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Птица 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киви</a:t>
            </a:r>
            <a:endParaRPr b="1" i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716360" y="1700280"/>
            <a:ext cx="40338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ы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у кита и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питон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13800" cy="5684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79280" y="18900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669900"/>
                    </a:gs>
                    <a:gs pos="100000">
                      <a:srgbClr val="578300"/>
                    </a:gs>
                  </a:gsLst>
                  <a:lin ang="5400000"/>
                </a:gradFill>
                <a:latin typeface="Monotype Corsiva"/>
              </a:rPr>
              <a:t>Рудименты у человек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669900"/>
                  </a:gs>
                  <a:gs pos="100000">
                    <a:srgbClr val="578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7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 rot="5400000">
            <a:off x="4320000" y="2959920"/>
            <a:ext cx="61912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e8989"/>
                    </a:gs>
                  </a:gsLst>
                  <a:lin ang="0"/>
                </a:gradFill>
                <a:latin typeface="Arial"/>
              </a:rPr>
              <a:t>доказательства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e8989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5400000">
            <a:off x="2735640" y="2959920"/>
            <a:ext cx="61912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fe7e7e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Arial"/>
              </a:rPr>
              <a:t>Эмбриологические</a:t>
            </a:r>
            <a:endParaRPr b="0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fe7e7e"/>
                  </a:gs>
                  <a:gs pos="100000">
                    <a:srgbClr val="ff505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a10020"/>
                    </a:gs>
                  </a:gsLst>
                  <a:lin ang="5400000"/>
                </a:gradFill>
                <a:latin typeface="Monotype Corsiva"/>
              </a:rPr>
              <a:t>Биогеографические доказательства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a1002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720" y="981000"/>
            <a:ext cx="485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7d00"/>
                    </a:gs>
                  </a:gsLst>
                  <a:lin ang="5400000"/>
                </a:gradFill>
                <a:latin typeface="Monotype Corsiva"/>
              </a:rPr>
              <a:t>Эволюция континентов</a:t>
            </a:r>
            <a:endParaRPr b="1" lang="en-US" sz="1800" spc="1" strike="noStrike">
              <a:ln w="93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7d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53564" t="54212" r="4116" b="0"/>
          <a:stretch/>
        </p:blipFill>
        <p:spPr>
          <a:xfrm>
            <a:off x="5292720" y="4145040"/>
            <a:ext cx="3851280" cy="27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6472" t="54167" r="53564" b="0"/>
          <a:stretch/>
        </p:blipFill>
        <p:spPr>
          <a:xfrm>
            <a:off x="179280" y="4005360"/>
            <a:ext cx="3816360" cy="284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52997" t="0" r="4682" b="49451"/>
          <a:stretch/>
        </p:blipFill>
        <p:spPr>
          <a:xfrm>
            <a:off x="4211640" y="1413000"/>
            <a:ext cx="3745080" cy="291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5875" t="1786" r="54131" b="49451"/>
          <a:stretch/>
        </p:blipFill>
        <p:spPr>
          <a:xfrm>
            <a:off x="179280" y="1125360"/>
            <a:ext cx="3672000" cy="29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8000"/>
                </a:solidFill>
                <a:latin typeface="Monotype Corsiva"/>
              </a:rPr>
              <a:t>Зоогеографические области Земл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latin typeface="Monotype Corsiva"/>
              </a:rPr>
              <a:t>Эндемики Австралийской области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ff9900"/>
              </a:solidFill>
              <a:latin typeface="Monotype Corsiva"/>
              <a:ea typeface="Monotype Corsiv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0" r="0" b="13173"/>
          <a:stretch/>
        </p:blipFill>
        <p:spPr>
          <a:xfrm>
            <a:off x="395280" y="1125360"/>
            <a:ext cx="3492360" cy="475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0" t="0" r="68618" b="0"/>
          <a:stretch/>
        </p:blipFill>
        <p:spPr>
          <a:xfrm>
            <a:off x="4284720" y="1197000"/>
            <a:ext cx="4608360" cy="451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042920" y="6021360"/>
            <a:ext cx="1873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Ехидна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508720" y="6021360"/>
            <a:ext cx="22320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Утконос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48243" t="0" r="0" b="0"/>
          <a:stretch/>
        </p:blipFill>
        <p:spPr>
          <a:xfrm>
            <a:off x="4784760" y="1268280"/>
            <a:ext cx="4179960" cy="525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0" r="54473" b="0"/>
          <a:stretch/>
        </p:blipFill>
        <p:spPr>
          <a:xfrm>
            <a:off x="179280" y="1268280"/>
            <a:ext cx="3997440" cy="5346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4360" y="260280"/>
            <a:ext cx="1800000" cy="6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Эму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67280" y="404640"/>
            <a:ext cx="187344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Казуар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79280" y="0"/>
            <a:ext cx="87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b40087"/>
                    </a:gs>
                  </a:gsLst>
                  <a:lin ang="5400000"/>
                </a:gradFill>
                <a:latin typeface="Monotype Corsiva"/>
              </a:rPr>
              <a:t>Эндемики Неотропической области</a:t>
            </a:r>
            <a:endParaRPr b="1" lang="en-US" sz="18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b40087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0" t="0" r="0" b="52583"/>
          <a:stretch/>
        </p:blipFill>
        <p:spPr>
          <a:xfrm>
            <a:off x="0" y="1052640"/>
            <a:ext cx="4753080" cy="345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47948" r="0" b="0"/>
          <a:stretch/>
        </p:blipFill>
        <p:spPr>
          <a:xfrm>
            <a:off x="4788000" y="3381480"/>
            <a:ext cx="4356000" cy="347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11280" y="4797360"/>
            <a:ext cx="3024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Броненосец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580000" y="2205000"/>
            <a:ext cx="295272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Муравьед</a:t>
            </a:r>
            <a:endParaRPr b="1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50920" y="260280"/>
            <a:ext cx="432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latin typeface="Times New Roman"/>
              </a:rPr>
              <a:t>Туканы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25747" t="0" r="50006" b="51876"/>
          <a:stretch/>
        </p:blipFill>
        <p:spPr>
          <a:xfrm>
            <a:off x="250920" y="1413000"/>
            <a:ext cx="383364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3610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17:18:20Z</dcterms:created>
  <dc:creator>Марина</dc:creator>
  <dc:description/>
  <dc:language>en-US</dc:language>
  <cp:lastModifiedBy>Марина</cp:lastModifiedBy>
  <dcterms:modified xsi:type="dcterms:W3CDTF">2004-12-13T20:28:25Z</dcterms:modified>
  <cp:revision>9</cp:revision>
  <dc:subject/>
  <dc:title>Слайд 1</dc:title>
</cp:coreProperties>
</file>