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0.jpeg" ContentType="image/jpeg"/>
  <Override PartName="/ppt/media/image28.png" ContentType="image/png"/>
  <Override PartName="/ppt/media/image29.jpeg" ContentType="image/jpeg"/>
  <Override PartName="/ppt/media/image6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9.jpeg" ContentType="image/jpeg"/>
  <Override PartName="/ppt/media/image27.png" ContentType="image/png"/>
  <Override PartName="/ppt/media/image2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png" ContentType="image/png"/>
  <Override PartName="/ppt/media/image2.png" ContentType="image/pn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AD8-BF5D-4822-A9CA-2DA8ACE4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466-5EDC-4CDC-9054-B625D2D7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EAF-AC2E-439E-BA5F-B02854BE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23D-7611-4E17-AAB8-CBD80099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F46-BD8A-4B6B-AF1F-37B0724A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CBF-C685-44A9-A04B-9CB26CA9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956-7DD4-4730-96EF-77CD0385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003-B60C-4DB9-A37F-3EBC32A9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9BB-8F36-472C-9515-EEEAF4FC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94E-9318-4203-8A95-B4972A64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EF9-1944-4981-A8ED-4217F8C3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931-827C-4DE6-AB12-063E36EB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EB10-0DF6-42EB-9950-26404CF0A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9.gif"/><Relationship Id="rId13" Type="http://schemas.openxmlformats.org/officeDocument/2006/relationships/image" Target="../media/image20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2413080" y="2997000"/>
            <a:ext cx="6480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новы генетики</a:t>
            </a:r>
            <a:endParaRPr b="0" i="1" lang="en-US" sz="1800" spc="1" strike="noStrike">
              <a:ln w="284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4797360"/>
            <a:ext cx="4464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Грегор Иог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енд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0813" t="17512" r="26369" b="37200"/>
          <a:stretch/>
        </p:blipFill>
        <p:spPr>
          <a:xfrm>
            <a:off x="3203640" y="692280"/>
            <a:ext cx="4176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5940360" y="1700280"/>
          <a:ext cx="2976480" cy="2808360"/>
        </p:xfrm>
        <a:graphic>
          <a:graphicData uri="http://schemas.openxmlformats.org/drawingml/2006/table">
            <a:tbl>
              <a:tblPr/>
              <a:tblGrid>
                <a:gridCol w="1328760"/>
                <a:gridCol w="824040"/>
                <a:gridCol w="8236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269120" y="2730600"/>
            <a:ext cx="83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 rot="209400">
            <a:off x="1979280" y="0"/>
            <a:ext cx="59054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cc33"/>
                  </a:solidFill>
                  <a:miter/>
                </a:ln>
                <a:solidFill>
                  <a:srgbClr val="ffff00"/>
                </a:solidFill>
                <a:effectLst>
                  <a:outerShdw dist="85328" dir="20006097" blurRad="0" rotWithShape="0">
                    <a:srgbClr val="cc0000"/>
                  </a:outerShdw>
                </a:effectLst>
                <a:latin typeface="Arial"/>
              </a:rPr>
              <a:t>II закон Менделя</a:t>
            </a:r>
            <a:endParaRPr b="0" lang="en-US" sz="1800" spc="1" strike="noStrike">
              <a:ln w="38160">
                <a:solidFill>
                  <a:srgbClr val="33cc33"/>
                </a:solidFill>
                <a:miter/>
              </a:ln>
              <a:solidFill>
                <a:srgbClr val="ffff00"/>
              </a:solidFill>
              <a:effectLst>
                <a:outerShdw dist="85328" dir="20006097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31920" cy="1584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932360" y="1125360"/>
            <a:ext cx="404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(закон расщепления)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39640" y="2421000"/>
            <a:ext cx="714240" cy="1009080"/>
            <a:chOff x="539640" y="2421000"/>
            <a:chExt cx="714240" cy="1009080"/>
          </a:xfrm>
        </p:grpSpPr>
        <p:sp>
          <p:nvSpPr>
            <p:cNvPr id="342" name=""/>
            <p:cNvSpPr/>
            <p:nvPr/>
          </p:nvSpPr>
          <p:spPr>
            <a:xfrm>
              <a:off x="693720" y="2781360"/>
              <a:ext cx="560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539640" y="2421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526520" y="3573360"/>
            <a:ext cx="437040" cy="976320"/>
            <a:chOff x="7526520" y="3573360"/>
            <a:chExt cx="437040" cy="976320"/>
          </a:xfrm>
        </p:grpSpPr>
        <p:sp>
          <p:nvSpPr>
            <p:cNvPr id="345" name=""/>
            <p:cNvSpPr/>
            <p:nvPr/>
          </p:nvSpPr>
          <p:spPr>
            <a:xfrm>
              <a:off x="7526880" y="3573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26520" y="4029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7597800" y="4029120"/>
              <a:ext cx="286920" cy="71280"/>
              <a:chOff x="7597800" y="4029120"/>
              <a:chExt cx="286920" cy="71280"/>
            </a:xfrm>
          </p:grpSpPr>
          <p:sp>
            <p:nvSpPr>
              <p:cNvPr id="348" name=""/>
              <p:cNvSpPr/>
              <p:nvPr/>
            </p:nvSpPr>
            <p:spPr>
              <a:xfrm>
                <a:off x="7597800" y="40291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97800" y="4100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8245800" y="2637000"/>
            <a:ext cx="437040" cy="975960"/>
            <a:chOff x="8245800" y="2637000"/>
            <a:chExt cx="437040" cy="975960"/>
          </a:xfrm>
        </p:grpSpPr>
        <p:sp>
          <p:nvSpPr>
            <p:cNvPr id="351" name=""/>
            <p:cNvSpPr/>
            <p:nvPr/>
          </p:nvSpPr>
          <p:spPr>
            <a:xfrm>
              <a:off x="8246160" y="2637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45800" y="3092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8317080" y="3092400"/>
              <a:ext cx="286920" cy="70920"/>
              <a:chOff x="8317080" y="3092400"/>
              <a:chExt cx="286920" cy="70920"/>
            </a:xfrm>
          </p:grpSpPr>
          <p:sp>
            <p:nvSpPr>
              <p:cNvPr id="354" name=""/>
              <p:cNvSpPr/>
              <p:nvPr/>
            </p:nvSpPr>
            <p:spPr>
              <a:xfrm>
                <a:off x="8317080" y="3092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317080" y="31633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1116000" y="558972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360" y="558972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5589720"/>
            <a:ext cx="5050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140360" y="2349360"/>
            <a:ext cx="1086480" cy="976320"/>
            <a:chOff x="4140360" y="2349360"/>
            <a:chExt cx="1086480" cy="976320"/>
          </a:xfrm>
        </p:grpSpPr>
        <p:grpSp>
          <p:nvGrpSpPr>
            <p:cNvPr id="360" name=""/>
            <p:cNvGrpSpPr/>
            <p:nvPr/>
          </p:nvGrpSpPr>
          <p:grpSpPr>
            <a:xfrm>
              <a:off x="4789800" y="2349360"/>
              <a:ext cx="437040" cy="976320"/>
              <a:chOff x="4789800" y="2349360"/>
              <a:chExt cx="437040" cy="976320"/>
            </a:xfrm>
          </p:grpSpPr>
          <p:sp>
            <p:nvSpPr>
              <p:cNvPr id="361" name=""/>
              <p:cNvSpPr/>
              <p:nvPr/>
            </p:nvSpPr>
            <p:spPr>
              <a:xfrm>
                <a:off x="4790160" y="23493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89800" y="280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4861080" y="2805120"/>
                <a:ext cx="286920" cy="71280"/>
                <a:chOff x="4861080" y="2805120"/>
                <a:chExt cx="286920" cy="712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861080" y="28051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61080" y="2876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4140360" y="263700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763640" y="2349360"/>
            <a:ext cx="1015200" cy="976320"/>
            <a:chOff x="1763640" y="2349360"/>
            <a:chExt cx="1015200" cy="976320"/>
          </a:xfrm>
        </p:grpSpPr>
        <p:grpSp>
          <p:nvGrpSpPr>
            <p:cNvPr id="368" name=""/>
            <p:cNvGrpSpPr/>
            <p:nvPr/>
          </p:nvGrpSpPr>
          <p:grpSpPr>
            <a:xfrm>
              <a:off x="2341800" y="2349360"/>
              <a:ext cx="437040" cy="976320"/>
              <a:chOff x="2341800" y="2349360"/>
              <a:chExt cx="437040" cy="976320"/>
            </a:xfrm>
          </p:grpSpPr>
          <p:sp>
            <p:nvSpPr>
              <p:cNvPr id="369" name=""/>
              <p:cNvSpPr/>
              <p:nvPr/>
            </p:nvSpPr>
            <p:spPr>
              <a:xfrm>
                <a:off x="2342160" y="23493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41800" y="280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2413080" y="2805120"/>
                <a:ext cx="286920" cy="71280"/>
                <a:chOff x="2413080" y="2805120"/>
                <a:chExt cx="286920" cy="712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413080" y="28051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13080" y="2876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1763640" y="263700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332000" y="2491920"/>
            <a:ext cx="2808000" cy="720720"/>
            <a:chOff x="1332000" y="2491920"/>
            <a:chExt cx="2808000" cy="720720"/>
          </a:xfrm>
        </p:grpSpPr>
        <p:grpSp>
          <p:nvGrpSpPr>
            <p:cNvPr id="376" name=""/>
            <p:cNvGrpSpPr/>
            <p:nvPr/>
          </p:nvGrpSpPr>
          <p:grpSpPr>
            <a:xfrm>
              <a:off x="1332000" y="2637000"/>
              <a:ext cx="288720" cy="575640"/>
              <a:chOff x="1332000" y="2637000"/>
              <a:chExt cx="288720" cy="575640"/>
            </a:xfrm>
          </p:grpSpPr>
          <p:sp>
            <p:nvSpPr>
              <p:cNvPr id="377" name=""/>
              <p:cNvSpPr/>
              <p:nvPr/>
            </p:nvSpPr>
            <p:spPr>
              <a:xfrm>
                <a:off x="1476360" y="292392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1332000" y="2637000"/>
                <a:ext cx="288720" cy="431280"/>
                <a:chOff x="1332000" y="2637000"/>
                <a:chExt cx="288720" cy="4312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332000" y="2637000"/>
                  <a:ext cx="287280" cy="288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332000" y="306828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3061080" y="2637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635280" y="2491920"/>
              <a:ext cx="504720" cy="505080"/>
              <a:chOff x="3635280" y="2491920"/>
              <a:chExt cx="504720" cy="505080"/>
            </a:xfrm>
          </p:grpSpPr>
          <p:sp>
            <p:nvSpPr>
              <p:cNvPr id="383" name=""/>
              <p:cNvSpPr/>
              <p:nvPr/>
            </p:nvSpPr>
            <p:spPr>
              <a:xfrm>
                <a:off x="3635280" y="270828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3851280" y="249192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397080" y="35733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692360" y="3500280"/>
            <a:ext cx="720720" cy="648000"/>
            <a:chOff x="1692360" y="3500280"/>
            <a:chExt cx="720720" cy="648000"/>
          </a:xfrm>
        </p:grpSpPr>
        <p:sp>
          <p:nvSpPr>
            <p:cNvPr id="387" name=""/>
            <p:cNvSpPr/>
            <p:nvPr/>
          </p:nvSpPr>
          <p:spPr>
            <a:xfrm>
              <a:off x="1837440" y="3500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2360" y="3500280"/>
              <a:ext cx="720720" cy="6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627280" y="3500280"/>
            <a:ext cx="720720" cy="648000"/>
            <a:chOff x="2627280" y="3500280"/>
            <a:chExt cx="720720" cy="648000"/>
          </a:xfrm>
        </p:grpSpPr>
        <p:sp>
          <p:nvSpPr>
            <p:cNvPr id="390" name=""/>
            <p:cNvSpPr/>
            <p:nvPr/>
          </p:nvSpPr>
          <p:spPr>
            <a:xfrm>
              <a:off x="2773800" y="3500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7280" y="3500280"/>
              <a:ext cx="720720" cy="6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924360" y="3500280"/>
            <a:ext cx="720720" cy="648000"/>
            <a:chOff x="3924360" y="3500280"/>
            <a:chExt cx="720720" cy="648000"/>
          </a:xfrm>
        </p:grpSpPr>
        <p:sp>
          <p:nvSpPr>
            <p:cNvPr id="393" name=""/>
            <p:cNvSpPr/>
            <p:nvPr/>
          </p:nvSpPr>
          <p:spPr>
            <a:xfrm>
              <a:off x="4069440" y="3500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24360" y="3500280"/>
              <a:ext cx="720720" cy="6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859280" y="3500280"/>
            <a:ext cx="720720" cy="648000"/>
            <a:chOff x="4859280" y="3500280"/>
            <a:chExt cx="720720" cy="648000"/>
          </a:xfrm>
        </p:grpSpPr>
        <p:sp>
          <p:nvSpPr>
            <p:cNvPr id="396" name=""/>
            <p:cNvSpPr/>
            <p:nvPr/>
          </p:nvSpPr>
          <p:spPr>
            <a:xfrm>
              <a:off x="5005440" y="3500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59280" y="3500280"/>
              <a:ext cx="720720" cy="6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084720" y="1842840"/>
            <a:ext cx="1152720" cy="865440"/>
            <a:chOff x="6084720" y="1842840"/>
            <a:chExt cx="1152720" cy="865440"/>
          </a:xfrm>
        </p:grpSpPr>
        <p:grpSp>
          <p:nvGrpSpPr>
            <p:cNvPr id="399" name=""/>
            <p:cNvGrpSpPr/>
            <p:nvPr/>
          </p:nvGrpSpPr>
          <p:grpSpPr>
            <a:xfrm>
              <a:off x="6732720" y="1842840"/>
              <a:ext cx="504720" cy="505080"/>
              <a:chOff x="6732720" y="1842840"/>
              <a:chExt cx="504720" cy="505080"/>
            </a:xfrm>
          </p:grpSpPr>
          <p:sp>
            <p:nvSpPr>
              <p:cNvPr id="400" name=""/>
              <p:cNvSpPr/>
              <p:nvPr/>
            </p:nvSpPr>
            <p:spPr>
              <a:xfrm>
                <a:off x="6732720" y="205920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6948720" y="184284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084720" y="2131920"/>
              <a:ext cx="288720" cy="576360"/>
              <a:chOff x="6084720" y="2131920"/>
              <a:chExt cx="288720" cy="57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6229080" y="24192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6084720" y="2131920"/>
                <a:ext cx="288720" cy="431640"/>
                <a:chOff x="6084720" y="2131920"/>
                <a:chExt cx="288720" cy="4316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084720" y="213192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84720" y="256356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7" name=""/>
          <p:cNvSpPr/>
          <p:nvPr/>
        </p:nvSpPr>
        <p:spPr>
          <a:xfrm>
            <a:off x="5940360" y="1700280"/>
            <a:ext cx="1295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374160" y="2852640"/>
            <a:ext cx="437040" cy="1457280"/>
            <a:chOff x="6374160" y="2852640"/>
            <a:chExt cx="437040" cy="1457280"/>
          </a:xfrm>
        </p:grpSpPr>
        <p:sp>
          <p:nvSpPr>
            <p:cNvPr id="409" name=""/>
            <p:cNvSpPr/>
            <p:nvPr/>
          </p:nvSpPr>
          <p:spPr>
            <a:xfrm>
              <a:off x="6374520" y="2852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74160" y="378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7453800" y="1989000"/>
            <a:ext cx="1243800" cy="520560"/>
            <a:chOff x="7453800" y="1989000"/>
            <a:chExt cx="1243800" cy="520560"/>
          </a:xfrm>
        </p:grpSpPr>
        <p:sp>
          <p:nvSpPr>
            <p:cNvPr id="412" name=""/>
            <p:cNvSpPr/>
            <p:nvPr/>
          </p:nvSpPr>
          <p:spPr>
            <a:xfrm>
              <a:off x="7453800" y="198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18880" y="1989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453800" y="2708280"/>
            <a:ext cx="420840" cy="945360"/>
            <a:chOff x="7453800" y="2708280"/>
            <a:chExt cx="420840" cy="945360"/>
          </a:xfrm>
        </p:grpSpPr>
        <p:grpSp>
          <p:nvGrpSpPr>
            <p:cNvPr id="415" name=""/>
            <p:cNvGrpSpPr/>
            <p:nvPr/>
          </p:nvGrpSpPr>
          <p:grpSpPr>
            <a:xfrm>
              <a:off x="7543440" y="3122280"/>
              <a:ext cx="217440" cy="71280"/>
              <a:chOff x="7543440" y="3122280"/>
              <a:chExt cx="217440" cy="71280"/>
            </a:xfrm>
          </p:grpSpPr>
          <p:sp>
            <p:nvSpPr>
              <p:cNvPr id="416" name=""/>
              <p:cNvSpPr/>
              <p:nvPr/>
            </p:nvSpPr>
            <p:spPr>
              <a:xfrm>
                <a:off x="7543440" y="312228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43440" y="319356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7453800" y="270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74320" y="3193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8318520" y="3645000"/>
            <a:ext cx="406440" cy="941400"/>
            <a:chOff x="8318520" y="3645000"/>
            <a:chExt cx="406440" cy="941400"/>
          </a:xfrm>
        </p:grpSpPr>
        <p:sp>
          <p:nvSpPr>
            <p:cNvPr id="421" name=""/>
            <p:cNvSpPr/>
            <p:nvPr/>
          </p:nvSpPr>
          <p:spPr>
            <a:xfrm>
              <a:off x="8318880" y="3645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18520" y="4005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8389800" y="4076640"/>
              <a:ext cx="217080" cy="70920"/>
              <a:chOff x="8389800" y="4076640"/>
              <a:chExt cx="217080" cy="70920"/>
            </a:xfrm>
          </p:grpSpPr>
          <p:sp>
            <p:nvSpPr>
              <p:cNvPr id="424" name=""/>
              <p:cNvSpPr/>
              <p:nvPr/>
            </p:nvSpPr>
            <p:spPr>
              <a:xfrm>
                <a:off x="8389800" y="407664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89800" y="414756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2520" y="4653000"/>
            <a:ext cx="2745360" cy="975960"/>
            <a:chOff x="2520" y="4653000"/>
            <a:chExt cx="2745360" cy="975960"/>
          </a:xfrm>
        </p:grpSpPr>
        <p:sp>
          <p:nvSpPr>
            <p:cNvPr id="427" name=""/>
            <p:cNvSpPr/>
            <p:nvPr/>
          </p:nvSpPr>
          <p:spPr>
            <a:xfrm>
              <a:off x="2520" y="479736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613440" y="4653000"/>
              <a:ext cx="420840" cy="945360"/>
              <a:chOff x="613440" y="4653000"/>
              <a:chExt cx="420840" cy="94536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703080" y="5067000"/>
                <a:ext cx="217440" cy="71280"/>
                <a:chOff x="703080" y="5067000"/>
                <a:chExt cx="217440" cy="712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03080" y="506700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3080" y="513828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613440" y="4653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3960" y="5138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341440" y="4653000"/>
              <a:ext cx="406440" cy="941400"/>
              <a:chOff x="2341440" y="4653000"/>
              <a:chExt cx="406440" cy="941400"/>
            </a:xfrm>
          </p:grpSpPr>
          <p:sp>
            <p:nvSpPr>
              <p:cNvPr id="435" name=""/>
              <p:cNvSpPr/>
              <p:nvPr/>
            </p:nvSpPr>
            <p:spPr>
              <a:xfrm>
                <a:off x="2341800" y="4653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41440" y="50130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413080" y="5084640"/>
                <a:ext cx="217440" cy="70920"/>
                <a:chOff x="2413080" y="5084640"/>
                <a:chExt cx="217440" cy="709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413080" y="508464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413080" y="515556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1189080" y="4653000"/>
              <a:ext cx="437040" cy="975960"/>
              <a:chOff x="1189080" y="4653000"/>
              <a:chExt cx="437040" cy="975960"/>
            </a:xfrm>
          </p:grpSpPr>
          <p:sp>
            <p:nvSpPr>
              <p:cNvPr id="441" name=""/>
              <p:cNvSpPr/>
              <p:nvPr/>
            </p:nvSpPr>
            <p:spPr>
              <a:xfrm>
                <a:off x="1189440" y="4653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189080" y="5108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1260360" y="5108400"/>
                <a:ext cx="286920" cy="70920"/>
                <a:chOff x="1260360" y="5108400"/>
                <a:chExt cx="286920" cy="709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260360" y="5108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260360" y="51793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1694160" y="4653000"/>
              <a:ext cx="437040" cy="975960"/>
              <a:chOff x="1694160" y="4653000"/>
              <a:chExt cx="437040" cy="975960"/>
            </a:xfrm>
          </p:grpSpPr>
          <p:sp>
            <p:nvSpPr>
              <p:cNvPr id="447" name=""/>
              <p:cNvSpPr/>
              <p:nvPr/>
            </p:nvSpPr>
            <p:spPr>
              <a:xfrm>
                <a:off x="1694520" y="4653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94160" y="5108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1765440" y="5108400"/>
                <a:ext cx="286920" cy="70920"/>
                <a:chOff x="1765440" y="5108400"/>
                <a:chExt cx="286920" cy="709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765440" y="5108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765440" y="51793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2" name=""/>
          <p:cNvSpPr/>
          <p:nvPr/>
        </p:nvSpPr>
        <p:spPr>
          <a:xfrm>
            <a:off x="2268360" y="5589720"/>
            <a:ext cx="505080" cy="43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916360" y="4941720"/>
            <a:ext cx="5976720" cy="1727280"/>
            <a:chOff x="2916360" y="4941720"/>
            <a:chExt cx="5976720" cy="1727280"/>
          </a:xfrm>
        </p:grpSpPr>
        <p:sp>
          <p:nvSpPr>
            <p:cNvPr id="454" name=""/>
            <p:cNvSpPr/>
            <p:nvPr/>
          </p:nvSpPr>
          <p:spPr>
            <a:xfrm>
              <a:off x="2916360" y="4941720"/>
              <a:ext cx="5976720" cy="17272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2000" y="5157720"/>
              <a:ext cx="5751720" cy="14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Гибриды первого поколения</a:t>
              </a: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 F</a:t>
              </a:r>
              <a:r>
                <a:rPr b="1" lang="en-US" sz="1600" spc="-1" strike="noStrike" baseline="-25000">
                  <a:solidFill>
                    <a:srgbClr val="66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при дальнейш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змножении расщепляются; в их потомстве </a:t>
              </a: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сн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Появляются особи с рецессивными признакам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щепление происходит в численном соотнош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Arial"/>
                </a:rPr>
                <a:t>                          </a:t>
              </a:r>
              <a:r>
                <a:rPr b="1" lang="ru-RU" sz="2000" spc="-1" strike="noStrike">
                  <a:solidFill>
                    <a:srgbClr val="660066"/>
                  </a:solidFill>
                  <a:latin typeface="Arial"/>
                </a:rPr>
                <a:t>3 : 1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324000" y="1557360"/>
            <a:ext cx="613800" cy="812160"/>
            <a:chOff x="324000" y="1557360"/>
            <a:chExt cx="613800" cy="812160"/>
          </a:xfrm>
        </p:grpSpPr>
        <p:sp>
          <p:nvSpPr>
            <p:cNvPr id="457" name=""/>
            <p:cNvSpPr txBox="1"/>
            <p:nvPr/>
          </p:nvSpPr>
          <p:spPr>
            <a:xfrm rot="5400000">
              <a:off x="276840" y="1604160"/>
              <a:ext cx="642960" cy="549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7880" y="190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8172360" y="1628640"/>
            <a:ext cx="505080" cy="432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332000" y="907920"/>
            <a:ext cx="504720" cy="1224000"/>
            <a:chOff x="1332000" y="907920"/>
            <a:chExt cx="504720" cy="1224000"/>
          </a:xfrm>
        </p:grpSpPr>
        <p:sp>
          <p:nvSpPr>
            <p:cNvPr id="461" name=""/>
            <p:cNvSpPr/>
            <p:nvPr/>
          </p:nvSpPr>
          <p:spPr>
            <a:xfrm>
              <a:off x="1332000" y="170028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19280" y="90792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700360" y="765000"/>
            <a:ext cx="2448000" cy="1295640"/>
            <a:chOff x="2700360" y="765000"/>
            <a:chExt cx="2448000" cy="1295640"/>
          </a:xfrm>
        </p:grpSpPr>
        <p:sp>
          <p:nvSpPr>
            <p:cNvPr id="464" name=""/>
            <p:cNvSpPr/>
            <p:nvPr/>
          </p:nvSpPr>
          <p:spPr>
            <a:xfrm>
              <a:off x="270036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1964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728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3280" y="1628640"/>
              <a:ext cx="5050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132000" y="836640"/>
              <a:ext cx="64800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708360" y="836640"/>
              <a:ext cx="216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95640" y="836640"/>
              <a:ext cx="28908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67280" y="765000"/>
              <a:ext cx="64908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580000" y="692280"/>
            <a:ext cx="2233800" cy="1368360"/>
            <a:chOff x="5580000" y="692280"/>
            <a:chExt cx="2233800" cy="1368360"/>
          </a:xfrm>
        </p:grpSpPr>
        <p:sp>
          <p:nvSpPr>
            <p:cNvPr id="473" name=""/>
            <p:cNvSpPr/>
            <p:nvPr/>
          </p:nvSpPr>
          <p:spPr>
            <a:xfrm>
              <a:off x="7308720" y="1628640"/>
              <a:ext cx="5050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5636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8000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3272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940000" y="765000"/>
              <a:ext cx="64764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443280" y="765000"/>
              <a:ext cx="28908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04000" y="765000"/>
              <a:ext cx="14436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48360" y="692280"/>
              <a:ext cx="57636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8101080" y="836640"/>
            <a:ext cx="216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50920" y="2565360"/>
            <a:ext cx="3816360" cy="1577880"/>
            <a:chOff x="250920" y="2565360"/>
            <a:chExt cx="3816360" cy="1577880"/>
          </a:xfrm>
        </p:grpSpPr>
        <p:grpSp>
          <p:nvGrpSpPr>
            <p:cNvPr id="483" name=""/>
            <p:cNvGrpSpPr/>
            <p:nvPr/>
          </p:nvGrpSpPr>
          <p:grpSpPr>
            <a:xfrm>
              <a:off x="1547640" y="2781360"/>
              <a:ext cx="647640" cy="1361880"/>
              <a:chOff x="1547640" y="2781360"/>
              <a:chExt cx="647640" cy="1361880"/>
            </a:xfrm>
          </p:grpSpPr>
          <p:sp>
            <p:nvSpPr>
              <p:cNvPr id="484" name=""/>
              <p:cNvSpPr txBox="1"/>
              <p:nvPr/>
            </p:nvSpPr>
            <p:spPr>
              <a:xfrm>
                <a:off x="1618920" y="278136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1618920" y="361944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47640" y="343044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47640" y="354816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 txBox="1"/>
            <p:nvPr/>
          </p:nvSpPr>
          <p:spPr>
            <a:xfrm>
              <a:off x="250920" y="2565360"/>
              <a:ext cx="3816360" cy="1270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71687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0066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Гомозиготная особь</a:t>
              </a:r>
              <a:endParaRPr b="0" lang="en-US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932360" y="2421000"/>
            <a:ext cx="4032360" cy="1774800"/>
            <a:chOff x="4932360" y="2421000"/>
            <a:chExt cx="4032360" cy="1774800"/>
          </a:xfrm>
        </p:grpSpPr>
        <p:grpSp>
          <p:nvGrpSpPr>
            <p:cNvPr id="490" name=""/>
            <p:cNvGrpSpPr/>
            <p:nvPr/>
          </p:nvGrpSpPr>
          <p:grpSpPr>
            <a:xfrm>
              <a:off x="6732720" y="2781360"/>
              <a:ext cx="647640" cy="1388520"/>
              <a:chOff x="6732720" y="2781360"/>
              <a:chExt cx="647640" cy="1388520"/>
            </a:xfrm>
          </p:grpSpPr>
          <p:sp>
            <p:nvSpPr>
              <p:cNvPr id="491" name=""/>
              <p:cNvSpPr txBox="1"/>
              <p:nvPr/>
            </p:nvSpPr>
            <p:spPr>
              <a:xfrm>
                <a:off x="6804360" y="2781360"/>
                <a:ext cx="522000" cy="52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32720" y="342864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32720" y="357300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>
                <a:off x="6877080" y="364608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495" name=""/>
            <p:cNvSpPr txBox="1"/>
            <p:nvPr/>
          </p:nvSpPr>
          <p:spPr>
            <a:xfrm>
              <a:off x="4932360" y="2421000"/>
              <a:ext cx="4032360" cy="177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203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99"/>
                    </a:solidFill>
                    <a:miter/>
                  </a:ln>
                  <a:gradFill rotWithShape="0">
                    <a:gsLst>
                      <a:gs pos="0">
                        <a:srgbClr val="66ccff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latin typeface="Arial"/>
                </a:rPr>
                <a:t>Гетерозиготная особь</a:t>
              </a:r>
              <a:endParaRPr b="0" lang="en-US" sz="1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79280" y="4437000"/>
            <a:ext cx="3961080" cy="22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Дает га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одинако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88000" y="4437000"/>
            <a:ext cx="3960720" cy="22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Дает га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раз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403280" y="0"/>
            <a:ext cx="7740720" cy="1164960"/>
            <a:chOff x="1403280" y="0"/>
            <a:chExt cx="7740720" cy="1164960"/>
          </a:xfrm>
        </p:grpSpPr>
        <p:sp>
          <p:nvSpPr>
            <p:cNvPr id="499" name=""/>
            <p:cNvSpPr/>
            <p:nvPr/>
          </p:nvSpPr>
          <p:spPr>
            <a:xfrm>
              <a:off x="1403280" y="404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981800" y="189000"/>
              <a:ext cx="420840" cy="945360"/>
              <a:chOff x="1981800" y="189000"/>
              <a:chExt cx="420840" cy="94536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071440" y="603000"/>
                <a:ext cx="217440" cy="71280"/>
                <a:chOff x="2071440" y="603000"/>
                <a:chExt cx="217440" cy="7128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071440" y="60300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071440" y="67428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1981800" y="18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2320" y="67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2484360" y="260280"/>
              <a:ext cx="647640" cy="62568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35280" y="404640"/>
              <a:ext cx="50508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720" y="33336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40720" y="404640"/>
              <a:ext cx="50472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718160" y="189000"/>
              <a:ext cx="437040" cy="975960"/>
              <a:chOff x="4718160" y="189000"/>
              <a:chExt cx="437040" cy="975960"/>
            </a:xfrm>
          </p:grpSpPr>
          <p:sp>
            <p:nvSpPr>
              <p:cNvPr id="511" name=""/>
              <p:cNvSpPr/>
              <p:nvPr/>
            </p:nvSpPr>
            <p:spPr>
              <a:xfrm>
                <a:off x="4718520" y="189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18160" y="644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4789440" y="644400"/>
                <a:ext cx="286920" cy="70920"/>
                <a:chOff x="4789440" y="644400"/>
                <a:chExt cx="286920" cy="709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789440" y="644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789440" y="7153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8173080" y="0"/>
              <a:ext cx="406440" cy="941760"/>
              <a:chOff x="8173080" y="0"/>
              <a:chExt cx="406440" cy="94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8174160" y="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173080" y="3603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8251200" y="432000"/>
                <a:ext cx="234360" cy="71280"/>
                <a:chOff x="8251200" y="432000"/>
                <a:chExt cx="234360" cy="712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8251200" y="432000"/>
                  <a:ext cx="23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251200" y="503280"/>
                  <a:ext cx="23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2" name=""/>
            <p:cNvSpPr/>
            <p:nvPr/>
          </p:nvSpPr>
          <p:spPr>
            <a:xfrm>
              <a:off x="2485440" y="3333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45280" y="351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37760" y="189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92720" y="260280"/>
              <a:ext cx="719280" cy="64944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04360" y="189000"/>
              <a:ext cx="539640" cy="50328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79280" y="189000"/>
            <a:ext cx="549360" cy="839160"/>
            <a:chOff x="179280" y="189000"/>
            <a:chExt cx="549360" cy="839160"/>
          </a:xfrm>
        </p:grpSpPr>
        <p:sp>
          <p:nvSpPr>
            <p:cNvPr id="528" name=""/>
            <p:cNvSpPr txBox="1"/>
            <p:nvPr/>
          </p:nvSpPr>
          <p:spPr>
            <a:xfrm rot="5400000">
              <a:off x="132120" y="235440"/>
              <a:ext cx="642960" cy="549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8000" y="568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771640" y="1484280"/>
            <a:ext cx="863640" cy="739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9280" y="189000"/>
            <a:ext cx="86425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ffff"/>
                    </a:gs>
                    <a:gs pos="100000">
                      <a:srgbClr val="00ff00"/>
                    </a:gs>
                  </a:gsLst>
                  <a:lin ang="13500000"/>
                </a:gradFill>
                <a:effectLst>
                  <a:outerShdw dist="91658" dir="18217660" blurRad="0" rotWithShape="0">
                    <a:srgbClr val="ff00ff"/>
                  </a:outerShdw>
                </a:effectLst>
                <a:latin typeface="Impact"/>
              </a:rPr>
              <a:t>Правило чистоты гамет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ffff"/>
                  </a:gs>
                  <a:gs pos="100000">
                    <a:srgbClr val="00ff00"/>
                  </a:gs>
                </a:gsLst>
                <a:lin ang="13500000"/>
              </a:gradFill>
              <a:effectLst>
                <a:outerShdw dist="91658" dir="18217660" blurRad="0" rotWithShape="0">
                  <a:srgbClr val="ff00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140360" y="4076640"/>
            <a:ext cx="549360" cy="839160"/>
            <a:chOff x="4140360" y="4076640"/>
            <a:chExt cx="549360" cy="839160"/>
          </a:xfrm>
        </p:grpSpPr>
        <p:sp>
          <p:nvSpPr>
            <p:cNvPr id="533" name=""/>
            <p:cNvSpPr txBox="1"/>
            <p:nvPr/>
          </p:nvSpPr>
          <p:spPr>
            <a:xfrm rot="5400000">
              <a:off x="4093560" y="4123440"/>
              <a:ext cx="642960" cy="549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9080" y="445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39280" y="1773360"/>
            <a:ext cx="549000" cy="839160"/>
            <a:chOff x="539280" y="1773360"/>
            <a:chExt cx="549000" cy="839160"/>
          </a:xfrm>
        </p:grpSpPr>
        <p:sp>
          <p:nvSpPr>
            <p:cNvPr id="536" name=""/>
            <p:cNvSpPr txBox="1"/>
            <p:nvPr/>
          </p:nvSpPr>
          <p:spPr>
            <a:xfrm rot="5400000">
              <a:off x="492120" y="1820160"/>
              <a:ext cx="642960" cy="549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8000" y="215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1624320" cy="1699920"/>
          </a:xfrm>
          <a:prstGeom prst="rect">
            <a:avLst/>
          </a:prstGeom>
          <a:ln w="0">
            <a:noFill/>
          </a:ln>
        </p:spPr>
      </p:pic>
      <p:grpSp>
        <p:nvGrpSpPr>
          <p:cNvPr id="539" name=""/>
          <p:cNvGrpSpPr/>
          <p:nvPr/>
        </p:nvGrpSpPr>
        <p:grpSpPr>
          <a:xfrm>
            <a:off x="2124000" y="2492280"/>
            <a:ext cx="647640" cy="647640"/>
            <a:chOff x="2124000" y="2492280"/>
            <a:chExt cx="647640" cy="647640"/>
          </a:xfrm>
        </p:grpSpPr>
        <p:sp>
          <p:nvSpPr>
            <p:cNvPr id="540" name=""/>
            <p:cNvSpPr txBox="1"/>
            <p:nvPr/>
          </p:nvSpPr>
          <p:spPr>
            <a:xfrm>
              <a:off x="2195280" y="249228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24000" y="31399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419640" y="2565360"/>
            <a:ext cx="647640" cy="647640"/>
            <a:chOff x="3419640" y="2565360"/>
            <a:chExt cx="647640" cy="647640"/>
          </a:xfrm>
        </p:grpSpPr>
        <p:sp>
          <p:nvSpPr>
            <p:cNvPr id="543" name=""/>
            <p:cNvSpPr/>
            <p:nvPr/>
          </p:nvSpPr>
          <p:spPr>
            <a:xfrm>
              <a:off x="3419640" y="3213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3564000" y="256536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7596360" y="4437000"/>
            <a:ext cx="863280" cy="739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771640" y="1484280"/>
            <a:ext cx="865440" cy="73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4508640"/>
            <a:ext cx="865080" cy="73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348000" y="5516640"/>
            <a:ext cx="44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51280" y="5516640"/>
            <a:ext cx="265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мешиваются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50920" y="5445000"/>
            <a:ext cx="647640" cy="647640"/>
            <a:chOff x="250920" y="5445000"/>
            <a:chExt cx="647640" cy="647640"/>
          </a:xfrm>
        </p:grpSpPr>
        <p:sp>
          <p:nvSpPr>
            <p:cNvPr id="551" name=""/>
            <p:cNvSpPr txBox="1"/>
            <p:nvPr/>
          </p:nvSpPr>
          <p:spPr>
            <a:xfrm>
              <a:off x="322200" y="544500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0920" y="6092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8317080" y="5373720"/>
            <a:ext cx="647640" cy="647640"/>
            <a:chOff x="8317080" y="5373720"/>
            <a:chExt cx="647640" cy="647640"/>
          </a:xfrm>
        </p:grpSpPr>
        <p:sp>
          <p:nvSpPr>
            <p:cNvPr id="554" name=""/>
            <p:cNvSpPr/>
            <p:nvPr/>
          </p:nvSpPr>
          <p:spPr>
            <a:xfrm>
              <a:off x="8317080" y="602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8461440" y="537372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56" name=""/>
          <p:cNvSpPr txBox="1"/>
          <p:nvPr/>
        </p:nvSpPr>
        <p:spPr>
          <a:xfrm>
            <a:off x="3348000" y="5516640"/>
            <a:ext cx="44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08663 2.59259E-006 E">
                                      <p:cBhvr>
                                        <p:cTn id="842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5.92593E-006 L 0.07883 -5.92593E-006 E">
                                      <p:cBhvr>
                                        <p:cTn id="844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139 L -0.13386 0.00903 E">
                                      <p:cBhvr>
                                        <p:cTn id="846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09462 -1.11111E-006 E">
                                      <p:cBhvr>
                                        <p:cTn id="848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-0.15747 1.48148E-006 E">
                                      <p:cBhvr>
                                        <p:cTn id="895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12605 4.81481E-006 E">
                                      <p:cBhvr>
                                        <p:cTn id="897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4000" y="1125360"/>
            <a:ext cx="8640720" cy="55436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95280" y="189000"/>
            <a:ext cx="468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у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560" name=""/>
          <p:cNvGrpSpPr/>
          <p:nvPr/>
        </p:nvGrpSpPr>
        <p:grpSpPr>
          <a:xfrm>
            <a:off x="403920" y="1197000"/>
            <a:ext cx="8622000" cy="3943800"/>
            <a:chOff x="403920" y="1197000"/>
            <a:chExt cx="8622000" cy="3943800"/>
          </a:xfrm>
        </p:grpSpPr>
        <p:sp>
          <p:nvSpPr>
            <p:cNvPr id="561" name=""/>
            <p:cNvSpPr/>
            <p:nvPr/>
          </p:nvSpPr>
          <p:spPr>
            <a:xfrm>
              <a:off x="978480" y="1197000"/>
              <a:ext cx="4400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Гомозиготную черну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крольчиху скрестили 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3920" y="2060640"/>
              <a:ext cx="86220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гомозиготным белым кролико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а)Определите генотипы и фенотип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крольчат первого поколен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б)Произойдет ли расщепление гибридног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потомства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в)Какие законы и правила Менделя здес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проявляются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37040" y="5103720"/>
            <a:ext cx="724284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вет:  а)Аа(черные)         б)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)закон единообрази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и прав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оминирования, гипотеза чи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аме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500"/>
                            </p:stCondLst>
                            <p:childTnLst>
                              <p:par>
                                <p:cTn id="917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71640" y="189000"/>
            <a:ext cx="734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33ccff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нет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33ccff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564000" y="1773360"/>
            <a:ext cx="2016000" cy="4321080"/>
            <a:chOff x="3564000" y="1773360"/>
            <a:chExt cx="2016000" cy="4321080"/>
          </a:xfrm>
        </p:grpSpPr>
        <p:sp>
          <p:nvSpPr>
            <p:cNvPr id="47" name=""/>
            <p:cNvSpPr/>
            <p:nvPr/>
          </p:nvSpPr>
          <p:spPr>
            <a:xfrm>
              <a:off x="3635280" y="1773360"/>
              <a:ext cx="1871640" cy="43210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ff66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64000" y="2997360"/>
              <a:ext cx="2016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Д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основ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свой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организ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75000">
            <a:off x="5364000" y="2060640"/>
            <a:ext cx="1052640" cy="79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9460400">
            <a:off x="2771640" y="2060280"/>
            <a:ext cx="1008360" cy="7668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95280" y="1413000"/>
            <a:ext cx="2611440" cy="1315800"/>
            <a:chOff x="395280" y="1413000"/>
            <a:chExt cx="2611440" cy="131580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395280" y="1557360"/>
              <a:ext cx="117144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1692360" y="1413000"/>
              <a:ext cx="1314360" cy="13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6372360" y="1700280"/>
            <a:ext cx="2538360" cy="1314360"/>
            <a:chOff x="6372360" y="1700280"/>
            <a:chExt cx="2538360" cy="1314360"/>
          </a:xfrm>
        </p:grpSpPr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6372360" y="1700280"/>
              <a:ext cx="13143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7596360" y="1700280"/>
              <a:ext cx="1314360" cy="131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 txBox="1"/>
          <p:nvPr/>
        </p:nvSpPr>
        <p:spPr>
          <a:xfrm>
            <a:off x="5867280" y="3716280"/>
            <a:ext cx="273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50000">
                      <a:srgbClr val="00ffff"/>
                    </a:gs>
                    <a:gs pos="100000">
                      <a:srgbClr val="99ff33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006600">
                      <a:alpha val="80000"/>
                    </a:srgbClr>
                  </a:outerShdw>
                </a:effectLst>
                <a:latin typeface="Times New Roman"/>
              </a:rPr>
              <a:t>наследственность</a:t>
            </a:r>
            <a:endParaRPr b="0" lang="en-US" sz="1800" spc="1" strike="noStrike">
              <a:ln w="1260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50000">
                    <a:srgbClr val="00ffff"/>
                  </a:gs>
                  <a:gs pos="100000">
                    <a:srgbClr val="99ff33"/>
                  </a:gs>
                </a:gsLst>
                <a:lin ang="8100000"/>
              </a:gradFill>
              <a:effectLst>
                <a:outerShdw dist="153753" dir="2700000" blurRad="0" rotWithShape="0">
                  <a:srgbClr val="0066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920" y="3429000"/>
            <a:ext cx="3313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33cc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488755" dir="16739016" blurRad="0" rotWithShape="0">
                    <a:srgbClr val="990099"/>
                  </a:outerShdw>
                </a:effectLst>
                <a:latin typeface="Impact"/>
              </a:rPr>
              <a:t>изменчив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33cc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488755" dir="16739016" blurRad="0" rotWithShape="0">
                  <a:srgbClr val="99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508640"/>
            <a:ext cx="39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Неотъемлемое св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организмов передавать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размножении информацию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своих признаках и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развития потом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280" y="4456080"/>
            <a:ext cx="34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Это от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нестабильного с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наследственных свой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0"/>
            <a:ext cx="84978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339966"/>
                    </a:gs>
                  </a:gsLst>
                  <a:lin ang="10800000"/>
                </a:gradFill>
                <a:latin typeface="Impact"/>
              </a:rPr>
              <a:t>Гибридологический метод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339966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624400" y="1197000"/>
            <a:ext cx="4257360" cy="686160"/>
            <a:chOff x="2624400" y="1197000"/>
            <a:chExt cx="4257360" cy="686160"/>
          </a:xfrm>
        </p:grpSpPr>
        <p:sp>
          <p:nvSpPr>
            <p:cNvPr id="63" name=""/>
            <p:cNvSpPr/>
            <p:nvPr/>
          </p:nvSpPr>
          <p:spPr>
            <a:xfrm>
              <a:off x="3852360" y="1197000"/>
              <a:ext cx="164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Разработ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24400" y="1484280"/>
              <a:ext cx="425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Грегором Менделем в 1865 го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755640" y="2276640"/>
            <a:ext cx="705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66">
                      <a:alpha val="80000"/>
                    </a:srgbClr>
                  </a:outerShdw>
                </a:effectLst>
                <a:latin typeface="Times New Roman"/>
              </a:rPr>
              <a:t>Особенности гибридологического метода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66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79280" y="2727720"/>
            <a:ext cx="2305080" cy="3840480"/>
            <a:chOff x="179280" y="2727720"/>
            <a:chExt cx="2305080" cy="3840480"/>
          </a:xfrm>
        </p:grpSpPr>
        <p:grpSp>
          <p:nvGrpSpPr>
            <p:cNvPr id="67" name=""/>
            <p:cNvGrpSpPr/>
            <p:nvPr/>
          </p:nvGrpSpPr>
          <p:grpSpPr>
            <a:xfrm>
              <a:off x="179280" y="3933720"/>
              <a:ext cx="2305080" cy="2634480"/>
              <a:chOff x="179280" y="3933720"/>
              <a:chExt cx="2305080" cy="2634480"/>
            </a:xfrm>
          </p:grpSpPr>
          <p:sp>
            <p:nvSpPr>
              <p:cNvPr id="68" name=""/>
              <p:cNvSpPr/>
              <p:nvPr/>
            </p:nvSpPr>
            <p:spPr>
              <a:xfrm>
                <a:off x="179280" y="3933720"/>
                <a:ext cx="2016360" cy="2592360"/>
              </a:xfrm>
              <a:custGeom>
                <a:avLst/>
                <a:gdLst>
                  <a:gd name="textAreaLeft" fmla="*/ 98280 w 2016360"/>
                  <a:gd name="textAreaRight" fmla="*/ 1918080 w 2016360"/>
                  <a:gd name="textAreaTop" fmla="*/ 98280 h 2592360"/>
                  <a:gd name="textAreaBottom" fmla="*/ 2494080 h 2592360"/>
                </a:gdLst>
                <a:ahLst/>
                <a:rect l="textAreaLeft" t="textAreaTop" r="textAreaRight" b="textAreaBottom"/>
                <a:pathLst>
                  <a:path w="21600" h="27769">
                    <a:moveTo>
                      <a:pt x="3600" y="0"/>
                    </a:moveTo>
                    <a:arcTo wR="3600" hR="3600" stAng="16200000" swAng="-5400000"/>
                    <a:lnTo>
                      <a:pt x="0" y="24169"/>
                    </a:lnTo>
                    <a:arcTo wR="3600" hR="3600" stAng="10800000" swAng="-5400000"/>
                    <a:lnTo>
                      <a:pt x="18000" y="277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50000">
                    <a:srgbClr val="ff9966"/>
                  </a:gs>
                  <a:gs pos="100000">
                    <a:srgbClr val="ffff9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4000" y="4005360"/>
                <a:ext cx="216036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6600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Получение в течение нескольких поколений константных форм, котор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в дальнейшем подвергаются скрещиванию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rot="7386600">
              <a:off x="1086120" y="3026160"/>
              <a:ext cx="976320" cy="4856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898" y="0"/>
                  </a:lnTo>
                  <a:lnTo>
                    <a:pt x="21600" y="10800"/>
                  </a:lnTo>
                  <a:lnTo>
                    <a:pt x="9898" y="21600"/>
                  </a:lnTo>
                  <a:lnTo>
                    <a:pt x="0" y="21600"/>
                  </a:lnTo>
                  <a:lnTo>
                    <a:pt x="1170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100000">
                  <a:srgbClr val="ff9966"/>
                </a:gs>
              </a:gsLst>
              <a:lin ang="1961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340000" y="2797560"/>
            <a:ext cx="2016000" cy="3871440"/>
            <a:chOff x="2340000" y="2797560"/>
            <a:chExt cx="2016000" cy="3871440"/>
          </a:xfrm>
        </p:grpSpPr>
        <p:grpSp>
          <p:nvGrpSpPr>
            <p:cNvPr id="72" name=""/>
            <p:cNvGrpSpPr/>
            <p:nvPr/>
          </p:nvGrpSpPr>
          <p:grpSpPr>
            <a:xfrm>
              <a:off x="2340000" y="3933720"/>
              <a:ext cx="2016000" cy="2735280"/>
              <a:chOff x="2340000" y="3933720"/>
              <a:chExt cx="2016000" cy="2735280"/>
            </a:xfrm>
          </p:grpSpPr>
          <p:sp>
            <p:nvSpPr>
              <p:cNvPr id="73" name=""/>
              <p:cNvSpPr/>
              <p:nvPr/>
            </p:nvSpPr>
            <p:spPr>
              <a:xfrm>
                <a:off x="2340000" y="3933720"/>
                <a:ext cx="2016000" cy="2735280"/>
              </a:xfrm>
              <a:custGeom>
                <a:avLst/>
                <a:gdLst>
                  <a:gd name="textAreaLeft" fmla="*/ 98280 w 2016000"/>
                  <a:gd name="textAreaRight" fmla="*/ 1917720 w 2016000"/>
                  <a:gd name="textAreaTop" fmla="*/ 98280 h 2735280"/>
                  <a:gd name="textAreaBottom" fmla="*/ 2637000 h 2735280"/>
                </a:gdLst>
                <a:ahLst/>
                <a:rect l="textAreaLeft" t="textAreaTop" r="textAreaRight" b="textAreaBottom"/>
                <a:pathLst>
                  <a:path w="21600" h="29305">
                    <a:moveTo>
                      <a:pt x="3600" y="0"/>
                    </a:moveTo>
                    <a:arcTo wR="3600" hR="3600" stAng="16200000" swAng="-5400000"/>
                    <a:lnTo>
                      <a:pt x="0" y="25705"/>
                    </a:lnTo>
                    <a:arcTo wR="3600" hR="3600" stAng="10800000" swAng="-5400000"/>
                    <a:lnTo>
                      <a:pt x="18000" y="293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50000">
                    <a:srgbClr val="ff9966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40000" y="4005360"/>
                <a:ext cx="187164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6600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Анализ наследования пар признаков в потомстве скрещивания особе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одного вида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rot="6687600">
              <a:off x="3030840" y="3097800"/>
              <a:ext cx="976320" cy="4856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898" y="0"/>
                  </a:lnTo>
                  <a:lnTo>
                    <a:pt x="21600" y="10800"/>
                  </a:lnTo>
                  <a:lnTo>
                    <a:pt x="9898" y="21600"/>
                  </a:lnTo>
                  <a:lnTo>
                    <a:pt x="0" y="21600"/>
                  </a:lnTo>
                  <a:lnTo>
                    <a:pt x="1170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100000">
                  <a:srgbClr val="ff9966"/>
                </a:gs>
              </a:gsLst>
              <a:lin ang="2031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27640" y="2766240"/>
            <a:ext cx="2233440" cy="3759840"/>
            <a:chOff x="4427640" y="2766240"/>
            <a:chExt cx="2233440" cy="3759840"/>
          </a:xfrm>
        </p:grpSpPr>
        <p:grpSp>
          <p:nvGrpSpPr>
            <p:cNvPr id="77" name=""/>
            <p:cNvGrpSpPr/>
            <p:nvPr/>
          </p:nvGrpSpPr>
          <p:grpSpPr>
            <a:xfrm>
              <a:off x="4427640" y="3933720"/>
              <a:ext cx="2233440" cy="2592360"/>
              <a:chOff x="4427640" y="3933720"/>
              <a:chExt cx="2233440" cy="2592360"/>
            </a:xfrm>
          </p:grpSpPr>
          <p:sp>
            <p:nvSpPr>
              <p:cNvPr id="78" name=""/>
              <p:cNvSpPr/>
              <p:nvPr/>
            </p:nvSpPr>
            <p:spPr>
              <a:xfrm>
                <a:off x="4427640" y="3933720"/>
                <a:ext cx="2233440" cy="2592360"/>
              </a:xfrm>
              <a:custGeom>
                <a:avLst/>
                <a:gdLst>
                  <a:gd name="textAreaLeft" fmla="*/ 108720 w 2233440"/>
                  <a:gd name="textAreaRight" fmla="*/ 2124720 w 2233440"/>
                  <a:gd name="textAreaTop" fmla="*/ 108720 h 2592360"/>
                  <a:gd name="textAreaBottom" fmla="*/ 2483640 h 2592360"/>
                </a:gdLst>
                <a:ahLst/>
                <a:rect l="textAreaLeft" t="textAreaTop" r="textAreaRight" b="textAreaBottom"/>
                <a:pathLst>
                  <a:path w="21600" h="25071">
                    <a:moveTo>
                      <a:pt x="3600" y="0"/>
                    </a:moveTo>
                    <a:arcTo wR="3600" hR="3600" stAng="16200000" swAng="-5400000"/>
                    <a:lnTo>
                      <a:pt x="0" y="21471"/>
                    </a:lnTo>
                    <a:arcTo wR="3600" hR="3600" stAng="10800000" swAng="-5400000"/>
                    <a:lnTo>
                      <a:pt x="18000" y="250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50000">
                    <a:srgbClr val="ff9966"/>
                  </a:gs>
                  <a:gs pos="100000">
                    <a:srgbClr val="ffff9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27640" y="3933720"/>
                <a:ext cx="21603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6600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Использование количественного учета гибридных особей, различных по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отдельным парам признаков</a:t>
                </a:r>
                <a:r>
                  <a:rPr b="0" lang="en-US" sz="1800" spc="-1" strike="noStrike">
                    <a:solidFill>
                      <a:srgbClr val="660033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rot="3994200">
              <a:off x="5004000" y="3067560"/>
              <a:ext cx="976320" cy="4856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898" y="0"/>
                  </a:lnTo>
                  <a:lnTo>
                    <a:pt x="21600" y="10800"/>
                  </a:lnTo>
                  <a:lnTo>
                    <a:pt x="9898" y="21600"/>
                  </a:lnTo>
                  <a:lnTo>
                    <a:pt x="0" y="21600"/>
                  </a:lnTo>
                  <a:lnTo>
                    <a:pt x="1170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cc0099"/>
                </a:gs>
              </a:gsLst>
              <a:lin ang="140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732720" y="2724840"/>
            <a:ext cx="2266920" cy="3729960"/>
            <a:chOff x="6732720" y="2724840"/>
            <a:chExt cx="2266920" cy="3729960"/>
          </a:xfrm>
        </p:grpSpPr>
        <p:grpSp>
          <p:nvGrpSpPr>
            <p:cNvPr id="82" name=""/>
            <p:cNvGrpSpPr/>
            <p:nvPr/>
          </p:nvGrpSpPr>
          <p:grpSpPr>
            <a:xfrm>
              <a:off x="6732720" y="3933720"/>
              <a:ext cx="2266920" cy="2521080"/>
              <a:chOff x="6732720" y="3933720"/>
              <a:chExt cx="2266920" cy="2521080"/>
            </a:xfrm>
          </p:grpSpPr>
          <p:sp>
            <p:nvSpPr>
              <p:cNvPr id="83" name=""/>
              <p:cNvSpPr/>
              <p:nvPr/>
            </p:nvSpPr>
            <p:spPr>
              <a:xfrm>
                <a:off x="6732720" y="3933720"/>
                <a:ext cx="2266920" cy="2521080"/>
              </a:xfrm>
              <a:custGeom>
                <a:avLst/>
                <a:gdLst>
                  <a:gd name="textAreaLeft" fmla="*/ 110520 w 2266920"/>
                  <a:gd name="textAreaRight" fmla="*/ 2156400 w 2266920"/>
                  <a:gd name="textAreaTop" fmla="*/ 110520 h 2521080"/>
                  <a:gd name="textAreaBottom" fmla="*/ 2410560 h 2521080"/>
                </a:gdLst>
                <a:ahLst/>
                <a:rect l="textAreaLeft" t="textAreaTop" r="textAreaRight" b="textAreaBottom"/>
                <a:pathLst>
                  <a:path w="21600" h="24021">
                    <a:moveTo>
                      <a:pt x="3600" y="0"/>
                    </a:moveTo>
                    <a:arcTo wR="3600" hR="3600" stAng="16200000" swAng="-5400000"/>
                    <a:lnTo>
                      <a:pt x="0" y="20421"/>
                    </a:lnTo>
                    <a:arcTo wR="3600" hR="3600" stAng="10800000" swAng="-5400000"/>
                    <a:lnTo>
                      <a:pt x="18000" y="240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50000">
                    <a:srgbClr val="ff9966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3933720"/>
                <a:ext cx="20192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6600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Индивидуаль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ный анали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потомства 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каждой гибрид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ной особи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3636600">
              <a:off x="7206120" y="3026160"/>
              <a:ext cx="976320" cy="4860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898" y="0"/>
                  </a:lnTo>
                  <a:lnTo>
                    <a:pt x="21600" y="10800"/>
                  </a:lnTo>
                  <a:lnTo>
                    <a:pt x="9898" y="21600"/>
                  </a:lnTo>
                  <a:lnTo>
                    <a:pt x="0" y="21600"/>
                  </a:lnTo>
                  <a:lnTo>
                    <a:pt x="1170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cc0099"/>
                </a:gs>
              </a:gsLst>
              <a:lin ang="176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20" y="0"/>
            <a:ext cx="856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99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записи скрещивания</a:t>
            </a:r>
            <a:endParaRPr b="0" lang="en-US" sz="1800" spc="1" strike="noStrike">
              <a:ln w="9360">
                <a:solidFill>
                  <a:srgbClr val="00ff99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1873080" cy="13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24000" y="2852640"/>
            <a:ext cx="1019160" cy="115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556000" y="2852640"/>
            <a:ext cx="803160" cy="1150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596360" y="98100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5867280" y="981000"/>
            <a:ext cx="9921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3276720" y="4944960"/>
            <a:ext cx="2117520" cy="1913040"/>
            <a:chOff x="3276720" y="4944960"/>
            <a:chExt cx="2117520" cy="1913040"/>
          </a:xfrm>
        </p:grpSpPr>
        <p:pic>
          <p:nvPicPr>
            <p:cNvPr id="93" name="" descr=""/>
            <p:cNvPicPr/>
            <p:nvPr/>
          </p:nvPicPr>
          <p:blipFill>
            <a:blip r:embed="rId9"/>
            <a:stretch/>
          </p:blipFill>
          <p:spPr>
            <a:xfrm>
              <a:off x="3349800" y="6024600"/>
              <a:ext cx="10951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0"/>
            <a:stretch/>
          </p:blipFill>
          <p:spPr>
            <a:xfrm>
              <a:off x="4861080" y="5089320"/>
              <a:ext cx="53316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1"/>
            <a:stretch/>
          </p:blipFill>
          <p:spPr>
            <a:xfrm>
              <a:off x="4500720" y="5952960"/>
              <a:ext cx="41904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2"/>
            <a:stretch/>
          </p:blipFill>
          <p:spPr>
            <a:xfrm>
              <a:off x="3276720" y="5089320"/>
              <a:ext cx="6382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3"/>
            <a:stretch/>
          </p:blipFill>
          <p:spPr>
            <a:xfrm>
              <a:off x="3925800" y="4944960"/>
              <a:ext cx="87660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539640" y="3860640"/>
            <a:ext cx="2881440" cy="1203120"/>
            <a:chOff x="539640" y="3860640"/>
            <a:chExt cx="2881440" cy="1203120"/>
          </a:xfrm>
        </p:grpSpPr>
        <p:sp>
          <p:nvSpPr>
            <p:cNvPr id="99" name=""/>
            <p:cNvSpPr/>
            <p:nvPr/>
          </p:nvSpPr>
          <p:spPr>
            <a:xfrm>
              <a:off x="539640" y="3860640"/>
              <a:ext cx="2881440" cy="120312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505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116000" y="4076280"/>
              <a:ext cx="288720" cy="576360"/>
              <a:chOff x="1116000" y="4076280"/>
              <a:chExt cx="288720" cy="576360"/>
            </a:xfrm>
          </p:grpSpPr>
          <p:sp>
            <p:nvSpPr>
              <p:cNvPr id="101" name=""/>
              <p:cNvSpPr/>
              <p:nvPr/>
            </p:nvSpPr>
            <p:spPr>
              <a:xfrm>
                <a:off x="1260360" y="436356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1116000" y="4076280"/>
                <a:ext cx="288720" cy="431640"/>
                <a:chOff x="1116000" y="4076280"/>
                <a:chExt cx="288720" cy="431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116000" y="407628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116000" y="450792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1188360" y="4581360"/>
              <a:ext cx="190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Женская особ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197000"/>
            <a:ext cx="2089080" cy="1224000"/>
            <a:chOff x="3132000" y="1197000"/>
            <a:chExt cx="2089080" cy="1224000"/>
          </a:xfrm>
        </p:grpSpPr>
        <p:sp>
          <p:nvSpPr>
            <p:cNvPr id="107" name=""/>
            <p:cNvSpPr/>
            <p:nvPr/>
          </p:nvSpPr>
          <p:spPr>
            <a:xfrm>
              <a:off x="3132000" y="1197000"/>
              <a:ext cx="2089080" cy="1224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66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3741480" y="1339920"/>
              <a:ext cx="3301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5724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153753" dir="2700000" blurRad="0" rotWithShape="0">
                      <a:srgbClr val="ff66ff">
                        <a:alpha val="50000"/>
                      </a:srgbClr>
                    </a:outerShdw>
                  </a:effectLst>
                  <a:latin typeface="Arial"/>
                </a:rPr>
                <a:t>р</a:t>
              </a:r>
              <a:endPara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53753" dir="2700000" blurRad="0" rotWithShape="0">
                    <a:srgbClr val="ff66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95520" y="1916280"/>
              <a:ext cx="1280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66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543480" y="2816280"/>
            <a:ext cx="3063600" cy="1852200"/>
            <a:chOff x="3543480" y="2816280"/>
            <a:chExt cx="3063600" cy="1852200"/>
          </a:xfrm>
        </p:grpSpPr>
        <p:sp>
          <p:nvSpPr>
            <p:cNvPr id="111" name=""/>
            <p:cNvSpPr/>
            <p:nvPr/>
          </p:nvSpPr>
          <p:spPr>
            <a:xfrm rot="20583600">
              <a:off x="3635280" y="3212640"/>
              <a:ext cx="2880000" cy="10591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9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66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583600">
              <a:off x="3996000" y="3509640"/>
              <a:ext cx="20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Х-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крещ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92720" y="5229360"/>
            <a:ext cx="3311640" cy="981000"/>
            <a:chOff x="5292720" y="5229360"/>
            <a:chExt cx="3311640" cy="981000"/>
          </a:xfrm>
        </p:grpSpPr>
        <p:sp>
          <p:nvSpPr>
            <p:cNvPr id="114" name=""/>
            <p:cNvSpPr/>
            <p:nvPr/>
          </p:nvSpPr>
          <p:spPr>
            <a:xfrm>
              <a:off x="5292720" y="5229360"/>
              <a:ext cx="3311640" cy="9810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5680" y="5229360"/>
              <a:ext cx="51156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57680" y="5229360"/>
              <a:ext cx="51156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89320" y="5229360"/>
              <a:ext cx="51156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320" y="5229360"/>
              <a:ext cx="51156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83240" y="5661000"/>
              <a:ext cx="26967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ибридное поко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68360" y="5516640"/>
            <a:ext cx="2305080" cy="914400"/>
            <a:chOff x="468360" y="5516640"/>
            <a:chExt cx="2305080" cy="914400"/>
          </a:xfrm>
        </p:grpSpPr>
        <p:sp>
          <p:nvSpPr>
            <p:cNvPr id="121" name=""/>
            <p:cNvSpPr/>
            <p:nvPr/>
          </p:nvSpPr>
          <p:spPr>
            <a:xfrm>
              <a:off x="468360" y="5516640"/>
              <a:ext cx="2305080" cy="9144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33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6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3600" y="5805720"/>
              <a:ext cx="12690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 - гам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796000" y="2133720"/>
            <a:ext cx="2809800" cy="914400"/>
            <a:chOff x="5796000" y="2133720"/>
            <a:chExt cx="2809800" cy="914400"/>
          </a:xfrm>
        </p:grpSpPr>
        <p:sp>
          <p:nvSpPr>
            <p:cNvPr id="124" name=""/>
            <p:cNvSpPr/>
            <p:nvPr/>
          </p:nvSpPr>
          <p:spPr>
            <a:xfrm>
              <a:off x="5796000" y="2133720"/>
              <a:ext cx="2809800" cy="914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8160" y="2494080"/>
              <a:ext cx="19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ужская особ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54560" y="2349360"/>
              <a:ext cx="504000" cy="505080"/>
              <a:chOff x="6154560" y="2349360"/>
              <a:chExt cx="504000" cy="505080"/>
            </a:xfrm>
          </p:grpSpPr>
          <p:sp>
            <p:nvSpPr>
              <p:cNvPr id="127" name=""/>
              <p:cNvSpPr/>
              <p:nvPr/>
            </p:nvSpPr>
            <p:spPr>
              <a:xfrm>
                <a:off x="6154560" y="2565720"/>
                <a:ext cx="28872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370200" y="2349360"/>
                <a:ext cx="28836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00000" y="260280"/>
            <a:ext cx="7632720" cy="144000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оногибридным называется скрещи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 котором родительские формы различаются по 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аре контрастных при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920" y="765000"/>
            <a:ext cx="7921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99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Моногибридное скрещивание</a:t>
            </a:r>
            <a:endParaRPr b="0" lang="en-US" sz="1800" spc="1" strike="noStrike">
              <a:ln w="28440">
                <a:solidFill>
                  <a:srgbClr val="0099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405000" y="2986920"/>
            <a:ext cx="649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16000" y="3357720"/>
            <a:ext cx="288720" cy="575640"/>
            <a:chOff x="1116000" y="3357720"/>
            <a:chExt cx="288720" cy="575640"/>
          </a:xfrm>
        </p:grpSpPr>
        <p:sp>
          <p:nvSpPr>
            <p:cNvPr id="133" name=""/>
            <p:cNvSpPr/>
            <p:nvPr/>
          </p:nvSpPr>
          <p:spPr>
            <a:xfrm>
              <a:off x="1260360" y="364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116000" y="3357720"/>
              <a:ext cx="288720" cy="431280"/>
              <a:chOff x="1116000" y="3357720"/>
              <a:chExt cx="288720" cy="431280"/>
            </a:xfrm>
          </p:grpSpPr>
          <p:sp>
            <p:nvSpPr>
              <p:cNvPr id="135" name=""/>
              <p:cNvSpPr/>
              <p:nvPr/>
            </p:nvSpPr>
            <p:spPr>
              <a:xfrm>
                <a:off x="1116000" y="3357720"/>
                <a:ext cx="287280" cy="288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16000" y="3789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692360" y="306864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997360"/>
            <a:ext cx="504720" cy="43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08360" y="2997000"/>
            <a:ext cx="504720" cy="505080"/>
            <a:chOff x="3708360" y="2997000"/>
            <a:chExt cx="504720" cy="505080"/>
          </a:xfrm>
        </p:grpSpPr>
        <p:sp>
          <p:nvSpPr>
            <p:cNvPr id="140" name=""/>
            <p:cNvSpPr/>
            <p:nvPr/>
          </p:nvSpPr>
          <p:spPr>
            <a:xfrm>
              <a:off x="3708360" y="3213360"/>
              <a:ext cx="289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924360" y="2997000"/>
              <a:ext cx="28872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77344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1880" y="371628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3716280"/>
            <a:ext cx="50508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3716280"/>
            <a:ext cx="504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716280"/>
            <a:ext cx="50508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3716280"/>
            <a:ext cx="504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3573360"/>
            <a:ext cx="8280360" cy="18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Arial"/>
              </a:rPr>
              <a:t>Правило домин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66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1623960" cy="1700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5805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9280" y="4960800"/>
            <a:ext cx="552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Явление преобладания у гибрида 1 пок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ризнака одного из родителей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доминиров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33280" y="5589720"/>
            <a:ext cx="2106720" cy="1074600"/>
            <a:chOff x="233280" y="5589720"/>
            <a:chExt cx="2106720" cy="1074600"/>
          </a:xfrm>
        </p:grpSpPr>
        <p:sp>
          <p:nvSpPr>
            <p:cNvPr id="153" name=""/>
            <p:cNvSpPr/>
            <p:nvPr/>
          </p:nvSpPr>
          <p:spPr>
            <a:xfrm>
              <a:off x="1692360" y="558972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3280" y="5751360"/>
              <a:ext cx="143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990033"/>
                  </a:solidFill>
                  <a:uFillTx/>
                  <a:latin typeface="Arial"/>
                </a:rPr>
                <a:t>Призна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50920" y="6093000"/>
              <a:ext cx="2089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a50021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доминантный</a:t>
              </a:r>
              <a:endParaRPr b="0" lang="en-US" sz="18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067280" y="6093000"/>
            <a:ext cx="4681440" cy="571320"/>
            <a:chOff x="4067280" y="6093000"/>
            <a:chExt cx="4681440" cy="571320"/>
          </a:xfrm>
        </p:grpSpPr>
        <p:sp>
          <p:nvSpPr>
            <p:cNvPr id="157" name=""/>
            <p:cNvSpPr/>
            <p:nvPr/>
          </p:nvSpPr>
          <p:spPr>
            <a:xfrm>
              <a:off x="4067280" y="6165720"/>
              <a:ext cx="504720" cy="43200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26000" y="6183360"/>
              <a:ext cx="14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990033"/>
                  </a:solidFill>
                  <a:uFillTx/>
                  <a:latin typeface="Arial"/>
                </a:rPr>
                <a:t>Призна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6227640" y="6093000"/>
              <a:ext cx="2521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a50021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ецессивный</a:t>
              </a:r>
              <a:endParaRPr b="0" lang="en-US" sz="18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79280" y="-243000"/>
            <a:ext cx="691200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52800" dir="5116199" blurRad="0" rotWithShape="0">
                    <a:srgbClr val="ff00ff"/>
                  </a:outerShdw>
                </a:effectLst>
                <a:latin typeface="Times New Roman"/>
              </a:rPr>
              <a:t>Алле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52800" dir="5116199" blurRad="0" rotWithShape="0">
                  <a:srgbClr val="ff00ff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16000" y="2060640"/>
            <a:ext cx="1295280" cy="1203120"/>
            <a:chOff x="1116000" y="2060640"/>
            <a:chExt cx="1295280" cy="1203120"/>
          </a:xfrm>
        </p:grpSpPr>
        <p:sp>
          <p:nvSpPr>
            <p:cNvPr id="162" name=""/>
            <p:cNvSpPr/>
            <p:nvPr/>
          </p:nvSpPr>
          <p:spPr>
            <a:xfrm>
              <a:off x="1116000" y="2060640"/>
              <a:ext cx="1295280" cy="1203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1124280" y="2701080"/>
              <a:ext cx="792360" cy="88920"/>
            </a:xfrm>
            <a:prstGeom prst="flowChartTermina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663920" y="2736000"/>
              <a:ext cx="576360" cy="88920"/>
            </a:xfrm>
            <a:prstGeom prst="flowChartTerminator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42920" y="3284640"/>
            <a:ext cx="1441440" cy="720720"/>
            <a:chOff x="1042920" y="3284640"/>
            <a:chExt cx="1441440" cy="720720"/>
          </a:xfrm>
        </p:grpSpPr>
        <p:sp>
          <p:nvSpPr>
            <p:cNvPr id="166" name=""/>
            <p:cNvSpPr/>
            <p:nvPr/>
          </p:nvSpPr>
          <p:spPr>
            <a:xfrm>
              <a:off x="1979640" y="3284640"/>
              <a:ext cx="50472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042920" y="3284640"/>
              <a:ext cx="43344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8360" y="4076640"/>
            <a:ext cx="1008000" cy="936720"/>
            <a:chOff x="468360" y="4076640"/>
            <a:chExt cx="1008000" cy="936720"/>
          </a:xfrm>
        </p:grpSpPr>
        <p:sp>
          <p:nvSpPr>
            <p:cNvPr id="169" name=""/>
            <p:cNvSpPr/>
            <p:nvPr/>
          </p:nvSpPr>
          <p:spPr>
            <a:xfrm>
              <a:off x="468360" y="4076640"/>
              <a:ext cx="1008000" cy="9367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547920" y="4501080"/>
              <a:ext cx="792000" cy="88920"/>
            </a:xfrm>
            <a:prstGeom prst="flowChartTerminator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68360" y="4005360"/>
            <a:ext cx="1008360" cy="1008000"/>
            <a:chOff x="2268360" y="4005360"/>
            <a:chExt cx="1008360" cy="1008000"/>
          </a:xfrm>
        </p:grpSpPr>
        <p:sp>
          <p:nvSpPr>
            <p:cNvPr id="172" name=""/>
            <p:cNvSpPr/>
            <p:nvPr/>
          </p:nvSpPr>
          <p:spPr>
            <a:xfrm>
              <a:off x="2268360" y="4005360"/>
              <a:ext cx="1008360" cy="100800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456280" y="4536360"/>
              <a:ext cx="576360" cy="88920"/>
            </a:xfrm>
            <a:prstGeom prst="flowChartTerminator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261440" y="50846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Га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880" y="5465880"/>
            <a:ext cx="39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ллельные гены располаг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гомологичных хромосом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следствие чего при мейозе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казываются в разных гамет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6080" y="1982880"/>
            <a:ext cx="4976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ару генов определяющ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льтернативные признаки наз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леломорфной парой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, а я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арности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ллел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ждый ген из пары назыв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ллелью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24560" y="4383000"/>
            <a:ext cx="4562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ендель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предложил обозна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следственные задатки бук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латинского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оминантный признак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Рецессивный признак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3669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727960" y="177336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тка Пен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940360" y="2421000"/>
          <a:ext cx="2976480" cy="2808360"/>
        </p:xfrm>
        <a:graphic>
          <a:graphicData uri="http://schemas.openxmlformats.org/drawingml/2006/table">
            <a:tbl>
              <a:tblPr/>
              <a:tblGrid>
                <a:gridCol w="1328760"/>
                <a:gridCol w="824040"/>
                <a:gridCol w="8236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33360" y="393372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8360" y="1773000"/>
            <a:ext cx="3240000" cy="792360"/>
            <a:chOff x="468360" y="1773000"/>
            <a:chExt cx="3240000" cy="792360"/>
          </a:xfrm>
        </p:grpSpPr>
        <p:sp>
          <p:nvSpPr>
            <p:cNvPr id="183" name=""/>
            <p:cNvSpPr txBox="1"/>
            <p:nvPr/>
          </p:nvSpPr>
          <p:spPr>
            <a:xfrm>
              <a:off x="468360" y="1844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971640" y="1989000"/>
              <a:ext cx="288720" cy="576360"/>
              <a:chOff x="971640" y="1989000"/>
              <a:chExt cx="288720" cy="576360"/>
            </a:xfrm>
          </p:grpSpPr>
          <p:sp>
            <p:nvSpPr>
              <p:cNvPr id="185" name=""/>
              <p:cNvSpPr/>
              <p:nvPr/>
            </p:nvSpPr>
            <p:spPr>
              <a:xfrm>
                <a:off x="1116000" y="227628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971640" y="1989000"/>
                <a:ext cx="288720" cy="431640"/>
                <a:chOff x="971640" y="1989000"/>
                <a:chExt cx="288720" cy="4316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971640" y="198900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971640" y="242064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3203640" y="1773000"/>
              <a:ext cx="504720" cy="505080"/>
              <a:chOff x="3203640" y="1773000"/>
              <a:chExt cx="504720" cy="505080"/>
            </a:xfrm>
          </p:grpSpPr>
          <p:sp>
            <p:nvSpPr>
              <p:cNvPr id="190" name=""/>
              <p:cNvSpPr/>
              <p:nvPr/>
            </p:nvSpPr>
            <p:spPr>
              <a:xfrm>
                <a:off x="3203640" y="198936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419640" y="177300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1403280" y="191628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53080" y="1557360"/>
            <a:ext cx="420840" cy="945360"/>
            <a:chOff x="2053080" y="1557360"/>
            <a:chExt cx="420840" cy="945360"/>
          </a:xfrm>
        </p:grpSpPr>
        <p:grpSp>
          <p:nvGrpSpPr>
            <p:cNvPr id="194" name=""/>
            <p:cNvGrpSpPr/>
            <p:nvPr/>
          </p:nvGrpSpPr>
          <p:grpSpPr>
            <a:xfrm>
              <a:off x="2142720" y="1971360"/>
              <a:ext cx="217440" cy="71280"/>
              <a:chOff x="2142720" y="1971360"/>
              <a:chExt cx="217440" cy="71280"/>
            </a:xfrm>
          </p:grpSpPr>
          <p:sp>
            <p:nvSpPr>
              <p:cNvPr id="195" name=""/>
              <p:cNvSpPr/>
              <p:nvPr/>
            </p:nvSpPr>
            <p:spPr>
              <a:xfrm>
                <a:off x="2142720" y="197136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42720" y="204264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053080" y="15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7360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70216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1916280"/>
            <a:ext cx="504720" cy="43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02160" y="1557360"/>
            <a:ext cx="406440" cy="941400"/>
            <a:chOff x="4502160" y="1557360"/>
            <a:chExt cx="406440" cy="941400"/>
          </a:xfrm>
        </p:grpSpPr>
        <p:sp>
          <p:nvSpPr>
            <p:cNvPr id="202" name=""/>
            <p:cNvSpPr/>
            <p:nvPr/>
          </p:nvSpPr>
          <p:spPr>
            <a:xfrm>
              <a:off x="450252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02160" y="191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573440" y="1989000"/>
              <a:ext cx="217080" cy="70920"/>
              <a:chOff x="4573440" y="1989000"/>
              <a:chExt cx="217080" cy="70920"/>
            </a:xfrm>
          </p:grpSpPr>
          <p:sp>
            <p:nvSpPr>
              <p:cNvPr id="205" name=""/>
              <p:cNvSpPr/>
              <p:nvPr/>
            </p:nvSpPr>
            <p:spPr>
              <a:xfrm>
                <a:off x="4573440" y="198900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3440" y="205992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541440" y="2852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564000" y="2781360"/>
            <a:ext cx="1511280" cy="627120"/>
            <a:chOff x="3564000" y="2781360"/>
            <a:chExt cx="1511280" cy="627120"/>
          </a:xfrm>
        </p:grpSpPr>
        <p:sp>
          <p:nvSpPr>
            <p:cNvPr id="209" name=""/>
            <p:cNvSpPr/>
            <p:nvPr/>
          </p:nvSpPr>
          <p:spPr>
            <a:xfrm>
              <a:off x="4427640" y="2781360"/>
              <a:ext cx="647640" cy="6271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4000" y="2781360"/>
              <a:ext cx="647640" cy="6271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042920" y="2852640"/>
            <a:ext cx="1440000" cy="647640"/>
            <a:chOff x="1042920" y="2852640"/>
            <a:chExt cx="1440000" cy="647640"/>
          </a:xfrm>
        </p:grpSpPr>
        <p:sp>
          <p:nvSpPr>
            <p:cNvPr id="212" name=""/>
            <p:cNvSpPr/>
            <p:nvPr/>
          </p:nvSpPr>
          <p:spPr>
            <a:xfrm>
              <a:off x="1835280" y="2852640"/>
              <a:ext cx="64764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42920" y="2852640"/>
              <a:ext cx="647640" cy="627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084720" y="2563560"/>
            <a:ext cx="1152720" cy="865440"/>
            <a:chOff x="6084720" y="2563560"/>
            <a:chExt cx="1152720" cy="865440"/>
          </a:xfrm>
        </p:grpSpPr>
        <p:grpSp>
          <p:nvGrpSpPr>
            <p:cNvPr id="215" name=""/>
            <p:cNvGrpSpPr/>
            <p:nvPr/>
          </p:nvGrpSpPr>
          <p:grpSpPr>
            <a:xfrm>
              <a:off x="6732720" y="2563560"/>
              <a:ext cx="504720" cy="505080"/>
              <a:chOff x="6732720" y="2563560"/>
              <a:chExt cx="504720" cy="505080"/>
            </a:xfrm>
          </p:grpSpPr>
          <p:sp>
            <p:nvSpPr>
              <p:cNvPr id="216" name=""/>
              <p:cNvSpPr/>
              <p:nvPr/>
            </p:nvSpPr>
            <p:spPr>
              <a:xfrm>
                <a:off x="6732720" y="277992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948720" y="256356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084720" y="2852640"/>
              <a:ext cx="288720" cy="576360"/>
              <a:chOff x="6084720" y="2852640"/>
              <a:chExt cx="288720" cy="576360"/>
            </a:xfrm>
          </p:grpSpPr>
          <p:sp>
            <p:nvSpPr>
              <p:cNvPr id="219" name=""/>
              <p:cNvSpPr/>
              <p:nvPr/>
            </p:nvSpPr>
            <p:spPr>
              <a:xfrm>
                <a:off x="6229080" y="31399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084720" y="2852640"/>
                <a:ext cx="288720" cy="431640"/>
                <a:chOff x="6084720" y="2852640"/>
                <a:chExt cx="288720" cy="4316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084720" y="285264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084720" y="328428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3" name=""/>
          <p:cNvSpPr/>
          <p:nvPr/>
        </p:nvSpPr>
        <p:spPr>
          <a:xfrm>
            <a:off x="5940360" y="2421000"/>
            <a:ext cx="1297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455240" y="2676600"/>
            <a:ext cx="1150200" cy="552240"/>
            <a:chOff x="7455240" y="2676600"/>
            <a:chExt cx="1150200" cy="552240"/>
          </a:xfrm>
        </p:grpSpPr>
        <p:sp>
          <p:nvSpPr>
            <p:cNvPr id="225" name=""/>
            <p:cNvSpPr/>
            <p:nvPr/>
          </p:nvSpPr>
          <p:spPr>
            <a:xfrm>
              <a:off x="7455240" y="2708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26720" y="2676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02880" y="3573360"/>
            <a:ext cx="507960" cy="1241280"/>
            <a:chOff x="6302880" y="3573360"/>
            <a:chExt cx="507960" cy="1241280"/>
          </a:xfrm>
        </p:grpSpPr>
        <p:sp>
          <p:nvSpPr>
            <p:cNvPr id="228" name=""/>
            <p:cNvSpPr/>
            <p:nvPr/>
          </p:nvSpPr>
          <p:spPr>
            <a:xfrm>
              <a:off x="6302880" y="3573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74160" y="4294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383600" y="3355920"/>
            <a:ext cx="437040" cy="976320"/>
            <a:chOff x="7383600" y="3355920"/>
            <a:chExt cx="437040" cy="976320"/>
          </a:xfrm>
        </p:grpSpPr>
        <p:sp>
          <p:nvSpPr>
            <p:cNvPr id="231" name=""/>
            <p:cNvSpPr/>
            <p:nvPr/>
          </p:nvSpPr>
          <p:spPr>
            <a:xfrm>
              <a:off x="7383960" y="3355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83600" y="3811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454880" y="3811680"/>
              <a:ext cx="286920" cy="71280"/>
              <a:chOff x="7454880" y="3811680"/>
              <a:chExt cx="286920" cy="71280"/>
            </a:xfrm>
          </p:grpSpPr>
          <p:sp>
            <p:nvSpPr>
              <p:cNvPr id="234" name=""/>
              <p:cNvSpPr/>
              <p:nvPr/>
            </p:nvSpPr>
            <p:spPr>
              <a:xfrm>
                <a:off x="7454880" y="38116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54880" y="388296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8318520" y="3357720"/>
            <a:ext cx="437400" cy="975960"/>
            <a:chOff x="8318520" y="3357720"/>
            <a:chExt cx="437400" cy="975960"/>
          </a:xfrm>
        </p:grpSpPr>
        <p:sp>
          <p:nvSpPr>
            <p:cNvPr id="237" name=""/>
            <p:cNvSpPr/>
            <p:nvPr/>
          </p:nvSpPr>
          <p:spPr>
            <a:xfrm>
              <a:off x="8319240" y="3357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18520" y="381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8389800" y="3813120"/>
              <a:ext cx="286560" cy="70920"/>
              <a:chOff x="8389800" y="3813120"/>
              <a:chExt cx="286560" cy="70920"/>
            </a:xfrm>
          </p:grpSpPr>
          <p:sp>
            <p:nvSpPr>
              <p:cNvPr id="240" name=""/>
              <p:cNvSpPr/>
              <p:nvPr/>
            </p:nvSpPr>
            <p:spPr>
              <a:xfrm>
                <a:off x="8389800" y="3813120"/>
                <a:ext cx="28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89800" y="3884040"/>
                <a:ext cx="28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7453440" y="4221000"/>
            <a:ext cx="437040" cy="976320"/>
            <a:chOff x="7453440" y="4221000"/>
            <a:chExt cx="437040" cy="976320"/>
          </a:xfrm>
        </p:grpSpPr>
        <p:sp>
          <p:nvSpPr>
            <p:cNvPr id="243" name=""/>
            <p:cNvSpPr/>
            <p:nvPr/>
          </p:nvSpPr>
          <p:spPr>
            <a:xfrm>
              <a:off x="7453800" y="4221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53440" y="4676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524720" y="4676760"/>
              <a:ext cx="286920" cy="71280"/>
              <a:chOff x="7524720" y="4676760"/>
              <a:chExt cx="286920" cy="71280"/>
            </a:xfrm>
          </p:grpSpPr>
          <p:sp>
            <p:nvSpPr>
              <p:cNvPr id="246" name=""/>
              <p:cNvSpPr/>
              <p:nvPr/>
            </p:nvSpPr>
            <p:spPr>
              <a:xfrm>
                <a:off x="7524720" y="467676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24720" y="4748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8318520" y="4221000"/>
            <a:ext cx="437400" cy="976320"/>
            <a:chOff x="8318520" y="4221000"/>
            <a:chExt cx="437400" cy="976320"/>
          </a:xfrm>
        </p:grpSpPr>
        <p:sp>
          <p:nvSpPr>
            <p:cNvPr id="249" name=""/>
            <p:cNvSpPr/>
            <p:nvPr/>
          </p:nvSpPr>
          <p:spPr>
            <a:xfrm>
              <a:off x="8319240" y="4221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18520" y="4676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8389800" y="4676760"/>
              <a:ext cx="286560" cy="71280"/>
              <a:chOff x="8389800" y="4676760"/>
              <a:chExt cx="286560" cy="71280"/>
            </a:xfrm>
          </p:grpSpPr>
          <p:sp>
            <p:nvSpPr>
              <p:cNvPr id="252" name=""/>
              <p:cNvSpPr/>
              <p:nvPr/>
            </p:nvSpPr>
            <p:spPr>
              <a:xfrm>
                <a:off x="8389800" y="4676760"/>
                <a:ext cx="28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89800" y="4748040"/>
                <a:ext cx="28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900000" y="4724280"/>
            <a:ext cx="50508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63640" y="4724280"/>
            <a:ext cx="504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0360" y="4724280"/>
            <a:ext cx="504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64000" y="3789360"/>
            <a:ext cx="504720" cy="1366920"/>
            <a:chOff x="3564000" y="3789360"/>
            <a:chExt cx="504720" cy="1366920"/>
          </a:xfrm>
        </p:grpSpPr>
        <p:grpSp>
          <p:nvGrpSpPr>
            <p:cNvPr id="258" name=""/>
            <p:cNvGrpSpPr/>
            <p:nvPr/>
          </p:nvGrpSpPr>
          <p:grpSpPr>
            <a:xfrm>
              <a:off x="3565800" y="3789360"/>
              <a:ext cx="437040" cy="976320"/>
              <a:chOff x="3565800" y="3789360"/>
              <a:chExt cx="437040" cy="976320"/>
            </a:xfrm>
          </p:grpSpPr>
          <p:sp>
            <p:nvSpPr>
              <p:cNvPr id="259" name=""/>
              <p:cNvSpPr/>
              <p:nvPr/>
            </p:nvSpPr>
            <p:spPr>
              <a:xfrm>
                <a:off x="3566160" y="37893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65800" y="424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3637080" y="4245120"/>
                <a:ext cx="286920" cy="71280"/>
                <a:chOff x="3637080" y="4245120"/>
                <a:chExt cx="286920" cy="71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637080" y="42451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637080" y="4316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564000" y="472428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73440" y="3789360"/>
            <a:ext cx="437040" cy="976320"/>
            <a:chOff x="973440" y="3789360"/>
            <a:chExt cx="437040" cy="976320"/>
          </a:xfrm>
        </p:grpSpPr>
        <p:sp>
          <p:nvSpPr>
            <p:cNvPr id="266" name=""/>
            <p:cNvSpPr/>
            <p:nvPr/>
          </p:nvSpPr>
          <p:spPr>
            <a:xfrm>
              <a:off x="973800" y="3789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73440" y="4245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044720" y="4245120"/>
              <a:ext cx="286920" cy="71280"/>
              <a:chOff x="1044720" y="4245120"/>
              <a:chExt cx="286920" cy="71280"/>
            </a:xfrm>
          </p:grpSpPr>
          <p:sp>
            <p:nvSpPr>
              <p:cNvPr id="269" name=""/>
              <p:cNvSpPr/>
              <p:nvPr/>
            </p:nvSpPr>
            <p:spPr>
              <a:xfrm>
                <a:off x="1044720" y="42451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44720" y="4316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1837080" y="3789360"/>
            <a:ext cx="437040" cy="976320"/>
            <a:chOff x="1837080" y="3789360"/>
            <a:chExt cx="437040" cy="976320"/>
          </a:xfrm>
        </p:grpSpPr>
        <p:sp>
          <p:nvSpPr>
            <p:cNvPr id="272" name=""/>
            <p:cNvSpPr/>
            <p:nvPr/>
          </p:nvSpPr>
          <p:spPr>
            <a:xfrm>
              <a:off x="1837440" y="3789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7080" y="4245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908360" y="4245120"/>
              <a:ext cx="286920" cy="71280"/>
              <a:chOff x="1908360" y="4245120"/>
              <a:chExt cx="286920" cy="71280"/>
            </a:xfrm>
          </p:grpSpPr>
          <p:sp>
            <p:nvSpPr>
              <p:cNvPr id="275" name=""/>
              <p:cNvSpPr/>
              <p:nvPr/>
            </p:nvSpPr>
            <p:spPr>
              <a:xfrm>
                <a:off x="1908360" y="42451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08360" y="4316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2702160" y="3789360"/>
            <a:ext cx="437040" cy="976320"/>
            <a:chOff x="2702160" y="3789360"/>
            <a:chExt cx="437040" cy="976320"/>
          </a:xfrm>
        </p:grpSpPr>
        <p:sp>
          <p:nvSpPr>
            <p:cNvPr id="278" name=""/>
            <p:cNvSpPr/>
            <p:nvPr/>
          </p:nvSpPr>
          <p:spPr>
            <a:xfrm>
              <a:off x="2702520" y="3789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02160" y="4245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773440" y="4245120"/>
              <a:ext cx="286920" cy="71280"/>
              <a:chOff x="2773440" y="4245120"/>
              <a:chExt cx="286920" cy="71280"/>
            </a:xfrm>
          </p:grpSpPr>
          <p:sp>
            <p:nvSpPr>
              <p:cNvPr id="281" name=""/>
              <p:cNvSpPr/>
              <p:nvPr/>
            </p:nvSpPr>
            <p:spPr>
              <a:xfrm>
                <a:off x="2773440" y="42451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73440" y="4316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"/>
          <p:cNvSpPr txBox="1"/>
          <p:nvPr/>
        </p:nvSpPr>
        <p:spPr>
          <a:xfrm rot="209400">
            <a:off x="394920" y="0"/>
            <a:ext cx="59054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9933"/>
                  </a:solidFill>
                  <a:miter/>
                </a:ln>
                <a:solidFill>
                  <a:srgbClr val="00ffff"/>
                </a:solidFill>
                <a:effectLst>
                  <a:outerShdw dist="64600" dir="674838" blurRad="0" rotWithShape="0">
                    <a:srgbClr val="cc00ff"/>
                  </a:outerShdw>
                </a:effectLst>
                <a:latin typeface="Arial"/>
              </a:rPr>
              <a:t>I закон Менделя</a:t>
            </a:r>
            <a:endParaRPr b="0" lang="en-US" sz="1800" spc="1" strike="noStrike">
              <a:ln w="38160">
                <a:solidFill>
                  <a:srgbClr val="339933"/>
                </a:solidFill>
                <a:miter/>
              </a:ln>
              <a:solidFill>
                <a:srgbClr val="00ffff"/>
              </a:solidFill>
              <a:effectLst>
                <a:outerShdw dist="64600" dir="674838" blurRad="0" rotWithShape="0">
                  <a:srgbClr val="cc00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1152360" cy="1439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 rot="222000">
            <a:off x="249120" y="5373720"/>
            <a:ext cx="86425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ff0066"/>
                  </a:outerShdw>
                </a:effectLst>
                <a:latin typeface="Arial"/>
              </a:rPr>
              <a:t>Закон единообразия первого поколени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ff0066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053080" y="1557360"/>
            <a:ext cx="420840" cy="945360"/>
            <a:chOff x="2053080" y="1557360"/>
            <a:chExt cx="420840" cy="945360"/>
          </a:xfrm>
        </p:grpSpPr>
        <p:grpSp>
          <p:nvGrpSpPr>
            <p:cNvPr id="287" name=""/>
            <p:cNvGrpSpPr/>
            <p:nvPr/>
          </p:nvGrpSpPr>
          <p:grpSpPr>
            <a:xfrm>
              <a:off x="2142720" y="1971360"/>
              <a:ext cx="217440" cy="71280"/>
              <a:chOff x="2142720" y="1971360"/>
              <a:chExt cx="217440" cy="71280"/>
            </a:xfrm>
          </p:grpSpPr>
          <p:sp>
            <p:nvSpPr>
              <p:cNvPr id="288" name=""/>
              <p:cNvSpPr/>
              <p:nvPr/>
            </p:nvSpPr>
            <p:spPr>
              <a:xfrm>
                <a:off x="2142720" y="197136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42720" y="204264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053080" y="15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7360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24000" y="189000"/>
            <a:ext cx="36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6666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50000">
                      <a:srgbClr val="ff0066"/>
                    </a:gs>
                    <a:gs pos="100000">
                      <a:srgbClr val="660066"/>
                    </a:gs>
                  </a:gsLst>
                  <a:lin ang="8100000"/>
                </a:gradFill>
                <a:latin typeface="Arial"/>
              </a:rPr>
              <a:t>Генотип</a:t>
            </a:r>
            <a:endParaRPr b="0" i="1" lang="en-US" sz="1800" spc="1" strike="noStrike">
              <a:ln w="28440">
                <a:solidFill>
                  <a:srgbClr val="006666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50000">
                    <a:srgbClr val="ff0066"/>
                  </a:gs>
                  <a:gs pos="100000">
                    <a:srgbClr val="660066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76720" y="189000"/>
            <a:ext cx="356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Феноти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851280" y="907920"/>
            <a:ext cx="1152360" cy="935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156360" y="1052640"/>
            <a:ext cx="1278000" cy="647640"/>
          </a:xfrm>
          <a:prstGeom prst="upDownArrow">
            <a:avLst>
              <a:gd name="adj1" fmla="val 24222"/>
              <a:gd name="adj2" fmla="val 33088"/>
            </a:avLst>
          </a:prstGeom>
          <a:gradFill rotWithShape="0">
            <a:gsLst>
              <a:gs pos="0">
                <a:srgbClr val="00cc00"/>
              </a:gs>
              <a:gs pos="50000">
                <a:srgbClr val="00ffff"/>
              </a:gs>
              <a:gs pos="100000">
                <a:srgbClr val="00cc00"/>
              </a:gs>
            </a:gsLst>
            <a:lin ang="5400000"/>
          </a:gradFill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8920" y="1052640"/>
            <a:ext cx="1278000" cy="647640"/>
          </a:xfrm>
          <a:prstGeom prst="upDownArrow">
            <a:avLst>
              <a:gd name="adj1" fmla="val 24222"/>
              <a:gd name="adj2" fmla="val 33088"/>
            </a:avLst>
          </a:prstGeom>
          <a:gradFill rotWithShape="0">
            <a:gsLst>
              <a:gs pos="0">
                <a:srgbClr val="ff0066"/>
              </a:gs>
              <a:gs pos="50000">
                <a:srgbClr val="ff00ff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800080"/>
            </a:solidFill>
            <a:miter/>
          </a:ln>
          <a:effectLst>
            <a:outerShdw dist="153753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1700280"/>
            <a:ext cx="4356000" cy="2160720"/>
            <a:chOff x="0" y="1700280"/>
            <a:chExt cx="4356000" cy="2160720"/>
          </a:xfrm>
        </p:grpSpPr>
        <p:sp>
          <p:nvSpPr>
            <p:cNvPr id="298" name=""/>
            <p:cNvSpPr/>
            <p:nvPr/>
          </p:nvSpPr>
          <p:spPr>
            <a:xfrm>
              <a:off x="0" y="1700280"/>
              <a:ext cx="4176720" cy="216036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66ffcc"/>
                </a:gs>
              </a:gsLst>
              <a:lin ang="135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5280" y="2060640"/>
              <a:ext cx="3960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00"/>
                  </a:solidFill>
                  <a:latin typeface="Arial"/>
                </a:rPr>
                <a:t>Совокупность генов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00"/>
                  </a:solidFill>
                  <a:latin typeface="Arial"/>
                </a:rPr>
                <a:t>которую орган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00"/>
                  </a:solidFill>
                  <a:latin typeface="Arial"/>
                </a:rPr>
                <a:t>получает от род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00"/>
                  </a:solidFill>
                  <a:latin typeface="Arial"/>
                </a:rPr>
                <a:t>телей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067280" y="1773360"/>
            <a:ext cx="5076720" cy="1944720"/>
            <a:chOff x="4067280" y="1773360"/>
            <a:chExt cx="5076720" cy="1944720"/>
          </a:xfrm>
        </p:grpSpPr>
        <p:sp>
          <p:nvSpPr>
            <p:cNvPr id="301" name=""/>
            <p:cNvSpPr/>
            <p:nvPr/>
          </p:nvSpPr>
          <p:spPr>
            <a:xfrm>
              <a:off x="4067280" y="1773360"/>
              <a:ext cx="5076720" cy="1944720"/>
            </a:xfrm>
            <a:prstGeom prst="verticalScroll">
              <a:avLst>
                <a:gd name="adj" fmla="val 15944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99ff"/>
                </a:gs>
              </a:gsLst>
              <a:lin ang="13500000"/>
            </a:gra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03240" y="2133720"/>
              <a:ext cx="4149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Совокупность все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Признаков организ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(внешних и внутренних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 txBox="1"/>
          <p:nvPr/>
        </p:nvSpPr>
        <p:spPr>
          <a:xfrm>
            <a:off x="5435640" y="3789360"/>
            <a:ext cx="243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Пример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34880" y="45086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51640" y="4508640"/>
            <a:ext cx="720720" cy="1005840"/>
            <a:chOff x="5651640" y="4508640"/>
            <a:chExt cx="720720" cy="1005840"/>
          </a:xfrm>
        </p:grpSpPr>
        <p:sp>
          <p:nvSpPr>
            <p:cNvPr id="306" name=""/>
            <p:cNvSpPr/>
            <p:nvPr/>
          </p:nvSpPr>
          <p:spPr>
            <a:xfrm>
              <a:off x="5651640" y="4508640"/>
              <a:ext cx="576000" cy="50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12000" y="5011560"/>
              <a:ext cx="36036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299280" y="4508640"/>
            <a:ext cx="576360" cy="934560"/>
            <a:chOff x="6299280" y="4508640"/>
            <a:chExt cx="576360" cy="934560"/>
          </a:xfrm>
        </p:grpSpPr>
        <p:sp>
          <p:nvSpPr>
            <p:cNvPr id="309" name=""/>
            <p:cNvSpPr/>
            <p:nvPr/>
          </p:nvSpPr>
          <p:spPr>
            <a:xfrm>
              <a:off x="6299280" y="4508640"/>
              <a:ext cx="576360" cy="50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88360" y="5011560"/>
              <a:ext cx="7128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946920" y="4508640"/>
            <a:ext cx="576360" cy="934560"/>
            <a:chOff x="6946920" y="4508640"/>
            <a:chExt cx="576360" cy="934560"/>
          </a:xfrm>
        </p:grpSpPr>
        <p:sp>
          <p:nvSpPr>
            <p:cNvPr id="312" name=""/>
            <p:cNvSpPr/>
            <p:nvPr/>
          </p:nvSpPr>
          <p:spPr>
            <a:xfrm>
              <a:off x="6946920" y="4508640"/>
              <a:ext cx="576360" cy="50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946920" y="5011560"/>
              <a:ext cx="21456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35640" y="4508640"/>
            <a:ext cx="1008360" cy="1008000"/>
            <a:chOff x="7235640" y="4508640"/>
            <a:chExt cx="1008360" cy="1008000"/>
          </a:xfrm>
        </p:grpSpPr>
        <p:sp>
          <p:nvSpPr>
            <p:cNvPr id="315" name=""/>
            <p:cNvSpPr/>
            <p:nvPr/>
          </p:nvSpPr>
          <p:spPr>
            <a:xfrm>
              <a:off x="7668000" y="4508640"/>
              <a:ext cx="57600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35640" y="4940640"/>
              <a:ext cx="57492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 txBox="1"/>
          <p:nvPr/>
        </p:nvSpPr>
        <p:spPr>
          <a:xfrm>
            <a:off x="5148360" y="5516640"/>
            <a:ext cx="3671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66"/>
                </a:solidFill>
                <a:latin typeface="Times New Roman"/>
              </a:rPr>
              <a:t>внешнее сходство, т.е. одинаковый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cc0066"/>
              </a:solidFill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435640" y="5950080"/>
            <a:ext cx="295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енотип</a:t>
            </a:r>
            <a:endParaRPr b="0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42920" y="4005360"/>
            <a:ext cx="161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66"/>
                </a:solidFill>
                <a:latin typeface="Times New Roman"/>
              </a:rPr>
              <a:t>но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66"/>
              </a:solidFill>
              <a:latin typeface="Times New Roman"/>
              <a:ea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160" y="4508640"/>
            <a:ext cx="4145040" cy="1081080"/>
            <a:chOff x="2160" y="4508640"/>
            <a:chExt cx="4145040" cy="1081080"/>
          </a:xfrm>
        </p:grpSpPr>
        <p:grpSp>
          <p:nvGrpSpPr>
            <p:cNvPr id="321" name=""/>
            <p:cNvGrpSpPr/>
            <p:nvPr/>
          </p:nvGrpSpPr>
          <p:grpSpPr>
            <a:xfrm>
              <a:off x="2160" y="4581360"/>
              <a:ext cx="420840" cy="945720"/>
              <a:chOff x="2160" y="4581360"/>
              <a:chExt cx="420840" cy="94572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91800" y="4995720"/>
                <a:ext cx="217440" cy="71280"/>
                <a:chOff x="91800" y="4995720"/>
                <a:chExt cx="217440" cy="712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91800" y="499572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91800" y="506700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2160" y="4581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2680" y="506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710160" y="4508640"/>
              <a:ext cx="437040" cy="975960"/>
              <a:chOff x="3710160" y="4508640"/>
              <a:chExt cx="437040" cy="975960"/>
            </a:xfrm>
          </p:grpSpPr>
          <p:sp>
            <p:nvSpPr>
              <p:cNvPr id="328" name=""/>
              <p:cNvSpPr/>
              <p:nvPr/>
            </p:nvSpPr>
            <p:spPr>
              <a:xfrm>
                <a:off x="3710520" y="45086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710160" y="49640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3781440" y="4964040"/>
                <a:ext cx="286920" cy="70920"/>
                <a:chOff x="3781440" y="4964040"/>
                <a:chExt cx="286920" cy="709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781440" y="496404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781440" y="503496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"/>
            <p:cNvSpPr txBox="1"/>
            <p:nvPr/>
          </p:nvSpPr>
          <p:spPr>
            <a:xfrm>
              <a:off x="684360" y="4653000"/>
              <a:ext cx="2808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различная комбинация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611280" y="5157720"/>
              <a:ext cx="30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генов, т.е. разный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335" name=""/>
          <p:cNvSpPr txBox="1"/>
          <p:nvPr/>
        </p:nvSpPr>
        <p:spPr>
          <a:xfrm>
            <a:off x="684360" y="5877000"/>
            <a:ext cx="25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генотип</a:t>
            </a:r>
            <a:endParaRPr b="0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21:07:36Z</dcterms:created>
  <dc:creator>Журавлева М.В.</dc:creator>
  <dc:description/>
  <dc:language>en-US</dc:language>
  <cp:lastModifiedBy>Марина</cp:lastModifiedBy>
  <dcterms:modified xsi:type="dcterms:W3CDTF">2003-04-15T19:32:12Z</dcterms:modified>
  <cp:revision>23</cp:revision>
  <dc:subject>Первый закон Менделя.</dc:subject>
  <dc:title>Генетика. Первый закон Менделя.</dc:title>
</cp:coreProperties>
</file>