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5.gif" ContentType="image/gif"/>
  <Override PartName="/ppt/media/image26.jpeg" ContentType="image/jpe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30.jpeg" ContentType="image/jpeg"/>
  <Override PartName="/ppt/media/image37.wmf" ContentType="image/x-wmf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10.png" ContentType="image/png"/>
  <Override PartName="/ppt/media/image27.jpeg" ContentType="image/jpeg"/>
  <Override PartName="/ppt/media/image20.wmf" ContentType="image/x-wmf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25D-54A0-4EF0-803E-165BF825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9EB-778A-44CB-93BC-035D52DD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3E1-9319-41BA-B0DE-3B699488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CF7-0863-4F23-B55F-58D932E0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851-E235-408E-B1A7-B5DD3B76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EA4-E566-4509-88C2-F9B627D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A7F-47BE-4802-B9D2-CFF05759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565-AB27-4821-A2B3-71F9CA43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73C-4624-4A51-9DD1-FA4292A7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9B4-DEF1-4D39-A00F-3A15681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E05-990B-4CF0-A174-E8279143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966-1175-4B71-BDA4-E6BC9621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5461-426B-44B3-8742-46DBB1646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1"/>
          <p:cNvGrpSpPr/>
          <p:nvPr/>
        </p:nvGrpSpPr>
        <p:grpSpPr>
          <a:xfrm>
            <a:off x="3348000" y="2565360"/>
            <a:ext cx="1944720" cy="3743280"/>
            <a:chOff x="3348000" y="2565360"/>
            <a:chExt cx="1944720" cy="3743280"/>
          </a:xfrm>
        </p:grpSpPr>
        <p:sp>
          <p:nvSpPr>
            <p:cNvPr id="42" name="AutoShape 17"/>
            <p:cNvSpPr/>
            <p:nvPr/>
          </p:nvSpPr>
          <p:spPr>
            <a:xfrm>
              <a:off x="3348000" y="2565360"/>
              <a:ext cx="1944720" cy="3743280"/>
            </a:xfrm>
            <a:custGeom>
              <a:avLst/>
              <a:gdLst>
                <a:gd name="textAreaLeft" fmla="*/ 94680 w 1944720"/>
                <a:gd name="textAreaRight" fmla="*/ 1850040 w 1944720"/>
                <a:gd name="textAreaTop" fmla="*/ 94680 h 3743280"/>
                <a:gd name="textAreaBottom" fmla="*/ 3648600 h 3743280"/>
              </a:gdLst>
              <a:ahLst/>
              <a:rect l="textAreaLeft" t="textAreaTop" r="textAreaRight" b="textAreaBottom"/>
              <a:pathLst>
                <a:path w="21600" h="41573">
                  <a:moveTo>
                    <a:pt x="3600" y="0"/>
                  </a:moveTo>
                  <a:arcTo wR="3600" hR="3600" stAng="16200000" swAng="-5400000"/>
                  <a:lnTo>
                    <a:pt x="0" y="37973"/>
                  </a:lnTo>
                  <a:arcTo wR="3600" hR="3600" stAng="10800000" swAng="-5400000"/>
                  <a:lnTo>
                    <a:pt x="18000" y="415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8900000"/>
            </a:gra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WordArt 18"/>
            <p:cNvSpPr txBox="1"/>
            <p:nvPr/>
          </p:nvSpPr>
          <p:spPr>
            <a:xfrm>
              <a:off x="3492360" y="2708280"/>
              <a:ext cx="1584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Рождение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44" name="WordArt 19"/>
            <p:cNvSpPr txBox="1"/>
            <p:nvPr/>
          </p:nvSpPr>
          <p:spPr>
            <a:xfrm>
              <a:off x="3635280" y="3284640"/>
              <a:ext cx="1440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особи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</p:grpSp>
      <p:grpSp>
        <p:nvGrpSpPr>
          <p:cNvPr id="45" name="Group 32"/>
          <p:cNvGrpSpPr/>
          <p:nvPr/>
        </p:nvGrpSpPr>
        <p:grpSpPr>
          <a:xfrm>
            <a:off x="5508720" y="2349360"/>
            <a:ext cx="3384360" cy="3961080"/>
            <a:chOff x="5508720" y="2349360"/>
            <a:chExt cx="3384360" cy="3961080"/>
          </a:xfrm>
        </p:grpSpPr>
        <p:sp>
          <p:nvSpPr>
            <p:cNvPr id="46" name="AutoShape 21"/>
            <p:cNvSpPr/>
            <p:nvPr/>
          </p:nvSpPr>
          <p:spPr>
            <a:xfrm>
              <a:off x="5508720" y="2349360"/>
              <a:ext cx="3384360" cy="3961080"/>
            </a:xfrm>
            <a:custGeom>
              <a:avLst/>
              <a:gdLst>
                <a:gd name="textAreaLeft" fmla="*/ 164880 w 3384360"/>
                <a:gd name="textAreaRight" fmla="*/ 3219480 w 3384360"/>
                <a:gd name="textAreaTop" fmla="*/ 164880 h 3961080"/>
                <a:gd name="textAreaBottom" fmla="*/ 3796200 h 3961080"/>
              </a:gdLst>
              <a:ahLst/>
              <a:rect l="textAreaLeft" t="textAreaTop" r="textAreaRight" b="textAreaBottom"/>
              <a:pathLst>
                <a:path w="21600" h="25280">
                  <a:moveTo>
                    <a:pt x="3600" y="0"/>
                  </a:moveTo>
                  <a:arcTo wR="3600" hR="3600" stAng="16200000" swAng="-5400000"/>
                  <a:lnTo>
                    <a:pt x="0" y="21680"/>
                  </a:lnTo>
                  <a:arcTo wR="3600" hR="3600" stAng="10800000" swAng="-5400000"/>
                  <a:lnTo>
                    <a:pt x="18000" y="252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8900000"/>
            </a:gra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WordArt 22"/>
            <p:cNvSpPr txBox="1"/>
            <p:nvPr/>
          </p:nvSpPr>
          <p:spPr>
            <a:xfrm>
              <a:off x="5651640" y="2565360"/>
              <a:ext cx="3024000" cy="73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Постэмбриональный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48" name="WordArt 23"/>
            <p:cNvSpPr txBox="1"/>
            <p:nvPr/>
          </p:nvSpPr>
          <p:spPr>
            <a:xfrm>
              <a:off x="6372360" y="321300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период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49" name="WordArt 4"/>
          <p:cNvSpPr txBox="1"/>
          <p:nvPr/>
        </p:nvSpPr>
        <p:spPr>
          <a:xfrm>
            <a:off x="3492360" y="549360"/>
            <a:ext cx="36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Онтогенез.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258920" y="1341360"/>
            <a:ext cx="0" cy="107964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5"/>
          <p:cNvGrpSpPr/>
          <p:nvPr/>
        </p:nvGrpSpPr>
        <p:grpSpPr>
          <a:xfrm>
            <a:off x="250920" y="2421000"/>
            <a:ext cx="2952720" cy="3960720"/>
            <a:chOff x="250920" y="2421000"/>
            <a:chExt cx="2952720" cy="3960720"/>
          </a:xfrm>
        </p:grpSpPr>
        <p:sp>
          <p:nvSpPr>
            <p:cNvPr id="52" name="AutoShape 9"/>
            <p:cNvSpPr/>
            <p:nvPr/>
          </p:nvSpPr>
          <p:spPr>
            <a:xfrm>
              <a:off x="250920" y="2421000"/>
              <a:ext cx="2952720" cy="3960720"/>
            </a:xfrm>
            <a:custGeom>
              <a:avLst/>
              <a:gdLst>
                <a:gd name="textAreaLeft" fmla="*/ 144000 w 2952720"/>
                <a:gd name="textAreaRight" fmla="*/ 2808720 w 2952720"/>
                <a:gd name="textAreaTop" fmla="*/ 144000 h 3960720"/>
                <a:gd name="textAreaBottom" fmla="*/ 3816720 h 3960720"/>
              </a:gdLst>
              <a:ahLst/>
              <a:rect l="textAreaLeft" t="textAreaTop" r="textAreaRight" b="textAreaBottom"/>
              <a:pathLst>
                <a:path w="21600" h="28973">
                  <a:moveTo>
                    <a:pt x="3600" y="0"/>
                  </a:moveTo>
                  <a:arcTo wR="3600" hR="3600" stAng="16200000" swAng="-5400000"/>
                  <a:lnTo>
                    <a:pt x="0" y="25373"/>
                  </a:lnTo>
                  <a:arcTo wR="3600" hR="3600" stAng="10800000" swAng="-5400000"/>
                  <a:lnTo>
                    <a:pt x="18000" y="289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8900000"/>
            </a:gradFill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WordArt 10"/>
            <p:cNvSpPr txBox="1"/>
            <p:nvPr/>
          </p:nvSpPr>
          <p:spPr>
            <a:xfrm>
              <a:off x="324000" y="2637000"/>
              <a:ext cx="2592360" cy="66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Эмбриональный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54" name="WordArt 12"/>
            <p:cNvSpPr txBox="1"/>
            <p:nvPr/>
          </p:nvSpPr>
          <p:spPr>
            <a:xfrm>
              <a:off x="755640" y="3284640"/>
              <a:ext cx="1584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99"/>
                  </a:solidFill>
                  <a:latin typeface="Monotype Corsiva"/>
                </a:rPr>
                <a:t>период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55" name="Text Box 13"/>
          <p:cNvSpPr/>
          <p:nvPr/>
        </p:nvSpPr>
        <p:spPr>
          <a:xfrm>
            <a:off x="398160" y="407664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Дробление зиг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98160" y="450864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Фор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асту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97800" y="522936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стру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24000" y="5805360"/>
            <a:ext cx="28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Гисто- и органоген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3348000" y="3860640"/>
            <a:ext cx="194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освобо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яйце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лочек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йцекладу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выход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а матери у живородящ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5635800" y="380844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Этап ювен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5706720" y="45291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Этап зрел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5706720" y="51768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Этап ста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8"/>
          <p:cNvSpPr txBox="1"/>
          <p:nvPr/>
        </p:nvSpPr>
        <p:spPr>
          <a:xfrm>
            <a:off x="2987640" y="6315120"/>
            <a:ext cx="5977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20503642" blurRad="0" rotWithShape="0">
                    <a:srgbClr val="ff0000"/>
                  </a:outerShdw>
                </a:effectLst>
                <a:latin typeface="Monotype Corsiva"/>
              </a:rPr>
              <a:t>Естественная смерть организма.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20503642" blurRad="0" rotWithShape="0">
                  <a:srgbClr val="ff0000"/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64" name="Group 41"/>
          <p:cNvGrpSpPr/>
          <p:nvPr/>
        </p:nvGrpSpPr>
        <p:grpSpPr>
          <a:xfrm>
            <a:off x="250920" y="189000"/>
            <a:ext cx="2017440" cy="1152360"/>
            <a:chOff x="250920" y="189000"/>
            <a:chExt cx="2017440" cy="1152360"/>
          </a:xfrm>
        </p:grpSpPr>
        <p:sp>
          <p:nvSpPr>
            <p:cNvPr id="65" name="Oval 39"/>
            <p:cNvSpPr/>
            <p:nvPr/>
          </p:nvSpPr>
          <p:spPr>
            <a:xfrm>
              <a:off x="250920" y="189000"/>
              <a:ext cx="2017440" cy="1152360"/>
            </a:xfrm>
            <a:prstGeom prst="ellipse">
              <a:avLst/>
            </a:prstGeom>
            <a:gradFill rotWithShape="0">
              <a:gsLst>
                <a:gs pos="0">
                  <a:srgbClr val="ebbceb"/>
                </a:gs>
                <a:gs pos="50000">
                  <a:srgbClr val="ffccff"/>
                </a:gs>
                <a:gs pos="100000">
                  <a:srgbClr val="ebbceb"/>
                </a:gs>
              </a:gsLst>
              <a:lin ang="2700000"/>
            </a:gradFill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WordArt 40"/>
            <p:cNvSpPr txBox="1"/>
            <p:nvPr/>
          </p:nvSpPr>
          <p:spPr>
            <a:xfrm>
              <a:off x="468360" y="476280"/>
              <a:ext cx="1657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ff0066"/>
                  </a:solidFill>
                  <a:latin typeface="Monotype Corsiva"/>
                </a:rPr>
                <a:t>Зигота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Monotype Corsiva"/>
                <a:ea typeface="Monotype Corsiva"/>
              </a:endParaRPr>
            </a:p>
          </p:txBody>
        </p:sp>
      </p:grpSp>
      <p:sp>
        <p:nvSpPr>
          <p:cNvPr id="67" name="AutoShape 42"/>
          <p:cNvSpPr/>
          <p:nvPr/>
        </p:nvSpPr>
        <p:spPr>
          <a:xfrm rot="16200000">
            <a:off x="1758960" y="6458040"/>
            <a:ext cx="404640" cy="395280"/>
          </a:xfrm>
          <a:custGeom>
            <a:avLst/>
            <a:gdLst>
              <a:gd name="textAreaLeft" fmla="*/ 25560 w 404640"/>
              <a:gd name="textAreaRight" fmla="*/ 379080 w 404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2111" h="21600">
                <a:moveTo>
                  <a:pt x="0" y="0"/>
                </a:moveTo>
                <a:lnTo>
                  <a:pt x="22111" y="0"/>
                </a:lnTo>
                <a:lnTo>
                  <a:pt x="22111" y="21600"/>
                </a:lnTo>
                <a:lnTo>
                  <a:pt x="0" y="21600"/>
                </a:lnTo>
                <a:close/>
              </a:path>
              <a:path fill="lightenLess" w="22111" h="21600">
                <a:moveTo>
                  <a:pt x="0" y="0"/>
                </a:moveTo>
                <a:lnTo>
                  <a:pt x="22111" y="0"/>
                </a:lnTo>
                <a:lnTo>
                  <a:pt x="20711" y="1400"/>
                </a:lnTo>
                <a:lnTo>
                  <a:pt x="1400" y="1400"/>
                </a:lnTo>
                <a:close/>
              </a:path>
              <a:path fill="darken" w="22111" h="21600">
                <a:moveTo>
                  <a:pt x="22111" y="0"/>
                </a:moveTo>
                <a:lnTo>
                  <a:pt x="22111" y="21600"/>
                </a:lnTo>
                <a:lnTo>
                  <a:pt x="20711" y="20200"/>
                </a:lnTo>
                <a:lnTo>
                  <a:pt x="20711" y="1400"/>
                </a:lnTo>
                <a:close/>
              </a:path>
              <a:path fill="darkenLess" w="22111" h="21600">
                <a:moveTo>
                  <a:pt x="221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1" y="20200"/>
                </a:lnTo>
                <a:close/>
              </a:path>
              <a:path fill="lighten" w="221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1" h="21600">
                <a:moveTo>
                  <a:pt x="4049" y="10800"/>
                </a:moveTo>
                <a:lnTo>
                  <a:pt x="18062" y="3794"/>
                </a:lnTo>
                <a:lnTo>
                  <a:pt x="18062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3"/>
          <p:cNvSpPr/>
          <p:nvPr/>
        </p:nvSpPr>
        <p:spPr>
          <a:xfrm rot="16200000">
            <a:off x="4711680" y="5881680"/>
            <a:ext cx="404640" cy="395280"/>
          </a:xfrm>
          <a:custGeom>
            <a:avLst/>
            <a:gdLst>
              <a:gd name="textAreaLeft" fmla="*/ 25560 w 404640"/>
              <a:gd name="textAreaRight" fmla="*/ 379080 w 404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2111" h="21600">
                <a:moveTo>
                  <a:pt x="0" y="0"/>
                </a:moveTo>
                <a:lnTo>
                  <a:pt x="22111" y="0"/>
                </a:lnTo>
                <a:lnTo>
                  <a:pt x="22111" y="21600"/>
                </a:lnTo>
                <a:lnTo>
                  <a:pt x="0" y="21600"/>
                </a:lnTo>
                <a:close/>
              </a:path>
              <a:path fill="lightenLess" w="22111" h="21600">
                <a:moveTo>
                  <a:pt x="0" y="0"/>
                </a:moveTo>
                <a:lnTo>
                  <a:pt x="22111" y="0"/>
                </a:lnTo>
                <a:lnTo>
                  <a:pt x="20711" y="1400"/>
                </a:lnTo>
                <a:lnTo>
                  <a:pt x="1400" y="1400"/>
                </a:lnTo>
                <a:close/>
              </a:path>
              <a:path fill="darken" w="22111" h="21600">
                <a:moveTo>
                  <a:pt x="22111" y="0"/>
                </a:moveTo>
                <a:lnTo>
                  <a:pt x="22111" y="21600"/>
                </a:lnTo>
                <a:lnTo>
                  <a:pt x="20711" y="20200"/>
                </a:lnTo>
                <a:lnTo>
                  <a:pt x="20711" y="1400"/>
                </a:lnTo>
                <a:close/>
              </a:path>
              <a:path fill="darkenLess" w="22111" h="21600">
                <a:moveTo>
                  <a:pt x="221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1" y="20200"/>
                </a:lnTo>
                <a:close/>
              </a:path>
              <a:path fill="lighten" w="221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1" h="21600">
                <a:moveTo>
                  <a:pt x="4049" y="10800"/>
                </a:moveTo>
                <a:lnTo>
                  <a:pt x="18062" y="3794"/>
                </a:lnTo>
                <a:lnTo>
                  <a:pt x="1806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4"/>
          <p:cNvSpPr/>
          <p:nvPr/>
        </p:nvSpPr>
        <p:spPr>
          <a:xfrm rot="16200000">
            <a:off x="8239320" y="5738760"/>
            <a:ext cx="404640" cy="395280"/>
          </a:xfrm>
          <a:custGeom>
            <a:avLst/>
            <a:gdLst>
              <a:gd name="textAreaLeft" fmla="*/ 25560 w 404640"/>
              <a:gd name="textAreaRight" fmla="*/ 379080 w 404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2111" h="21600">
                <a:moveTo>
                  <a:pt x="0" y="0"/>
                </a:moveTo>
                <a:lnTo>
                  <a:pt x="22111" y="0"/>
                </a:lnTo>
                <a:lnTo>
                  <a:pt x="22111" y="21600"/>
                </a:lnTo>
                <a:lnTo>
                  <a:pt x="0" y="21600"/>
                </a:lnTo>
                <a:close/>
              </a:path>
              <a:path fill="lightenLess" w="22111" h="21600">
                <a:moveTo>
                  <a:pt x="0" y="0"/>
                </a:moveTo>
                <a:lnTo>
                  <a:pt x="22111" y="0"/>
                </a:lnTo>
                <a:lnTo>
                  <a:pt x="20711" y="1400"/>
                </a:lnTo>
                <a:lnTo>
                  <a:pt x="1400" y="1400"/>
                </a:lnTo>
                <a:close/>
              </a:path>
              <a:path fill="darken" w="22111" h="21600">
                <a:moveTo>
                  <a:pt x="22111" y="0"/>
                </a:moveTo>
                <a:lnTo>
                  <a:pt x="22111" y="21600"/>
                </a:lnTo>
                <a:lnTo>
                  <a:pt x="20711" y="20200"/>
                </a:lnTo>
                <a:lnTo>
                  <a:pt x="20711" y="1400"/>
                </a:lnTo>
                <a:close/>
              </a:path>
              <a:path fill="darkenLess" w="22111" h="21600">
                <a:moveTo>
                  <a:pt x="221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1" y="20200"/>
                </a:lnTo>
                <a:close/>
              </a:path>
              <a:path fill="lighten" w="221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1" h="21600">
                <a:moveTo>
                  <a:pt x="4049" y="10800"/>
                </a:moveTo>
                <a:lnTo>
                  <a:pt x="18062" y="3794"/>
                </a:lnTo>
                <a:lnTo>
                  <a:pt x="18062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258920" y="0"/>
            <a:ext cx="65530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99ffff"/>
                    </a:gs>
                  </a:gsLst>
                  <a:lin ang="5400000"/>
                </a:gradFill>
                <a:latin typeface="Monotype Corsiva"/>
              </a:rPr>
              <a:t>Рождение особ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99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Фрагмент микрокосмоса.WMV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4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324000" y="333360"/>
            <a:ext cx="85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cffff"/>
                    </a:gs>
                    <a:gs pos="100000">
                      <a:srgbClr val="66ffff"/>
                    </a:gs>
                  </a:gsLst>
                  <a:lin ang="5400000"/>
                </a:gradFill>
                <a:latin typeface="Monotype Corsiva"/>
              </a:rPr>
              <a:t>Постэмбриональный период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cffff"/>
                  </a:gs>
                  <a:gs pos="100000">
                    <a:srgbClr val="66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2340000" y="1844640"/>
            <a:ext cx="403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33cc"/>
                </a:solidFill>
                <a:effectLst>
                  <a:outerShdw dist="85328" dir="20006097" blurRad="0" rotWithShape="0">
                    <a:srgbClr val="800080"/>
                  </a:outerShdw>
                </a:effectLst>
                <a:latin typeface="Monotype Corsiva"/>
              </a:rPr>
              <a:t>Ювенильный этап.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33cc"/>
              </a:solidFill>
              <a:effectLst>
                <a:outerShdw dist="85328" dir="20006097" blurRad="0" rotWithShape="0">
                  <a:srgbClr val="80008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46" name="Picture 6" descr="j0238120"/>
          <p:cNvPicPr/>
          <p:nvPr/>
        </p:nvPicPr>
        <p:blipFill>
          <a:blip r:embed="rId1"/>
          <a:stretch/>
        </p:blipFill>
        <p:spPr>
          <a:xfrm>
            <a:off x="0" y="1700280"/>
            <a:ext cx="2374920" cy="1747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j0297731"/>
          <p:cNvPicPr/>
          <p:nvPr/>
        </p:nvPicPr>
        <p:blipFill>
          <a:blip r:embed="rId2"/>
          <a:stretch/>
        </p:blipFill>
        <p:spPr>
          <a:xfrm>
            <a:off x="4788000" y="5300640"/>
            <a:ext cx="1844640" cy="1349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j0301442"/>
          <p:cNvPicPr/>
          <p:nvPr/>
        </p:nvPicPr>
        <p:blipFill>
          <a:blip r:embed="rId3"/>
          <a:stretch/>
        </p:blipFill>
        <p:spPr>
          <a:xfrm>
            <a:off x="2987640" y="5084640"/>
            <a:ext cx="1787400" cy="1554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j0305527"/>
          <p:cNvPicPr/>
          <p:nvPr/>
        </p:nvPicPr>
        <p:blipFill>
          <a:blip r:embed="rId4"/>
          <a:stretch/>
        </p:blipFill>
        <p:spPr>
          <a:xfrm>
            <a:off x="6227640" y="2133720"/>
            <a:ext cx="1319400" cy="1823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j0305529"/>
          <p:cNvPicPr/>
          <p:nvPr/>
        </p:nvPicPr>
        <p:blipFill>
          <a:blip r:embed="rId5"/>
          <a:stretch/>
        </p:blipFill>
        <p:spPr>
          <a:xfrm>
            <a:off x="7335720" y="2276640"/>
            <a:ext cx="1808280" cy="18255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22"/>
          <p:cNvSpPr txBox="1"/>
          <p:nvPr/>
        </p:nvSpPr>
        <p:spPr>
          <a:xfrm>
            <a:off x="539640" y="4437000"/>
            <a:ext cx="208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latin typeface="Monotype Corsiva"/>
              </a:rPr>
              <a:t>Прямое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latin typeface="Monotype Corsiva"/>
              </a:rPr>
              <a:t>развитие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latin typeface="Monotype Corsiva"/>
              <a:ea typeface="Monotype Corsiva"/>
            </a:endParaRPr>
          </a:p>
        </p:txBody>
      </p:sp>
      <p:sp>
        <p:nvSpPr>
          <p:cNvPr id="152" name="WordArt 23"/>
          <p:cNvSpPr txBox="1"/>
          <p:nvPr/>
        </p:nvSpPr>
        <p:spPr>
          <a:xfrm>
            <a:off x="5724360" y="4365720"/>
            <a:ext cx="30974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latin typeface="Monotype Corsiva"/>
              </a:rPr>
              <a:t>Развитие с 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00cc"/>
                </a:solidFill>
                <a:latin typeface="Monotype Corsiva"/>
              </a:rPr>
              <a:t>метаморфозом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cc00cc"/>
              </a:solidFill>
              <a:latin typeface="Monotype Corsiva"/>
              <a:ea typeface="Monotype Corsiva"/>
            </a:endParaRPr>
          </a:p>
        </p:txBody>
      </p:sp>
      <p:pic>
        <p:nvPicPr>
          <p:cNvPr id="153" name="Picture 24" descr="стрелка сиреневая"/>
          <p:cNvPicPr/>
          <p:nvPr/>
        </p:nvPicPr>
        <p:blipFill>
          <a:blip r:embed="rId6"/>
          <a:stretch/>
        </p:blipFill>
        <p:spPr>
          <a:xfrm rot="18441600">
            <a:off x="1942200" y="3178440"/>
            <a:ext cx="1657080" cy="573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5" descr="стрелка сиреневая"/>
          <p:cNvPicPr/>
          <p:nvPr/>
        </p:nvPicPr>
        <p:blipFill>
          <a:blip r:embed="rId7"/>
          <a:stretch/>
        </p:blipFill>
        <p:spPr>
          <a:xfrm rot="13888200">
            <a:off x="4606200" y="3178440"/>
            <a:ext cx="16570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5"/>
          <p:cNvSpPr txBox="1"/>
          <p:nvPr/>
        </p:nvSpPr>
        <p:spPr>
          <a:xfrm>
            <a:off x="755640" y="260280"/>
            <a:ext cx="7775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cc"/>
                </a:solidFill>
                <a:effectLst>
                  <a:outerShdw dist="85328" dir="20006097" blurRad="0" rotWithShape="0">
                    <a:srgbClr val="800080"/>
                  </a:outerShdw>
                </a:effectLst>
                <a:latin typeface="Monotype Corsiva"/>
              </a:rPr>
              <a:t>Развитие с метаморфозом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cc"/>
              </a:solidFill>
              <a:effectLst>
                <a:outerShdw dist="85328" dir="20006097" blurRad="0" rotWithShape="0">
                  <a:srgbClr val="80008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6" name="Picture 6" descr="24_26"/>
          <p:cNvPicPr/>
          <p:nvPr/>
        </p:nvPicPr>
        <p:blipFill>
          <a:blip r:embed="rId1"/>
          <a:stretch/>
        </p:blipFill>
        <p:spPr>
          <a:xfrm>
            <a:off x="179280" y="1484280"/>
            <a:ext cx="518472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5581800" y="1700280"/>
            <a:ext cx="338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Из яйца вых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личинка, которая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воему строени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бразу жизни,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битания сущес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енно отли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т взрос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живо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усен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уколка, баб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Головастик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взрослая ляг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0"/>
          <p:cNvGrpSpPr/>
          <p:nvPr/>
        </p:nvGrpSpPr>
        <p:grpSpPr>
          <a:xfrm>
            <a:off x="1908000" y="189000"/>
            <a:ext cx="6912000" cy="4174920"/>
            <a:chOff x="1908000" y="189000"/>
            <a:chExt cx="6912000" cy="4174920"/>
          </a:xfrm>
        </p:grpSpPr>
        <p:sp>
          <p:nvSpPr>
            <p:cNvPr id="159" name="AutoShape 6"/>
            <p:cNvSpPr/>
            <p:nvPr/>
          </p:nvSpPr>
          <p:spPr>
            <a:xfrm>
              <a:off x="1908000" y="189000"/>
              <a:ext cx="6912000" cy="4174920"/>
            </a:xfrm>
            <a:prstGeom prst="verticalScroll">
              <a:avLst>
                <a:gd name="adj" fmla="val 5620"/>
              </a:avLst>
            </a:prstGeom>
            <a:gradFill rotWithShape="0">
              <a:gsLst>
                <a:gs pos="0">
                  <a:srgbClr val="96ab94"/>
                </a:gs>
                <a:gs pos="100000">
                  <a:srgbClr val="8488c4"/>
                </a:gs>
              </a:gsLst>
              <a:lin ang="18900000"/>
            </a:gra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2340000" y="475920"/>
              <a:ext cx="615924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Многие органы и системы орган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личинки существуют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функционируют лишь 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ювенильном этапе развития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«Превращаясь», личинка утрачива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эти образования(например, жабр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хвост, боковая линия у головастик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и преобретает орган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свойственные взрослом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животном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2"/>
          <p:cNvGrpSpPr/>
          <p:nvPr/>
        </p:nvGrpSpPr>
        <p:grpSpPr>
          <a:xfrm>
            <a:off x="2916360" y="4510080"/>
            <a:ext cx="5421600" cy="2347920"/>
            <a:chOff x="2916360" y="4510080"/>
            <a:chExt cx="5421600" cy="2347920"/>
          </a:xfrm>
        </p:grpSpPr>
        <p:pic>
          <p:nvPicPr>
            <p:cNvPr id="162" name="Picture 9" descr="06040501"/>
            <p:cNvPicPr/>
            <p:nvPr/>
          </p:nvPicPr>
          <p:blipFill>
            <a:blip r:embed="rId1"/>
            <a:stretch/>
          </p:blipFill>
          <p:spPr>
            <a:xfrm>
              <a:off x="2916360" y="4510080"/>
              <a:ext cx="54007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"/>
            <p:cNvSpPr/>
            <p:nvPr/>
          </p:nvSpPr>
          <p:spPr>
            <a:xfrm>
              <a:off x="3355200" y="6308640"/>
              <a:ext cx="49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ксолотль. Личинка тигровой амбисто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5"/>
          <p:cNvSpPr txBox="1"/>
          <p:nvPr/>
        </p:nvSpPr>
        <p:spPr>
          <a:xfrm>
            <a:off x="395280" y="189000"/>
            <a:ext cx="5904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cc"/>
                </a:solidFill>
                <a:effectLst>
                  <a:outerShdw dist="85328" dir="20006097" blurRad="0" rotWithShape="0">
                    <a:srgbClr val="800080"/>
                  </a:outerShdw>
                </a:effectLst>
                <a:latin typeface="Monotype Corsiva"/>
              </a:rPr>
              <a:t>Прямое развитие.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cc"/>
              </a:solidFill>
              <a:effectLst>
                <a:outerShdw dist="85328" dir="20006097" blurRad="0" rotWithShape="0">
                  <a:srgbClr val="80008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65" name="drozd.avi" descr=""/>
          <p:cNvPicPr/>
          <p:nvPr/>
        </p:nvPicPr>
        <p:blipFill>
          <a:blip r:embed="rId1"/>
          <a:stretch/>
        </p:blipFill>
        <p:spPr>
          <a:xfrm>
            <a:off x="0" y="1125360"/>
            <a:ext cx="6516720" cy="573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6526800" y="193680"/>
            <a:ext cx="2616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тличие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зрос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живот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заклю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в меньш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разме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новорожд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соб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недо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по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Поэтому ю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води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основном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росту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полов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созре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65964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640920" y="632952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розд белобр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1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1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10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1000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1000"/>
                                        <p:tgtEl>
                                          <p:spTgt spid="1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6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4"/>
          <p:cNvGrpSpPr/>
          <p:nvPr/>
        </p:nvGrpSpPr>
        <p:grpSpPr>
          <a:xfrm>
            <a:off x="0" y="0"/>
            <a:ext cx="3924360" cy="6858000"/>
            <a:chOff x="0" y="0"/>
            <a:chExt cx="3924360" cy="6858000"/>
          </a:xfrm>
        </p:grpSpPr>
        <p:sp>
          <p:nvSpPr>
            <p:cNvPr id="170" name="Film"/>
            <p:cNvSpPr/>
            <p:nvPr/>
          </p:nvSpPr>
          <p:spPr>
            <a:xfrm>
              <a:off x="0" y="0"/>
              <a:ext cx="3924360" cy="6858000"/>
            </a:xfrm>
            <a:custGeom>
              <a:avLst/>
              <a:gdLst>
                <a:gd name="textAreaLeft" fmla="*/ 901440 w 3924360"/>
                <a:gd name="textAreaRight" fmla="*/ 3103560 w 3924360"/>
                <a:gd name="textAreaTop" fmla="*/ 2581200 h 6858000"/>
                <a:gd name="textAreaBottom" fmla="*/ 4262400 h 685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f07800"/>
                </a:gs>
                <a:gs pos="50000">
                  <a:srgbClr val="ffffcc"/>
                </a:gs>
                <a:gs pos="100000">
                  <a:srgbClr val="f07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9" descr="10040407"/>
            <p:cNvPicPr/>
            <p:nvPr/>
          </p:nvPicPr>
          <p:blipFill>
            <a:blip r:embed="rId1"/>
            <a:stretch/>
          </p:blipFill>
          <p:spPr>
            <a:xfrm>
              <a:off x="599400" y="4581360"/>
              <a:ext cx="265896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j0262561.jpg" descr=""/>
            <p:cNvPicPr/>
            <p:nvPr/>
          </p:nvPicPr>
          <p:blipFill>
            <a:blip r:embed="rId2"/>
            <a:stretch/>
          </p:blipFill>
          <p:spPr>
            <a:xfrm>
              <a:off x="599400" y="2421000"/>
              <a:ext cx="269136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8" descr="10040402"/>
            <p:cNvPicPr/>
            <p:nvPr/>
          </p:nvPicPr>
          <p:blipFill>
            <a:blip r:embed="rId3"/>
            <a:stretch/>
          </p:blipFill>
          <p:spPr>
            <a:xfrm>
              <a:off x="599400" y="189000"/>
              <a:ext cx="2692800" cy="19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19"/>
          <p:cNvGrpSpPr/>
          <p:nvPr/>
        </p:nvGrpSpPr>
        <p:grpSpPr>
          <a:xfrm>
            <a:off x="3635280" y="1557360"/>
            <a:ext cx="5508720" cy="4751280"/>
            <a:chOff x="3635280" y="1557360"/>
            <a:chExt cx="5508720" cy="4751280"/>
          </a:xfrm>
        </p:grpSpPr>
        <p:sp>
          <p:nvSpPr>
            <p:cNvPr id="175" name="AutoShape 16"/>
            <p:cNvSpPr/>
            <p:nvPr/>
          </p:nvSpPr>
          <p:spPr>
            <a:xfrm>
              <a:off x="3635280" y="1557360"/>
              <a:ext cx="5508720" cy="4751280"/>
            </a:xfrm>
            <a:prstGeom prst="verticalScroll">
              <a:avLst>
                <a:gd name="adj" fmla="val 722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3780000" y="2349360"/>
              <a:ext cx="5364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Прекращаются процесс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роста и дифференциров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впериод зрелости живот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активно участвуют 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размножении, выполня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репродуктивную функц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и обеспечивая, тем самым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сохранение вид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8"/>
          <p:cNvGrpSpPr/>
          <p:nvPr/>
        </p:nvGrpSpPr>
        <p:grpSpPr>
          <a:xfrm>
            <a:off x="0" y="0"/>
            <a:ext cx="3924360" cy="6858000"/>
            <a:chOff x="0" y="0"/>
            <a:chExt cx="3924360" cy="6858000"/>
          </a:xfrm>
        </p:grpSpPr>
        <p:sp>
          <p:nvSpPr>
            <p:cNvPr id="178" name="Film"/>
            <p:cNvSpPr/>
            <p:nvPr/>
          </p:nvSpPr>
          <p:spPr>
            <a:xfrm>
              <a:off x="0" y="0"/>
              <a:ext cx="3924360" cy="6858000"/>
            </a:xfrm>
            <a:custGeom>
              <a:avLst/>
              <a:gdLst>
                <a:gd name="textAreaLeft" fmla="*/ 901440 w 3924360"/>
                <a:gd name="textAreaRight" fmla="*/ 3103920 w 3924360"/>
                <a:gd name="textAreaTop" fmla="*/ 2581200 h 6858000"/>
                <a:gd name="textAreaBottom" fmla="*/ 4262400 h 685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gradFill rotWithShape="0">
              <a:gsLst>
                <a:gs pos="0">
                  <a:srgbClr val="f07800"/>
                </a:gs>
                <a:gs pos="50000">
                  <a:srgbClr val="ffffcc"/>
                </a:gs>
                <a:gs pos="100000">
                  <a:srgbClr val="f07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j0185174.jpg" descr=""/>
            <p:cNvPicPr/>
            <p:nvPr/>
          </p:nvPicPr>
          <p:blipFill>
            <a:blip r:embed="rId5"/>
            <a:stretch/>
          </p:blipFill>
          <p:spPr>
            <a:xfrm>
              <a:off x="611280" y="2408400"/>
              <a:ext cx="2665440" cy="20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j0202031.jpg" descr=""/>
            <p:cNvPicPr/>
            <p:nvPr/>
          </p:nvPicPr>
          <p:blipFill>
            <a:blip r:embed="rId6"/>
            <a:stretch/>
          </p:blipFill>
          <p:spPr>
            <a:xfrm>
              <a:off x="611280" y="4724280"/>
              <a:ext cx="2714400" cy="19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j0308982.jpg" descr=""/>
            <p:cNvPicPr/>
            <p:nvPr/>
          </p:nvPicPr>
          <p:blipFill>
            <a:blip r:embed="rId7"/>
            <a:stretch/>
          </p:blipFill>
          <p:spPr>
            <a:xfrm>
              <a:off x="611280" y="189000"/>
              <a:ext cx="2735280" cy="19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WordArt 4"/>
          <p:cNvSpPr txBox="1"/>
          <p:nvPr/>
        </p:nvSpPr>
        <p:spPr>
          <a:xfrm rot="21353400">
            <a:off x="3708360" y="279360"/>
            <a:ext cx="542304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72"/>
                    </a:gs>
                  </a:gsLst>
                  <a:lin ang="5646000"/>
                </a:gradFill>
                <a:latin typeface="Monotype Corsiva"/>
              </a:rPr>
              <a:t>Этап зрелост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72"/>
                  </a:gs>
                </a:gsLst>
                <a:lin ang="5646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7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8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8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6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j0343525"/>
          <p:cNvPicPr/>
          <p:nvPr/>
        </p:nvPicPr>
        <p:blipFill>
          <a:blip r:embed="rId1"/>
          <a:stretch/>
        </p:blipFill>
        <p:spPr>
          <a:xfrm>
            <a:off x="4859280" y="404640"/>
            <a:ext cx="3786120" cy="2048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j0240569"/>
          <p:cNvPicPr/>
          <p:nvPr/>
        </p:nvPicPr>
        <p:blipFill>
          <a:blip r:embed="rId2"/>
          <a:stretch/>
        </p:blipFill>
        <p:spPr>
          <a:xfrm>
            <a:off x="0" y="3789360"/>
            <a:ext cx="2725560" cy="2881440"/>
          </a:xfrm>
          <a:prstGeom prst="rect">
            <a:avLst/>
          </a:prstGeom>
          <a:ln w="0">
            <a:noFill/>
          </a:ln>
        </p:spPr>
      </p:pic>
      <p:sp>
        <p:nvSpPr>
          <p:cNvPr id="185" name="WordArt 6"/>
          <p:cNvSpPr txBox="1"/>
          <p:nvPr/>
        </p:nvSpPr>
        <p:spPr>
          <a:xfrm>
            <a:off x="539640" y="260280"/>
            <a:ext cx="388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Этап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старе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3203640" y="2276640"/>
            <a:ext cx="5688000" cy="4581360"/>
            <a:chOff x="3203640" y="2276640"/>
            <a:chExt cx="5688000" cy="4581360"/>
          </a:xfrm>
        </p:grpSpPr>
        <p:sp>
          <p:nvSpPr>
            <p:cNvPr id="187" name="AutoShape 7"/>
            <p:cNvSpPr/>
            <p:nvPr/>
          </p:nvSpPr>
          <p:spPr>
            <a:xfrm>
              <a:off x="3203640" y="2276640"/>
              <a:ext cx="5688000" cy="4581360"/>
            </a:xfrm>
            <a:prstGeom prst="horizontalScroll">
              <a:avLst>
                <a:gd name="adj" fmla="val 493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3491280" y="2637000"/>
              <a:ext cx="5373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Уменьшается масса тела 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отдельных органов, их размеры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снижается функциона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активность различных систе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и происходит медлен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«затухание», «угасание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жизненных процессов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организме. В какой – то моме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система прекращает функцио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нировать, и наступает смер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979640" y="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248e24"/>
                    </a:gs>
                    <a:gs pos="100000">
                      <a:srgbClr val="33cc33"/>
                    </a:gs>
                  </a:gsLst>
                  <a:lin ang="5400000"/>
                </a:gradFill>
                <a:effectLst>
                  <a:outerShdw dist="38160" dir="0" blurRad="0" rotWithShape="0">
                    <a:srgbClr val="003300"/>
                  </a:outerShdw>
                </a:effectLst>
                <a:latin typeface="Palatino Linotype"/>
              </a:rPr>
              <a:t>Дробление зигот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248e24"/>
                  </a:gs>
                  <a:gs pos="100000">
                    <a:srgbClr val="33cc33"/>
                  </a:gs>
                </a:gsLst>
                <a:lin ang="5400000"/>
              </a:gradFill>
              <a:effectLst>
                <a:outerShdw dist="38160" dir="0" blurRad="0" rotWithShape="0">
                  <a:srgbClr val="003300"/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047320" y="1197000"/>
            <a:ext cx="657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серия последов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итотических делений зиг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 flipV="1">
            <a:off x="4140360" y="3141720"/>
            <a:ext cx="3240000" cy="22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2050920" y="2565360"/>
            <a:ext cx="3097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ff00"/>
                </a:solidFill>
                <a:latin typeface="Monotype Corsiva"/>
              </a:rPr>
              <a:t>Бластомеры.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ff00"/>
              </a:solidFill>
              <a:latin typeface="Monotype Corsiva"/>
              <a:ea typeface="Monotype Corsiva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1403280" y="3141360"/>
            <a:ext cx="1584360" cy="237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3203640" y="3213000"/>
            <a:ext cx="14436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H="1" flipV="1">
            <a:off x="3850920" y="3141720"/>
            <a:ext cx="1584360" cy="251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8" descr="1"/>
          <p:cNvPicPr/>
          <p:nvPr/>
        </p:nvPicPr>
        <p:blipFill>
          <a:blip r:embed="rId1"/>
          <a:stretch/>
        </p:blipFill>
        <p:spPr>
          <a:xfrm>
            <a:off x="468360" y="51577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2"/>
          <p:cNvPicPr/>
          <p:nvPr/>
        </p:nvPicPr>
        <p:blipFill>
          <a:blip r:embed="rId2"/>
          <a:srcRect l="18989" t="18989" r="15021" b="24374"/>
          <a:stretch/>
        </p:blipFill>
        <p:spPr>
          <a:xfrm>
            <a:off x="2484360" y="5870520"/>
            <a:ext cx="115092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3"/>
          <p:cNvPicPr/>
          <p:nvPr/>
        </p:nvPicPr>
        <p:blipFill>
          <a:blip r:embed="rId3"/>
          <a:srcRect l="18989" t="18989" r="15021" b="24374"/>
          <a:stretch/>
        </p:blipFill>
        <p:spPr>
          <a:xfrm>
            <a:off x="5003640" y="5589720"/>
            <a:ext cx="1152720" cy="98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1" descr="4"/>
          <p:cNvPicPr/>
          <p:nvPr/>
        </p:nvPicPr>
        <p:blipFill>
          <a:blip r:embed="rId4"/>
          <a:srcRect l="18989" t="18753" r="0" b="0"/>
          <a:stretch/>
        </p:blipFill>
        <p:spPr>
          <a:xfrm>
            <a:off x="7093080" y="5013360"/>
            <a:ext cx="140796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mph" presetID="23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4" descr="6"/>
          <p:cNvPicPr/>
          <p:nvPr/>
        </p:nvPicPr>
        <p:blipFill>
          <a:blip r:embed="rId1"/>
          <a:srcRect l="5880" t="11053" r="11760" b="14029"/>
          <a:stretch/>
        </p:blipFill>
        <p:spPr>
          <a:xfrm>
            <a:off x="1332000" y="2133720"/>
            <a:ext cx="3240000" cy="26226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539640" y="260280"/>
            <a:ext cx="633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76ffff"/>
                    </a:gs>
                  </a:gsLst>
                  <a:lin ang="5400000"/>
                </a:gradFill>
                <a:latin typeface="Monotype Corsiva"/>
              </a:rPr>
              <a:t>Образование бластул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76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356000" y="3357720"/>
            <a:ext cx="1871640" cy="485640"/>
          </a:xfrm>
          <a:custGeom>
            <a:avLst/>
            <a:gdLst>
              <a:gd name="textAreaLeft" fmla="*/ 61560 w 1871640"/>
              <a:gd name="textAreaRight" fmla="*/ 1810080 w 1871640"/>
              <a:gd name="textAreaTop" fmla="*/ 195120 h 485640"/>
              <a:gd name="textAreaBottom" fmla="*/ 2905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8682"/>
                </a:moveTo>
                <a:lnTo>
                  <a:pt x="17970" y="8682"/>
                </a:lnTo>
                <a:lnTo>
                  <a:pt x="17970" y="0"/>
                </a:lnTo>
                <a:lnTo>
                  <a:pt x="21600" y="10800"/>
                </a:lnTo>
                <a:lnTo>
                  <a:pt x="17970" y="21600"/>
                </a:lnTo>
                <a:lnTo>
                  <a:pt x="17970" y="12918"/>
                </a:lnTo>
                <a:lnTo>
                  <a:pt x="0" y="12918"/>
                </a:lnTo>
                <a:lnTo>
                  <a:pt x="712" y="10800"/>
                </a:lnTo>
                <a:lnTo>
                  <a:pt x="0" y="8682"/>
                </a:lnTo>
                <a:close/>
              </a:path>
            </a:pathLst>
          </a:custGeom>
          <a:solidFill>
            <a:srgbClr val="00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 rot="1956600">
            <a:off x="2804760" y="4319640"/>
            <a:ext cx="2519280" cy="485640"/>
          </a:xfrm>
          <a:custGeom>
            <a:avLst/>
            <a:gdLst>
              <a:gd name="textAreaLeft" fmla="*/ 82800 w 2519280"/>
              <a:gd name="textAreaRight" fmla="*/ 2436480 w 2519280"/>
              <a:gd name="textAreaTop" fmla="*/ 195120 h 485640"/>
              <a:gd name="textAreaBottom" fmla="*/ 2905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8682"/>
                </a:moveTo>
                <a:lnTo>
                  <a:pt x="17970" y="8682"/>
                </a:lnTo>
                <a:lnTo>
                  <a:pt x="17970" y="0"/>
                </a:lnTo>
                <a:lnTo>
                  <a:pt x="21600" y="10800"/>
                </a:lnTo>
                <a:lnTo>
                  <a:pt x="17970" y="21600"/>
                </a:lnTo>
                <a:lnTo>
                  <a:pt x="17970" y="12918"/>
                </a:lnTo>
                <a:lnTo>
                  <a:pt x="0" y="12918"/>
                </a:lnTo>
                <a:lnTo>
                  <a:pt x="712" y="10800"/>
                </a:lnTo>
                <a:lnTo>
                  <a:pt x="0" y="8682"/>
                </a:lnTo>
                <a:close/>
              </a:path>
            </a:pathLst>
          </a:custGeom>
          <a:solidFill>
            <a:srgbClr val="00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2"/>
          <p:cNvSpPr txBox="1"/>
          <p:nvPr/>
        </p:nvSpPr>
        <p:spPr>
          <a:xfrm>
            <a:off x="6443640" y="3357720"/>
            <a:ext cx="2362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Бластодерм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86" name="WordArt 13"/>
          <p:cNvSpPr txBox="1"/>
          <p:nvPr/>
        </p:nvSpPr>
        <p:spPr>
          <a:xfrm>
            <a:off x="4643280" y="4869000"/>
            <a:ext cx="403236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Бластоцель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(заполнена жидкостью)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6" descr="7"/>
          <p:cNvPicPr/>
          <p:nvPr/>
        </p:nvPicPr>
        <p:blipFill>
          <a:blip r:embed="rId1"/>
          <a:srcRect l="5442" t="0" r="10809" b="0"/>
          <a:stretch/>
        </p:blipFill>
        <p:spPr>
          <a:xfrm>
            <a:off x="5219640" y="2276640"/>
            <a:ext cx="2376720" cy="2268360"/>
          </a:xfrm>
          <a:prstGeom prst="rect">
            <a:avLst/>
          </a:prstGeom>
          <a:ln w="0">
            <a:noFill/>
          </a:ln>
        </p:spPr>
      </p:pic>
      <p:sp>
        <p:nvSpPr>
          <p:cNvPr id="88" name="WordArt 7"/>
          <p:cNvSpPr txBox="1"/>
          <p:nvPr/>
        </p:nvSpPr>
        <p:spPr>
          <a:xfrm>
            <a:off x="539640" y="260280"/>
            <a:ext cx="741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adff91"/>
                    </a:gs>
                  </a:gsLst>
                  <a:lin ang="5400000"/>
                </a:gradFill>
                <a:latin typeface="Monotype Corsiva"/>
              </a:rPr>
              <a:t>Образование гаструл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adff91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3708360" y="1557360"/>
            <a:ext cx="2362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Эктодерм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4788000" y="5805360"/>
            <a:ext cx="3946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solidFill>
                  <a:srgbClr val="ff9900"/>
                </a:solidFill>
                <a:latin typeface="Monotype Corsiva"/>
              </a:rPr>
              <a:t>Первичная кишка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solidFill>
                <a:srgbClr val="ff9900"/>
              </a:solidFill>
              <a:latin typeface="Monotype Corsiva"/>
              <a:ea typeface="Monotype Corsiva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2484360" y="4292640"/>
            <a:ext cx="2362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33"/>
                </a:solidFill>
                <a:latin typeface="Monotype Corsiva"/>
              </a:rPr>
              <a:t>Энтодерма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33"/>
              </a:solidFill>
              <a:latin typeface="Monotype Corsiva"/>
              <a:ea typeface="Monotype Corsiva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395280" y="5373720"/>
            <a:ext cx="3887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Бластопор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(первичный рот)</a:t>
            </a:r>
            <a:endParaRPr b="1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6372360" y="3284640"/>
            <a:ext cx="360360" cy="252072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 flipH="1">
            <a:off x="4066920" y="4005360"/>
            <a:ext cx="2089080" cy="1439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5"/>
          <p:cNvPicPr/>
          <p:nvPr/>
        </p:nvPicPr>
        <p:blipFill>
          <a:blip r:embed="rId2"/>
          <a:srcRect l="0" t="19225" r="7308" b="9447"/>
          <a:stretch/>
        </p:blipFill>
        <p:spPr>
          <a:xfrm>
            <a:off x="755640" y="2276640"/>
            <a:ext cx="2879640" cy="1969920"/>
          </a:xfrm>
          <a:prstGeom prst="rect">
            <a:avLst/>
          </a:prstGeom>
          <a:ln w="0">
            <a:noFill/>
          </a:ln>
        </p:spPr>
      </p:pic>
      <p:sp>
        <p:nvSpPr>
          <p:cNvPr id="96" name="Line 17"/>
          <p:cNvSpPr/>
          <p:nvPr/>
        </p:nvSpPr>
        <p:spPr>
          <a:xfrm flipH="1" flipV="1">
            <a:off x="4932360" y="2060640"/>
            <a:ext cx="649440" cy="1008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>
            <a:off x="4140000" y="3716280"/>
            <a:ext cx="1439640" cy="6494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5"/>
          <p:cNvSpPr txBox="1"/>
          <p:nvPr/>
        </p:nvSpPr>
        <p:spPr>
          <a:xfrm>
            <a:off x="179280" y="333360"/>
            <a:ext cx="871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4e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latin typeface="Monotype Corsiva"/>
              </a:rPr>
              <a:t>Завершается гаструляция </a:t>
            </a:r>
            <a:endParaRPr b="0" lang="en-US" sz="1800" spc="1" strike="noStrike">
              <a:ln w="9360">
                <a:solidFill>
                  <a:srgbClr val="c0004e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76002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0004e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76002f"/>
                    </a:gs>
                  </a:gsLst>
                  <a:lin ang="5400000"/>
                </a:gradFill>
                <a:latin typeface="Monotype Corsiva"/>
              </a:rPr>
              <a:t>образованием мезодермы.</a:t>
            </a:r>
            <a:endParaRPr b="0" lang="en-US" sz="1800" spc="1" strike="noStrike">
              <a:ln w="9360">
                <a:solidFill>
                  <a:srgbClr val="c0004e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76002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99" name="Group 18"/>
          <p:cNvGrpSpPr/>
          <p:nvPr/>
        </p:nvGrpSpPr>
        <p:grpSpPr>
          <a:xfrm>
            <a:off x="2700360" y="2924280"/>
            <a:ext cx="3166920" cy="3166920"/>
            <a:chOff x="2700360" y="2924280"/>
            <a:chExt cx="3166920" cy="3166920"/>
          </a:xfrm>
        </p:grpSpPr>
        <p:sp>
          <p:nvSpPr>
            <p:cNvPr id="100" name="Oval 7"/>
            <p:cNvSpPr/>
            <p:nvPr/>
          </p:nvSpPr>
          <p:spPr>
            <a:xfrm>
              <a:off x="2700360" y="2924280"/>
              <a:ext cx="3166920" cy="31669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"/>
            <p:cNvSpPr/>
            <p:nvPr/>
          </p:nvSpPr>
          <p:spPr>
            <a:xfrm>
              <a:off x="3205080" y="3427200"/>
              <a:ext cx="2160720" cy="216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3636720" y="3932280"/>
              <a:ext cx="1224000" cy="1224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2"/>
            <p:cNvSpPr/>
            <p:nvPr/>
          </p:nvSpPr>
          <p:spPr>
            <a:xfrm>
              <a:off x="3997080" y="4219560"/>
              <a:ext cx="57636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5"/>
          <p:cNvSpPr/>
          <p:nvPr/>
        </p:nvSpPr>
        <p:spPr>
          <a:xfrm flipV="1">
            <a:off x="4643280" y="4221000"/>
            <a:ext cx="2665440" cy="50328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 flipV="1">
            <a:off x="1332000" y="4149360"/>
            <a:ext cx="1727280" cy="64764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050920" y="5300640"/>
            <a:ext cx="1873440" cy="64944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9"/>
          <p:cNvSpPr txBox="1"/>
          <p:nvPr/>
        </p:nvSpPr>
        <p:spPr>
          <a:xfrm>
            <a:off x="250920" y="3500280"/>
            <a:ext cx="23619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009900"/>
                </a:solidFill>
                <a:latin typeface="Monotype Corsiva"/>
              </a:rPr>
              <a:t>Эктодерма</a:t>
            </a:r>
            <a:endParaRPr b="1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009900"/>
              </a:solidFill>
              <a:latin typeface="Monotype Corsiva"/>
              <a:ea typeface="Monotype Corsiva"/>
            </a:endParaRPr>
          </a:p>
        </p:txBody>
      </p:sp>
      <p:sp>
        <p:nvSpPr>
          <p:cNvPr id="108" name="WordArt 20"/>
          <p:cNvSpPr txBox="1"/>
          <p:nvPr/>
        </p:nvSpPr>
        <p:spPr>
          <a:xfrm>
            <a:off x="6516720" y="3645000"/>
            <a:ext cx="2362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Monotype Corsiva"/>
              </a:rPr>
              <a:t>Энтодерма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Monotype Corsiva"/>
              <a:ea typeface="Monotype Corsiva"/>
            </a:endParaRPr>
          </a:p>
        </p:txBody>
      </p:sp>
      <p:sp>
        <p:nvSpPr>
          <p:cNvPr id="109" name="WordArt 21"/>
          <p:cNvSpPr txBox="1"/>
          <p:nvPr/>
        </p:nvSpPr>
        <p:spPr>
          <a:xfrm>
            <a:off x="611280" y="6021360"/>
            <a:ext cx="2361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33"/>
                </a:solidFill>
                <a:latin typeface="Monotype Corsiva"/>
              </a:rPr>
              <a:t>Мезодерма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3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mph" presetID="22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8"/>
          <p:cNvSpPr txBox="1"/>
          <p:nvPr/>
        </p:nvSpPr>
        <p:spPr>
          <a:xfrm>
            <a:off x="6588000" y="1557360"/>
            <a:ext cx="230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99ffff"/>
                    </a:gs>
                  </a:gsLst>
                  <a:lin ang="5400000"/>
                </a:gradFill>
                <a:latin typeface="Monotype Corsiva"/>
              </a:rPr>
              <a:t>Энт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99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826920" y="189000"/>
            <a:ext cx="7777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99"/>
                    </a:gs>
                    <a:gs pos="100000">
                      <a:srgbClr val="99ffbb"/>
                    </a:gs>
                  </a:gsLst>
                  <a:lin ang="5400000"/>
                </a:gradFill>
                <a:latin typeface="Monotype Corsiva"/>
              </a:rPr>
              <a:t>Гистогенез и органогенез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99"/>
                  </a:gs>
                  <a:gs pos="100000">
                    <a:srgbClr val="99ffbb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3203640" y="573408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77bb"/>
                    </a:gs>
                  </a:gsLst>
                  <a:lin ang="5400000"/>
                </a:gradFill>
                <a:latin typeface="Monotype Corsiva"/>
              </a:rPr>
              <a:t>Мез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77bb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13" name="WordArt 15"/>
          <p:cNvSpPr txBox="1"/>
          <p:nvPr/>
        </p:nvSpPr>
        <p:spPr>
          <a:xfrm>
            <a:off x="250920" y="1484280"/>
            <a:ext cx="25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55"/>
                    </a:gs>
                  </a:gsLst>
                  <a:lin ang="5400000"/>
                </a:gradFill>
                <a:latin typeface="Monotype Corsiva"/>
              </a:rPr>
              <a:t>Экт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55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14" name="Picture 16" descr="8"/>
          <p:cNvPicPr/>
          <p:nvPr/>
        </p:nvPicPr>
        <p:blipFill>
          <a:blip r:embed="rId1"/>
          <a:stretch/>
        </p:blipFill>
        <p:spPr>
          <a:xfrm>
            <a:off x="2666880" y="1285920"/>
            <a:ext cx="3810240" cy="4286160"/>
          </a:xfrm>
          <a:prstGeom prst="rect">
            <a:avLst/>
          </a:prstGeom>
          <a:ln w="0">
            <a:noFill/>
          </a:ln>
        </p:spPr>
      </p:pic>
      <p:sp>
        <p:nvSpPr>
          <p:cNvPr id="115" name="Line 17"/>
          <p:cNvSpPr/>
          <p:nvPr/>
        </p:nvSpPr>
        <p:spPr>
          <a:xfrm>
            <a:off x="3276720" y="3789360"/>
            <a:ext cx="718920" cy="1944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H="1">
            <a:off x="4932000" y="3573360"/>
            <a:ext cx="1079640" cy="22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5435640" y="2421000"/>
            <a:ext cx="2016000" cy="12952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2195640" y="2421000"/>
            <a:ext cx="792000" cy="12240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2050920" y="189000"/>
            <a:ext cx="684072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55"/>
                    </a:gs>
                  </a:gsLst>
                  <a:lin ang="5400000"/>
                </a:gradFill>
                <a:latin typeface="Monotype Corsiva"/>
              </a:rPr>
              <a:t>Экт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55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20" name="Picture 5" descr="гол"/>
          <p:cNvPicPr/>
          <p:nvPr/>
        </p:nvPicPr>
        <p:blipFill>
          <a:blip r:embed="rId1"/>
          <a:stretch/>
        </p:blipFill>
        <p:spPr>
          <a:xfrm>
            <a:off x="0" y="692280"/>
            <a:ext cx="1657440" cy="2122200"/>
          </a:xfrm>
          <a:prstGeom prst="rect">
            <a:avLst/>
          </a:prstGeom>
          <a:ln w="0">
            <a:noFill/>
          </a:ln>
        </p:spPr>
      </p:pic>
      <p:pic>
        <p:nvPicPr>
          <p:cNvPr id="121" name="j0177936.jpg" descr=""/>
          <p:cNvPicPr/>
          <p:nvPr/>
        </p:nvPicPr>
        <p:blipFill>
          <a:blip r:embed="rId2"/>
          <a:stretch/>
        </p:blipFill>
        <p:spPr>
          <a:xfrm>
            <a:off x="5796000" y="2852640"/>
            <a:ext cx="2496960" cy="1663920"/>
          </a:xfrm>
          <a:prstGeom prst="rect">
            <a:avLst/>
          </a:prstGeom>
          <a:ln w="0">
            <a:noFill/>
          </a:ln>
        </p:spPr>
      </p:pic>
      <p:pic>
        <p:nvPicPr>
          <p:cNvPr id="122" name="j0289692.jpg" descr=""/>
          <p:cNvPicPr/>
          <p:nvPr/>
        </p:nvPicPr>
        <p:blipFill>
          <a:blip r:embed="rId3"/>
          <a:stretch/>
        </p:blipFill>
        <p:spPr>
          <a:xfrm>
            <a:off x="7308720" y="4437000"/>
            <a:ext cx="16192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7"/>
          <p:cNvGrpSpPr/>
          <p:nvPr/>
        </p:nvGrpSpPr>
        <p:grpSpPr>
          <a:xfrm>
            <a:off x="1042920" y="1341360"/>
            <a:ext cx="4967280" cy="5183280"/>
            <a:chOff x="1042920" y="1341360"/>
            <a:chExt cx="4967280" cy="5183280"/>
          </a:xfrm>
        </p:grpSpPr>
        <p:sp>
          <p:nvSpPr>
            <p:cNvPr id="124" name="AutoShape 12"/>
            <p:cNvSpPr/>
            <p:nvPr/>
          </p:nvSpPr>
          <p:spPr>
            <a:xfrm>
              <a:off x="1042920" y="1341360"/>
              <a:ext cx="4967280" cy="5183280"/>
            </a:xfrm>
            <a:prstGeom prst="verticalScroll">
              <a:avLst>
                <a:gd name="adj" fmla="val 875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18900000"/>
            </a:gradFill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WordArt 13"/>
            <p:cNvSpPr txBox="1"/>
            <p:nvPr/>
          </p:nvSpPr>
          <p:spPr>
            <a:xfrm>
              <a:off x="1979640" y="1844640"/>
              <a:ext cx="3095640" cy="61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Monotype Corsiva"/>
                </a:rPr>
                <a:t>Образует:</a:t>
              </a:r>
              <a:endParaRPr b="1" lang="en-US" sz="1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Monotype Corsiva"/>
                <a:ea typeface="Monotype Corsiva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1762200" y="2492280"/>
              <a:ext cx="3762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66"/>
                  </a:solidFill>
                  <a:latin typeface="Arial"/>
                </a:rPr>
                <a:t>1.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Покровную 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(эпидермис), с железа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ми и производны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(кутикула, хитин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известковые ракови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ны, волосы, перь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чешуя, когти, копыт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ногти и т.д.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66"/>
                  </a:solidFill>
                  <a:latin typeface="Arial"/>
                </a:rPr>
                <a:t>2.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Нервную систем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i="1" lang="ru-RU" sz="2400" spc="-1" strike="noStrike">
                  <a:solidFill>
                    <a:srgbClr val="000066"/>
                  </a:solidFill>
                  <a:latin typeface="Arial"/>
                </a:rPr>
                <a:t>Органы чувств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8"/>
          <p:cNvSpPr txBox="1"/>
          <p:nvPr/>
        </p:nvSpPr>
        <p:spPr>
          <a:xfrm>
            <a:off x="2411280" y="260280"/>
            <a:ext cx="64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99ffff"/>
                    </a:gs>
                  </a:gsLst>
                  <a:lin ang="5400000"/>
                </a:gradFill>
                <a:latin typeface="Monotype Corsiva"/>
              </a:rPr>
              <a:t>Энт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99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28" name="Picture 12" descr="07020503"/>
          <p:cNvPicPr/>
          <p:nvPr/>
        </p:nvPicPr>
        <p:blipFill>
          <a:blip r:embed="rId1"/>
          <a:srcRect l="0" t="0" r="51500" b="0"/>
          <a:stretch/>
        </p:blipFill>
        <p:spPr>
          <a:xfrm>
            <a:off x="0" y="0"/>
            <a:ext cx="2081160" cy="214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пищеварительная система"/>
          <p:cNvPicPr/>
          <p:nvPr/>
        </p:nvPicPr>
        <p:blipFill>
          <a:blip r:embed="rId2"/>
          <a:srcRect l="18915" t="0" r="9335" b="0"/>
          <a:stretch/>
        </p:blipFill>
        <p:spPr>
          <a:xfrm>
            <a:off x="7142040" y="1125360"/>
            <a:ext cx="2001960" cy="5301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9"/>
          <p:cNvGrpSpPr/>
          <p:nvPr/>
        </p:nvGrpSpPr>
        <p:grpSpPr>
          <a:xfrm>
            <a:off x="684360" y="2060640"/>
            <a:ext cx="5903640" cy="4537080"/>
            <a:chOff x="684360" y="2060640"/>
            <a:chExt cx="5903640" cy="4537080"/>
          </a:xfrm>
        </p:grpSpPr>
        <p:sp>
          <p:nvSpPr>
            <p:cNvPr id="131" name="AutoShape 15"/>
            <p:cNvSpPr/>
            <p:nvPr/>
          </p:nvSpPr>
          <p:spPr>
            <a:xfrm>
              <a:off x="684360" y="2060640"/>
              <a:ext cx="5903640" cy="4537080"/>
            </a:xfrm>
            <a:prstGeom prst="horizontalScroll">
              <a:avLst>
                <a:gd name="adj" fmla="val 5879"/>
              </a:avLst>
            </a:prstGeom>
            <a:gradFill rotWithShape="0">
              <a:gsLst>
                <a:gs pos="0">
                  <a:srgbClr val="f8b049"/>
                </a:gs>
                <a:gs pos="100000">
                  <a:srgbClr val="f8b049"/>
                </a:gs>
              </a:gsLst>
              <a:lin ang="18900000"/>
            </a:gra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6"/>
            <p:cNvSpPr txBox="1"/>
            <p:nvPr/>
          </p:nvSpPr>
          <p:spPr>
            <a:xfrm>
              <a:off x="1692360" y="2637000"/>
              <a:ext cx="4103640" cy="75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660066"/>
                    </a:solidFill>
                    <a:miter/>
                  </a:ln>
                  <a:solidFill>
                    <a:srgbClr val="00ffff"/>
                  </a:solidFill>
                  <a:latin typeface="Monotype Corsiva"/>
                </a:rPr>
                <a:t>Образует:</a:t>
              </a:r>
              <a:endParaRPr b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ffff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133" name="Text Box 18"/>
            <p:cNvSpPr/>
            <p:nvPr/>
          </p:nvSpPr>
          <p:spPr>
            <a:xfrm>
              <a:off x="1334160" y="3573360"/>
              <a:ext cx="4978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1.Пищеварительную систем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Железы: печен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поджелудочную желез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2.У хордовых – хорд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660033"/>
                  </a:solidFill>
                  <a:latin typeface="Arial"/>
                </a:rPr>
                <a:t>3.Дыхательную систем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547640" y="333360"/>
            <a:ext cx="60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77bb"/>
                    </a:gs>
                  </a:gsLst>
                  <a:lin ang="5400000"/>
                </a:gradFill>
                <a:latin typeface="Monotype Corsiva"/>
              </a:rPr>
              <a:t>Мезоде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77bb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35" name="Picture 9" descr="10020901"/>
          <p:cNvPicPr/>
          <p:nvPr/>
        </p:nvPicPr>
        <p:blipFill>
          <a:blip r:embed="rId1"/>
          <a:stretch/>
        </p:blipFill>
        <p:spPr>
          <a:xfrm>
            <a:off x="179280" y="4797360"/>
            <a:ext cx="2221200" cy="18511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5"/>
          <p:cNvGrpSpPr/>
          <p:nvPr/>
        </p:nvGrpSpPr>
        <p:grpSpPr>
          <a:xfrm>
            <a:off x="2771640" y="1700280"/>
            <a:ext cx="6193080" cy="4897440"/>
            <a:chOff x="2771640" y="1700280"/>
            <a:chExt cx="6193080" cy="4897440"/>
          </a:xfrm>
        </p:grpSpPr>
        <p:sp>
          <p:nvSpPr>
            <p:cNvPr id="137" name="AutoShape 11"/>
            <p:cNvSpPr/>
            <p:nvPr/>
          </p:nvSpPr>
          <p:spPr>
            <a:xfrm>
              <a:off x="2771640" y="1700280"/>
              <a:ext cx="6193080" cy="4897440"/>
            </a:xfrm>
            <a:prstGeom prst="horizontalScroll">
              <a:avLst>
                <a:gd name="adj" fmla="val 8199"/>
              </a:avLst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WordArt 12"/>
            <p:cNvSpPr txBox="1"/>
            <p:nvPr/>
          </p:nvSpPr>
          <p:spPr>
            <a:xfrm>
              <a:off x="3924360" y="2133720"/>
              <a:ext cx="4103640" cy="75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cc0000"/>
                    </a:solidFill>
                    <a:miter/>
                  </a:ln>
                  <a:solidFill>
                    <a:srgbClr val="ff0066"/>
                  </a:solidFill>
                  <a:latin typeface="Monotype Corsiva"/>
                </a:rPr>
                <a:t>Образует:</a:t>
              </a:r>
              <a:endParaRPr b="1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66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3400560" y="2871720"/>
              <a:ext cx="5553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1.Опорно-двигательную систем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Скелет и основную часть мус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кулатуры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2.Кровеносные сосуды, кров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сердц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3.Выделительную систему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   </a:t>
              </a: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поч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00000"/>
                  </a:solidFill>
                  <a:latin typeface="Arial"/>
                </a:rPr>
                <a:t>4.Половые органы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6"/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10800" y="4093"/>
                </a:moveTo>
                <a:lnTo>
                  <a:pt x="13376" y="6704"/>
                </a:ln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lnTo>
                  <a:pt x="17763" y="11056"/>
                </a:lnTo>
                <a:lnTo>
                  <a:pt x="16109" y="11056"/>
                </a:lnTo>
                <a:lnTo>
                  <a:pt x="16109" y="18245"/>
                </a:lnTo>
                <a:lnTo>
                  <a:pt x="5491" y="18245"/>
                </a:lnTo>
                <a:lnTo>
                  <a:pt x="5491" y="11056"/>
                </a:lnTo>
                <a:lnTo>
                  <a:pt x="3837" y="11056"/>
                </a:lnTo>
                <a:close/>
              </a:path>
              <a:path fill="darkenLess" w="21600" h="22111">
                <a:moveTo>
                  <a:pt x="13376" y="6704"/>
                </a:moveTo>
                <a:lnTo>
                  <a:pt x="13376" y="4963"/>
                </a:lnTo>
                <a:lnTo>
                  <a:pt x="15152" y="4963"/>
                </a:lnTo>
                <a:lnTo>
                  <a:pt x="15152" y="8479"/>
                </a:lnTo>
                <a:close/>
              </a:path>
              <a:path fill="darkenLess" w="21600" h="22111">
                <a:moveTo>
                  <a:pt x="9877" y="14554"/>
                </a:moveTo>
                <a:lnTo>
                  <a:pt x="11723" y="14554"/>
                </a:lnTo>
                <a:lnTo>
                  <a:pt x="11723" y="18245"/>
                </a:lnTo>
                <a:lnTo>
                  <a:pt x="16109" y="18245"/>
                </a:lnTo>
                <a:lnTo>
                  <a:pt x="16109" y="11056"/>
                </a:lnTo>
                <a:lnTo>
                  <a:pt x="5491" y="11056"/>
                </a:lnTo>
                <a:lnTo>
                  <a:pt x="5491" y="18245"/>
                </a:lnTo>
                <a:lnTo>
                  <a:pt x="9877" y="1824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7:19:23Z</dcterms:created>
  <dc:creator>Марина</dc:creator>
  <dc:description/>
  <dc:language>en-US</dc:language>
  <cp:lastModifiedBy>Андрей</cp:lastModifiedBy>
  <dcterms:modified xsi:type="dcterms:W3CDTF">2013-11-26T20:55:19Z</dcterms:modified>
  <cp:revision>29</cp:revision>
  <dc:subject/>
  <dc:title>Слайд 1</dc:title>
</cp:coreProperties>
</file>