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5F04-21C9-4F71-8B7D-0DD67AD6AF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6DF9-877A-4732-B757-D4EFB8FCB5D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FF3C-536E-4843-8AC5-FB46D52AC77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4EDE-5420-450D-A55E-4764240B85E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3834-61D5-45F5-AC0C-073247827F8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84C-5B64-4AB5-B855-FA83E6FF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4D9-5EF0-4D3C-A2F5-C984D92C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30F-D237-4A2B-8817-05355D92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4B1-6779-4D15-9912-333389CE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A8FA-4B25-4298-8EBA-361C25E0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AE81-4A7B-4294-8E9E-0124E325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530A-C309-430A-B600-1CF3CFA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8AF2-B9AC-4054-80FC-97E89603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3FD7-9A23-43E2-ACE7-0588B90A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5C8F-AA0E-407D-8235-47B6D151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133F-A94F-4EF0-9A23-C5D5AA89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99B-5A41-41BA-9C73-7AC59C5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0AD8-C90F-44AC-9EE1-5EB84D9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F06B-1187-48BA-842B-3CB3E67E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44AA-A6B8-4A8E-B62C-1ADD7A6A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F4EA-54F9-4E7D-AF21-2CD526AA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47CB-E081-436A-A811-667B5CFC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BC9-C4D3-404D-95F7-51CD935F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22E-ED2E-413A-B69B-50133612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82A-A28D-4465-A11A-7B28FC2D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E90-AC24-4B8E-B184-30A90AD1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AB5-55C7-45E6-8CBE-753D1BFB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127-E9AE-4437-AE6F-015CF80E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A70-0196-43DB-A91E-393A9ECC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2229-4BCE-4506-BA16-E5058014EF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E61B-28BB-4AA6-8B84-D33D37C242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extBox 5" descr=""/>
          <p:cNvPicPr/>
          <p:nvPr/>
        </p:nvPicPr>
        <p:blipFill>
          <a:blip r:embed="rId1"/>
          <a:stretch/>
        </p:blipFill>
        <p:spPr>
          <a:xfrm>
            <a:off x="-96840" y="785880"/>
            <a:ext cx="96249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100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етодические приёмы для создания проблемной ситуаци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14200" y="100008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d2e"/>
                </a:solidFill>
                <a:latin typeface="Book Antiqua"/>
              </a:rPr>
              <a:t>Подвожу учащихся к противоречию и предлагаю самим найти способ его разрешения /противоречия в практической деятельности/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 Antiqua"/>
              </a:rPr>
              <a:t>При ответе на один и тот же вопрос рассматриваем разные точки зрения, обсуждая и доказывая их /если они не верны, то почему?/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d2e"/>
                </a:solidFill>
                <a:latin typeface="Book Antiqua"/>
              </a:rPr>
              <a:t>Побуждаю учащихся делать сравнения, обобщения, выводы из ситуации, сопоставлять фак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 Antiqua"/>
              </a:rPr>
              <a:t>Вместе с учащимися ставим конкретные вопросы (на обобщение, обоснования, конкретизацию, логику рассуждения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aeff"/>
                </a:solidFill>
                <a:latin typeface="Book Antiqua"/>
              </a:rPr>
              <a:t>Ставлю перед учащимися проблемные задачи (с недостаточными или избыточными исходными данными; с неопределенностью в постановке вопроса; с противоречивыми данными; с заведомо допущенными ошибками; с ограничением временем реше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ирование умений и навыков, закрепление и систематизация изученного.</a:t>
            </a:r>
            <a:br>
              <a:rPr sz="1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Содержимое 3" descr=""/>
          <p:cNvPicPr/>
          <p:nvPr/>
        </p:nvPicPr>
        <p:blipFill>
          <a:blip r:embed="rId1"/>
          <a:stretch/>
        </p:blipFill>
        <p:spPr>
          <a:xfrm>
            <a:off x="438120" y="981000"/>
            <a:ext cx="82677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промежуточного и итогового контроля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разноуровневы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карто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ри проверке домашнего задания, при проведении самостоятельных и контрольных работ. (приложение №   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межуточных контрольных работах  выделена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бязательная и дополнительная часть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 приложение №   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трольные работы за полугодие и годовые провожу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орме ЕГЭ.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 приложение №  7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самоконтроль и взаимоконтрол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Диаграмма 1" descr=""/>
          <p:cNvPicPr/>
          <p:nvPr/>
        </p:nvPicPr>
        <p:blipFill>
          <a:blip r:embed="rId1"/>
          <a:srcRect l="0" t="0" r="0" b="-30"/>
          <a:stretch/>
        </p:blipFill>
        <p:spPr>
          <a:xfrm>
            <a:off x="714240" y="357120"/>
            <a:ext cx="7643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ровневая дифференциация способствует более прочному и глубокому усвоению знаний, развитию индивидуальных способностей, развитию самостоятельного творческого мышления. Наблюдения и опытное преподавание показало, что данная форма обучения имеет большее преимущество в сравнении с традиционной методикой обучения, но возникает проблема деления класса на группы. От того, как учитель сможет решить эту проблему, будет зависеть весь дальнейший ход обуч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шение этой проблемы я представляю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 Antiqua"/>
              </a:rPr>
              <a:t>1. Объединять учащихся в одноуровневые группы. Тогда учитель имеет возможность организовывать работу слабых учеников по усвоению материал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 Antiqua"/>
              </a:rPr>
              <a:t>2. В разнородных группах создаются более благоприятные условия для взаимодействия и сотрудничест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755640" y="404640"/>
            <a:ext cx="741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К каждому ребёнку следует применять его собственное мерило, побуждать каждого к его собственной обязанности и награждать его собственной заслуженной похвало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215040" y="5086080"/>
            <a:ext cx="19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Рескин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0" y="1268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14200" y="78588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фференциац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от латинского разница) форма организации учебной деятельности, учитывающая склонности, интересы, способности учащихся 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85840" y="315288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фференцированное обучен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то форма организации учебного процесса, при котором максимально учитываются возможности и запросы каждого ученика или отдельных групп школьник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0" y="85716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Цель дифференцированного обучен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создание комфортной среды для обучения и развития личности с учетом индивидуально-психологических особенност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фференциация обучения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уществляется через изменение содержания, регулирование трудности и длительности выполнения отдельных заданий, выбора средств педагогической поддержки учеников в соответствии с их возможностя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620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едагогическая диагностик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это совокупность специально подобранных и систематизированных заданий, которые позволяю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особенности усвоения учащимися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метных знаний, умений и навыков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характер трудностей ученика и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тановить их причин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тановить уровень овладения учеб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ятельность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ценить изменения, происходящие в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витии учащих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Группы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3416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руппа                                 Группа                                  Группа                                                                              Базового уровня        среднего  уровня                повышенного уровн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«сигнал – ответ»      для решения более сложных            активная мыслитель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аданий требуется дополни-              деятель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ельная помощь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ine 4"/>
          <p:cNvSpPr/>
          <p:nvPr/>
        </p:nvSpPr>
        <p:spPr>
          <a:xfrm flipH="1">
            <a:off x="2268000" y="2133720"/>
            <a:ext cx="1582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219640" y="2060640"/>
            <a:ext cx="1440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500120" y="36432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7429680" y="36432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8" name="Прямая со стрелкой 8"/>
          <p:cNvCxnSpPr/>
          <p:nvPr/>
        </p:nvCxnSpPr>
        <p:spPr>
          <a:xfrm flipH="1">
            <a:off x="4428360" y="1999800"/>
            <a:ext cx="1080" cy="7153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79" name="Прямая со стрелкой 11"/>
          <p:cNvCxnSpPr/>
          <p:nvPr/>
        </p:nvCxnSpPr>
        <p:spPr>
          <a:xfrm flipH="1">
            <a:off x="4357440" y="3643200"/>
            <a:ext cx="2160" cy="5724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0" y="-21204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Способы дифференциации,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 </a:t>
            </a: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которые могут быть использованы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на разных этапах урок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Book Antiqua"/>
                <a:ea typeface="Calibri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хема 1" descr=""/>
          <p:cNvPicPr/>
          <p:nvPr/>
        </p:nvPicPr>
        <p:blipFill>
          <a:blip r:embed="rId1"/>
          <a:stretch/>
        </p:blipFill>
        <p:spPr>
          <a:xfrm>
            <a:off x="622440" y="-36360"/>
            <a:ext cx="804528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хема 1" descr=""/>
          <p:cNvPicPr/>
          <p:nvPr/>
        </p:nvPicPr>
        <p:blipFill>
          <a:blip r:embed="rId1"/>
          <a:stretch/>
        </p:blipFill>
        <p:spPr>
          <a:xfrm>
            <a:off x="420840" y="360360"/>
            <a:ext cx="83023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2:49:17Z</dcterms:created>
  <dc:creator>1</dc:creator>
  <dc:description/>
  <dc:language>en-US</dc:language>
  <cp:lastModifiedBy>User</cp:lastModifiedBy>
  <dcterms:modified xsi:type="dcterms:W3CDTF">2009-08-09T19:28:54Z</dcterms:modified>
  <cp:revision>71</cp:revision>
  <dc:subject/>
  <dc:title>Слайд 1</dc:title>
</cp:coreProperties>
</file>