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C046-E25C-4DDB-90DE-A7104F30CE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CE4-54CE-4811-BF76-AF99CE62CDA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9CC8-295C-4B01-83FD-0E9636EB9D2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BB0-9A6E-4CC7-BC4E-513E285D483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7D9-49A1-4F6C-8AB9-C32EB84691B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5C0-EC9A-4878-80B7-503D8C39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DCC-C531-4BE2-9232-C3509FEA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DAF-A829-4861-B775-0F6BA2E3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C62-C2A9-4321-B710-7B0779D2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31C-ED9F-4453-A28B-F615899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384-7AB5-4594-B4CA-902DFF9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395C-F74A-4EE6-9CAB-CDE306BA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981-107D-4998-9373-41D25E73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593A-C522-4B84-94BE-D0CCDF93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4356-75CA-43DE-8D38-4F418D9D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6431-3AE5-4882-8658-E1D62CB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B7B-9652-4446-A330-BE91820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6CC-49BD-45E6-B61C-EF56ED2D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128C-8E30-4C8D-A814-9B5811D3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888F-CFD9-4902-9E7C-5B827C3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C0D-F973-47B8-A552-729CDEA0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F70A-E93F-4FF0-BA9D-046A690B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F6C-FA32-4F4C-8AB2-0188765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D20-7CED-45AF-917C-9CC3641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1CC-8CA9-4565-9F1D-DB8B76AF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5CF-2918-4DB6-B58A-36768128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2BF-0262-47A7-AEC4-B298928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557-95BE-47AA-9B80-28D6158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C1A-8623-46B9-8967-5312545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712E-3DF9-4943-8E3A-58C50B00B1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80A-EC7A-4844-8E83-4F49A6F2FD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5" descr=""/>
          <p:cNvPicPr/>
          <p:nvPr/>
        </p:nvPicPr>
        <p:blipFill>
          <a:blip r:embed="rId1"/>
          <a:stretch/>
        </p:blipFill>
        <p:spPr>
          <a:xfrm>
            <a:off x="-96840" y="785880"/>
            <a:ext cx="9624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етодические приёмы для создания проблемной ситуаци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1420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двожу учащихся к противоречию и предлагаю самим найти способ его разрешения /противоречия в практической деятельности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При ответе на один и тот же вопрос рассматриваем разные точки зрения, обсуждая и доказывая их /если они не верны, то почему?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буждаю учащихся делать сравнения, обобщения, выводы из ситуации, сопоставлять фак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Вместе с учащимися ставим конкретные вопросы (на обобщение, обоснования, конкретизацию, логику рассуждени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aeff"/>
                </a:solidFill>
                <a:latin typeface="Book Antiqua"/>
              </a:rPr>
              <a:t>Ставлю перед учащимися проблемные задачи (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ием временем реш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ирование умений и навыков, закрепление и систематизация изученного.</a:t>
            </a:r>
            <a:br>
              <a:rPr sz="1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2677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промежуточного и итогового контрол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разноуровневы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карто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 проверке домашнего задания, при проведении самостоятельных и контрольных работ. (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межуточных контрольных работах  выделена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бязательная и дополнительная част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трольные работы за полугодие и годовые провожу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орме ЕГЭ.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7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амоконтроль и взаимоконтрол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Диаграмма 1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714240" y="357120"/>
            <a:ext cx="7643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овневая дифференциация способствует более прочному и глубокому усвоению знаний, развитию индивидуальных способностей, развитию самостоятельного творческого мышления. Наблюдения и опытное преподавание показало, что данная форма обучения имеет большее преимущество в сравнении с традиционной методикой обучения, но возникает проблема деления класса на группы. От того, как учитель сможет решить эту проблему, будет зависеть весь дальнейший ход обуч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шение этой проблемы я представляю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1. Объединять учащихся в одноуровневые группы. Тогда учитель имеет возможность организовывать работу слабых учеников по усвоению материа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2. В разнородных группах создаются более благоприятные условия для взаимодействия и сотрудни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55640" y="40464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 каждому ребёнку следует применять его собственное мерило, побуждать каждого к его собственной обязанности и награждать его собственной заслуженной похв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215040" y="508608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Рескин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126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4200" y="7858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от латинского разница) форма организации учебной деятельности, учитывающая склонности, интересы, способности учащихся 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5840" y="31528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рован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то форма организации учебного процесса, при котором максимально учитываются возможности и запросы каждого ученика или отдельных групп школьник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0" y="8571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Цель дифференцирован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создание комфортной среды для обучения и развития личности с учетом индивидуально-психологических особен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 обучения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уществляется через изменение содержания, регулирование трудности и длительности выполнения отдельных заданий, выбора средств педагогической поддержки учеников в соответствии с их возможностя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20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дагогическая диагностик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это совокупность специально подобранных и систематизированных заданий, которые позволяю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особенности усвоения учащимися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метных знаний, умений и навыков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характер трудностей ученика и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их причин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уровень овладения учеб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ценить изменения, происходящие в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витии 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Группы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3416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уппа                                 Группа                                  Группа                                                                              Базового уровня        среднего  уровня                повышенного уров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«сигнал – ответ»      для решения более сложных            активная мыслитель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даний требуется дополни-              деятель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льная помощь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 flipH="1">
            <a:off x="2268000" y="2133720"/>
            <a:ext cx="1582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219640" y="206064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50012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742968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8" name="Прямая со стрелкой 8"/>
          <p:cNvCxnSpPr/>
          <p:nvPr/>
        </p:nvCxnSpPr>
        <p:spPr>
          <a:xfrm flipH="1">
            <a:off x="4428360" y="1999800"/>
            <a:ext cx="1080" cy="7153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79" name="Прямая со стрелкой 11"/>
          <p:cNvCxnSpPr/>
          <p:nvPr/>
        </p:nvCxnSpPr>
        <p:spPr>
          <a:xfrm flipH="1">
            <a:off x="4357440" y="3643200"/>
            <a:ext cx="2160" cy="5724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-21204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Способы дифференциации,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 </a:t>
            </a: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которые могут быть использованы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на разных этапах уро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Book Antiqua"/>
                <a:ea typeface="Calibri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хема 1" descr=""/>
          <p:cNvPicPr/>
          <p:nvPr/>
        </p:nvPicPr>
        <p:blipFill>
          <a:blip r:embed="rId1"/>
          <a:stretch/>
        </p:blipFill>
        <p:spPr>
          <a:xfrm>
            <a:off x="622440" y="-36360"/>
            <a:ext cx="804528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хема 1" descr=""/>
          <p:cNvPicPr/>
          <p:nvPr/>
        </p:nvPicPr>
        <p:blipFill>
          <a:blip r:embed="rId1"/>
          <a:stretch/>
        </p:blipFill>
        <p:spPr>
          <a:xfrm>
            <a:off x="420840" y="360360"/>
            <a:ext cx="83023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49:17Z</dcterms:created>
  <dc:creator>1</dc:creator>
  <dc:description/>
  <dc:language>en-US</dc:language>
  <cp:lastModifiedBy>User</cp:lastModifiedBy>
  <dcterms:modified xsi:type="dcterms:W3CDTF">2009-08-09T19:28:54Z</dcterms:modified>
  <cp:revision>71</cp:revision>
  <dc:subject/>
  <dc:title>Слайд 1</dc:title>
</cp:coreProperties>
</file>