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E5D6-8289-4D4A-8D7E-318B335A7F0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9798-EBD6-42F2-9FC0-49CBC8E480A5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D2072-11AE-4688-AFE8-C1B462F81460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F3D5-B95E-4BD4-B46C-E2C1FC313C6C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E57F-3622-467F-9DF4-AF508B3A3038}" type="slidenum">
              <a:rPr b="0" lang="ru-RU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2DAE-1FC1-4080-B9C2-DB301483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AD26-161A-4C12-AA49-2B509293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A084-02AB-41BD-9156-601169503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4F735-9230-43DE-9FCC-688DBE8BB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51DF2-0092-4EE8-A488-9B559CD6B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40152-FFFB-41B7-8C73-D5DC77B5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47AA-F89D-49A0-9A5B-139A94A5A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D9BF-A08B-460D-A4CB-94A78C34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15356-16F8-4169-8494-6C5EEB543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1F0C3-471B-4D6E-9D99-C709664A1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E33D-E72D-483F-A0D5-127BBD01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E263-5473-4CD1-9B17-E4B92D41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54F12-BAE5-422A-A943-A44B9B12D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CF0D8-5254-4B15-A75C-3A5CAAA4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667FD-62AE-4961-8D06-E0C61DB1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FAC3-C601-4158-92A4-62F611C38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C9318-9615-4249-9A2A-909F8BDD1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E89F-F6D4-4F67-A92C-F6F269C0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9F00-0143-4DE8-B34B-86B33C77C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209B-1BC0-41C3-BB7D-4034F729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4418-6533-41FE-AE95-3031BB213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D8C0-69D4-4C78-B910-F561F1CA9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1111-8C12-4B77-B179-AEE1E259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3D1E-6123-43F6-949F-67795E320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Freeform 3"/>
            <p:cNvSpPr/>
            <p:nvPr/>
          </p:nvSpPr>
          <p:spPr>
            <a:xfrm>
              <a:off x="8008920" y="4168800"/>
              <a:ext cx="114156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8550360" y="6022800"/>
              <a:ext cx="60012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9016920" y="6689880"/>
              <a:ext cx="13356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Freeform 7"/>
              <p:cNvSpPr/>
              <p:nvPr/>
            </p:nvSpPr>
            <p:spPr>
              <a:xfrm>
                <a:off x="4427640" y="0"/>
                <a:ext cx="114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903920" y="0"/>
                <a:ext cx="276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5330880" y="0"/>
                <a:ext cx="534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835600" y="0"/>
                <a:ext cx="6778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6264360" y="0"/>
                <a:ext cx="885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40640" y="0"/>
                <a:ext cx="10951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7178760" y="0"/>
                <a:ext cx="1371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08440" y="0"/>
                <a:ext cx="237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122640" y="0"/>
                <a:ext cx="476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2486160" y="0"/>
                <a:ext cx="674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1790640" y="0"/>
                <a:ext cx="9129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1114560" y="0"/>
                <a:ext cx="11700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7200" y="0"/>
                <a:ext cx="13334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8" name="Freeform 20"/>
            <p:cNvSpPr/>
            <p:nvPr/>
          </p:nvSpPr>
          <p:spPr>
            <a:xfrm>
              <a:off x="9360" y="4605480"/>
              <a:ext cx="96228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9360" y="6175440"/>
              <a:ext cx="36216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581960" y="0"/>
              <a:ext cx="156204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8002440" y="0"/>
              <a:ext cx="114156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96360" y="0"/>
              <a:ext cx="64764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9360" y="0"/>
              <a:ext cx="136224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9360" y="0"/>
              <a:ext cx="93348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9360" y="0"/>
              <a:ext cx="42876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6" name="Line 28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7" name="Line 29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" name="Line 30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9" name="Group 31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Line 32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" name="Line 33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" name="Line 34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3" name="Line 35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" name="Line 36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5" name="Line 37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Line 38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B89CB-4759-42E9-93E8-7A92EA86698C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85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Group 2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Freeform 3"/>
            <p:cNvSpPr/>
            <p:nvPr/>
          </p:nvSpPr>
          <p:spPr>
            <a:xfrm>
              <a:off x="8007120" y="4168800"/>
              <a:ext cx="1141200" cy="2682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0" name="Freeform 4"/>
            <p:cNvSpPr/>
            <p:nvPr/>
          </p:nvSpPr>
          <p:spPr>
            <a:xfrm>
              <a:off x="8548560" y="6022800"/>
              <a:ext cx="599760" cy="82872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81" name="Freeform 5"/>
            <p:cNvSpPr/>
            <p:nvPr/>
          </p:nvSpPr>
          <p:spPr>
            <a:xfrm>
              <a:off x="9015120" y="6689880"/>
              <a:ext cx="133200" cy="1616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82" name="Group 6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Freeform 7"/>
              <p:cNvSpPr/>
              <p:nvPr/>
            </p:nvSpPr>
            <p:spPr>
              <a:xfrm>
                <a:off x="4425480" y="0"/>
                <a:ext cx="113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4" name="Freeform 8"/>
              <p:cNvSpPr/>
              <p:nvPr/>
            </p:nvSpPr>
            <p:spPr>
              <a:xfrm>
                <a:off x="4901760" y="0"/>
                <a:ext cx="275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5" name="Freeform 9"/>
              <p:cNvSpPr/>
              <p:nvPr/>
            </p:nvSpPr>
            <p:spPr>
              <a:xfrm>
                <a:off x="5328720" y="0"/>
                <a:ext cx="534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6" name="Freeform 10"/>
              <p:cNvSpPr/>
              <p:nvPr/>
            </p:nvSpPr>
            <p:spPr>
              <a:xfrm>
                <a:off x="5833440" y="0"/>
                <a:ext cx="6775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11"/>
              <p:cNvSpPr/>
              <p:nvPr/>
            </p:nvSpPr>
            <p:spPr>
              <a:xfrm>
                <a:off x="6262200" y="0"/>
                <a:ext cx="885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12"/>
              <p:cNvSpPr/>
              <p:nvPr/>
            </p:nvSpPr>
            <p:spPr>
              <a:xfrm>
                <a:off x="6738480" y="0"/>
                <a:ext cx="109476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13"/>
              <p:cNvSpPr/>
              <p:nvPr/>
            </p:nvSpPr>
            <p:spPr>
              <a:xfrm>
                <a:off x="7176600" y="0"/>
                <a:ext cx="13712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14"/>
              <p:cNvSpPr/>
              <p:nvPr/>
            </p:nvSpPr>
            <p:spPr>
              <a:xfrm>
                <a:off x="3806280" y="0"/>
                <a:ext cx="237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15"/>
              <p:cNvSpPr/>
              <p:nvPr/>
            </p:nvSpPr>
            <p:spPr>
              <a:xfrm>
                <a:off x="3120480" y="0"/>
                <a:ext cx="47592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6"/>
              <p:cNvSpPr/>
              <p:nvPr/>
            </p:nvSpPr>
            <p:spPr>
              <a:xfrm>
                <a:off x="2484000" y="0"/>
                <a:ext cx="6742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3" name="Freeform 17"/>
              <p:cNvSpPr/>
              <p:nvPr/>
            </p:nvSpPr>
            <p:spPr>
              <a:xfrm>
                <a:off x="1788480" y="0"/>
                <a:ext cx="91260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4" name="Freeform 18"/>
              <p:cNvSpPr/>
              <p:nvPr/>
            </p:nvSpPr>
            <p:spPr>
              <a:xfrm>
                <a:off x="1112400" y="0"/>
                <a:ext cx="116964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5" name="Freeform 19"/>
              <p:cNvSpPr/>
              <p:nvPr/>
            </p:nvSpPr>
            <p:spPr>
              <a:xfrm>
                <a:off x="455400" y="0"/>
                <a:ext cx="1333080" cy="6851520"/>
              </a:xfrm>
              <a:prstGeom prst="pie">
                <a:avLst/>
              </a:prstGeom>
              <a:gradFill rotWithShape="0">
                <a:gsLst>
                  <a:gs pos="0">
                    <a:srgbClr val="0066cc"/>
                  </a:gs>
                  <a:gs pos="100000">
                    <a:srgbClr val="00448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6" name="Freeform 20"/>
            <p:cNvSpPr/>
            <p:nvPr/>
          </p:nvSpPr>
          <p:spPr>
            <a:xfrm>
              <a:off x="7560" y="4605480"/>
              <a:ext cx="961920" cy="224604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21"/>
            <p:cNvSpPr/>
            <p:nvPr/>
          </p:nvSpPr>
          <p:spPr>
            <a:xfrm>
              <a:off x="7560" y="6175440"/>
              <a:ext cx="361800" cy="676080"/>
            </a:xfrm>
            <a:prstGeom prst="pie">
              <a:avLst/>
            </a:prstGeom>
            <a:gradFill rotWithShape="0">
              <a:gsLst>
                <a:gs pos="0">
                  <a:srgbClr val="003b76"/>
                </a:gs>
                <a:gs pos="100000">
                  <a:srgbClr val="00244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22"/>
            <p:cNvSpPr/>
            <p:nvPr/>
          </p:nvSpPr>
          <p:spPr>
            <a:xfrm>
              <a:off x="7580160" y="0"/>
              <a:ext cx="1561680" cy="283536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9" name="Freeform 23"/>
            <p:cNvSpPr/>
            <p:nvPr/>
          </p:nvSpPr>
          <p:spPr>
            <a:xfrm>
              <a:off x="8000640" y="0"/>
              <a:ext cx="1141200" cy="1341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0" name="Freeform 24"/>
            <p:cNvSpPr/>
            <p:nvPr/>
          </p:nvSpPr>
          <p:spPr>
            <a:xfrm>
              <a:off x="8494560" y="0"/>
              <a:ext cx="647280" cy="6573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1" name="Freeform 25"/>
            <p:cNvSpPr/>
            <p:nvPr/>
          </p:nvSpPr>
          <p:spPr>
            <a:xfrm>
              <a:off x="7560" y="0"/>
              <a:ext cx="1361880" cy="2236680"/>
            </a:xfrm>
            <a:prstGeom prst="pie">
              <a:avLst/>
            </a:prstGeom>
            <a:gradFill rotWithShape="0">
              <a:gsLst>
                <a:gs pos="0">
                  <a:srgbClr val="0066cc"/>
                </a:gs>
                <a:gs pos="100000">
                  <a:srgbClr val="006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2" name="Freeform 26"/>
            <p:cNvSpPr/>
            <p:nvPr/>
          </p:nvSpPr>
          <p:spPr>
            <a:xfrm>
              <a:off x="7560" y="0"/>
              <a:ext cx="933120" cy="9507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3" name="Freeform 27"/>
            <p:cNvSpPr/>
            <p:nvPr/>
          </p:nvSpPr>
          <p:spPr>
            <a:xfrm>
              <a:off x="7560" y="0"/>
              <a:ext cx="428400" cy="399960"/>
            </a:xfrm>
            <a:prstGeom prst="pie">
              <a:avLst/>
            </a:pr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4" name="Line 28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5" name="Line 29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06" name="Line 30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07" name="Group 31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Line 32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Line 33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Line 34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1" name="Line 35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2" name="Line 36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3" name="Line 37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4" name="Line 38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69A6-08EA-4DC9-86A8-BEE20811DDE2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extBox 5" descr=""/>
          <p:cNvPicPr/>
          <p:nvPr/>
        </p:nvPicPr>
        <p:blipFill>
          <a:blip r:embed="rId1"/>
          <a:stretch/>
        </p:blipFill>
        <p:spPr>
          <a:xfrm>
            <a:off x="-96840" y="785880"/>
            <a:ext cx="96249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13840" y="0"/>
            <a:ext cx="8643960" cy="1000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Методические приёмы для создания проблемной ситуации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214200" y="1000080"/>
            <a:ext cx="850104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d2e"/>
                </a:solidFill>
                <a:latin typeface="Book Antiqua"/>
              </a:rPr>
              <a:t>Подвожу учащихся к противоречию и предлагаю самим найти способ его разрешения /противоречия в практической деятельности/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 Antiqua"/>
              </a:rPr>
              <a:t>При ответе на один и тот же вопрос рассматриваем разные точки зрения, обсуждая и доказывая их /если они не верны, то почему?/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1d2e"/>
                </a:solidFill>
                <a:latin typeface="Book Antiqua"/>
              </a:rPr>
              <a:t>Побуждаю учащихся делать сравнения, обобщения, выводы из ситуации, сопоставлять факты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Book Antiqua"/>
              </a:rPr>
              <a:t>Вместе с учащимися ставим конкретные вопросы (на обобщение, обоснования, конкретизацию, логику рассуждения);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aeff"/>
                </a:solidFill>
                <a:latin typeface="Book Antiqua"/>
              </a:rPr>
              <a:t>Ставлю перед учащимися проблемные задачи (с недостаточными или избыточными исходными данными; с неопределенностью в постановке вопроса; с противоречивыми данными; с заведомо допущенными ошибками; с ограничением временем решения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ормирование умений и навыков, закрепление и систематизация изученного.</a:t>
            </a:r>
            <a:br>
              <a:rPr sz="1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86" name="Содержимое 3" descr=""/>
          <p:cNvPicPr/>
          <p:nvPr/>
        </p:nvPicPr>
        <p:blipFill>
          <a:blip r:embed="rId1"/>
          <a:stretch/>
        </p:blipFill>
        <p:spPr>
          <a:xfrm>
            <a:off x="438120" y="981000"/>
            <a:ext cx="826776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Организация промежуточного и итогового контроля.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разноуровневые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карточки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 при проверке домашнего задания, при проведении самостоятельных и контрольных работ. (приложение №   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В промежуточных контрольных работах  выделена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обязательная и дополнительная часть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 приложение №   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Контрольные работы за полугодие и годовые провожу </a:t>
            </a: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в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форме ЕГЭ.  </a:t>
            </a: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( приложение №  7 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ru-RU" sz="2000" spc="-1" strike="noStrike">
                <a:solidFill>
                  <a:srgbClr val="ffffff"/>
                </a:solidFill>
                <a:latin typeface="Verdana"/>
              </a:rPr>
              <a:t>самоконтроль и взаимоконтроль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0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0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Диаграмма 1" descr=""/>
          <p:cNvPicPr/>
          <p:nvPr/>
        </p:nvPicPr>
        <p:blipFill>
          <a:blip r:embed="rId1"/>
          <a:srcRect l="0" t="0" r="0" b="-30"/>
          <a:stretch/>
        </p:blipFill>
        <p:spPr>
          <a:xfrm>
            <a:off x="714240" y="357120"/>
            <a:ext cx="76438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Уровневая дифференциация способствует более прочному и глубокому усвоению знаний, развитию индивидуальных способностей, развитию самостоятельного творческого мышления. Наблюдения и опытное преподавание показало, что данная форма обучения имеет большее преимущество в сравнении с традиционной методикой обучения, но возникает проблема деления класса на группы. От того, как учитель сможет решить эту проблему, будет зависеть весь дальнейший ход обучения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Verdana"/>
              </a:rPr>
              <a:t>Решение этой проблемы я представляю следующим образом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 Antiqua"/>
              </a:rPr>
              <a:t>1. Объединять учащихся в одноуровневые группы. Тогда учитель имеет возможность организовывать работу слабых учеников по усвоению материал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Book Antiqua"/>
              </a:rPr>
              <a:t>2. В разнородных группах создаются более благоприятные условия для взаимодействия и сотрудничества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4"/>
          <p:cNvSpPr/>
          <p:nvPr/>
        </p:nvSpPr>
        <p:spPr>
          <a:xfrm>
            <a:off x="755640" y="404640"/>
            <a:ext cx="7416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Constantia"/>
                <a:ea typeface="Arial Unicode MS"/>
              </a:rPr>
              <a:t>К каждому ребёнку следует применять его собственное мерило, побуждать каждого к его собственной обязанности и награждать его собственной заслуженной похвалой.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215040" y="5086080"/>
            <a:ext cx="19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Verdana"/>
              </a:rPr>
              <a:t>Рескин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0" y="1268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214200" y="785880"/>
            <a:ext cx="871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фференциац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(от латинского разница) форма организации учебной деятельности, учитывающая склонности, интересы, способности учащихся .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285840" y="315288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фференцированное обучение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- это форма организации учебного процесса, при котором максимально учитываются возможности и запросы каждого ученика или отдельных групп школьнико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0" y="85716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Цель дифференцированного обучения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создание комфортной среды для обучения и развития личности с учетом индивидуально-психологических особенностей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Дифференциация обучения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существляется через изменение содержания, регулирование трудности и длительности выполнения отдельных заданий, выбора средств педагогической поддержки учеников в соответствии с их возможностями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4"/>
          <p:cNvSpPr/>
          <p:nvPr/>
        </p:nvSpPr>
        <p:spPr>
          <a:xfrm>
            <a:off x="0" y="62064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Verdana"/>
              </a:rPr>
              <a:t>Педагогическая диагностика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– это совокупность специально подобранных и систематизированных заданий, которые позволяют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пределить особенности усвоения учащимися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предметных знаний, умений и навыков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выявить характер трудностей ученика и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тановить их причины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установить уровень овладения учебной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деятельностью;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оценить изменения, происходящие в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азвитии учащихся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Группы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53416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Клас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Группа                                 Группа                                  Группа                                                                              Базового уровня        среднего  уровня                повышенного уровня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«сигнал – ответ»      для решения более сложных            активная мыслительная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заданий требуется дополни-              деятельность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тельная помощь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Line 4"/>
          <p:cNvSpPr/>
          <p:nvPr/>
        </p:nvSpPr>
        <p:spPr>
          <a:xfrm flipH="1">
            <a:off x="2268000" y="2133720"/>
            <a:ext cx="1582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5219640" y="2060640"/>
            <a:ext cx="1440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1500120" y="36432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7429680" y="364320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178" name="Прямая со стрелкой 8"/>
          <p:cNvCxnSpPr/>
          <p:nvPr/>
        </p:nvCxnSpPr>
        <p:spPr>
          <a:xfrm flipH="1">
            <a:off x="4428360" y="1999800"/>
            <a:ext cx="1080" cy="71532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  <p:cxnSp>
        <p:nvCxnSpPr>
          <p:cNvPr id="179" name="Прямая со стрелкой 11"/>
          <p:cNvCxnSpPr/>
          <p:nvPr/>
        </p:nvCxnSpPr>
        <p:spPr>
          <a:xfrm flipH="1">
            <a:off x="4357440" y="3643200"/>
            <a:ext cx="2160" cy="572400"/>
          </a:xfrm>
          <a:prstGeom prst="straightConnector1">
            <a:avLst/>
          </a:prstGeom>
          <a:ln w="9360">
            <a:solidFill>
              <a:srgbClr val="2ecbcb"/>
            </a:solidFill>
            <a:miter/>
            <a:tailEnd len="med" type="arrow" w="med"/>
          </a:ln>
        </p:spPr>
      </p:cxn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3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"/>
          <p:cNvSpPr/>
          <p:nvPr/>
        </p:nvSpPr>
        <p:spPr>
          <a:xfrm>
            <a:off x="0" y="-212040"/>
            <a:ext cx="914400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Способы дифференциации,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 </a:t>
            </a: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которые могут быть использованы 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1d3b"/>
                </a:solidFill>
                <a:latin typeface="Book Antiqua"/>
                <a:ea typeface="Calibri"/>
              </a:rPr>
              <a:t>на разных этапах урок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Book Antiqua"/>
                <a:ea typeface="Calibri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Схема 1" descr=""/>
          <p:cNvPicPr/>
          <p:nvPr/>
        </p:nvPicPr>
        <p:blipFill>
          <a:blip r:embed="rId1"/>
          <a:stretch/>
        </p:blipFill>
        <p:spPr>
          <a:xfrm>
            <a:off x="622440" y="-36360"/>
            <a:ext cx="8045280" cy="66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Схема 1" descr=""/>
          <p:cNvPicPr/>
          <p:nvPr/>
        </p:nvPicPr>
        <p:blipFill>
          <a:blip r:embed="rId1"/>
          <a:stretch/>
        </p:blipFill>
        <p:spPr>
          <a:xfrm>
            <a:off x="420840" y="360360"/>
            <a:ext cx="8302320" cy="59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12:49:17Z</dcterms:created>
  <dc:creator>1</dc:creator>
  <dc:description/>
  <dc:language>en-US</dc:language>
  <cp:lastModifiedBy>User</cp:lastModifiedBy>
  <dcterms:modified xsi:type="dcterms:W3CDTF">2009-08-09T19:28:54Z</dcterms:modified>
  <cp:revision>71</cp:revision>
  <dc:subject/>
  <dc:title>Слайд 1</dc:title>
</cp:coreProperties>
</file>