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B49-23D3-4EB6-86F1-0C374693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631-7E79-4836-92AF-D4B595B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8B7-9521-4D33-B244-1E80AF14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DF5-2C95-4DB0-B7E0-666D45E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D82-DA78-4997-8335-060B4CFF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ED0-56E1-4F12-87BE-C6674B4A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8E0-EA3C-4759-BFBE-668D2444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D10-5FA2-479E-9F26-623D7E7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924-BAB2-4EDF-A5F4-9D1BFE61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3B3-D0E0-4814-89B6-990454E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8A-2141-45BC-A75A-94DDDDD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0C70-0B44-4EC0-93E7-02E6361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5480-084F-4BE5-9E9E-9BA431D54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40303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395280" y="260280"/>
            <a:ext cx="835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dff3d"/>
                    </a:gs>
                  </a:gsLst>
                  <a:lin ang="5400000"/>
                </a:gradFill>
                <a:latin typeface="Arial"/>
              </a:rPr>
              <a:t>Строение цвет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dff3d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244000" y="2276640"/>
            <a:ext cx="90000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724360" y="2133720"/>
            <a:ext cx="2519640" cy="718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292720" y="6308640"/>
            <a:ext cx="180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932360" y="5661000"/>
            <a:ext cx="144000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72360" y="5661000"/>
            <a:ext cx="122400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5661000"/>
            <a:ext cx="1332000" cy="4320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4869000"/>
            <a:ext cx="125892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365720"/>
            <a:ext cx="140328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2781360"/>
            <a:ext cx="82692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2349360"/>
            <a:ext cx="97164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1773360"/>
            <a:ext cx="90000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6"/>
          <p:cNvSpPr txBox="1"/>
          <p:nvPr/>
        </p:nvSpPr>
        <p:spPr>
          <a:xfrm>
            <a:off x="1476360" y="260280"/>
            <a:ext cx="5975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63504" dir="19383909" blurRad="0" rotWithShape="0">
                    <a:srgbClr val="0000cc">
                      <a:alpha val="80000"/>
                    </a:srgbClr>
                  </a:outerShdw>
                </a:effectLst>
                <a:latin typeface="Times New Roman"/>
              </a:rPr>
              <a:t>Голые цветки.</a:t>
            </a:r>
            <a:endParaRPr b="0" lang="en-US" sz="1800" spc="1" strike="noStrike">
              <a:ln w="1260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63504" dir="19383909" blurRad="0" rotWithShape="0">
                  <a:srgbClr val="00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026360" y="1547640"/>
            <a:ext cx="65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Отсутствует околоцве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539640" y="2924280"/>
            <a:ext cx="3168720" cy="3041280"/>
            <a:chOff x="539640" y="2924280"/>
            <a:chExt cx="3168720" cy="3041280"/>
          </a:xfrm>
        </p:grpSpPr>
        <p:pic>
          <p:nvPicPr>
            <p:cNvPr id="115" name="Picture 5" descr="10"/>
            <p:cNvPicPr/>
            <p:nvPr/>
          </p:nvPicPr>
          <p:blipFill>
            <a:blip r:embed="rId2"/>
            <a:srcRect l="9494" t="25931" r="48769" b="37964"/>
            <a:stretch/>
          </p:blipFill>
          <p:spPr>
            <a:xfrm>
              <a:off x="539640" y="2924280"/>
              <a:ext cx="316872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615960" y="5445000"/>
              <a:ext cx="28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3300"/>
                  </a:solidFill>
                  <a:latin typeface="Arial"/>
                </a:rPr>
                <a:t>Белокрыльн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6588000" y="2492280"/>
            <a:ext cx="2016360" cy="3689280"/>
            <a:chOff x="6588000" y="2492280"/>
            <a:chExt cx="2016360" cy="3689280"/>
          </a:xfrm>
        </p:grpSpPr>
        <p:pic>
          <p:nvPicPr>
            <p:cNvPr id="118" name="Picture 4" descr="10"/>
            <p:cNvPicPr/>
            <p:nvPr/>
          </p:nvPicPr>
          <p:blipFill>
            <a:blip r:embed="rId3"/>
            <a:srcRect l="65434" t="20456" r="8010" b="34682"/>
            <a:stretch/>
          </p:blipFill>
          <p:spPr>
            <a:xfrm>
              <a:off x="6588000" y="2492280"/>
              <a:ext cx="2016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7021800" y="5661000"/>
              <a:ext cx="126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3300"/>
                  </a:solidFill>
                  <a:latin typeface="Arial"/>
                </a:rPr>
                <a:t>Ясен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12"/>
          <p:cNvPicPr/>
          <p:nvPr/>
        </p:nvPicPr>
        <p:blipFill>
          <a:blip r:embed="rId2"/>
          <a:srcRect l="0" t="20368" r="0" b="15990"/>
          <a:stretch/>
        </p:blipFill>
        <p:spPr>
          <a:xfrm>
            <a:off x="539640" y="1700280"/>
            <a:ext cx="8280360" cy="45432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Тычинки с пыльцой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3"/>
          <p:cNvPicPr/>
          <p:nvPr/>
        </p:nvPicPr>
        <p:blipFill>
          <a:blip r:embed="rId2"/>
          <a:srcRect l="0" t="4850" r="0" b="22209"/>
          <a:stretch/>
        </p:blipFill>
        <p:spPr>
          <a:xfrm>
            <a:off x="324000" y="1557360"/>
            <a:ext cx="8208720" cy="4894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Виды пыльцы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14"/>
          <p:cNvPicPr/>
          <p:nvPr/>
        </p:nvPicPr>
        <p:blipFill>
          <a:blip r:embed="rId2"/>
          <a:srcRect l="2692" t="12666" r="73657" b="31346"/>
          <a:stretch/>
        </p:blipFill>
        <p:spPr>
          <a:xfrm>
            <a:off x="250920" y="1989000"/>
            <a:ext cx="1800000" cy="388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14"/>
          <p:cNvPicPr/>
          <p:nvPr/>
        </p:nvPicPr>
        <p:blipFill>
          <a:blip r:embed="rId3"/>
          <a:srcRect l="27285" t="12666" r="51902" b="31346"/>
          <a:stretch/>
        </p:blipFill>
        <p:spPr>
          <a:xfrm>
            <a:off x="2916360" y="1989000"/>
            <a:ext cx="1584360" cy="388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4"/>
          <p:cNvPicPr/>
          <p:nvPr/>
        </p:nvPicPr>
        <p:blipFill>
          <a:blip r:embed="rId4"/>
          <a:srcRect l="50960" t="12666" r="32020" b="31346"/>
          <a:stretch/>
        </p:blipFill>
        <p:spPr>
          <a:xfrm>
            <a:off x="5292720" y="1989000"/>
            <a:ext cx="1295280" cy="388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4"/>
          <p:cNvPicPr/>
          <p:nvPr/>
        </p:nvPicPr>
        <p:blipFill>
          <a:blip r:embed="rId5"/>
          <a:srcRect l="72720" t="12666" r="8363" b="31346"/>
          <a:stretch/>
        </p:blipFill>
        <p:spPr>
          <a:xfrm>
            <a:off x="7308720" y="1989000"/>
            <a:ext cx="1440000" cy="388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8"/>
          <p:cNvSpPr txBox="1"/>
          <p:nvPr/>
        </p:nvSpPr>
        <p:spPr>
          <a:xfrm>
            <a:off x="1187280" y="333360"/>
            <a:ext cx="7056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66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aca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Times New Roman"/>
              </a:rPr>
              <a:t>Виды пестиков.</a:t>
            </a:r>
            <a:endParaRPr b="0" lang="en-US" sz="1800" spc="1" strike="noStrike">
              <a:ln w="12600">
                <a:solidFill>
                  <a:srgbClr val="cc66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caca00"/>
                  </a:gs>
                </a:gsLst>
                <a:lin ang="5400000"/>
              </a:grad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476360" y="260280"/>
            <a:ext cx="59752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63504" dir="19383909" blurRad="0" rotWithShape="0">
                    <a:srgbClr val="ff0066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effectLst>
                  <a:outerShdw dist="63504" dir="19383909" blurRad="0" rotWithShape="0">
                    <a:srgbClr val="ff0066"/>
                  </a:outerShdw>
                </a:effectLst>
                <a:latin typeface="Times New Roman"/>
              </a:rPr>
              <a:t>Цветки.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solidFill>
                <a:srgbClr val="ff00ff"/>
              </a:solidFill>
              <a:effectLst>
                <a:outerShdw dist="63504" dir="19383909" blurRad="0" rotWithShape="0">
                  <a:srgbClr val="ff006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7"/>
          <p:cNvSpPr txBox="1"/>
          <p:nvPr/>
        </p:nvSpPr>
        <p:spPr>
          <a:xfrm>
            <a:off x="539640" y="328464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Обоепол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5796000" y="278136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Однопол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3276720" y="4869000"/>
            <a:ext cx="2504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Тычиночн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6372360" y="494172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Пестичные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134" name="Стрелка вправо с вырезом 10"/>
          <p:cNvSpPr/>
          <p:nvPr/>
        </p:nvSpPr>
        <p:spPr>
          <a:xfrm rot="7791600">
            <a:off x="1395360" y="1890720"/>
            <a:ext cx="1584000" cy="720720"/>
          </a:xfrm>
          <a:custGeom>
            <a:avLst/>
            <a:gdLst>
              <a:gd name="textAreaLeft" fmla="*/ 180000 w 1584000"/>
              <a:gd name="textAreaRight" fmla="*/ 1404000 w 1584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87" y="5400"/>
                </a:lnTo>
                <a:lnTo>
                  <a:pt x="16687" y="0"/>
                </a:lnTo>
                <a:lnTo>
                  <a:pt x="21600" y="10800"/>
                </a:lnTo>
                <a:lnTo>
                  <a:pt x="16687" y="21600"/>
                </a:lnTo>
                <a:lnTo>
                  <a:pt x="16687" y="16200"/>
                </a:lnTo>
                <a:lnTo>
                  <a:pt x="0" y="16200"/>
                </a:lnTo>
                <a:lnTo>
                  <a:pt x="2457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право с вырезом 11"/>
          <p:cNvSpPr/>
          <p:nvPr/>
        </p:nvSpPr>
        <p:spPr>
          <a:xfrm rot="3088800">
            <a:off x="5275800" y="1680120"/>
            <a:ext cx="1582920" cy="720720"/>
          </a:xfrm>
          <a:custGeom>
            <a:avLst/>
            <a:gdLst>
              <a:gd name="textAreaLeft" fmla="*/ 180000 w 1582920"/>
              <a:gd name="textAreaRight" fmla="*/ 1402920 w 15829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682" y="5400"/>
                </a:lnTo>
                <a:lnTo>
                  <a:pt x="16682" y="0"/>
                </a:lnTo>
                <a:lnTo>
                  <a:pt x="21600" y="10800"/>
                </a:lnTo>
                <a:lnTo>
                  <a:pt x="16682" y="21600"/>
                </a:lnTo>
                <a:lnTo>
                  <a:pt x="16682" y="16200"/>
                </a:lnTo>
                <a:lnTo>
                  <a:pt x="0" y="16200"/>
                </a:lnTo>
                <a:lnTo>
                  <a:pt x="2459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с вырезом 12"/>
          <p:cNvSpPr/>
          <p:nvPr/>
        </p:nvSpPr>
        <p:spPr>
          <a:xfrm rot="7791600">
            <a:off x="4699800" y="3869280"/>
            <a:ext cx="1442880" cy="631800"/>
          </a:xfrm>
          <a:custGeom>
            <a:avLst/>
            <a:gdLst>
              <a:gd name="textAreaLeft" fmla="*/ 157680 w 1442880"/>
              <a:gd name="textAreaRight" fmla="*/ 1285200 w 144288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1" y="5400"/>
                </a:ln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16871" y="16200"/>
                </a:lnTo>
                <a:lnTo>
                  <a:pt x="0" y="16200"/>
                </a:lnTo>
                <a:lnTo>
                  <a:pt x="2365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с вырезом 14"/>
          <p:cNvSpPr/>
          <p:nvPr/>
        </p:nvSpPr>
        <p:spPr>
          <a:xfrm rot="4143000">
            <a:off x="6491520" y="3899520"/>
            <a:ext cx="1442880" cy="631800"/>
          </a:xfrm>
          <a:custGeom>
            <a:avLst/>
            <a:gdLst>
              <a:gd name="textAreaLeft" fmla="*/ 157680 w 1442880"/>
              <a:gd name="textAreaRight" fmla="*/ 1285200 w 144288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1" y="5400"/>
                </a:ln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16871" y="16200"/>
                </a:lnTo>
                <a:lnTo>
                  <a:pt x="0" y="16200"/>
                </a:lnTo>
                <a:lnTo>
                  <a:pt x="2365" y="10800"/>
                </a:lnTo>
                <a:lnTo>
                  <a:pt x="0" y="5400"/>
                </a:lnTo>
                <a:close/>
              </a:path>
            </a:pathLst>
          </a:custGeom>
          <a:noFill/>
          <a:ln w="792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971640" y="333360"/>
            <a:ext cx="712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6600cc">
                      <a:alpha val="80000"/>
                    </a:srgbClr>
                  </a:outerShdw>
                </a:effectLst>
                <a:latin typeface="Times New Roman"/>
              </a:rPr>
              <a:t>Обоеполые цветки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40186" dir="1096358" blurRad="0" rotWithShape="0">
                  <a:srgbClr val="66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836000" y="1268280"/>
            <a:ext cx="52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Есть тычинки и пе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16"/>
          <p:cNvPicPr/>
          <p:nvPr/>
        </p:nvPicPr>
        <p:blipFill>
          <a:blip r:embed="rId2"/>
          <a:srcRect l="0" t="0" r="0" b="27447"/>
          <a:stretch/>
        </p:blipFill>
        <p:spPr>
          <a:xfrm>
            <a:off x="468360" y="1816200"/>
            <a:ext cx="806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971640" y="333360"/>
            <a:ext cx="71294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6600cc">
                      <a:alpha val="80000"/>
                    </a:srgbClr>
                  </a:outerShdw>
                </a:effectLst>
                <a:latin typeface="Times New Roman"/>
              </a:rPr>
              <a:t>Однополые  цветки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6600cc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 rot="7305600">
            <a:off x="1922760" y="1710360"/>
            <a:ext cx="1582560" cy="485640"/>
          </a:xfrm>
          <a:custGeom>
            <a:avLst/>
            <a:gdLst>
              <a:gd name="textAreaLeft" fmla="*/ 247320 w 1582560"/>
              <a:gd name="textAreaRight" fmla="*/ 492840 w 15825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6726" y="0"/>
                </a:moveTo>
                <a:lnTo>
                  <a:pt x="6726" y="0"/>
                </a:lnTo>
                <a:lnTo>
                  <a:pt x="3375" y="0"/>
                </a:lnTo>
                <a:lnTo>
                  <a:pt x="3375" y="21600"/>
                </a:lnTo>
                <a:lnTo>
                  <a:pt x="6726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0"/>
                </a:moveTo>
                <a:lnTo>
                  <a:pt x="1350" y="21600"/>
                </a:lnTo>
                <a:lnTo>
                  <a:pt x="2700" y="21600"/>
                </a:lnTo>
                <a:lnTo>
                  <a:pt x="2700" y="0"/>
                </a:lnTo>
                <a:close/>
              </a:path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675" y="21600"/>
                </a:lnTo>
                <a:lnTo>
                  <a:pt x="675" y="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19692000"/>
          </a:gra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 rot="3471600">
            <a:off x="5678280" y="1746000"/>
            <a:ext cx="1584360" cy="486000"/>
          </a:xfrm>
          <a:custGeom>
            <a:avLst/>
            <a:gdLst>
              <a:gd name="textAreaLeft" fmla="*/ 247320 w 1584360"/>
              <a:gd name="textAreaRight" fmla="*/ 493200 w 15843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6726" y="0"/>
                </a:moveTo>
                <a:lnTo>
                  <a:pt x="6726" y="0"/>
                </a:lnTo>
                <a:lnTo>
                  <a:pt x="3375" y="0"/>
                </a:lnTo>
                <a:lnTo>
                  <a:pt x="3375" y="21600"/>
                </a:lnTo>
                <a:lnTo>
                  <a:pt x="6726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0"/>
                </a:moveTo>
                <a:lnTo>
                  <a:pt x="1350" y="21600"/>
                </a:lnTo>
                <a:lnTo>
                  <a:pt x="2700" y="21600"/>
                </a:lnTo>
                <a:lnTo>
                  <a:pt x="2700" y="0"/>
                </a:lnTo>
                <a:close/>
              </a:path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675" y="21600"/>
                </a:lnTo>
                <a:lnTo>
                  <a:pt x="675" y="0"/>
                </a:lnTo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50000">
                <a:srgbClr val="ffff00"/>
              </a:gs>
              <a:gs pos="100000">
                <a:srgbClr val="66ff33"/>
              </a:gs>
            </a:gsLst>
            <a:lin ang="1926000"/>
          </a:gra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7"/>
          <p:cNvSpPr txBox="1"/>
          <p:nvPr/>
        </p:nvSpPr>
        <p:spPr>
          <a:xfrm>
            <a:off x="900000" y="278136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Тычиночные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5508720" y="2781360"/>
            <a:ext cx="2504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Пестичные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17"/>
          <p:cNvPicPr/>
          <p:nvPr/>
        </p:nvPicPr>
        <p:blipFill>
          <a:blip r:embed="rId2"/>
          <a:srcRect l="0" t="2685" r="48993" b="50003"/>
          <a:stretch/>
        </p:blipFill>
        <p:spPr>
          <a:xfrm>
            <a:off x="179280" y="3716280"/>
            <a:ext cx="361944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17"/>
          <p:cNvPicPr/>
          <p:nvPr/>
        </p:nvPicPr>
        <p:blipFill>
          <a:blip r:embed="rId3"/>
          <a:srcRect l="52778" t="28692" r="0" b="22795"/>
          <a:stretch/>
        </p:blipFill>
        <p:spPr>
          <a:xfrm>
            <a:off x="5364000" y="3645000"/>
            <a:ext cx="3351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468360" y="260280"/>
            <a:ext cx="8207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009900">
                      <a:alpha val="80000"/>
                    </a:srgbClr>
                  </a:outerShdw>
                </a:effectLst>
                <a:latin typeface="Times New Roman"/>
              </a:rPr>
              <a:t>Разнообразие растений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00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692000" y="1125360"/>
            <a:ext cx="2158920" cy="79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85400" y="2060640"/>
            <a:ext cx="25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Растения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боепо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4572000" y="1125360"/>
            <a:ext cx="2087640" cy="7909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800320" y="2081160"/>
            <a:ext cx="24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тения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однопол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цве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3347640" y="3500280"/>
            <a:ext cx="2592360" cy="10810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959840" y="481644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днод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6804000" y="3429000"/>
            <a:ext cx="432000" cy="11523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6374160" y="4869000"/>
            <a:ext cx="20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вудом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46836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66ff33"/>
                </a:solidFill>
                <a:effectLst>
                  <a:outerShdw dist="40186" dir="1096358" blurRad="0" rotWithShape="0">
                    <a:srgbClr val="ff33cc"/>
                  </a:outerShdw>
                </a:effectLst>
                <a:latin typeface="Times New Roman"/>
              </a:rPr>
              <a:t>Однодомные растени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66ff33"/>
              </a:solidFill>
              <a:effectLst>
                <a:outerShdw dist="40186" dir="1096358" blurRad="0" rotWithShape="0">
                  <a:srgbClr val="ff33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5" descr="18"/>
          <p:cNvPicPr/>
          <p:nvPr/>
        </p:nvPicPr>
        <p:blipFill>
          <a:blip r:embed="rId2"/>
          <a:srcRect l="0" t="3714" r="0" b="16773"/>
          <a:stretch/>
        </p:blipFill>
        <p:spPr>
          <a:xfrm>
            <a:off x="611280" y="1125360"/>
            <a:ext cx="806436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8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19"/>
          <p:cNvPicPr/>
          <p:nvPr/>
        </p:nvPicPr>
        <p:blipFill>
          <a:blip r:embed="rId2"/>
          <a:srcRect l="0" t="0" r="0" b="15186"/>
          <a:stretch/>
        </p:blipFill>
        <p:spPr>
          <a:xfrm>
            <a:off x="324000" y="901800"/>
            <a:ext cx="8496000" cy="5905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468360" y="18900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79bc"/>
                    </a:gs>
                    <a:gs pos="100000">
                      <a:srgbClr val="ff8f43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0000ff"/>
                  </a:outerShdw>
                </a:effectLst>
                <a:latin typeface="Times New Roman"/>
              </a:rPr>
              <a:t>Двудомные  растения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79bc"/>
                  </a:gs>
                  <a:gs pos="100000">
                    <a:srgbClr val="ff8f43"/>
                  </a:gs>
                </a:gsLst>
                <a:lin ang="5400000"/>
              </a:gradFill>
              <a:effectLst>
                <a:outerShdw dist="40186" dir="1096358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04040202"/>
          <p:cNvPicPr/>
          <p:nvPr/>
        </p:nvPicPr>
        <p:blipFill>
          <a:blip r:embed="rId1"/>
          <a:srcRect l="75596" t="51044" r="0" b="0"/>
          <a:stretch/>
        </p:blipFill>
        <p:spPr>
          <a:xfrm>
            <a:off x="5508720" y="1052640"/>
            <a:ext cx="1685880" cy="20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04040203"/>
          <p:cNvPicPr/>
          <p:nvPr/>
        </p:nvPicPr>
        <p:blipFill>
          <a:blip r:embed="rId2"/>
          <a:srcRect l="58910" t="0" r="21474" b="0"/>
          <a:stretch/>
        </p:blipFill>
        <p:spPr>
          <a:xfrm>
            <a:off x="1258920" y="1125360"/>
            <a:ext cx="17510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4040208"/>
          <p:cNvPicPr/>
          <p:nvPr/>
        </p:nvPicPr>
        <p:blipFill>
          <a:blip r:embed="rId3"/>
          <a:srcRect l="59338" t="0" r="19746" b="49622"/>
          <a:stretch/>
        </p:blipFill>
        <p:spPr>
          <a:xfrm>
            <a:off x="3348000" y="3284640"/>
            <a:ext cx="2136960" cy="2374920"/>
          </a:xfrm>
          <a:prstGeom prst="rect">
            <a:avLst/>
          </a:prstGeom>
          <a:ln w="0">
            <a:noFill/>
          </a:ln>
        </p:spPr>
      </p:pic>
      <p:sp>
        <p:nvSpPr>
          <p:cNvPr id="57" name="WordArt 12"/>
          <p:cNvSpPr txBox="1"/>
          <p:nvPr/>
        </p:nvSpPr>
        <p:spPr>
          <a:xfrm>
            <a:off x="250920" y="0"/>
            <a:ext cx="864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0000ff"/>
                  </a:outerShdw>
                </a:effectLst>
                <a:latin typeface="Times New Roman"/>
              </a:rPr>
              <a:t>Цветок-это видоизмененный побег.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967680" y="5589720"/>
            <a:ext cx="74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Цветки разнообразны по стро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змерам и окра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2"/>
          <p:cNvPicPr/>
          <p:nvPr/>
        </p:nvPicPr>
        <p:blipFill>
          <a:blip r:embed="rId2"/>
          <a:srcRect l="75700" t="46331" r="6320" b="33795"/>
          <a:stretch/>
        </p:blipFill>
        <p:spPr>
          <a:xfrm>
            <a:off x="6443640" y="3429000"/>
            <a:ext cx="2376360" cy="22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2"/>
          <p:cNvPicPr/>
          <p:nvPr/>
        </p:nvPicPr>
        <p:blipFill>
          <a:blip r:embed="rId3"/>
          <a:srcRect l="40535" t="58834" r="37696" b="21292"/>
          <a:stretch/>
        </p:blipFill>
        <p:spPr>
          <a:xfrm>
            <a:off x="3348000" y="3500280"/>
            <a:ext cx="2519280" cy="197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"/>
          <p:cNvPicPr/>
          <p:nvPr/>
        </p:nvPicPr>
        <p:blipFill>
          <a:blip r:embed="rId4"/>
          <a:srcRect l="30270" t="2190" r="27138" b="58083"/>
          <a:stretch/>
        </p:blipFill>
        <p:spPr>
          <a:xfrm>
            <a:off x="5902200" y="0"/>
            <a:ext cx="32418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"/>
          <p:cNvPicPr/>
          <p:nvPr/>
        </p:nvPicPr>
        <p:blipFill>
          <a:blip r:embed="rId5"/>
          <a:srcRect l="6613" t="43727" r="70676" b="34209"/>
          <a:stretch/>
        </p:blipFill>
        <p:spPr>
          <a:xfrm>
            <a:off x="179280" y="3357720"/>
            <a:ext cx="2880000" cy="2398680"/>
          </a:xfrm>
          <a:prstGeom prst="rect">
            <a:avLst/>
          </a:prstGeom>
          <a:ln w="0">
            <a:noFill/>
          </a:ln>
        </p:spPr>
      </p:pic>
      <p:sp>
        <p:nvSpPr>
          <p:cNvPr id="63" name="WordArt 10"/>
          <p:cNvSpPr txBox="1"/>
          <p:nvPr/>
        </p:nvSpPr>
        <p:spPr>
          <a:xfrm>
            <a:off x="250920" y="189000"/>
            <a:ext cx="47527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6832" dir="19996359" blurRad="0" rotWithShape="0">
                    <a:srgbClr val="0000ff"/>
                  </a:outerShdw>
                </a:effectLst>
                <a:latin typeface="Times New Roman"/>
              </a:rPr>
              <a:t>Цветоложе.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6832" dir="19996359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612720" y="155736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ожет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685800" y="59500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Лю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26160" y="602136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П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518880" y="587700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Манж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42880" y="270828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ыпук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568680" y="285264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ло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6662880" y="2924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огну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258920" y="33336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277e"/>
                    </a:gs>
                    <a:gs pos="100000">
                      <a:srgbClr val="006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99"/>
                  </a:outerShdw>
                </a:effectLst>
                <a:latin typeface="Arial"/>
              </a:rPr>
              <a:t>Околоцветник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277e"/>
                  </a:gs>
                  <a:gs pos="100000">
                    <a:srgbClr val="006e00"/>
                  </a:gs>
                </a:gsLst>
                <a:lin ang="5400000"/>
              </a:gradFill>
              <a:effectLst>
                <a:outerShdw dist="17819" dir="2700000" blurRad="0" rotWithShape="0">
                  <a:srgbClr val="99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Line 5"/>
          <p:cNvSpPr/>
          <p:nvPr/>
        </p:nvSpPr>
        <p:spPr>
          <a:xfrm flipH="1">
            <a:off x="2410920" y="1413000"/>
            <a:ext cx="1150920" cy="86364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364000" y="1484280"/>
            <a:ext cx="1081080" cy="7192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1187280" y="2205000"/>
            <a:ext cx="216072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Просто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5" name="WordArt 8"/>
          <p:cNvSpPr txBox="1"/>
          <p:nvPr/>
        </p:nvSpPr>
        <p:spPr>
          <a:xfrm>
            <a:off x="5508720" y="2205000"/>
            <a:ext cx="2232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Двойной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219640" y="2852640"/>
            <a:ext cx="31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остоит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e00"/>
                </a:solidFill>
                <a:latin typeface="Arial"/>
              </a:rPr>
              <a:t>чашеч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енч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324360" y="2852640"/>
            <a:ext cx="40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разован одинако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источ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04040304"/>
          <p:cNvPicPr/>
          <p:nvPr/>
        </p:nvPicPr>
        <p:blipFill>
          <a:blip r:embed="rId4"/>
          <a:srcRect l="25055" t="0" r="49977" b="50836"/>
          <a:stretch/>
        </p:blipFill>
        <p:spPr>
          <a:xfrm>
            <a:off x="611280" y="371628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04040217"/>
          <p:cNvPicPr/>
          <p:nvPr/>
        </p:nvPicPr>
        <p:blipFill>
          <a:blip r:embed="rId5"/>
          <a:srcRect l="0" t="50013" r="80236" b="0"/>
          <a:stretch/>
        </p:blipFill>
        <p:spPr>
          <a:xfrm>
            <a:off x="5724360" y="3716280"/>
            <a:ext cx="2529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476360" y="189000"/>
            <a:ext cx="52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9ffcc"/>
                    </a:gs>
                    <a:gs pos="100000">
                      <a:srgbClr val="006e00"/>
                    </a:gs>
                  </a:gsLst>
                  <a:lin ang="5400000"/>
                </a:gradFill>
                <a:effectLst>
                  <a:outerShdw dist="73964" dir="19736436" blurRad="0" rotWithShape="0">
                    <a:srgbClr val="ffff00">
                      <a:alpha val="80000"/>
                    </a:srgbClr>
                  </a:outerShdw>
                </a:effectLst>
                <a:latin typeface="Arial"/>
              </a:rPr>
              <a:t>Чашечка</a:t>
            </a:r>
            <a:endParaRPr b="0" i="1" lang="en-US" sz="1800" spc="1" strike="noStrike">
              <a:ln w="284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9ffcc"/>
                  </a:gs>
                  <a:gs pos="100000">
                    <a:srgbClr val="006e00"/>
                  </a:gs>
                </a:gsLst>
                <a:lin ang="5400000"/>
              </a:gradFill>
              <a:effectLst>
                <a:outerShdw dist="73964" dir="19736436" blurRad="0" rotWithShape="0">
                  <a:srgbClr val="ffff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1547280" y="1125360"/>
            <a:ext cx="2232360" cy="64800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5075280" y="1098720"/>
            <a:ext cx="2303280" cy="57600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250920" y="1844640"/>
            <a:ext cx="315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Сростнолистная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5794200" y="1746360"/>
            <a:ext cx="3152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Раздельнолистная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Picture 9" descr="4"/>
          <p:cNvPicPr/>
          <p:nvPr/>
        </p:nvPicPr>
        <p:blipFill>
          <a:blip r:embed="rId2"/>
          <a:srcRect l="58515" t="45611" r="8363" b="23732"/>
          <a:stretch/>
        </p:blipFill>
        <p:spPr>
          <a:xfrm>
            <a:off x="1258920" y="4653000"/>
            <a:ext cx="2521080" cy="201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4"/>
          <p:cNvPicPr/>
          <p:nvPr/>
        </p:nvPicPr>
        <p:blipFill>
          <a:blip r:embed="rId3"/>
          <a:srcRect l="11202" t="45611" r="55676" b="24843"/>
          <a:stretch/>
        </p:blipFill>
        <p:spPr>
          <a:xfrm>
            <a:off x="324000" y="2421000"/>
            <a:ext cx="280980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4"/>
          <p:cNvPicPr/>
          <p:nvPr/>
        </p:nvPicPr>
        <p:blipFill>
          <a:blip r:embed="rId4"/>
          <a:srcRect l="11202" t="1860" r="55676" b="60953"/>
          <a:stretch/>
        </p:blipFill>
        <p:spPr>
          <a:xfrm>
            <a:off x="4500720" y="2276640"/>
            <a:ext cx="2520720" cy="24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4"/>
          <p:cNvPicPr/>
          <p:nvPr/>
        </p:nvPicPr>
        <p:blipFill>
          <a:blip r:embed="rId5"/>
          <a:srcRect l="58515" t="1860" r="8363" b="60953"/>
          <a:stretch/>
        </p:blipFill>
        <p:spPr>
          <a:xfrm>
            <a:off x="6443640" y="4410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619280" y="189000"/>
            <a:ext cx="52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73964" dir="19736436" blurRad="0" rotWithShape="0">
                    <a:srgbClr val="0000ff"/>
                  </a:outerShdw>
                </a:effectLst>
                <a:latin typeface="Arial"/>
              </a:rPr>
              <a:t>Венчик</a:t>
            </a:r>
            <a:endParaRPr b="0" i="1" lang="en-US" sz="1800" spc="1" strike="noStrike">
              <a:ln w="2844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73964" dir="19736436" blurRad="0" rotWithShape="0">
                  <a:srgbClr val="0000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8474400">
            <a:off x="1692000" y="1483920"/>
            <a:ext cx="1730160" cy="33660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96" y="0"/>
                </a:lnTo>
                <a:lnTo>
                  <a:pt x="21600" y="10800"/>
                </a:lnTo>
                <a:lnTo>
                  <a:pt x="9396" y="21600"/>
                </a:lnTo>
                <a:lnTo>
                  <a:pt x="0" y="21600"/>
                </a:lnTo>
                <a:lnTo>
                  <a:pt x="12204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 rot="2554800">
            <a:off x="4932000" y="1484280"/>
            <a:ext cx="1735200" cy="28728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396" y="0"/>
                </a:lnTo>
                <a:lnTo>
                  <a:pt x="21600" y="10800"/>
                </a:lnTo>
                <a:lnTo>
                  <a:pt x="9396" y="21600"/>
                </a:lnTo>
                <a:lnTo>
                  <a:pt x="0" y="21600"/>
                </a:lnTo>
                <a:lnTo>
                  <a:pt x="12204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79280" y="213192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Сростнолепестный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5148360" y="2133720"/>
            <a:ext cx="35528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Раздельнолепестный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94" name="Picture 10" descr="зем"/>
          <p:cNvPicPr/>
          <p:nvPr/>
        </p:nvPicPr>
        <p:blipFill>
          <a:blip r:embed="rId2"/>
          <a:srcRect l="0" t="16913" r="3271" b="23228"/>
          <a:stretch/>
        </p:blipFill>
        <p:spPr>
          <a:xfrm>
            <a:off x="4572000" y="2637000"/>
            <a:ext cx="2635200" cy="21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таб"/>
          <p:cNvPicPr/>
          <p:nvPr/>
        </p:nvPicPr>
        <p:blipFill>
          <a:blip r:embed="rId3"/>
          <a:srcRect l="19537" t="0" r="9367" b="7465"/>
          <a:stretch/>
        </p:blipFill>
        <p:spPr>
          <a:xfrm>
            <a:off x="0" y="3905280"/>
            <a:ext cx="175896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дур"/>
          <p:cNvPicPr/>
          <p:nvPr/>
        </p:nvPicPr>
        <p:blipFill>
          <a:blip r:embed="rId4"/>
          <a:srcRect l="17474" t="16913" r="15463" b="16913"/>
          <a:stretch/>
        </p:blipFill>
        <p:spPr>
          <a:xfrm>
            <a:off x="1763640" y="2852640"/>
            <a:ext cx="22050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6"/>
          <p:cNvPicPr/>
          <p:nvPr/>
        </p:nvPicPr>
        <p:blipFill>
          <a:blip r:embed="rId5"/>
          <a:srcRect l="68971" t="20284" r="0" b="37894"/>
          <a:stretch/>
        </p:blipFill>
        <p:spPr>
          <a:xfrm>
            <a:off x="6804000" y="4481640"/>
            <a:ext cx="20462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5"/>
          <p:cNvPicPr/>
          <p:nvPr/>
        </p:nvPicPr>
        <p:blipFill>
          <a:blip r:embed="rId2"/>
          <a:srcRect l="34149" t="2190" r="31702" b="59176"/>
          <a:stretch/>
        </p:blipFill>
        <p:spPr>
          <a:xfrm>
            <a:off x="324000" y="126828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5"/>
          <p:cNvPicPr/>
          <p:nvPr/>
        </p:nvPicPr>
        <p:blipFill>
          <a:blip r:embed="rId3"/>
          <a:srcRect l="1902" t="23168" r="69640" b="37105"/>
          <a:stretch/>
        </p:blipFill>
        <p:spPr>
          <a:xfrm>
            <a:off x="826920" y="400536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5"/>
          <p:cNvPicPr/>
          <p:nvPr/>
        </p:nvPicPr>
        <p:blipFill>
          <a:blip r:embed="rId4"/>
          <a:srcRect l="33879" t="44477" r="31977" b="15791"/>
          <a:stretch/>
        </p:blipFill>
        <p:spPr>
          <a:xfrm>
            <a:off x="622764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5"/>
          <p:cNvPicPr/>
          <p:nvPr/>
        </p:nvPicPr>
        <p:blipFill>
          <a:blip r:embed="rId5"/>
          <a:srcRect l="71812" t="20194" r="0" b="41172"/>
          <a:stretch/>
        </p:blipFill>
        <p:spPr>
          <a:xfrm>
            <a:off x="6516720" y="1341360"/>
            <a:ext cx="2139840" cy="2521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8"/>
          <p:cNvSpPr txBox="1"/>
          <p:nvPr/>
        </p:nvSpPr>
        <p:spPr>
          <a:xfrm>
            <a:off x="395280" y="26028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Какие чашечки у этих цветков?</a:t>
            </a:r>
            <a:endParaRPr b="0" lang="en-US" sz="1800" spc="1" strike="noStrike">
              <a:ln w="12600">
                <a:solidFill>
                  <a:srgbClr val="660066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395280" y="26028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акие венчики у этих цветков?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6" descr="101"/>
          <p:cNvPicPr/>
          <p:nvPr/>
        </p:nvPicPr>
        <p:blipFill>
          <a:blip r:embed="rId2"/>
          <a:stretch/>
        </p:blipFill>
        <p:spPr>
          <a:xfrm>
            <a:off x="395280" y="1197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02"/>
          <p:cNvPicPr/>
          <p:nvPr/>
        </p:nvPicPr>
        <p:blipFill>
          <a:blip r:embed="rId3"/>
          <a:stretch/>
        </p:blipFill>
        <p:spPr>
          <a:xfrm>
            <a:off x="4500720" y="141300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103"/>
          <p:cNvPicPr/>
          <p:nvPr/>
        </p:nvPicPr>
        <p:blipFill>
          <a:blip r:embed="rId4"/>
          <a:stretch/>
        </p:blipFill>
        <p:spPr>
          <a:xfrm>
            <a:off x="2484360" y="400536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104"/>
          <p:cNvPicPr/>
          <p:nvPr/>
        </p:nvPicPr>
        <p:blipFill>
          <a:blip r:embed="rId5"/>
          <a:stretch/>
        </p:blipFill>
        <p:spPr>
          <a:xfrm>
            <a:off x="6084720" y="3933720"/>
            <a:ext cx="25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395280" y="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e9e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Какие околоцветники у этих цветков?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9e9e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09" name="Picture 15" descr="04040203"/>
          <p:cNvPicPr/>
          <p:nvPr/>
        </p:nvPicPr>
        <p:blipFill>
          <a:blip r:embed="rId2"/>
          <a:srcRect l="0" t="0" r="81506" b="0"/>
          <a:stretch/>
        </p:blipFill>
        <p:spPr>
          <a:xfrm>
            <a:off x="468360" y="981000"/>
            <a:ext cx="2239920" cy="302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04040303"/>
          <p:cNvPicPr/>
          <p:nvPr/>
        </p:nvPicPr>
        <p:blipFill>
          <a:blip r:embed="rId3"/>
          <a:srcRect l="40697" t="50391" r="39516" b="0"/>
          <a:stretch/>
        </p:blipFill>
        <p:spPr>
          <a:xfrm>
            <a:off x="6012000" y="981000"/>
            <a:ext cx="2533680" cy="293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04040303"/>
          <p:cNvPicPr/>
          <p:nvPr/>
        </p:nvPicPr>
        <p:blipFill>
          <a:blip r:embed="rId4"/>
          <a:srcRect l="61647" t="50013" r="19770" b="0"/>
          <a:stretch/>
        </p:blipFill>
        <p:spPr>
          <a:xfrm>
            <a:off x="3348000" y="3500280"/>
            <a:ext cx="2544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8:42:52Z</dcterms:created>
  <dc:creator>Марина</dc:creator>
  <dc:description/>
  <dc:language>en-US</dc:language>
  <cp:lastModifiedBy>Андрей</cp:lastModifiedBy>
  <dcterms:modified xsi:type="dcterms:W3CDTF">2013-11-26T21:17:03Z</dcterms:modified>
  <cp:revision>20</cp:revision>
  <dc:subject/>
  <dc:title>Слайд 1</dc:title>
</cp:coreProperties>
</file>