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A52-AED3-45FF-AD5B-E7753D87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C90-BCF1-473B-BD2D-17C5506E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257-38E0-4C7C-9D0E-5B2041AD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AAA-CC0D-485B-893D-07607A83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BE4-7E7F-4ACB-BE20-8B0AD10F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F62-8B9B-4E4F-9542-F5E8B0E4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E0E-1EF6-4913-AA87-F171D220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BC9-6EBF-4746-B6EC-DA165FCC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02C-EF8F-4035-BE37-CC3470D7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F5D-5456-4833-B20B-B9B958B7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0780-6D7C-4FA0-83CC-046FF002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EDB-B294-41CA-AA9F-2B5B94C3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52D0-B925-4BD1-9485-08079B216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hyperlink" Target="C:\Program Files\Physicon\Open Biology 2.5\content\chapter10\section2\paragraph4\theory.html" TargetMode="External"/><Relationship Id="rId4" Type="http://schemas.openxmlformats.org/officeDocument/2006/relationships/hyperlink" Target="C:\Program Files\Physicon\Open Biology 2.5\content\chapter10\section2\paragraph4\theory.html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C:\Program Files\Physicon\Open Biology 2.5\content\chapter9\section1\paragraph4\theory.html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C:\Program Files\Physicon\Open Biology 2.5\content\chapter10\section2\paragraph6\theory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2133720"/>
            <a:ext cx="5472360" cy="15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inion Pro Cond"/>
              </a:rPr>
              <a:t>Ткан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inion Pro Cond"/>
              <a:ea typeface="Minion Pro Con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640" y="1773360"/>
            <a:ext cx="66960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660066"/>
                  </a:solidFill>
                  <a:miter/>
                </a:ln>
                <a:solidFill>
                  <a:srgbClr val="9900ff"/>
                </a:solidFill>
                <a:latin typeface="Monotype Corsiva"/>
              </a:rPr>
              <a:t>Ткани</a:t>
            </a:r>
            <a:endParaRPr b="1" lang="en-US" sz="1800" spc="1" strike="noStrike">
              <a:ln w="57240">
                <a:solidFill>
                  <a:srgbClr val="660066"/>
                </a:solidFill>
                <a:miter/>
              </a:ln>
              <a:solidFill>
                <a:srgbClr val="9900ff"/>
              </a:solidFill>
              <a:latin typeface="Monotype Corsiva"/>
              <a:ea typeface="Monotype Corsiv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33806" t="0" r="33806" b="0"/>
          <a:stretch/>
        </p:blipFill>
        <p:spPr>
          <a:xfrm>
            <a:off x="900000" y="4437000"/>
            <a:ext cx="2160720" cy="2013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67526" t="0" r="0" b="0"/>
          <a:stretch/>
        </p:blipFill>
        <p:spPr>
          <a:xfrm>
            <a:off x="6804000" y="189000"/>
            <a:ext cx="1873440" cy="2012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0" t="0" r="67569" b="0"/>
          <a:stretch/>
        </p:blipFill>
        <p:spPr>
          <a:xfrm>
            <a:off x="6300720" y="4437000"/>
            <a:ext cx="20890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78784" b="38473"/>
          <a:stretch/>
        </p:blipFill>
        <p:spPr>
          <a:xfrm>
            <a:off x="468360" y="981000"/>
            <a:ext cx="1908000" cy="230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43647" t="1950" r="1096" b="1859"/>
          <a:stretch/>
        </p:blipFill>
        <p:spPr>
          <a:xfrm>
            <a:off x="3059280" y="1197000"/>
            <a:ext cx="496872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403280" y="260280"/>
            <a:ext cx="6121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Цилиндрический эпители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80888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Высокие и довольно узкие клетки цилиндрического эпителия выстилают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желудок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и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ишечник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8871" t="10034" r="1096" b="19803"/>
          <a:stretch/>
        </p:blipFill>
        <p:spPr>
          <a:xfrm>
            <a:off x="4788000" y="105264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21120" t="12037" r="57261" b="25831"/>
          <a:stretch/>
        </p:blipFill>
        <p:spPr>
          <a:xfrm>
            <a:off x="684360" y="1125360"/>
            <a:ext cx="1944720" cy="2232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403280" y="260280"/>
            <a:ext cx="6121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Мерцательный эпители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36820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Мерцательный эпителий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похож на цилиндрический, но несёт на своей поверхности многочисленные реснички. Он выстилает яйцеводы, желудочки головного мозга, спинномозговой канал и дыхательные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50852" t="2192" r="0" b="3005"/>
          <a:stretch/>
        </p:blipFill>
        <p:spPr>
          <a:xfrm>
            <a:off x="4572000" y="692280"/>
            <a:ext cx="4419720" cy="3097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093" t="26436" r="70870" b="33881"/>
          <a:stretch/>
        </p:blipFill>
        <p:spPr>
          <a:xfrm>
            <a:off x="250920" y="1628640"/>
            <a:ext cx="2520720" cy="129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50920" y="189000"/>
            <a:ext cx="5041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Многослойный 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эпители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8408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Многослойный эпителий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состоит из нескольких слоёв клеток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Толщины этой ткани достаточно, чтобы защитить покрываемые органы от просачивания различных веществ и механических повреждени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68360" y="18900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99ff"/>
                </a:solidFill>
                <a:latin typeface="Century Schoolbook"/>
              </a:rPr>
              <a:t>Свойства эпител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99ff"/>
              </a:solidFill>
              <a:latin typeface="Century Schoolbook"/>
              <a:ea typeface="Century Schoolbook"/>
            </a:endParaRPr>
          </a:p>
        </p:txBody>
      </p:sp>
      <p:sp>
        <p:nvSpPr>
          <p:cNvPr id="93" name=""/>
          <p:cNvSpPr/>
          <p:nvPr/>
        </p:nvSpPr>
        <p:spPr>
          <a:xfrm>
            <a:off x="1693800" y="1268280"/>
            <a:ext cx="6340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Эпителиаль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клетки способ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660033"/>
                </a:solidFill>
                <a:latin typeface="Arial"/>
              </a:rPr>
              <a:t>к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ff0066"/>
                </a:solidFill>
                <a:latin typeface="Arial"/>
              </a:rPr>
              <a:t>регенер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4153320"/>
            <a:ext cx="712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В тех местах, где ткань организма подвергается постоянным нагрузкам и трениям и «снашивается», клетки эпителия </a:t>
            </a: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размножаются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</a:rPr>
              <a:t> с большой скоростью</a:t>
            </a:r>
            <a:r>
              <a:rPr b="0" i="1" lang="en-US" sz="28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68360" y="18900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ff"/>
                </a:solidFill>
                <a:latin typeface="Century Schoolbook"/>
              </a:rPr>
              <a:t>Соединительные ткан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ff"/>
              </a:solidFill>
              <a:latin typeface="Century Schoolbook"/>
              <a:ea typeface="Century Schoolboo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159200"/>
            <a:ext cx="842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Главная опора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Она составляет ске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Соединяет между собой различ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ткани и орг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Окружает некоторые орг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защищая их от повреж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Соединительная ткань состоит из клеток, располагающихся обычно далеко друг от друга.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 соединительной ткани много межклеточного вещества.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0" r="80453" b="0"/>
          <a:stretch/>
        </p:blipFill>
        <p:spPr>
          <a:xfrm>
            <a:off x="0" y="0"/>
            <a:ext cx="40338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356000" y="260280"/>
            <a:ext cx="417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Рыхлая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соединительная 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ткань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1990080"/>
            <a:ext cx="460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состоит из клеток, разбросанных в межклеточном веществе, и переплетённых неупорядоченных волоко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19528" t="0" r="60472" b="0"/>
          <a:stretch/>
        </p:blipFill>
        <p:spPr>
          <a:xfrm>
            <a:off x="0" y="0"/>
            <a:ext cx="41274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56000" y="-70200"/>
            <a:ext cx="439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Плотная соединительная тк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состоит из волокон, а не из клеток. Белая ткань содержится в сухожилиях, связках, роговице глаза, надкостнице и других органа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40413" t="0" r="40394" b="0"/>
          <a:stretch/>
        </p:blipFill>
        <p:spPr>
          <a:xfrm>
            <a:off x="0" y="0"/>
            <a:ext cx="3960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40360" y="284760"/>
            <a:ext cx="500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Хрящ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прочная ткань. Он покрывает суставные поверхности костей, содержится в ухе и глотке, в суставных сумках и межпозвоночных дисках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60433" t="0" r="20374" b="0"/>
          <a:stretch/>
        </p:blipFill>
        <p:spPr>
          <a:xfrm>
            <a:off x="0" y="0"/>
            <a:ext cx="39607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211640" y="153360"/>
            <a:ext cx="468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И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костной ткан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построен скелет позвоночных животных. Она состоит из клеток, погружённых в твёрдое вещество, состоящее на 30 % из органики (в основном, коллаген) и на 70 % из минеральных солей.  В ней содержатся натрий, магний, калий, хлор и другие вещества. Такое сочетание материалов сильно повышает устойчивость костной ткани на растяжение и изгиб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1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Костная тк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375320" cy="4915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124000" y="26028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Кость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95280" y="333360"/>
            <a:ext cx="821232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Группа клеток,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сходных по строению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и выплняющих 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  </a:t>
            </a: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одинаковую функцию, 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называется </a:t>
            </a:r>
            <a:endParaRPr b="1" i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71640" y="5877000"/>
            <a:ext cx="75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0000ff">
                        <a:alpha val="88235"/>
                      </a:srgbClr>
                    </a:gs>
                    <a:gs pos="100000">
                      <a:srgbClr val="0000ef"/>
                    </a:gs>
                  </a:gsLst>
                  <a:lin ang="5400000"/>
                </a:gradFill>
                <a:latin typeface="Times New Roman"/>
              </a:rPr>
              <a:t>ТКАНЬЮ</a:t>
            </a:r>
            <a:endParaRPr b="1" i="1" lang="en-US" sz="1800" spc="1" strike="noStrike">
              <a:ln w="2844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0000ff">
                      <a:alpha val="88235"/>
                    </a:srgbClr>
                  </a:gs>
                  <a:gs pos="100000">
                    <a:srgbClr val="0000e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80453" t="0" r="0" b="0"/>
          <a:stretch/>
        </p:blipFill>
        <p:spPr>
          <a:xfrm>
            <a:off x="0" y="0"/>
            <a:ext cx="40338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211640" y="333360"/>
            <a:ext cx="4390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Кровь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927" t="3008" r="25069" b="6213"/>
          <a:stretch/>
        </p:blipFill>
        <p:spPr>
          <a:xfrm>
            <a:off x="4500720" y="1557360"/>
            <a:ext cx="3751200" cy="388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88240" y="5526720"/>
            <a:ext cx="431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Кровяные клет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костном мозг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68360" y="18900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ff"/>
                </a:solidFill>
                <a:latin typeface="Century Schoolbook"/>
              </a:rPr>
              <a:t>Мышечная ткан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ff"/>
              </a:solidFill>
              <a:latin typeface="Century Schoolbook"/>
              <a:ea typeface="Century Schoolbook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808560"/>
            <a:ext cx="8456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состои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из высокоспециализированных сократительных волокон. В организмах высших животных она составляет до 40 % массы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3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Виды мышечных ткане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-838" t="0" r="66828" b="0"/>
          <a:stretch/>
        </p:blipFill>
        <p:spPr>
          <a:xfrm>
            <a:off x="0" y="1052640"/>
            <a:ext cx="5867280" cy="5736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67280" y="881640"/>
            <a:ext cx="31068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Поперечно-полосатые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(их также называют скелетными) мышцы являются основой двигательной системы организма. Очень длинные многоядерные клетки-волок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33991" t="0" r="34784" b="0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940360" y="947520"/>
            <a:ext cx="32036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Глад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(непроизвольные) мышцы образуют стенки дыхательных путей, кровеносных сосудов, пищеварительной и мочеполовой сист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8160" y="981000"/>
            <a:ext cx="20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Глад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66828" t="0" r="0" b="0"/>
          <a:stretch/>
        </p:blipFill>
        <p:spPr>
          <a:xfrm>
            <a:off x="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407280" y="577080"/>
            <a:ext cx="273672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Кле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сердечной мышц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разветвляются на концах Клетки содержат несколько ядер и большое количество крупных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итохондрий</a:t>
            </a:r>
            <a:r>
              <a:rPr b="0" lang="en-US" sz="2000" spc="-1" strike="noStrike" u="sng">
                <a:solidFill>
                  <a:srgbClr val="660033"/>
                </a:solidFill>
                <a:uFillTx/>
                <a:latin typeface="Arial"/>
              </a:rPr>
              <a:t>. Как следует из названия, сердечная мышца встречается только в стенке серд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7080" y="620640"/>
            <a:ext cx="23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Серде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мыш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4360" y="26028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Свойства мышечной ткани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7280" y="2133720"/>
            <a:ext cx="705816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latin typeface="Tempus Sans ITC"/>
              </a:rPr>
              <a:t>1. Возбудимость</a:t>
            </a: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latin typeface="Tempus Sans ITC"/>
              </a:rPr>
              <a:t>2. Сократимость</a:t>
            </a: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1164960"/>
            <a:ext cx="788508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состоит из нервных клеток – </a:t>
            </a: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нейронов</a:t>
            </a:r>
            <a:r>
              <a:rPr b="1" i="1" lang="en-US" sz="48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 Кроме того, она содержит рецепторные клетки. Нервные клетки могут возбуждаться и передавать электрические импуль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8900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9933ff"/>
                </a:solidFill>
                <a:latin typeface="Century Schoolbook"/>
              </a:rPr>
              <a:t>Нервная ткан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9933ff"/>
              </a:solidFill>
              <a:latin typeface="Century Schoolbook"/>
              <a:ea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74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788000" y="260280"/>
            <a:ext cx="39607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Строение 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нервной 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клетки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130" name=""/>
          <p:cNvSpPr/>
          <p:nvPr/>
        </p:nvSpPr>
        <p:spPr>
          <a:xfrm>
            <a:off x="5292720" y="3717000"/>
            <a:ext cx="315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Пучки нервных волокон собраны в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нерв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6360" cy="5306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684360" y="580536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Нейрон сетчатки глаза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4360" y="260280"/>
            <a:ext cx="784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Свойства нервной ткани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7280" y="2708280"/>
            <a:ext cx="7129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latin typeface="Tempus Sans ITC"/>
              </a:rPr>
              <a:t>1. Возбудимость</a:t>
            </a: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800000"/>
                </a:solidFill>
                <a:latin typeface="Tempus Sans ITC"/>
              </a:rPr>
              <a:t>2. Проводимость</a:t>
            </a:r>
            <a:endParaRPr b="0" i="1" lang="en-US" sz="1800" spc="1" strike="noStrike">
              <a:ln w="9360">
                <a:solidFill>
                  <a:srgbClr val="660033"/>
                </a:solidFill>
                <a:miter/>
              </a:ln>
              <a:solidFill>
                <a:srgbClr val="800000"/>
              </a:solidFill>
              <a:latin typeface="Tempus Sans ITC"/>
              <a:ea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403280" y="476280"/>
            <a:ext cx="6121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Ткани животных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49" name=""/>
          <p:cNvSpPr/>
          <p:nvPr/>
        </p:nvSpPr>
        <p:spPr>
          <a:xfrm flipH="1" rot="17419800">
            <a:off x="1124640" y="1834920"/>
            <a:ext cx="1584360" cy="164880"/>
          </a:xfrm>
          <a:custGeom>
            <a:avLst/>
            <a:gdLst>
              <a:gd name="textAreaLeft" fmla="*/ -360 w 1584360"/>
              <a:gd name="textAreaRight" fmla="*/ 1584360 w 158436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28" y="0"/>
                </a:lnTo>
                <a:lnTo>
                  <a:pt x="21600" y="10800"/>
                </a:lnTo>
                <a:lnTo>
                  <a:pt x="11628" y="21600"/>
                </a:lnTo>
                <a:lnTo>
                  <a:pt x="0" y="21600"/>
                </a:lnTo>
                <a:lnTo>
                  <a:pt x="9972" y="10800"/>
                </a:lnTo>
                <a:close/>
              </a:path>
            </a:pathLst>
          </a:custGeom>
          <a:solidFill>
            <a:srgbClr val="ff85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16275000">
            <a:off x="3070440" y="2625840"/>
            <a:ext cx="1584000" cy="164880"/>
          </a:xfrm>
          <a:custGeom>
            <a:avLst/>
            <a:gdLst>
              <a:gd name="textAreaLeft" fmla="*/ 360 w 1584000"/>
              <a:gd name="textAreaRight" fmla="*/ 1584720 w 15840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28" y="0"/>
                </a:lnTo>
                <a:lnTo>
                  <a:pt x="21600" y="10800"/>
                </a:lnTo>
                <a:lnTo>
                  <a:pt x="11628" y="21600"/>
                </a:lnTo>
                <a:lnTo>
                  <a:pt x="0" y="21600"/>
                </a:lnTo>
                <a:lnTo>
                  <a:pt x="9972" y="10800"/>
                </a:lnTo>
                <a:close/>
              </a:path>
            </a:pathLst>
          </a:custGeom>
          <a:solidFill>
            <a:srgbClr val="ff85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rot="15883800">
            <a:off x="5085360" y="2699280"/>
            <a:ext cx="1584360" cy="163440"/>
          </a:xfrm>
          <a:custGeom>
            <a:avLst/>
            <a:gdLst>
              <a:gd name="textAreaLeft" fmla="*/ -360 w 1584360"/>
              <a:gd name="textAreaRight" fmla="*/ 1584360 w 15843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63" y="0"/>
                </a:lnTo>
                <a:lnTo>
                  <a:pt x="21600" y="10800"/>
                </a:lnTo>
                <a:lnTo>
                  <a:pt x="11763" y="21600"/>
                </a:lnTo>
                <a:lnTo>
                  <a:pt x="0" y="21600"/>
                </a:lnTo>
                <a:lnTo>
                  <a:pt x="9837" y="10800"/>
                </a:lnTo>
                <a:close/>
              </a:path>
            </a:pathLst>
          </a:custGeom>
          <a:solidFill>
            <a:srgbClr val="ff85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rot="15025200">
            <a:off x="6740640" y="1977840"/>
            <a:ext cx="1584720" cy="165240"/>
          </a:xfrm>
          <a:custGeom>
            <a:avLst/>
            <a:gdLst>
              <a:gd name="textAreaLeft" fmla="*/ 360 w 1584720"/>
              <a:gd name="textAreaRight" fmla="*/ 1585440 w 158472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28" y="0"/>
                </a:lnTo>
                <a:lnTo>
                  <a:pt x="21600" y="10800"/>
                </a:lnTo>
                <a:lnTo>
                  <a:pt x="11628" y="21600"/>
                </a:lnTo>
                <a:lnTo>
                  <a:pt x="0" y="21600"/>
                </a:lnTo>
                <a:lnTo>
                  <a:pt x="9972" y="10800"/>
                </a:lnTo>
                <a:close/>
              </a:path>
            </a:pathLst>
          </a:custGeom>
          <a:solidFill>
            <a:srgbClr val="ff85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2708280"/>
            <a:ext cx="2519280" cy="14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Эпителиальная </a:t>
            </a:r>
            <a:endParaRPr b="1" lang="en-US" sz="1800" spc="1" strike="noStrike">
              <a:ln w="1908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ткань</a:t>
            </a:r>
            <a:endParaRPr b="1" lang="en-US" sz="1800" spc="1" strike="noStrike">
              <a:ln w="1908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219640" y="4365720"/>
            <a:ext cx="2016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Мышечная</a:t>
            </a:r>
            <a:endParaRPr b="1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ткань</a:t>
            </a:r>
            <a:endParaRPr b="1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020000" y="2997360"/>
            <a:ext cx="1727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Нервная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ткань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84360" y="4005360"/>
            <a:ext cx="2519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Соединительна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Courier New"/>
              </a:rPr>
              <a:t>ткан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54936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99ff"/>
                </a:solidFill>
                <a:latin typeface="Century Schoolbook"/>
              </a:rPr>
              <a:t>Эпителиальные ткан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99ff"/>
              </a:solidFill>
              <a:latin typeface="Century Schoolbook"/>
              <a:ea typeface="Century Schoolbook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774440"/>
            <a:ext cx="41050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20079"/>
                </a:solidFill>
                <a:latin typeface="Arial"/>
              </a:rPr>
              <a:t>Эпителий</a:t>
            </a: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представляет собой пласты, покрывающие внутренние и внешние поверхности организм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01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49650" t="2381" r="706" b="3723"/>
          <a:stretch/>
        </p:blipFill>
        <p:spPr>
          <a:xfrm>
            <a:off x="4284720" y="2637000"/>
            <a:ext cx="4464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42920" y="404640"/>
            <a:ext cx="7489800" cy="5761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03280" y="836640"/>
            <a:ext cx="6913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20079"/>
                  </a:solidFill>
                  <a:miter/>
                </a:ln>
                <a:solidFill>
                  <a:srgbClr val="ff3399"/>
                </a:solidFill>
                <a:latin typeface="Papyrus"/>
              </a:rPr>
              <a:t>Особенности эпителия</a:t>
            </a:r>
            <a:endParaRPr b="0" lang="en-US" sz="1800" spc="1" strike="noStrike">
              <a:ln w="9360">
                <a:solidFill>
                  <a:srgbClr val="f20079"/>
                </a:solidFill>
                <a:miter/>
              </a:ln>
              <a:solidFill>
                <a:srgbClr val="ff3399"/>
              </a:solidFill>
              <a:latin typeface="Papyrus"/>
              <a:ea typeface="Papyrus"/>
            </a:endParaRPr>
          </a:p>
        </p:txBody>
      </p:sp>
      <p:sp>
        <p:nvSpPr>
          <p:cNvPr id="63" name=""/>
          <p:cNvSpPr/>
          <p:nvPr/>
        </p:nvSpPr>
        <p:spPr>
          <a:xfrm>
            <a:off x="2127960" y="1844640"/>
            <a:ext cx="5499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В эпителиаль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ткан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очень ма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или совсем н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межклеточ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54936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99ff"/>
                </a:solidFill>
                <a:latin typeface="Century Schoolbook"/>
              </a:rPr>
              <a:t>Функции эпител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99ff"/>
              </a:solidFill>
              <a:latin typeface="Century Schoolbook"/>
              <a:ea typeface="Century Schoolbook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13192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Основной функцией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является защита соответствующих органов от механических повреждений и инфекции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55080" y="1080"/>
            <a:ext cx="9371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         </a:t>
            </a: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Функц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rial"/>
              </a:rPr>
              <a:t>эпителиальной ткан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1.Защитная (барьерная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2.Секреторная (выделяет ряд веществ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3.Всасыватель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(эпителий желудочно-кишечного трак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660033"/>
                </a:solidFill>
                <a:latin typeface="Arial"/>
              </a:rPr>
              <a:t>полости рт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189000"/>
            <a:ext cx="813600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99ff"/>
                </a:solidFill>
                <a:latin typeface="Century Schoolbook"/>
              </a:rPr>
              <a:t>Виды эпител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c99ff"/>
              </a:solidFill>
              <a:latin typeface="Century Schoolbook"/>
              <a:ea typeface="Century Schoolboo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49241" t="4837" r="2702" b="3666"/>
          <a:stretch/>
        </p:blipFill>
        <p:spPr>
          <a:xfrm>
            <a:off x="4356000" y="1125360"/>
            <a:ext cx="4321440" cy="273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258920" y="3860640"/>
            <a:ext cx="6121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Кубический эпители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4364640"/>
            <a:ext cx="668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Этот тип эпителия выстилает протоки многих желёз, а также выполняет секреторные функции внутри них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24000" y="1125360"/>
            <a:ext cx="3457440" cy="2303640"/>
            <a:chOff x="324000" y="1125360"/>
            <a:chExt cx="3457440" cy="230364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1940" t="9070" r="59609" b="13908"/>
            <a:stretch/>
          </p:blipFill>
          <p:spPr>
            <a:xfrm>
              <a:off x="324000" y="1125360"/>
              <a:ext cx="345744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419640" y="3213000"/>
              <a:ext cx="36036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19640" y="1125360"/>
              <a:ext cx="36036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92360" y="1341360"/>
              <a:ext cx="28764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e4c9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4837" r="50847" b="22940"/>
          <a:stretch/>
        </p:blipFill>
        <p:spPr>
          <a:xfrm>
            <a:off x="395280" y="1628640"/>
            <a:ext cx="3708360" cy="1812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0054" t="2438" r="1909" b="7011"/>
          <a:stretch/>
        </p:blipFill>
        <p:spPr>
          <a:xfrm>
            <a:off x="4427640" y="1125360"/>
            <a:ext cx="4319640" cy="2708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258920" y="189000"/>
            <a:ext cx="6121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ff3399"/>
                </a:solidFill>
                <a:latin typeface="Stencil Std"/>
              </a:rPr>
              <a:t>Плоский эпителий</a:t>
            </a:r>
            <a:endParaRPr b="0" i="1" lang="en-US" sz="1800" spc="1" strike="noStrike">
              <a:ln w="28440">
                <a:solidFill>
                  <a:srgbClr val="660066"/>
                </a:solidFill>
                <a:miter/>
              </a:ln>
              <a:solidFill>
                <a:srgbClr val="ff3399"/>
              </a:solidFill>
              <a:latin typeface="Stencil Std"/>
              <a:ea typeface="Stencil Std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823200"/>
            <a:ext cx="766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Клетки </a:t>
            </a: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плоского эпителия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тонкие и уплощённые. Благодаря этому они не препятствуют диффузии различных веществ в те органы, которые эти клетки выстилают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львеолы лёгких</a:t>
            </a:r>
            <a:r>
              <a:rPr b="0" lang="en-US" sz="3200" spc="-1" strike="noStrike" u="sng">
                <a:solidFill>
                  <a:srgbClr val="660033"/>
                </a:solidFill>
                <a:uFillTx/>
                <a:latin typeface="Arial"/>
              </a:rPr>
              <a:t>, стенки капилля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2:19:15Z</dcterms:created>
  <dc:creator>Журавлевы</dc:creator>
  <dc:description/>
  <dc:language>en-US</dc:language>
  <cp:lastModifiedBy>Журавлевы</cp:lastModifiedBy>
  <dcterms:modified xsi:type="dcterms:W3CDTF">2009-09-24T20:02:56Z</dcterms:modified>
  <cp:revision>14</cp:revision>
  <dc:subject/>
  <dc:title>Слайд 1</dc:title>
</cp:coreProperties>
</file>