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688-E454-4A1A-B365-9C878D35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62C-4267-49F8-A229-16A764AA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036-187B-4C35-98F5-DBA94A79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86C-6C6C-4715-A404-D5BAA18D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D50-85EC-4413-854E-B9772B9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7AD-41FA-409B-B0B0-AD11BB8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88A-3F61-4965-A019-01CBA053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E60-DEFB-4969-ACC7-BA2CD46F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5EC-2C46-42D0-AA44-42AB924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FB4-8A6B-41B8-BE0A-1C4C9C6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033-8D7D-4F33-95EB-7A9AE47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567-B26D-48E6-A8D0-51EFAFB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502-70D8-47EC-AAFB-CA160405C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C:\Program Files\Physicon\Open Biology 2.5\content\chapter10\section2\paragraph4\theory.html" TargetMode="External"/><Relationship Id="rId4" Type="http://schemas.openxmlformats.org/officeDocument/2006/relationships/hyperlink" Target="C:\Program Files\Physicon\Open Biology 2.5\content\chapter10\section2\paragraph4\theory.html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C:\Program Files\Physicon\Open Biology 2.5\content\chapter9\section1\paragraph4\theory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C:\Program Files\Physicon\Open Biology 2.5\content\chapter10\section2\paragraph6\theory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2133720"/>
            <a:ext cx="5472360" cy="15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inion Pro Cond"/>
              </a:rPr>
              <a:t>Ткан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inion Pro Cond"/>
              <a:ea typeface="Minion Pro Con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773360"/>
            <a:ext cx="66960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660066"/>
                  </a:solidFill>
                  <a:miter/>
                </a:ln>
                <a:solidFill>
                  <a:srgbClr val="9900ff"/>
                </a:solidFill>
                <a:latin typeface="Monotype Corsiva"/>
              </a:rPr>
              <a:t>Ткани</a:t>
            </a:r>
            <a:endParaRPr b="1" lang="en-US" sz="1800" spc="1" strike="noStrike">
              <a:ln w="57240">
                <a:solidFill>
                  <a:srgbClr val="660066"/>
                </a:solidFill>
                <a:miter/>
              </a:ln>
              <a:solidFill>
                <a:srgbClr val="9900ff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33806" t="0" r="33806" b="0"/>
          <a:stretch/>
        </p:blipFill>
        <p:spPr>
          <a:xfrm>
            <a:off x="900000" y="4437000"/>
            <a:ext cx="2160720" cy="201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67526" t="0" r="0" b="0"/>
          <a:stretch/>
        </p:blipFill>
        <p:spPr>
          <a:xfrm>
            <a:off x="6804000" y="189000"/>
            <a:ext cx="1873440" cy="201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0" r="67569" b="0"/>
          <a:stretch/>
        </p:blipFill>
        <p:spPr>
          <a:xfrm>
            <a:off x="6300720" y="443700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78784" b="38473"/>
          <a:stretch/>
        </p:blipFill>
        <p:spPr>
          <a:xfrm>
            <a:off x="468360" y="981000"/>
            <a:ext cx="190800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43647" t="1950" r="1096" b="1859"/>
          <a:stretch/>
        </p:blipFill>
        <p:spPr>
          <a:xfrm>
            <a:off x="3059280" y="119700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03280" y="260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Цилиндриче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8088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Высокие и довольно узкие клетки цилиндрического эпителия выстилают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желудок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ишечник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8871" t="10034" r="1096" b="19803"/>
          <a:stretch/>
        </p:blipFill>
        <p:spPr>
          <a:xfrm>
            <a:off x="4788000" y="105264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21120" t="12037" r="57261" b="25831"/>
          <a:stretch/>
        </p:blipFill>
        <p:spPr>
          <a:xfrm>
            <a:off x="684360" y="1125360"/>
            <a:ext cx="1944720" cy="2232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403280" y="260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Мерцательны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6820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Мерцательный эпителий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похож на цилиндрический, но несёт на своей поверхности многочисленные реснички. Он выстилает яйцеводы, желудочки головного мозга, спинномозговой канал и дыхатель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0852" t="2192" r="0" b="3005"/>
          <a:stretch/>
        </p:blipFill>
        <p:spPr>
          <a:xfrm>
            <a:off x="4572000" y="692280"/>
            <a:ext cx="4419720" cy="309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093" t="26436" r="70870" b="33881"/>
          <a:stretch/>
        </p:blipFill>
        <p:spPr>
          <a:xfrm>
            <a:off x="250920" y="1628640"/>
            <a:ext cx="2520720" cy="12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189000"/>
            <a:ext cx="5041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Многослойный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8408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Многослойный эпителий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состоит из нескольких слоёв клет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Толщины этой ткани достаточно, чтобы защитить покрываемые органы от просачивания различных веществ и механических повреждени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Свойства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93" name=""/>
          <p:cNvSpPr/>
          <p:nvPr/>
        </p:nvSpPr>
        <p:spPr>
          <a:xfrm>
            <a:off x="1693800" y="1268280"/>
            <a:ext cx="6340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Эпителиаль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клетки способ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ff0066"/>
                </a:solidFill>
                <a:latin typeface="Arial"/>
              </a:rPr>
              <a:t>реген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15332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В тех местах, где ткань организма подвергается постоянным нагрузкам и трениям и «снашивается», клетки эпителия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размножаются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с большой скоростью</a:t>
            </a:r>
            <a:r>
              <a:rPr b="0" i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Соединительные тка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15920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Главная опора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Она составляет ске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Соединяет между собой различ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ткани и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Окружает некоторые орг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защищая их от повре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Соединительная ткань состоит из клеток, располагающихся обычно далеко друг от друга.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 соединительной ткани много межклеточного вещества.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80453" b="0"/>
          <a:stretch/>
        </p:blipFill>
        <p:spPr>
          <a:xfrm>
            <a:off x="0" y="0"/>
            <a:ext cx="40338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356000" y="260280"/>
            <a:ext cx="417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Рыхлая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оединительная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ткан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990080"/>
            <a:ext cx="46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состоит из клеток, разбросанных в межклеточном веществе, и переплетённых неупорядоченных воло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9528" t="0" r="60472" b="0"/>
          <a:stretch/>
        </p:blipFill>
        <p:spPr>
          <a:xfrm>
            <a:off x="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56000" y="-70200"/>
            <a:ext cx="43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Плотная соединительная тк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состоит из волокон, а не из клеток. Белая ткань содержится в сухожилиях, связках, роговице глаза, надкостнице и других органа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40413" t="0" r="40394" b="0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40360" y="284760"/>
            <a:ext cx="50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Хрящ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очная ткань. Он покрывает суставные поверхности костей, содержится в ухе и глотке, в суставных сумках и межпозвоночных дисках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60433" t="0" r="20374" b="0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11640" y="153360"/>
            <a:ext cx="468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И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костной тка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построен скелет позвоночных животных. Она состоит из клеток, погружённых в твёрдое вещество, состоящее на 30 % из органики (в основном, коллаген) и на 70 % из минеральных солей.  В ней содержатся натрий, магний, калий, хлор и другие вещества. Такое сочетание материалов сильно повышает устойчивость костной ткани на растяжение и изгиб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Костная тк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75320" cy="491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124000" y="260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ост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333360"/>
            <a:ext cx="821232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Группа клеток,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сходных по строению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и выплняющих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одинаковую функцию,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называется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5877000"/>
            <a:ext cx="75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ТКАНЬЮ</a:t>
            </a:r>
            <a:endParaRPr b="1" i="1" lang="en-US" sz="18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0453" t="0" r="0" b="0"/>
          <a:stretch/>
        </p:blipFill>
        <p:spPr>
          <a:xfrm>
            <a:off x="0" y="0"/>
            <a:ext cx="40338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211640" y="333360"/>
            <a:ext cx="439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ров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927" t="3008" r="25069" b="6213"/>
          <a:stretch/>
        </p:blipFill>
        <p:spPr>
          <a:xfrm>
            <a:off x="4500720" y="1557360"/>
            <a:ext cx="3751200" cy="388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88240" y="5526720"/>
            <a:ext cx="431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Кровяные клет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костном мозг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Мышечная ткан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08560"/>
            <a:ext cx="8456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состо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из высокоспециализированных сократительных волокон. В организмах высших животных она составляет до 40 % массы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Виды мышечных ткане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-838" t="0" r="66828" b="0"/>
          <a:stretch/>
        </p:blipFill>
        <p:spPr>
          <a:xfrm>
            <a:off x="0" y="1052640"/>
            <a:ext cx="5867280" cy="573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881640"/>
            <a:ext cx="31068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перечно-полосаты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(их также называют скелетными) мышцы являются основой двигательной системы организма. Очень длинные многоядерные клетки-волок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3991" t="0" r="34784" b="0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947520"/>
            <a:ext cx="3203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Глад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непроизвольные) мышцы образуют стенки дыхательных путей, кровеносных сосудов, пищеварительной и мочеполовой сист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160" y="9810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Глад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66828" t="0" r="0" b="0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07280" y="577080"/>
            <a:ext cx="273672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ле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ердечной мыш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разветвляются на концах Клетки содержат несколько ядер и большое количество крупных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тохондрий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. Как следует из названия, сердечная мышца встречается только в стенке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7080" y="620640"/>
            <a:ext cx="23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ерд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мыш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4360" y="26028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войства мышечной ткан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7280" y="213372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1. Возбу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2. Сократ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1164960"/>
            <a:ext cx="788508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состоит из нервных клеток –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нейронов</a:t>
            </a:r>
            <a:r>
              <a:rPr b="1" i="1" lang="en-US" sz="4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Кроме того, она содержит рецепторные клетки. Нервные клетки могут возбуждаться и передавать электрические импуль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Нервная ткан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74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788000" y="260280"/>
            <a:ext cx="3960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троение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нервной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летк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3717000"/>
            <a:ext cx="315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Пучки нервных волокон собраны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нерв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6360" cy="53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4360" y="580536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Нейрон сетчатки глаза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4360" y="26028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войства нервной ткан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7280" y="2708280"/>
            <a:ext cx="712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1. Возбу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2. Прово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03280" y="476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Ткани животных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49" name=""/>
          <p:cNvSpPr/>
          <p:nvPr/>
        </p:nvSpPr>
        <p:spPr>
          <a:xfrm flipH="1" rot="17419800">
            <a:off x="1124640" y="1834920"/>
            <a:ext cx="1584360" cy="16488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6275000">
            <a:off x="3070440" y="2625840"/>
            <a:ext cx="1584000" cy="164880"/>
          </a:xfrm>
          <a:custGeom>
            <a:avLst/>
            <a:gdLst>
              <a:gd name="textAreaLeft" fmla="*/ 360 w 1584000"/>
              <a:gd name="textAreaRight" fmla="*/ 1584720 w 15840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5883800">
            <a:off x="5085360" y="2699280"/>
            <a:ext cx="1584360" cy="16344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63" y="0"/>
                </a:lnTo>
                <a:lnTo>
                  <a:pt x="21600" y="10800"/>
                </a:lnTo>
                <a:lnTo>
                  <a:pt x="11763" y="21600"/>
                </a:lnTo>
                <a:lnTo>
                  <a:pt x="0" y="21600"/>
                </a:lnTo>
                <a:lnTo>
                  <a:pt x="9837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15025200">
            <a:off x="6740640" y="1977840"/>
            <a:ext cx="1584720" cy="165240"/>
          </a:xfrm>
          <a:custGeom>
            <a:avLst/>
            <a:gdLst>
              <a:gd name="textAreaLeft" fmla="*/ 360 w 1584720"/>
              <a:gd name="textAreaRight" fmla="*/ 1585440 w 15847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2708280"/>
            <a:ext cx="251928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Эпителиальная </a:t>
            </a:r>
            <a:endParaRPr b="1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19640" y="4365720"/>
            <a:ext cx="201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Мышечная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020000" y="2997360"/>
            <a:ext cx="172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Нервная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4005360"/>
            <a:ext cx="2519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Соединительна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54936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Эпителиальные тка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74440"/>
            <a:ext cx="4105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0079"/>
                </a:solidFill>
                <a:latin typeface="Arial"/>
              </a:rPr>
              <a:t>Эпителий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представляет собой пласты, покрывающие внутренние и внешние поверхности организм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49650" t="2381" r="706" b="3723"/>
          <a:stretch/>
        </p:blipFill>
        <p:spPr>
          <a:xfrm>
            <a:off x="4284720" y="2637000"/>
            <a:ext cx="446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42920" y="404640"/>
            <a:ext cx="7489800" cy="5761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03280" y="836640"/>
            <a:ext cx="69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20079"/>
                  </a:solidFill>
                  <a:miter/>
                </a:ln>
                <a:solidFill>
                  <a:srgbClr val="ff3399"/>
                </a:solidFill>
                <a:latin typeface="Papyrus"/>
              </a:rPr>
              <a:t>Особенности эпителия</a:t>
            </a:r>
            <a:endParaRPr b="0" lang="en-US" sz="1800" spc="1" strike="noStrike">
              <a:ln w="9360">
                <a:solidFill>
                  <a:srgbClr val="f20079"/>
                </a:solidFill>
                <a:miter/>
              </a:ln>
              <a:solidFill>
                <a:srgbClr val="ff3399"/>
              </a:solidFill>
              <a:latin typeface="Papyrus"/>
              <a:ea typeface="Papyrus"/>
            </a:endParaRPr>
          </a:p>
        </p:txBody>
      </p:sp>
      <p:sp>
        <p:nvSpPr>
          <p:cNvPr id="63" name=""/>
          <p:cNvSpPr/>
          <p:nvPr/>
        </p:nvSpPr>
        <p:spPr>
          <a:xfrm>
            <a:off x="2127960" y="1844640"/>
            <a:ext cx="5499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В эпителиаль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ткан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очень м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или совсем н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межклет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54936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Функции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13192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сновной функцией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является защита соответствующих органов от механических повреждений и инфекции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55080" y="1080"/>
            <a:ext cx="937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Функц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эпителиальной ткан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1.Защитная (барьер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2.Секреторная (выделяет ряд веществ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3.Всасыва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(эпителий желудочно-кишечного трак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полости рт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Виды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49241" t="4837" r="2702" b="3666"/>
          <a:stretch/>
        </p:blipFill>
        <p:spPr>
          <a:xfrm>
            <a:off x="4356000" y="1125360"/>
            <a:ext cx="432144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58920" y="386064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убиче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364640"/>
            <a:ext cx="668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Этот тип эпителия выстилает протоки многих желёз, а также выполняет секреторные функции внутри ни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4000" y="1125360"/>
            <a:ext cx="3457440" cy="2303640"/>
            <a:chOff x="324000" y="1125360"/>
            <a:chExt cx="3457440" cy="23036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940" t="9070" r="59609" b="13908"/>
            <a:stretch/>
          </p:blipFill>
          <p:spPr>
            <a:xfrm>
              <a:off x="324000" y="1125360"/>
              <a:ext cx="345744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19640" y="3213000"/>
              <a:ext cx="36036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9640" y="1125360"/>
              <a:ext cx="36036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360" y="1341360"/>
              <a:ext cx="287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837" r="50847" b="22940"/>
          <a:stretch/>
        </p:blipFill>
        <p:spPr>
          <a:xfrm>
            <a:off x="395280" y="1628640"/>
            <a:ext cx="370836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0054" t="2438" r="1909" b="7011"/>
          <a:stretch/>
        </p:blipFill>
        <p:spPr>
          <a:xfrm>
            <a:off x="4427640" y="1125360"/>
            <a:ext cx="4319640" cy="2708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258920" y="18900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Пло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823200"/>
            <a:ext cx="76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Клетки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лоского эпителия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тонкие и уплощённые. Благодаря этому они не препятствуют диффузии различных веществ в те органы, которые эти клетки выстилают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ьвеолы лёгких</a:t>
            </a: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, стенки капил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19:15Z</dcterms:created>
  <dc:creator>Журавлевы</dc:creator>
  <dc:description/>
  <dc:language>en-US</dc:language>
  <cp:lastModifiedBy>Журавлевы</cp:lastModifiedBy>
  <dcterms:modified xsi:type="dcterms:W3CDTF">2009-09-24T20:02:56Z</dcterms:modified>
  <cp:revision>14</cp:revision>
  <dc:subject/>
  <dc:title>Слайд 1</dc:title>
</cp:coreProperties>
</file>