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0.png" ContentType="image/png"/>
  <Override PartName="/ppt/media/image13.png" ContentType="image/png"/>
  <Override PartName="/ppt/media/image15.png" ContentType="image/png"/>
  <Override PartName="/ppt/media/image12.gif" ContentType="image/gif"/>
  <Override PartName="/ppt/media/image31.jpeg" ContentType="image/jpeg"/>
  <Override PartName="/ppt/media/image4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6EE-F34B-46DF-9FDF-9B1C92D4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6AF-9A12-437C-9DE2-E26D162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726-D5CF-4AAD-BB7C-5B7E2B44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9DB-E888-4CCE-99A2-C3B127AA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87B-9936-4269-9057-2F55A53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445-89E2-4B00-BFDD-F09EEA4F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C74-9BB0-4B6C-9A8B-B1E1E664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7B4-A9E6-4C44-B472-3D65C16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AE3-FC3C-4E9E-8211-679E6EB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1FA-AEB5-4AB7-BDFC-6E23840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32D-B8A1-40B2-8C71-9593285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C1E-48E8-46FA-87EC-7D98F53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50C-F346-4BEF-ABF8-DFDF0AE7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" Target="slide19.xml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9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59280" y="907920"/>
            <a:ext cx="587052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33ccff"/>
                  </a:outerShdw>
                </a:effectLst>
                <a:latin typeface="Arial"/>
              </a:rPr>
              <a:t>Строение клетки.</a:t>
            </a:r>
            <a:endParaRPr b="0" lang="en-US" sz="1800" spc="1" strike="noStrike">
              <a:ln w="2844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107932" dir="18900000" blurRad="0" rotWithShape="0">
                  <a:srgbClr val="33cc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08360" cy="188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2700" t="1918" r="18338" b="0"/>
          <a:stretch/>
        </p:blipFill>
        <p:spPr>
          <a:xfrm>
            <a:off x="971640" y="2637000"/>
            <a:ext cx="2808360" cy="37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21271" t="2750" r="21271" b="2750"/>
          <a:stretch/>
        </p:blipFill>
        <p:spPr>
          <a:xfrm>
            <a:off x="5580000" y="2781360"/>
            <a:ext cx="27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1598" t="68059" r="1598" b="895"/>
          <a:stretch/>
        </p:blipFill>
        <p:spPr>
          <a:xfrm>
            <a:off x="3492360" y="1773360"/>
            <a:ext cx="5327640" cy="275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844" t="2192" r="69310" b="2808"/>
          <a:stretch/>
        </p:blipFill>
        <p:spPr>
          <a:xfrm>
            <a:off x="250920" y="3213000"/>
            <a:ext cx="3097080" cy="345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826920" y="189000"/>
            <a:ext cx="777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0000">
                      <a:alpha val="80000"/>
                    </a:srgbClr>
                  </a:outerShdw>
                </a:effectLst>
                <a:latin typeface="Times New Roman"/>
              </a:rPr>
              <a:t>Эндоплазматическая сеть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1268280"/>
            <a:ext cx="15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Гладка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27640" y="1268280"/>
            <a:ext cx="258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Гранулярна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" y="1000080"/>
            <a:ext cx="311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Система мембран в цитоплазме, образу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каналы и более круп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4581360"/>
            <a:ext cx="273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Функции: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084640"/>
            <a:ext cx="586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Осуществляет реакции, связанные с синте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белков, углеводов, жи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особствует переносу и циркуля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итательных веществ в кле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2750" t="0" r="2750" b="12220"/>
          <a:stretch/>
        </p:blipFill>
        <p:spPr>
          <a:xfrm>
            <a:off x="2771640" y="765000"/>
            <a:ext cx="561672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 rot="5400000">
            <a:off x="-2088720" y="2817000"/>
            <a:ext cx="63356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0000ff"/>
                    </a:gs>
                    <a:gs pos="100000">
                      <a:srgbClr val="000099"/>
                    </a:gs>
                  </a:gsLst>
                  <a:lin ang="2700000"/>
                </a:gradFill>
                <a:latin typeface="Arial"/>
              </a:rPr>
              <a:t>Рибосо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0000ff"/>
                  </a:gs>
                  <a:gs pos="100000">
                    <a:srgbClr val="0000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816440"/>
            <a:ext cx="585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Осуществляет синтез белковых молекул, их сборку из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4760" y="189000"/>
            <a:ext cx="69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Мельчайшие клеточные органо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0" r="0" b="47690"/>
          <a:stretch/>
        </p:blipFill>
        <p:spPr>
          <a:xfrm>
            <a:off x="0" y="0"/>
            <a:ext cx="4427640" cy="297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1436" t="53175" r="2095" b="924"/>
          <a:stretch/>
        </p:blipFill>
        <p:spPr>
          <a:xfrm>
            <a:off x="4246560" y="0"/>
            <a:ext cx="4897440" cy="299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95640" y="2997360"/>
            <a:ext cx="4824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итохондрии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84720" y="3500280"/>
            <a:ext cx="273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Функции: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3500280"/>
            <a:ext cx="273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троение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4972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меют сферическую, нитевидную, оваль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 другие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нутри митохондрий наход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кладки – кр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80240" y="414972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1. Обеспечивают клетку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Энергия освобождается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распаде АТ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. Синтез АТФ осущест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ферментами на мемб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митохонд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6912000" cy="4391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 rot="5400000">
            <a:off x="5013360" y="2771280"/>
            <a:ext cx="6264360" cy="109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4c934c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00ff00"/>
                  </a:outerShdw>
                </a:effectLst>
                <a:latin typeface="Arial"/>
              </a:rPr>
              <a:t>Хлоропласты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4c934c"/>
                  </a:gs>
                </a:gsLst>
                <a:lin ang="0"/>
              </a:gradFill>
              <a:effectLst>
                <a:outerShdw dist="107932" dir="189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8360" y="5300640"/>
            <a:ext cx="6335640" cy="1008000"/>
            <a:chOff x="468360" y="5300640"/>
            <a:chExt cx="6335640" cy="1008000"/>
          </a:xfrm>
        </p:grpSpPr>
        <p:sp>
          <p:nvSpPr>
            <p:cNvPr id="136" name=""/>
            <p:cNvSpPr txBox="1"/>
            <p:nvPr/>
          </p:nvSpPr>
          <p:spPr>
            <a:xfrm>
              <a:off x="468360" y="5300640"/>
              <a:ext cx="6119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800000"/>
                      </a:gs>
                      <a:gs pos="100000">
                        <a:srgbClr val="3b0000"/>
                      </a:gs>
                    </a:gsLst>
                    <a:lin ang="5400000"/>
                  </a:gradFill>
                  <a:latin typeface="Times New Roman"/>
                </a:rPr>
                <a:t>Содержатся только в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68360" y="5877000"/>
              <a:ext cx="6335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800000"/>
                      </a:gs>
                      <a:gs pos="100000">
                        <a:srgbClr val="3b0000"/>
                      </a:gs>
                    </a:gsLst>
                    <a:lin ang="5400000"/>
                  </a:gradFill>
                  <a:latin typeface="Times New Roman"/>
                </a:rPr>
                <a:t>растительных клетках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227400"/>
            <a:ext cx="9144000" cy="36306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0920" y="333360"/>
            <a:ext cx="3570120" cy="2493360"/>
            <a:chOff x="250920" y="333360"/>
            <a:chExt cx="3570120" cy="2493360"/>
          </a:xfrm>
        </p:grpSpPr>
        <p:sp>
          <p:nvSpPr>
            <p:cNvPr id="140" name=""/>
            <p:cNvSpPr/>
            <p:nvPr/>
          </p:nvSpPr>
          <p:spPr>
            <a:xfrm>
              <a:off x="250920" y="1269720"/>
              <a:ext cx="3570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Имеют форму дисков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отграниченных 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цитоплазмы двой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мембран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95280" y="333360"/>
              <a:ext cx="273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3399"/>
                  </a:solidFill>
                  <a:latin typeface="Times New Roman"/>
                </a:rPr>
                <a:t>Строение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01400" y="404640"/>
            <a:ext cx="5141520" cy="2493720"/>
            <a:chOff x="4001400" y="404640"/>
            <a:chExt cx="5141520" cy="2493720"/>
          </a:xfrm>
        </p:grpSpPr>
        <p:sp>
          <p:nvSpPr>
            <p:cNvPr id="143" name=""/>
            <p:cNvSpPr/>
            <p:nvPr/>
          </p:nvSpPr>
          <p:spPr>
            <a:xfrm>
              <a:off x="4001400" y="1341360"/>
              <a:ext cx="5141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Используют световую энерг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солнца и создают орган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вещества из неорганических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процессе фотосинтез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5364000" y="404640"/>
              <a:ext cx="27370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Функции: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421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8360" y="333360"/>
            <a:ext cx="3240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00"/>
                </a:solidFill>
                <a:effectLst>
                  <a:outerShdw dist="45929" dir="19571123" blurRad="0" rotWithShape="0">
                    <a:srgbClr val="ff00ff">
                      <a:alpha val="80000"/>
                    </a:srgbClr>
                  </a:outerShdw>
                </a:effectLst>
                <a:latin typeface="Times New Roman"/>
              </a:rPr>
              <a:t>Комплекс</a:t>
            </a:r>
            <a:endParaRPr b="0" lang="en-US" sz="1800" spc="1" strike="noStrike">
              <a:ln w="0">
                <a:noFill/>
              </a:ln>
              <a:solidFill>
                <a:srgbClr val="336600"/>
              </a:solidFill>
              <a:effectLst>
                <a:outerShdw dist="45929" dir="19571123" blurRad="0" rotWithShape="0">
                  <a:srgbClr val="ff00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413000"/>
            <a:ext cx="2808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00"/>
                </a:solidFill>
                <a:effectLst>
                  <a:outerShdw dist="40186" dir="17296359" blurRad="0" rotWithShape="0">
                    <a:srgbClr val="ff00ff"/>
                  </a:outerShdw>
                </a:effectLst>
                <a:latin typeface="Times New Roman"/>
              </a:rPr>
              <a:t>Гольджи</a:t>
            </a:r>
            <a:endParaRPr b="0" lang="en-US" sz="1800" spc="1" strike="noStrike">
              <a:ln w="0">
                <a:noFill/>
              </a:ln>
              <a:solidFill>
                <a:srgbClr val="336600"/>
              </a:solidFill>
              <a:effectLst>
                <a:outerShdw dist="40186" dir="17296359" blurRad="0" rotWithShape="0">
                  <a:srgbClr val="ff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508720" y="3500280"/>
            <a:ext cx="23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Строени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96200" y="4024440"/>
            <a:ext cx="438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Состоит из крупных пол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и системы отходящих от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трубочек, образующих с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от которой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отделяются крупны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мелкие пузыр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95280" y="2205000"/>
            <a:ext cx="3529080" cy="4319640"/>
            <a:chOff x="395280" y="2205000"/>
            <a:chExt cx="3529080" cy="4319640"/>
          </a:xfrm>
        </p:grpSpPr>
        <p:sp>
          <p:nvSpPr>
            <p:cNvPr id="151" name=""/>
            <p:cNvSpPr/>
            <p:nvPr/>
          </p:nvSpPr>
          <p:spPr>
            <a:xfrm>
              <a:off x="395280" y="2205000"/>
              <a:ext cx="3529080" cy="431964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343240"/>
              <a:ext cx="32400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Принимает продук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нтетической деятельности клетки и веществ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ступивших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летку из внешней среды (белки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исахарид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жиры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2205000"/>
            <a:ext cx="3529080" cy="4319640"/>
            <a:chOff x="395280" y="2205000"/>
            <a:chExt cx="3529080" cy="4319640"/>
          </a:xfrm>
        </p:grpSpPr>
        <p:sp>
          <p:nvSpPr>
            <p:cNvPr id="154" name=""/>
            <p:cNvSpPr/>
            <p:nvPr/>
          </p:nvSpPr>
          <p:spPr>
            <a:xfrm>
              <a:off x="395280" y="2205000"/>
              <a:ext cx="3529080" cy="431964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2560" y="2925720"/>
              <a:ext cx="2900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Накапливает э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ещества 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лементах комплек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виде зерен 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пел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95280" y="2205000"/>
            <a:ext cx="3529080" cy="4319640"/>
            <a:chOff x="395280" y="2205000"/>
            <a:chExt cx="3529080" cy="4319640"/>
          </a:xfrm>
        </p:grpSpPr>
        <p:sp>
          <p:nvSpPr>
            <p:cNvPr id="157" name=""/>
            <p:cNvSpPr/>
            <p:nvPr/>
          </p:nvSpPr>
          <p:spPr>
            <a:xfrm>
              <a:off x="395280" y="2205000"/>
              <a:ext cx="3529080" cy="431964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080" y="3429000"/>
              <a:ext cx="273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Использует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летке и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водит 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нешнюю сре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300480" y="2684520"/>
            <a:ext cx="5843520" cy="4173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84360" y="189000"/>
            <a:ext cx="770400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81185" dir="19278031" blurRad="0" rotWithShape="0">
                    <a:srgbClr val="ffff00"/>
                  </a:outerShdw>
                </a:effectLst>
                <a:latin typeface="Times New Roman"/>
              </a:rPr>
              <a:t>Лизосом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81185" dir="19278031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5560" y="1484280"/>
            <a:ext cx="55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Небольшие округлые те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141720"/>
            <a:ext cx="3024360" cy="2755800"/>
            <a:chOff x="179280" y="3141720"/>
            <a:chExt cx="3024360" cy="2755800"/>
          </a:xfrm>
        </p:grpSpPr>
        <p:sp>
          <p:nvSpPr>
            <p:cNvPr id="163" name=""/>
            <p:cNvSpPr txBox="1"/>
            <p:nvPr/>
          </p:nvSpPr>
          <p:spPr>
            <a:xfrm>
              <a:off x="324000" y="3141720"/>
              <a:ext cx="246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Выполняют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79280" y="4365720"/>
              <a:ext cx="3024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ищеварительную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95280" y="5373720"/>
              <a:ext cx="2467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функцию.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0" r="53278" b="0"/>
          <a:stretch/>
        </p:blipFill>
        <p:spPr>
          <a:xfrm>
            <a:off x="5940360" y="3741840"/>
            <a:ext cx="3203640" cy="3116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46729" t="0" r="0" b="0"/>
          <a:stretch/>
        </p:blipFill>
        <p:spPr>
          <a:xfrm>
            <a:off x="0" y="0"/>
            <a:ext cx="3995640" cy="3409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284720" y="26028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ffff00">
                      <a:alpha val="80000"/>
                    </a:srgbClr>
                  </a:outerShdw>
                </a:effectLst>
                <a:latin typeface="Times New Roman"/>
              </a:rPr>
              <a:t>Клеточный центр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ffff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41440" y="1341360"/>
            <a:ext cx="473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остоит из двух малень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телец – центриоле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центросферы – уплотн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частка цитопла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3500280"/>
            <a:ext cx="374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63504" dir="19383909" blurRad="0" rotWithShape="0">
                    <a:srgbClr val="ffff00"/>
                  </a:outerShdw>
                </a:effectLst>
                <a:latin typeface="Times New Roman"/>
              </a:rPr>
              <a:t>Функции: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63504" dir="19383909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4560" y="4437000"/>
            <a:ext cx="498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. Играет важную роль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делении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. Осуществляет 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сничек и жгу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0" r="83725" b="0"/>
          <a:stretch/>
        </p:blipFill>
        <p:spPr>
          <a:xfrm>
            <a:off x="3348000" y="4076640"/>
            <a:ext cx="2790720" cy="2781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58969" t="11338" r="1731" b="20578"/>
          <a:stretch/>
        </p:blipFill>
        <p:spPr>
          <a:xfrm>
            <a:off x="0" y="4149720"/>
            <a:ext cx="3059280" cy="270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67257" b="0"/>
          <a:stretch/>
        </p:blipFill>
        <p:spPr>
          <a:xfrm>
            <a:off x="6443640" y="4076640"/>
            <a:ext cx="2700360" cy="278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4000" y="189000"/>
            <a:ext cx="85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004a00"/>
                    </a:gs>
                  </a:gsLst>
                  <a:lin ang="5400000"/>
                </a:gradFill>
                <a:effectLst>
                  <a:outerShdw dist="53966" dir="18900000" blurRad="0" rotWithShape="0">
                    <a:srgbClr val="ffff00">
                      <a:alpha val="80000"/>
                    </a:srgbClr>
                  </a:outerShdw>
                </a:effectLst>
                <a:latin typeface="Times New Roman"/>
              </a:rPr>
              <a:t>Органоиды движения клет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004a00"/>
                  </a:gs>
                </a:gsLst>
                <a:lin ang="5400000"/>
              </a:gradFill>
              <a:effectLst>
                <a:outerShdw dist="53966" dir="18900000" blurRad="0" rotWithShape="0">
                  <a:srgbClr val="ffff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8202000">
            <a:off x="971640" y="1628280"/>
            <a:ext cx="1947600" cy="48600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02" y="0"/>
                </a:lnTo>
                <a:lnTo>
                  <a:pt x="21600" y="10800"/>
                </a:lnTo>
                <a:lnTo>
                  <a:pt x="8002" y="21600"/>
                </a:lnTo>
                <a:lnTo>
                  <a:pt x="0" y="21600"/>
                </a:lnTo>
                <a:lnTo>
                  <a:pt x="13598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78c928"/>
              </a:gs>
            </a:gsLst>
            <a:lin ang="18798000"/>
          </a:gradFill>
          <a:ln w="28440">
            <a:solidFill>
              <a:srgbClr val="008000"/>
            </a:solidFill>
            <a:miter/>
          </a:ln>
          <a:effectLst>
            <a:outerShdw dist="182013" dir="20112542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3200" y="1639080"/>
            <a:ext cx="1947960" cy="485640"/>
          </a:xfrm>
          <a:custGeom>
            <a:avLst/>
            <a:gdLst>
              <a:gd name="textAreaLeft" fmla="*/ 0 w 1947960"/>
              <a:gd name="textAreaRight" fmla="*/ 1947960 w 19479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02" y="0"/>
                </a:lnTo>
                <a:lnTo>
                  <a:pt x="21600" y="10800"/>
                </a:lnTo>
                <a:lnTo>
                  <a:pt x="8002" y="21600"/>
                </a:lnTo>
                <a:lnTo>
                  <a:pt x="0" y="21600"/>
                </a:lnTo>
                <a:lnTo>
                  <a:pt x="13598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78c928"/>
              </a:gs>
            </a:gsLst>
            <a:lin ang="0"/>
          </a:gradFill>
          <a:ln w="28440">
            <a:solidFill>
              <a:srgbClr val="008000"/>
            </a:solidFill>
            <a:miter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937800">
            <a:off x="6648840" y="1639080"/>
            <a:ext cx="1947960" cy="485640"/>
          </a:xfrm>
          <a:custGeom>
            <a:avLst/>
            <a:gdLst>
              <a:gd name="textAreaLeft" fmla="*/ 0 w 1947960"/>
              <a:gd name="textAreaRight" fmla="*/ 1947960 w 19479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02" y="0"/>
                </a:lnTo>
                <a:lnTo>
                  <a:pt x="21600" y="10800"/>
                </a:lnTo>
                <a:lnTo>
                  <a:pt x="8002" y="21600"/>
                </a:lnTo>
                <a:lnTo>
                  <a:pt x="0" y="21600"/>
                </a:lnTo>
                <a:lnTo>
                  <a:pt x="13598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78c928"/>
              </a:gs>
            </a:gsLst>
            <a:lin ang="1464000"/>
          </a:gradFill>
          <a:ln w="28440">
            <a:solidFill>
              <a:srgbClr val="008000"/>
            </a:solidFill>
            <a:miter/>
          </a:ln>
          <a:effectLst>
            <a:outerShdw dist="137587" dir="12821405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4000" y="292428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81185" dir="19278031" blurRad="0" rotWithShape="0">
                    <a:srgbClr val="ffff00"/>
                  </a:outerShdw>
                </a:effectLst>
                <a:latin typeface="Times New Roman"/>
              </a:rPr>
              <a:t>Ресничк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81185" dir="19278031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132000" y="299736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18900000" blurRad="0" rotWithShape="0">
                    <a:srgbClr val="ffff00"/>
                  </a:outerShdw>
                </a:effectLst>
                <a:latin typeface="Times New Roman"/>
              </a:rPr>
              <a:t>Псевдопод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189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12000" y="2997360"/>
            <a:ext cx="28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53966" dir="18900000" blurRad="0" rotWithShape="0">
                    <a:srgbClr val="ffff00"/>
                  </a:outerShdw>
                </a:effectLst>
                <a:latin typeface="Times New Roman"/>
              </a:rPr>
              <a:t>Миофибрил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3966" dir="189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676840" cy="4292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3059280" y="18900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e448e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56832" dir="19996359" blurRad="0" rotWithShape="0">
                    <a:srgbClr val="0000ff">
                      <a:alpha val="80000"/>
                    </a:srgbClr>
                  </a:outerShdw>
                </a:effectLst>
                <a:latin typeface="Times New Roman"/>
              </a:rPr>
              <a:t>Ядро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e448e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56832" dir="19996359" blurRad="0" rotWithShape="0">
                  <a:srgbClr val="0000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81000"/>
            <a:ext cx="34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Ядерная оболочк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1557360"/>
            <a:ext cx="115272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27640" y="1052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Кариоплазм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858920" y="1341360"/>
            <a:ext cx="136836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6165720"/>
            <a:ext cx="2295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Хромосомы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92360" y="4869000"/>
            <a:ext cx="2950920" cy="129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020000" y="609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Ядрышко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211640" y="3789360"/>
            <a:ext cx="3384720" cy="22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d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79280" y="260280"/>
            <a:ext cx="8709120" cy="936720"/>
            <a:chOff x="179280" y="260280"/>
            <a:chExt cx="8709120" cy="936720"/>
          </a:xfrm>
        </p:grpSpPr>
        <p:sp>
          <p:nvSpPr>
            <p:cNvPr id="193" name=""/>
            <p:cNvSpPr/>
            <p:nvPr/>
          </p:nvSpPr>
          <p:spPr>
            <a:xfrm>
              <a:off x="179280" y="260280"/>
              <a:ext cx="8673840" cy="936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5400" y="385200"/>
              <a:ext cx="870300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Центральная часть клетки, благодаря которой осуществляются 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биосинтеза и передачи наследственной информа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9280" y="1341360"/>
            <a:ext cx="8769240" cy="1130400"/>
            <a:chOff x="179280" y="1341360"/>
            <a:chExt cx="8769240" cy="1130400"/>
          </a:xfrm>
        </p:grpSpPr>
        <p:sp>
          <p:nvSpPr>
            <p:cNvPr id="197" name=""/>
            <p:cNvSpPr/>
            <p:nvPr/>
          </p:nvSpPr>
          <p:spPr>
            <a:xfrm>
              <a:off x="179280" y="1341360"/>
              <a:ext cx="8713800" cy="1130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e0ffc1"/>
                </a:gs>
              </a:gsLst>
              <a:lin ang="8100000"/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560" y="1413000"/>
              <a:ext cx="8760960" cy="91692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e0ff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Состоит из двух мембран(наружной и внутренней) с порам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1.Ограничивает ядро от цитоплаз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2.Даёт возможность осуществляться обмену между ядром и цитоплазмо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9280" y="2637000"/>
            <a:ext cx="8713800" cy="1130040"/>
            <a:chOff x="179280" y="2637000"/>
            <a:chExt cx="8713800" cy="1130040"/>
          </a:xfrm>
        </p:grpSpPr>
        <p:sp>
          <p:nvSpPr>
            <p:cNvPr id="200" name=""/>
            <p:cNvSpPr/>
            <p:nvPr/>
          </p:nvSpPr>
          <p:spPr>
            <a:xfrm>
              <a:off x="179280" y="2637000"/>
              <a:ext cx="8713800" cy="1130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c9dbff"/>
                </a:gs>
                <a:gs pos="100000">
                  <a:srgbClr val="ffdfff"/>
                </a:gs>
              </a:gsLst>
              <a:lin ang="10800000"/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6720" y="2781360"/>
              <a:ext cx="61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Полужидкое веществ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Среда, в которой находятся ядрышки и хромосо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79280" y="3933720"/>
            <a:ext cx="8713800" cy="1130400"/>
            <a:chOff x="179280" y="3933720"/>
            <a:chExt cx="8713800" cy="1130400"/>
          </a:xfrm>
        </p:grpSpPr>
        <p:sp>
          <p:nvSpPr>
            <p:cNvPr id="203" name=""/>
            <p:cNvSpPr/>
            <p:nvPr/>
          </p:nvSpPr>
          <p:spPr>
            <a:xfrm>
              <a:off x="179280" y="3933720"/>
              <a:ext cx="8713800" cy="1130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bdffbd"/>
                </a:gs>
                <a:gs pos="50000">
                  <a:srgbClr val="ffdfb1"/>
                </a:gs>
                <a:gs pos="100000">
                  <a:srgbClr val="bdffbd"/>
                </a:gs>
              </a:gsLst>
              <a:lin ang="8100000"/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000" y="4076640"/>
              <a:ext cx="593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Сферической или неправильной фор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                    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Принимают участие в синтезе бел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64880" y="5300640"/>
            <a:ext cx="8774640" cy="1130400"/>
            <a:chOff x="164880" y="5300640"/>
            <a:chExt cx="8774640" cy="1130400"/>
          </a:xfrm>
        </p:grpSpPr>
        <p:sp>
          <p:nvSpPr>
            <p:cNvPr id="206" name=""/>
            <p:cNvSpPr/>
            <p:nvPr/>
          </p:nvSpPr>
          <p:spPr>
            <a:xfrm>
              <a:off x="179280" y="5300640"/>
              <a:ext cx="8713800" cy="113040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4880" y="5392800"/>
              <a:ext cx="87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Плотные удлинённые или нитевидные образования, видимые только пр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делении клетки. Содержат ДНК, в которой заключена наследстве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информация, передающаяся из поколения в покол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260280"/>
            <a:ext cx="828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2700"/>
                    </a:gs>
                  </a:gsLst>
                  <a:lin ang="5400000"/>
                </a:gradFill>
                <a:effectLst>
                  <a:outerShdw dist="45929" dir="19571123" blurRad="0" rotWithShape="0">
                    <a:srgbClr val="0000ff"/>
                  </a:outerShdw>
                </a:effectLst>
                <a:latin typeface="Times New Roman"/>
              </a:rPr>
              <a:t>Клеточная теория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2700"/>
                  </a:gs>
                </a:gsLst>
                <a:lin ang="5400000"/>
              </a:gradFill>
              <a:effectLst>
                <a:outerShdw dist="45929" dir="19571123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9280" y="1628640"/>
            <a:ext cx="8785440" cy="4729320"/>
            <a:chOff x="179280" y="1628640"/>
            <a:chExt cx="8785440" cy="4729320"/>
          </a:xfrm>
        </p:grpSpPr>
        <p:sp>
          <p:nvSpPr>
            <p:cNvPr id="48" name=""/>
            <p:cNvSpPr txBox="1"/>
            <p:nvPr/>
          </p:nvSpPr>
          <p:spPr>
            <a:xfrm>
              <a:off x="6443640" y="5229000"/>
              <a:ext cx="2508120" cy="54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Times New Roman"/>
                </a:rPr>
                <a:t>Теодор Шванн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6732720" y="6021360"/>
              <a:ext cx="189684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Times New Roman"/>
                </a:rPr>
                <a:t>1810 - 1882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9280" y="1699920"/>
              <a:ext cx="2592360" cy="4658040"/>
              <a:chOff x="179280" y="1699920"/>
              <a:chExt cx="2592360" cy="4658040"/>
            </a:xfrm>
          </p:grpSpPr>
          <p:sp>
            <p:nvSpPr>
              <p:cNvPr id="51" name=""/>
              <p:cNvSpPr txBox="1"/>
              <p:nvPr/>
            </p:nvSpPr>
            <p:spPr>
              <a:xfrm>
                <a:off x="179280" y="5300640"/>
                <a:ext cx="2556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99"/>
                      </a:solidFill>
                      <a:miter/>
                    </a:ln>
                    <a:solidFill>
                      <a:srgbClr val="000099"/>
                    </a:solidFill>
                    <a:latin typeface="Times New Roman"/>
                  </a:rPr>
                  <a:t>Маттиас Шлейден</a:t>
                </a:r>
                <a:endPara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539640" y="6021360"/>
                <a:ext cx="1656000" cy="33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99"/>
                      </a:solidFill>
                      <a:miter/>
                    </a:ln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0b0b9d"/>
                        </a:gs>
                      </a:gsLst>
                      <a:lin ang="5400000"/>
                    </a:gradFill>
                    <a:latin typeface="Times New Roman"/>
                  </a:rPr>
                  <a:t>1804 - 1881</a:t>
                </a:r>
                <a:endPara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000099"/>
                      </a:gs>
                      <a:gs pos="100000">
                        <a:srgbClr val="0b0b9d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179280" y="1699920"/>
                <a:ext cx="2592360" cy="3274920"/>
                <a:chOff x="179280" y="1699920"/>
                <a:chExt cx="2592360" cy="32749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79280" y="1699920"/>
                  <a:ext cx="2592360" cy="3274920"/>
                </a:xfrm>
                <a:prstGeom prst="bevel">
                  <a:avLst>
                    <a:gd name="adj" fmla="val 3856"/>
                  </a:avLst>
                </a:prstGeom>
                <a:gradFill rotWithShape="0">
                  <a:gsLst>
                    <a:gs pos="0">
                      <a:srgbClr val="990033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3640" y="1842840"/>
                  <a:ext cx="2322360" cy="3024000"/>
                </a:xfrm>
                <a:prstGeom prst="rect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</p:pic>
          </p:grpSp>
        </p:grpSp>
        <p:grpSp>
          <p:nvGrpSpPr>
            <p:cNvPr id="56" name=""/>
            <p:cNvGrpSpPr/>
            <p:nvPr/>
          </p:nvGrpSpPr>
          <p:grpSpPr>
            <a:xfrm>
              <a:off x="6372360" y="1628640"/>
              <a:ext cx="2592360" cy="3274920"/>
              <a:chOff x="6372360" y="1628640"/>
              <a:chExt cx="2592360" cy="3274920"/>
            </a:xfrm>
          </p:grpSpPr>
          <p:sp>
            <p:nvSpPr>
              <p:cNvPr id="57" name=""/>
              <p:cNvSpPr/>
              <p:nvPr/>
            </p:nvSpPr>
            <p:spPr>
              <a:xfrm>
                <a:off x="6372360" y="1628640"/>
                <a:ext cx="2592360" cy="3274920"/>
              </a:xfrm>
              <a:prstGeom prst="bevel">
                <a:avLst>
                  <a:gd name="adj" fmla="val 3856"/>
                </a:avLst>
              </a:prstGeom>
              <a:gradFill rotWithShape="0">
                <a:gsLst>
                  <a:gs pos="0">
                    <a:srgbClr val="990033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6720" y="1773000"/>
                <a:ext cx="2303280" cy="30243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59" name=""/>
          <p:cNvGrpSpPr/>
          <p:nvPr/>
        </p:nvGrpSpPr>
        <p:grpSpPr>
          <a:xfrm>
            <a:off x="3132000" y="1484280"/>
            <a:ext cx="3024360" cy="4680000"/>
            <a:chOff x="3132000" y="1484280"/>
            <a:chExt cx="3024360" cy="4680000"/>
          </a:xfrm>
        </p:grpSpPr>
        <p:sp>
          <p:nvSpPr>
            <p:cNvPr id="60" name=""/>
            <p:cNvSpPr/>
            <p:nvPr/>
          </p:nvSpPr>
          <p:spPr>
            <a:xfrm>
              <a:off x="3132000" y="1484280"/>
              <a:ext cx="302436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30280" y="1915920"/>
              <a:ext cx="28216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. Клетка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единиц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троения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вития все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ив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м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132000" y="1484280"/>
            <a:ext cx="3024000" cy="4680000"/>
            <a:chOff x="3132000" y="1484280"/>
            <a:chExt cx="3024000" cy="4680000"/>
          </a:xfrm>
        </p:grpSpPr>
        <p:sp>
          <p:nvSpPr>
            <p:cNvPr id="63" name=""/>
            <p:cNvSpPr/>
            <p:nvPr/>
          </p:nvSpPr>
          <p:spPr>
            <a:xfrm>
              <a:off x="3132000" y="1484280"/>
              <a:ext cx="302400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8560" y="1647720"/>
              <a:ext cx="2684520" cy="43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 Клетки все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ганизмов сход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 своему строению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имическому состав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сновным проявления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жизнедеятель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ст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132000" y="1484280"/>
            <a:ext cx="3024000" cy="4680000"/>
            <a:chOff x="3132000" y="1484280"/>
            <a:chExt cx="3024000" cy="4680000"/>
          </a:xfrm>
        </p:grpSpPr>
        <p:sp>
          <p:nvSpPr>
            <p:cNvPr id="66" name=""/>
            <p:cNvSpPr/>
            <p:nvPr/>
          </p:nvSpPr>
          <p:spPr>
            <a:xfrm>
              <a:off x="3132000" y="1484280"/>
              <a:ext cx="302400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48000" y="1557360"/>
              <a:ext cx="256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Каждая нов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летка образуе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результа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еления исход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материнской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лет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3420720" y="4605480"/>
              <a:ext cx="237492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3132000" y="1484280"/>
            <a:ext cx="3024000" cy="4680000"/>
            <a:chOff x="3132000" y="1484280"/>
            <a:chExt cx="3024000" cy="4680000"/>
          </a:xfrm>
        </p:grpSpPr>
        <p:sp>
          <p:nvSpPr>
            <p:cNvPr id="70" name=""/>
            <p:cNvSpPr/>
            <p:nvPr/>
          </p:nvSpPr>
          <p:spPr>
            <a:xfrm>
              <a:off x="3132000" y="1484280"/>
              <a:ext cx="302400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32000" y="1628640"/>
              <a:ext cx="30240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многоклеточ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рганизмах кл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пециализирова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 выполняем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ми функции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разуют ткан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9"/>
            <a:srcRect l="2491" t="0" r="68299" b="-472"/>
            <a:stretch/>
          </p:blipFill>
          <p:spPr>
            <a:xfrm>
              <a:off x="3924000" y="4005360"/>
              <a:ext cx="167004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2920" y="476280"/>
            <a:ext cx="7274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ff6699">
                        <a:alpha val="50196"/>
                      </a:srgbClr>
                    </a:gs>
                    <a:gs pos="100000">
                      <a:srgbClr val="e25a87"/>
                    </a:gs>
                  </a:gsLst>
                  <a:lin ang="5400000"/>
                </a:gradFill>
                <a:effectLst>
                  <a:outerShdw dist="68321" dir="20281825" blurRad="0" rotWithShape="0">
                    <a:srgbClr val="cc00ff"/>
                  </a:outerShdw>
                </a:effectLst>
                <a:latin typeface="Arial"/>
              </a:rPr>
              <a:t>Строение клетки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ff6699">
                      <a:alpha val="50196"/>
                    </a:srgbClr>
                  </a:gs>
                  <a:gs pos="100000">
                    <a:srgbClr val="e25a87"/>
                  </a:gs>
                </a:gsLst>
                <a:lin ang="5400000"/>
              </a:gradFill>
              <a:effectLst>
                <a:outerShdw dist="68321" dir="20281825" blurRad="0" rotWithShape="0">
                  <a:srgbClr val="cc00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7496400">
            <a:off x="581400" y="2594160"/>
            <a:ext cx="218592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5400000">
            <a:off x="3677040" y="2378880"/>
            <a:ext cx="218628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 rot="3588600">
            <a:off x="6485400" y="2378880"/>
            <a:ext cx="2186280" cy="6858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79280" y="3789360"/>
            <a:ext cx="2737080" cy="1079640"/>
            <a:chOff x="179280" y="3789360"/>
            <a:chExt cx="2737080" cy="1079640"/>
          </a:xfrm>
        </p:grpSpPr>
        <p:sp>
          <p:nvSpPr>
            <p:cNvPr id="78" name=""/>
            <p:cNvSpPr txBox="1"/>
            <p:nvPr/>
          </p:nvSpPr>
          <p:spPr>
            <a:xfrm>
              <a:off x="179280" y="3789360"/>
              <a:ext cx="2737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cc0099"/>
                  </a:solidFill>
                  <a:latin typeface="Times New Roman"/>
                </a:rPr>
                <a:t>Клеточная </a:t>
              </a:r>
              <a:endPara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79280" y="4292640"/>
              <a:ext cx="25210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cc0099"/>
                  </a:solidFill>
                  <a:latin typeface="Times New Roman"/>
                </a:rPr>
                <a:t>мембрана</a:t>
              </a:r>
              <a:endPara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3564000" y="3860640"/>
            <a:ext cx="2343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Цитоплазма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308720" y="3933720"/>
            <a:ext cx="981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Ядро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5240400">
            <a:off x="4302360" y="4778640"/>
            <a:ext cx="1081080" cy="685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68360" y="5877000"/>
            <a:ext cx="467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66">
                        <a:alpha val="92156"/>
                      </a:srgbClr>
                    </a:gs>
                    <a:gs pos="100000">
                      <a:srgbClr val="500020"/>
                    </a:gs>
                  </a:gsLst>
                  <a:lin ang="5400000"/>
                </a:gradFill>
                <a:latin typeface="Times New Roman"/>
              </a:rPr>
              <a:t>Органоиды цитоплазм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66">
                      <a:alpha val="92156"/>
                    </a:srgbClr>
                  </a:gs>
                  <a:gs pos="100000">
                    <a:srgbClr val="50002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95280" y="2276640"/>
          <a:ext cx="8569080" cy="42415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лав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рганоидо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 txBox="1"/>
          <p:nvPr/>
        </p:nvSpPr>
        <p:spPr>
          <a:xfrm>
            <a:off x="179280" y="333360"/>
            <a:ext cx="87854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e2005a"/>
                    </a:gs>
                  </a:gsLst>
                  <a:lin ang="5400000"/>
                </a:gradFill>
                <a:latin typeface="Times New Roman"/>
              </a:rPr>
              <a:t>Строение клетки и фунции её органоидов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e2005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20" y="189000"/>
            <a:ext cx="86407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effectLst>
                  <a:outerShdw dist="52300" dir="20763565" blurRad="0" rotWithShape="0">
                    <a:srgbClr val="00ffff">
                      <a:alpha val="80000"/>
                    </a:srgbClr>
                  </a:outerShdw>
                </a:effectLst>
                <a:latin typeface="Times New Roman"/>
              </a:rPr>
              <a:t>Наружная клеточная мембра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effectLst>
                <a:outerShdw dist="52300" dir="20763565" blurRad="0" rotWithShape="0">
                  <a:srgbClr val="00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643280" cy="324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5240"/>
            <a:ext cx="43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Два слоя – наружны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внутренний состоят из белков, а трети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редний – из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низана п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27640" y="1197000"/>
            <a:ext cx="4716360" cy="5472000"/>
            <a:chOff x="4427640" y="1197000"/>
            <a:chExt cx="4716360" cy="5472000"/>
          </a:xfrm>
        </p:grpSpPr>
        <p:sp>
          <p:nvSpPr>
            <p:cNvPr id="90" name=""/>
            <p:cNvSpPr/>
            <p:nvPr/>
          </p:nvSpPr>
          <p:spPr>
            <a:xfrm>
              <a:off x="4427640" y="1197000"/>
              <a:ext cx="4716360" cy="5472000"/>
            </a:xfrm>
            <a:prstGeom prst="verticalScroll">
              <a:avLst>
                <a:gd name="adj" fmla="val 6731"/>
              </a:avLst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81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3800" y="17002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0066"/>
                  </a:solidFill>
                  <a:uFillTx/>
                  <a:latin typeface="Arial"/>
                </a:rPr>
                <a:t>Функци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2360" y="2565360"/>
              <a:ext cx="360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1.Отграничивает внутренн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содержимое клетки от наруж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среды, выполняет защитн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функци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2.Способствует соединен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клеток между соб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003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50866" b="0"/>
          <a:stretch/>
        </p:blipFill>
        <p:spPr>
          <a:xfrm>
            <a:off x="0" y="0"/>
            <a:ext cx="4140360" cy="351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9978" t="0" r="0" b="0"/>
          <a:stretch/>
        </p:blipFill>
        <p:spPr>
          <a:xfrm>
            <a:off x="4859280" y="3289320"/>
            <a:ext cx="4284720" cy="3568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60280"/>
            <a:ext cx="4932360" cy="2960640"/>
            <a:chOff x="4211640" y="260280"/>
            <a:chExt cx="4932360" cy="2960640"/>
          </a:xfrm>
        </p:grpSpPr>
        <p:sp>
          <p:nvSpPr>
            <p:cNvPr id="97" name=""/>
            <p:cNvSpPr/>
            <p:nvPr/>
          </p:nvSpPr>
          <p:spPr>
            <a:xfrm>
              <a:off x="4211640" y="260280"/>
              <a:ext cx="4932360" cy="282888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81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7120" y="566640"/>
              <a:ext cx="3908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Регулирует обмен веществ между клеткой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окружающей средой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а) пропускает через п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мелкие молекулы, воду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многие ио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9280" y="3789360"/>
            <a:ext cx="4537080" cy="2828880"/>
            <a:chOff x="179280" y="3789360"/>
            <a:chExt cx="4537080" cy="2828880"/>
          </a:xfrm>
        </p:grpSpPr>
        <p:sp>
          <p:nvSpPr>
            <p:cNvPr id="100" name=""/>
            <p:cNvSpPr/>
            <p:nvPr/>
          </p:nvSpPr>
          <p:spPr>
            <a:xfrm>
              <a:off x="179280" y="3789360"/>
              <a:ext cx="4537080" cy="282888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ee7f2"/>
                </a:gs>
                <a:gs pos="50000">
                  <a:srgbClr val="fbeac7"/>
                </a:gs>
                <a:gs pos="100000">
                  <a:srgbClr val="fee7f2"/>
                </a:gs>
              </a:gsLst>
              <a:lin ang="81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3480" y="4167360"/>
              <a:ext cx="3621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Arial"/>
                </a:rPr>
                <a:t>б)</a:t>
              </a:r>
              <a:r>
                <a:rPr b="0" lang="ru-RU" sz="18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660033"/>
                  </a:solidFill>
                  <a:latin typeface="Arial"/>
                </a:rPr>
                <a:t>способствует проникновению крупных молекул, белков и других веществ путем фаго- и пиноцитоз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743600" cy="4302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84360" y="4941720"/>
            <a:ext cx="7561080" cy="1460520"/>
            <a:chOff x="684360" y="4941720"/>
            <a:chExt cx="7561080" cy="1460520"/>
          </a:xfrm>
        </p:grpSpPr>
        <p:sp>
          <p:nvSpPr>
            <p:cNvPr id="104" name=""/>
            <p:cNvSpPr txBox="1"/>
            <p:nvPr/>
          </p:nvSpPr>
          <p:spPr>
            <a:xfrm>
              <a:off x="684360" y="5014440"/>
              <a:ext cx="4248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Times New Roman"/>
                </a:rPr>
                <a:t>Хищная инфузория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5149800" y="4941720"/>
              <a:ext cx="3095640" cy="74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Times New Roman"/>
                </a:rPr>
                <a:t>дидиниум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84360" y="5878080"/>
              <a:ext cx="75610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Times New Roman"/>
                </a:rPr>
                <a:t>поедает инфузорию - туфельку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404640"/>
            <a:ext cx="476568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33ff"/>
                  </a:solidFill>
                  <a:miter/>
                </a:ln>
                <a:solidFill>
                  <a:srgbClr val="00ffff"/>
                </a:solidFill>
                <a:effectLst>
                  <a:outerShdw dist="107932" dir="2700000" blurRad="0" rotWithShape="0">
                    <a:srgbClr val="3333ff"/>
                  </a:outerShdw>
                </a:effectLst>
                <a:latin typeface="Arial"/>
              </a:rPr>
              <a:t>Цитоплазма</a:t>
            </a:r>
            <a:endParaRPr b="0" i="1" lang="en-US" sz="1800" spc="1" strike="noStrike">
              <a:ln w="3240">
                <a:solidFill>
                  <a:srgbClr val="3333ff"/>
                </a:solidFill>
                <a:miter/>
              </a:ln>
              <a:solidFill>
                <a:srgbClr val="00ffff"/>
              </a:solidFill>
              <a:effectLst>
                <a:outerShdw dist="107932" dir="2700000" blurRad="0" rotWithShape="0">
                  <a:srgbClr val="3333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724280"/>
            <a:ext cx="29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нутренняя полужид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реда мелкозерн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1773360"/>
            <a:ext cx="5184720" cy="4478760"/>
            <a:chOff x="250920" y="1773360"/>
            <a:chExt cx="5184720" cy="4478760"/>
          </a:xfrm>
        </p:grpSpPr>
        <p:sp>
          <p:nvSpPr>
            <p:cNvPr id="110" name=""/>
            <p:cNvSpPr/>
            <p:nvPr/>
          </p:nvSpPr>
          <p:spPr>
            <a:xfrm>
              <a:off x="250920" y="1773360"/>
              <a:ext cx="5184720" cy="446400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8100000"/>
            </a:gra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619280" y="2565360"/>
              <a:ext cx="273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ff0066"/>
                  </a:solidFill>
                  <a:latin typeface="Times New Roman"/>
                </a:rPr>
                <a:t>Функции: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6760" y="3232080"/>
              <a:ext cx="3549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.Обеспечи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взаимодействие ядра и органоид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.Выполняет транспор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функци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rcRect l="21136" t="14051" r="11275" b="12511"/>
          <a:stretch/>
        </p:blipFill>
        <p:spPr>
          <a:xfrm>
            <a:off x="6012000" y="476280"/>
            <a:ext cx="2635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5:39:50Z</dcterms:created>
  <dc:creator>Марина</dc:creator>
  <dc:description/>
  <dc:language>en-US</dc:language>
  <cp:lastModifiedBy>Марина</cp:lastModifiedBy>
  <dcterms:modified xsi:type="dcterms:W3CDTF">2004-01-25T18:07:38Z</dcterms:modified>
  <cp:revision>12</cp:revision>
  <dc:subject/>
  <dc:title>Слайд 1</dc:title>
</cp:coreProperties>
</file>