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226-E7FF-4423-BD7E-8AA64C5D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DE5-1BB7-4488-93C7-884B761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15A-E004-407E-B935-F89C31D3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5C9-6A31-422C-A770-0E44120E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61E-4AF9-435F-82F8-8BCD5DF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637-7225-4F7D-8BCA-EAF4D0C1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E15-22AE-4D27-A1E9-1A78C7F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BA0-7D8B-4D05-BC51-4C1E202B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1EE-2614-4247-A87C-20F97622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66D-53EB-4045-A6CE-2DC6287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E10-D023-433A-8642-4E21DA5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303-1969-4D76-ADF1-8AF4529E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5228-ACAD-4C85-80C0-007B7C9B5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444600" y="1657440"/>
            <a:ext cx="83455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0" r="0" b="49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rcRect l="84653" t="34542" r="3540" b="58479"/>
          <a:stretch/>
        </p:blipFill>
        <p:spPr>
          <a:xfrm>
            <a:off x="7308720" y="2349360"/>
            <a:ext cx="165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0" t="0" r="0" b="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84653" t="34542" r="3540" b="58479"/>
          <a:stretch/>
        </p:blipFill>
        <p:spPr>
          <a:xfrm>
            <a:off x="7740720" y="2492280"/>
            <a:ext cx="1079280" cy="5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0" t="0" r="0" b="53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rcRect l="0" t="0" r="0" b="591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5219640" y="2276640"/>
            <a:ext cx="2448000" cy="86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0" r="0" b="5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ая соединительная линия 2"/>
          <p:cNvSpPr/>
          <p:nvPr/>
        </p:nvSpPr>
        <p:spPr>
          <a:xfrm>
            <a:off x="395280" y="4653000"/>
            <a:ext cx="1189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Овал 2"/>
          <p:cNvSpPr/>
          <p:nvPr/>
        </p:nvSpPr>
        <p:spPr>
          <a:xfrm>
            <a:off x="108000" y="2565360"/>
            <a:ext cx="985680" cy="194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5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Овал 2"/>
          <p:cNvSpPr/>
          <p:nvPr/>
        </p:nvSpPr>
        <p:spPr>
          <a:xfrm>
            <a:off x="108000" y="2060640"/>
            <a:ext cx="1655640" cy="20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0" t="0" r="0" b="553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Овал 2"/>
          <p:cNvSpPr/>
          <p:nvPr/>
        </p:nvSpPr>
        <p:spPr>
          <a:xfrm>
            <a:off x="1763640" y="2637000"/>
            <a:ext cx="460872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0" b="50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0" b="5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Овал 3"/>
          <p:cNvSpPr/>
          <p:nvPr/>
        </p:nvSpPr>
        <p:spPr>
          <a:xfrm>
            <a:off x="2700360" y="5157720"/>
            <a:ext cx="4248000" cy="10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0" b="5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ая соединительная линия 3"/>
          <p:cNvSpPr/>
          <p:nvPr/>
        </p:nvSpPr>
        <p:spPr>
          <a:xfrm>
            <a:off x="2195640" y="2565360"/>
            <a:ext cx="100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4"/>
          <p:cNvSpPr/>
          <p:nvPr/>
        </p:nvSpPr>
        <p:spPr>
          <a:xfrm>
            <a:off x="2268360" y="5805360"/>
            <a:ext cx="1006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5"/>
          <p:cNvSpPr/>
          <p:nvPr/>
        </p:nvSpPr>
        <p:spPr>
          <a:xfrm>
            <a:off x="2195640" y="5589720"/>
            <a:ext cx="100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rcRect l="0" t="0" r="0" b="58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ая соединительная линия 3"/>
          <p:cNvSpPr/>
          <p:nvPr/>
        </p:nvSpPr>
        <p:spPr>
          <a:xfrm>
            <a:off x="2268360" y="5516640"/>
            <a:ext cx="15480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4"/>
          <p:cNvSpPr/>
          <p:nvPr/>
        </p:nvSpPr>
        <p:spPr>
          <a:xfrm>
            <a:off x="2268360" y="4365720"/>
            <a:ext cx="1187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0" t="0" r="0" b="49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9:57:42Z</dcterms:created>
  <dc:creator>Андрей</dc:creator>
  <dc:description/>
  <dc:language>en-US</dc:language>
  <cp:lastModifiedBy>Андрей</cp:lastModifiedBy>
  <dcterms:modified xsi:type="dcterms:W3CDTF">2011-11-23T21:19:19Z</dcterms:modified>
  <cp:revision>11</cp:revision>
  <dc:subject/>
  <dc:title>Слайд 1</dc:title>
</cp:coreProperties>
</file>