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F57-9F45-4E2D-A7BF-86C8C8D4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C1E-BE52-409D-AB49-EB68EEE1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BB91-9021-4058-AA6F-66234AFE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C55-3F8D-412F-AB44-56D079F8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1B84-61DA-428B-BBDB-09933785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1CE-1673-4965-8263-FE476929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07A-1B8A-482B-B230-F62EC9A4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FF5-4342-45B9-9C2B-7D02E746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AF0-C792-4BA0-9D1B-9F768E1C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696E-13D6-4B6D-B409-919B780C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657-8FC5-4052-B646-73C3CBC0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D07-98F2-48E4-86C9-4C3F2C66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7B4A-81B5-4001-8126-56B710CDE8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444600" y="1657440"/>
            <a:ext cx="83455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0" r="0" b="49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rcRect l="84653" t="34542" r="3540" b="58479"/>
          <a:stretch/>
        </p:blipFill>
        <p:spPr>
          <a:xfrm>
            <a:off x="7308720" y="2349360"/>
            <a:ext cx="1656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0" t="0" r="0" b="57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84653" t="34542" r="3540" b="58479"/>
          <a:stretch/>
        </p:blipFill>
        <p:spPr>
          <a:xfrm>
            <a:off x="7740720" y="2492280"/>
            <a:ext cx="1079280" cy="50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rcRect l="0" t="0" r="0" b="53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rcRect l="0" t="0" r="0" b="59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Овал 2"/>
          <p:cNvSpPr/>
          <p:nvPr/>
        </p:nvSpPr>
        <p:spPr>
          <a:xfrm>
            <a:off x="5219640" y="2276640"/>
            <a:ext cx="2448000" cy="86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0" t="0" r="0" b="51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ая соединительная линия 2"/>
          <p:cNvSpPr/>
          <p:nvPr/>
        </p:nvSpPr>
        <p:spPr>
          <a:xfrm>
            <a:off x="395280" y="4653000"/>
            <a:ext cx="1189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0" t="0" r="0" b="55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Овал 2"/>
          <p:cNvSpPr/>
          <p:nvPr/>
        </p:nvSpPr>
        <p:spPr>
          <a:xfrm>
            <a:off x="108000" y="2565360"/>
            <a:ext cx="985680" cy="194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0" b="51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Овал 2"/>
          <p:cNvSpPr/>
          <p:nvPr/>
        </p:nvSpPr>
        <p:spPr>
          <a:xfrm>
            <a:off x="108000" y="2060640"/>
            <a:ext cx="1655640" cy="20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rcRect l="0" t="0" r="0" b="55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Овал 2"/>
          <p:cNvSpPr/>
          <p:nvPr/>
        </p:nvSpPr>
        <p:spPr>
          <a:xfrm>
            <a:off x="1763640" y="2637000"/>
            <a:ext cx="4608720" cy="107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0" r="0" b="50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0" t="0" r="0" b="55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Овал 3"/>
          <p:cNvSpPr/>
          <p:nvPr/>
        </p:nvSpPr>
        <p:spPr>
          <a:xfrm>
            <a:off x="2700360" y="5157720"/>
            <a:ext cx="4248000" cy="107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0" t="0" r="0" b="57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ая соединительная линия 3"/>
          <p:cNvSpPr/>
          <p:nvPr/>
        </p:nvSpPr>
        <p:spPr>
          <a:xfrm>
            <a:off x="2195640" y="2565360"/>
            <a:ext cx="1008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4"/>
          <p:cNvSpPr/>
          <p:nvPr/>
        </p:nvSpPr>
        <p:spPr>
          <a:xfrm>
            <a:off x="2268360" y="5805360"/>
            <a:ext cx="10065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5"/>
          <p:cNvSpPr/>
          <p:nvPr/>
        </p:nvSpPr>
        <p:spPr>
          <a:xfrm>
            <a:off x="2195640" y="5589720"/>
            <a:ext cx="1008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rcRect l="0" t="0" r="0" b="58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ая соединительная линия 3"/>
          <p:cNvSpPr/>
          <p:nvPr/>
        </p:nvSpPr>
        <p:spPr>
          <a:xfrm>
            <a:off x="2268360" y="5516640"/>
            <a:ext cx="1548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4"/>
          <p:cNvSpPr/>
          <p:nvPr/>
        </p:nvSpPr>
        <p:spPr>
          <a:xfrm>
            <a:off x="2268360" y="4365720"/>
            <a:ext cx="11876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0" t="0" r="0" b="49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9:57:42Z</dcterms:created>
  <dc:creator>Андрей</dc:creator>
  <dc:description/>
  <dc:language>en-US</dc:language>
  <cp:lastModifiedBy>Андрей</cp:lastModifiedBy>
  <dcterms:modified xsi:type="dcterms:W3CDTF">2011-11-23T21:19:19Z</dcterms:modified>
  <cp:revision>11</cp:revision>
  <dc:subject/>
  <dc:title>Слайд 1</dc:title>
</cp:coreProperties>
</file>