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E99-35AF-40EE-85F1-8232E984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699-FF7F-4F12-8769-17D74488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A7B-81EC-44F7-A1EA-313F850B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A2D-9A08-4A96-B686-A34A4E13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726-2DAD-4457-B811-F4847BC7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987A-EAC1-42A3-AEA0-D686FC51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12BA-A40E-4602-8CCC-8CDB3849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912A-F56E-4850-86B9-3EB948C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A0C9-56D4-43F3-B530-C22AC33E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7561-2C88-46BE-BF5B-91A1B01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FE87-D8FD-4D58-B8E6-799963D1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7EF-5379-43E9-B573-354A10E9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FFC5-0218-431D-87F8-D984825F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F8A3-A32C-453E-B1A8-6C330238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158A-4924-4503-BD52-7A2B721E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FF8D-0932-40B2-AC2D-770FFDB5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BA17-C516-4A8B-97E3-0D4D7B0B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802D5-548F-4224-9973-CE4AB83E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4883A-BE4B-4BAE-ABCE-EF9354A9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4F4E5-E795-4E7A-A048-6B2ABA4A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21522-7A3B-4A39-9E34-1E158ADD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121B8-ED5A-45E5-8712-0A354733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230-EF5C-42D0-98CA-D4F66F14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D0D56-02EC-4ACD-9118-D42F9D8D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32908-D549-4641-95DD-307A52D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07461-0535-4F25-BA1A-0016E7D5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45E72-3189-49D4-BC01-8AAF64BE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90C6E-8843-4C41-A097-867C92F0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EB84F-A270-4D78-B8C0-4E6CA8AA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E1D66-E091-440F-8D67-7B05F969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B7AA-CAC6-416A-A0F8-B09A8067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54A6-CC59-4A36-B162-AD7A1732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37108-FBEA-4F58-88EF-BE383580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FE4-8A42-41EE-82B8-C1FDB100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AA3C-D81D-46E3-AE7D-1292468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5958-DA93-424C-B0F5-E5399B5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E16B-A62D-4522-81FC-6525B0EB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B9691-F663-4E77-9FA6-104B31A6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C5CA-4A0D-4667-BDD2-F48EBE2E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0088-08BC-497A-A54B-0FECC340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86FD-B6CD-4876-AB71-66255050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762DB-44A4-4046-929B-6A5CC9E1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76F89-0C75-45B5-9581-37C2957C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A75-3E49-4580-959B-68891317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09C-EEB6-4ADC-9791-46F62FCF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577-D06D-4CCC-BD90-280F60B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601-9413-484F-8783-137868E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F0F-1449-465F-AF8C-F4495A9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82CB-F011-46F2-AF4E-EAB6D2B3D62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9BED-2D87-4E85-9AFA-F633BC849A0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28B6-EEE2-4DAD-AE64-EBC3AF717F8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0DB-EC62-4FF0-B7D1-43440EA7DFD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1;&#1075;&#1086;&#1083;&#1100;&#1085;&#1080;&#1082;" TargetMode="External"/><Relationship Id="rId2" Type="http://schemas.openxmlformats.org/officeDocument/2006/relationships/hyperlink" Target="http://ru.wikipedia.org/wiki/&#1056;&#1072;&#1074;&#1085;&#1086;&#1089;&#1090;&#1086;&#1088;&#1086;&#1085;&#1085;&#1080;&#1081;_&#1090;&#1088;&#1077;&#1091;&#1075;&#1086;&#1083;&#1100;&#1085;&#1080;&#1082;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3;&#1083;&#1080;&#1085;&#1077;&#1072;&#1088;&#1085;&#1099;&#1077;_&#1090;&#1086;&#1095;&#1082;&#1080;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Загадочный и увлекательный треугольник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Собраться вместе – это начало, остаться вместе – это прогресс, работать вместе – это успе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Г. Форд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И трижды трудные дела мы трижды соверши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риволинейный треугольн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Picture 2" descr="C:\Documents and Settings\Sentry\Рабочий стол\1\10.jpg"/>
          <p:cNvPicPr/>
          <p:nvPr/>
        </p:nvPicPr>
        <p:blipFill>
          <a:blip r:embed="rId1"/>
          <a:stretch/>
        </p:blipFill>
        <p:spPr>
          <a:xfrm>
            <a:off x="3114720" y="3116160"/>
            <a:ext cx="29145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6" name="Picture 2" descr="C:\Documents and Settings\Sentry\Рабочий стол\1\5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мечательные дочки-линии и точк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8" name="Picture 2" descr="C:\Documents and Settings\Sentry\Рабочий стол\1\11.jpg"/>
          <p:cNvPicPr/>
          <p:nvPr/>
        </p:nvPicPr>
        <p:blipFill>
          <a:blip r:embed="rId1"/>
          <a:stretch/>
        </p:blipFill>
        <p:spPr>
          <a:xfrm>
            <a:off x="457200" y="3186000"/>
            <a:ext cx="8229600" cy="245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мечательные точк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Picture 2" descr="C:\Documents and Settings\Sentry\Рабочий стол\1\12.jpg"/>
          <p:cNvPicPr/>
          <p:nvPr/>
        </p:nvPicPr>
        <p:blipFill>
          <a:blip r:embed="rId1"/>
          <a:stretch/>
        </p:blipFill>
        <p:spPr>
          <a:xfrm>
            <a:off x="457200" y="3578400"/>
            <a:ext cx="8229600" cy="1666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усть на сторонах треугольн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ыбраны точки  .  Отрезки  пересекаются в одной точке тогда и только тогда, когда выполняется равенств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2" descr="C:\Documents and Settings\Sentry\Рабочий стол\1\13.jpg"/>
          <p:cNvPicPr/>
          <p:nvPr/>
        </p:nvPicPr>
        <p:blipFill>
          <a:blip r:embed="rId1"/>
          <a:stretch/>
        </p:blipFill>
        <p:spPr>
          <a:xfrm>
            <a:off x="2743200" y="1143000"/>
            <a:ext cx="35701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105520" y="5410080"/>
            <a:ext cx="213336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орема утвержда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чки пересечения смежных трисектрис углов произвольного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тре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являются вершинами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равностороннего тре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C:\Documents and Settings\Sentry\Рабочий стол\1\14.jpg"/>
          <p:cNvPicPr/>
          <p:nvPr/>
        </p:nvPicPr>
        <p:blipFill>
          <a:blip r:embed="rId3"/>
          <a:stretch/>
        </p:blipFill>
        <p:spPr>
          <a:xfrm>
            <a:off x="2895480" y="990720"/>
            <a:ext cx="30844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',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' 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' лежат соответственно на сторонах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CA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треугольника или на их продолжениях, то они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коллинеарн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тогда и только тогда, когд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C:\Documents and Settings\Sentry\Рабочий стол\1\15.jpg"/>
          <p:cNvPicPr/>
          <p:nvPr/>
        </p:nvPicPr>
        <p:blipFill>
          <a:blip r:embed="rId2"/>
          <a:stretch/>
        </p:blipFill>
        <p:spPr>
          <a:xfrm>
            <a:off x="2666880" y="1143000"/>
            <a:ext cx="3748320" cy="285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\frac{AB'}{B'C}\cdot\frac{CA'}{A'B}\cdot\frac{BC'}{C'A}=1."/>
          <p:cNvPicPr/>
          <p:nvPr/>
        </p:nvPicPr>
        <p:blipFill>
          <a:blip r:embed="rId3"/>
          <a:stretch/>
        </p:blipFill>
        <p:spPr>
          <a:xfrm>
            <a:off x="4343400" y="5486400"/>
            <a:ext cx="320040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Picture 2" descr="C:\Documents and Settings\Sentry\Рабочий стол\1\4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о дворе школы похитили трех друзей. Было проведено тщательное расследование, составлен протокол на 4000 листах, но дело похитили. Учащиеся 7 «г» класса обнаружили в коридоре около двери несколько листов украденного протокола, что позволило нам составить словесный портрет пропавших, и провести собственное расследов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ризнаки равенства треугольни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Picture 2" descr="C:\Documents and Settings\Sentry\Рабочий стол\1\16.jpg"/>
          <p:cNvPicPr/>
          <p:nvPr/>
        </p:nvPicPr>
        <p:blipFill>
          <a:blip r:embed="rId1"/>
          <a:stretch/>
        </p:blipFill>
        <p:spPr>
          <a:xfrm>
            <a:off x="457200" y="2935440"/>
            <a:ext cx="822960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гад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Picture 2" descr="C:\Documents and Settings\Sentry\Рабочий стол\1.jpg"/>
          <p:cNvPicPr/>
          <p:nvPr/>
        </p:nvPicPr>
        <p:blipFill>
          <a:blip r:embed="rId1"/>
          <a:stretch/>
        </p:blipFill>
        <p:spPr>
          <a:xfrm>
            <a:off x="2004840" y="3268800"/>
            <a:ext cx="51343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бы измерить на местности расстояние между двумя точкам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между которыми нельзя пройти по прямой, выбирают какую-нибудь точку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для которой можно измерить расстояния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и откладывают отрезк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D=A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E=B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Тогда расстояние между точкам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будет равно искомому. Объясните поче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2" descr="C:\Documents and Settings\Sentry\Рабочий стол\1\Задача.jpg"/>
          <p:cNvPicPr/>
          <p:nvPr/>
        </p:nvPicPr>
        <p:blipFill>
          <a:blip r:embed="rId1"/>
          <a:stretch/>
        </p:blipFill>
        <p:spPr>
          <a:xfrm>
            <a:off x="5410080" y="609480"/>
            <a:ext cx="2365560" cy="174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Египетский треугольн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9" name="Picture 2" descr="C:\Documents and Settings\Sentry\Рабочий стол\1\17.jpg"/>
          <p:cNvPicPr/>
          <p:nvPr/>
        </p:nvPicPr>
        <p:blipFill>
          <a:blip r:embed="rId1"/>
          <a:stretch/>
        </p:blipFill>
        <p:spPr>
          <a:xfrm>
            <a:off x="3043080" y="3530520"/>
            <a:ext cx="3057840" cy="176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Picture 2" descr="C:\Documents and Settings\Sentry\Рабочий стол\1\18.jpg"/>
          <p:cNvPicPr/>
          <p:nvPr/>
        </p:nvPicPr>
        <p:blipFill>
          <a:blip r:embed="rId1"/>
          <a:stretch/>
        </p:blipFill>
        <p:spPr>
          <a:xfrm>
            <a:off x="3157560" y="258300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Жесткость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3" name="Picture 2" descr="C:\Documents and Settings\Sentry\Рабочий стол\1\19.jpg"/>
          <p:cNvPicPr/>
          <p:nvPr/>
        </p:nvPicPr>
        <p:blipFill>
          <a:blip r:embed="rId1"/>
          <a:stretch/>
        </p:blipFill>
        <p:spPr>
          <a:xfrm>
            <a:off x="2786040" y="2658960"/>
            <a:ext cx="357192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орема Пифаго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5" name="Picture 2" descr="C:\Documents and Settings\Sentry\Рабочий стол\1\20.jpg"/>
          <p:cNvPicPr/>
          <p:nvPr/>
        </p:nvPicPr>
        <p:blipFill>
          <a:blip r:embed="rId1"/>
          <a:stretch/>
        </p:blipFill>
        <p:spPr>
          <a:xfrm>
            <a:off x="3143160" y="3016080"/>
            <a:ext cx="2857680" cy="27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ча Наполеон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7" name="Picture 2" descr="C:\Documents and Settings\Sentry\Рабочий стол\1\21.jpg"/>
          <p:cNvPicPr/>
          <p:nvPr/>
        </p:nvPicPr>
        <p:blipFill>
          <a:blip r:embed="rId1"/>
          <a:stretch/>
        </p:blipFill>
        <p:spPr>
          <a:xfrm>
            <a:off x="2281320" y="2249640"/>
            <a:ext cx="4581360" cy="432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1" name="Picture 2" descr="C:\Documents and Settings\Sentry\Рабочий стол\6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3" name="Picture 2" descr="C:\Documents and Settings\Sentry\Рабочий стол\5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5" name="Picture 2" descr="C:\Documents and Settings\Sentry\Рабочий стол\4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гад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2" descr="C:\Documents and Settings\Sentry\Рабочий стол\2.jpg"/>
          <p:cNvPicPr/>
          <p:nvPr/>
        </p:nvPicPr>
        <p:blipFill>
          <a:blip r:embed="rId1"/>
          <a:stretch/>
        </p:blipFill>
        <p:spPr>
          <a:xfrm>
            <a:off x="2004840" y="3268800"/>
            <a:ext cx="513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7" name="Picture 2" descr="C:\Documents and Settings\Sentry\Рабочий стол\3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9" name="Picture 2" descr="C:\Documents and Settings\Sentry\Рабочий стол\2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ик Паскал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1" name="Picture 2" descr="C:\Documents and Settings\Sentry\Рабочий стол\1.jpg"/>
          <p:cNvPicPr/>
          <p:nvPr/>
        </p:nvPicPr>
        <p:blipFill>
          <a:blip r:embed="rId1"/>
          <a:stretch/>
        </p:blipFill>
        <p:spPr>
          <a:xfrm>
            <a:off x="2028960" y="2602080"/>
            <a:ext cx="50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3" name="Picture 2" descr="C:\Documents and Settings\Sentry\Рабочий стол\1\1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5" name="Picture 2" descr="C:\Documents and Settings\Sentry\Рабочий стол\1\2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оедините кружки одним росчерк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7" name="Picture 2" descr="C:\Documents and Settings\Sentry\Рабочий стол\4.jpg"/>
          <p:cNvPicPr/>
          <p:nvPr/>
        </p:nvPicPr>
        <p:blipFill>
          <a:blip r:embed="rId1"/>
          <a:stretch/>
        </p:blipFill>
        <p:spPr>
          <a:xfrm>
            <a:off x="3348000" y="3430440"/>
            <a:ext cx="2448000" cy="1962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9" name="Picture 2" descr="C:\Documents and Settings\Sentry\Рабочий стол\5.jpg"/>
          <p:cNvPicPr/>
          <p:nvPr/>
        </p:nvPicPr>
        <p:blipFill>
          <a:blip r:embed="rId1"/>
          <a:stretch/>
        </p:blipFill>
        <p:spPr>
          <a:xfrm>
            <a:off x="1719360" y="3444840"/>
            <a:ext cx="57052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еложите 4 спички так, чтобы получилось 2 равных треугольник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Picture 2" descr="C:\Documents and Settings\Sentry\Рабочий стол\6.jpg"/>
          <p:cNvPicPr/>
          <p:nvPr/>
        </p:nvPicPr>
        <p:blipFill>
          <a:blip r:embed="rId1"/>
          <a:stretch/>
        </p:blipFill>
        <p:spPr>
          <a:xfrm>
            <a:off x="3557520" y="3530520"/>
            <a:ext cx="2028960" cy="1762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Picture 2" descr="C:\Documents and Settings\Sentry\Рабочий стол\7.jpg"/>
          <p:cNvPicPr/>
          <p:nvPr/>
        </p:nvPicPr>
        <p:blipFill>
          <a:blip r:embed="rId1"/>
          <a:stretch/>
        </p:blipFill>
        <p:spPr>
          <a:xfrm>
            <a:off x="2995560" y="3587760"/>
            <a:ext cx="31528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5" name="Picture 2" descr="C:\Documents and Settings\Sentry\Рабочий стол\8.jpg"/>
          <p:cNvPicPr/>
          <p:nvPr/>
        </p:nvPicPr>
        <p:blipFill>
          <a:blip r:embed="rId1"/>
          <a:stretch/>
        </p:blipFill>
        <p:spPr>
          <a:xfrm>
            <a:off x="1262160" y="2701800"/>
            <a:ext cx="6619680" cy="341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icture 2" descr="C:\Documents and Settings\Sentry\Рабочий стол\6.jpg"/>
          <p:cNvPicPr/>
          <p:nvPr/>
        </p:nvPicPr>
        <p:blipFill>
          <a:blip r:embed="rId1"/>
          <a:stretch/>
        </p:blipFill>
        <p:spPr>
          <a:xfrm>
            <a:off x="755640" y="2249640"/>
            <a:ext cx="7632720" cy="43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но треугольник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DC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∆DCB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равнобедренные (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C=DC=B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C=B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ссектрисы углов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D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CB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казать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∆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DXO=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∆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Y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еравенство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Picture 2" descr="C:\Documents and Settings\Sentry\Рабочий стол\7.jpg"/>
          <p:cNvPicPr/>
          <p:nvPr/>
        </p:nvPicPr>
        <p:blipFill>
          <a:blip r:embed="rId1"/>
          <a:stretch/>
        </p:blipFill>
        <p:spPr>
          <a:xfrm>
            <a:off x="1795320" y="3192480"/>
            <a:ext cx="555336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мма углов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Picture 2" descr="C:\Documents and Settings\Sentry\Рабочий стол\1\8.jpg"/>
          <p:cNvPicPr/>
          <p:nvPr/>
        </p:nvPicPr>
        <p:blipFill>
          <a:blip r:embed="rId1"/>
          <a:stretch/>
        </p:blipFill>
        <p:spPr>
          <a:xfrm>
            <a:off x="2295360" y="2744640"/>
            <a:ext cx="4553280" cy="3333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мма углов треугольн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C:\Documents and Settings\Sentry\Рабочий стол\1\8.jpg"/>
          <p:cNvPicPr/>
          <p:nvPr/>
        </p:nvPicPr>
        <p:blipFill>
          <a:blip r:embed="rId1"/>
          <a:stretch/>
        </p:blipFill>
        <p:spPr>
          <a:xfrm>
            <a:off x="2295360" y="2744640"/>
            <a:ext cx="45532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реугольные числ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C:\Documents and Settings\Sentry\Рабочий стол\1\9.jpg"/>
          <p:cNvPicPr/>
          <p:nvPr/>
        </p:nvPicPr>
        <p:blipFill>
          <a:blip r:embed="rId1"/>
          <a:stretch/>
        </p:blipFill>
        <p:spPr>
          <a:xfrm>
            <a:off x="533520" y="2819520"/>
            <a:ext cx="8048520" cy="2409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иды треугольник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icture 3" descr="C:\Documents and Settings\Sentry\Рабочий стол\3.jpg"/>
          <p:cNvPicPr/>
          <p:nvPr/>
        </p:nvPicPr>
        <p:blipFill>
          <a:blip r:embed="rId1"/>
          <a:stretch/>
        </p:blipFill>
        <p:spPr>
          <a:xfrm>
            <a:off x="457200" y="3848040"/>
            <a:ext cx="8229600" cy="112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01-12-31T21:23:53Z</dcterms:modified>
  <cp:revision>19</cp:revision>
  <dc:subject/>
  <dc:title>Загадочный и увлекательный треугольник</dc:title>
</cp:coreProperties>
</file>