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008-A9E0-45EE-AB2F-99111EEA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B30-D6A1-44C7-8D9B-83D6CE7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B45-DFDD-4465-97AD-83AE819B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00A-00B4-4B5D-8CFC-52324634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C14-B703-47C3-953F-87FA74A4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4811-FA11-4983-AA95-62B190F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14A5-9901-46AD-968E-907CDB8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6010-0AEC-48D8-9FC8-6422B2E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279E-7CA8-458B-8F73-3636385C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7E0-B49C-49D7-8554-2A0C7092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BA59-7BFF-4032-9F93-0DF6323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C99-A25B-4375-9941-E6EC157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2645-44FA-4E3A-AC81-6981897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37D1-1739-40F7-9810-AB19859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ED7F-1192-44A4-883A-D645CEAC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493-BB02-4F22-9A4B-05DBD3F7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2C2-4C6C-4D4F-B1EE-96F253D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54C3F-5014-4A4A-8B72-40C9DBED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D4884-457B-426F-91CF-4BF4C3A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114EC-D07F-48E4-A5DC-737964B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DFF2B-8E15-4B24-AAF8-A3551959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D8052-636D-48A0-835D-7C938F79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5C5-D97C-4A89-B861-184FA60C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8C57C-0973-40A6-A8E2-BF945E2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DEF89-9C7A-47C8-AB0D-240E4F8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A677A-386E-4185-8D8B-DF515B0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01534-496C-4074-81A5-B2B6142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B5782-4664-42D3-9418-7832EC4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77D06-540A-465B-A5A5-A7EE20A5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02AAE-56B3-41E2-B056-1962E4F8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5B8E-C198-4EAC-99F0-F09ED07E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697E-B52D-43CA-894C-062D31A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AA12-11CF-4F86-8683-368332D5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194-9394-4EC5-AECE-9A65B1A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7E2E-54A3-48D0-A770-782F9C5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5529-DECB-471F-AC2B-0F032EB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1F8D-2502-4287-B0D7-96B2C9A7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F28A-0B95-499F-A61C-5201875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A597-B689-4C32-BCD0-E15521C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6189-FCD2-42CB-BC8B-BC3BE40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8F3F-659E-4B8B-8E02-7330010E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CAB8-D357-4FC8-9F12-24CB1250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A988-29DB-421D-ABE6-27BE7DF1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E9F-772A-4C45-954A-6900BBD3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493-0C6D-4C6C-818D-6750646E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A1D-8535-4B11-8178-7067E7C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B61-EA60-4A83-996A-7194DCA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E16-1837-4254-AEC8-C672D7B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AD0-ACDC-4BCC-94CD-04B4ED2AE1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52D-82CD-4AB5-BE2B-C83A8FC8019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74A-89E7-4520-8DE3-C942CED861D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8D06-4550-4510-8D93-15502DE1CB4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1;&#1075;&#1086;&#1083;&#1100;&#1085;&#1080;&#1082;" TargetMode="External"/><Relationship Id="rId2" Type="http://schemas.openxmlformats.org/officeDocument/2006/relationships/hyperlink" Target="http://ru.wikipedia.org/wiki/&#1056;&#1072;&#1074;&#1085;&#1086;&#1089;&#1090;&#1086;&#1088;&#1086;&#1085;&#1085;&#1080;&#1081;_&#1090;&#1088;&#1077;&#1091;&#1075;&#1086;&#1083;&#1100;&#1085;&#1080;&#1082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3;&#1083;&#1080;&#1085;&#1077;&#1072;&#1088;&#1085;&#1099;&#1077;_&#1090;&#1086;&#1095;&#1082;&#1080;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Загадочный и увлекательный треугольник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Собраться вместе – это начало, остаться вместе – это прогресс, работать вместе – это успе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. Форд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 трижды трудные дела мы трижды соверш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риволинейны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Picture 2" descr="C:\Documents and Settings\Sentry\Рабочий стол\1\10.jpg"/>
          <p:cNvPicPr/>
          <p:nvPr/>
        </p:nvPicPr>
        <p:blipFill>
          <a:blip r:embed="rId1"/>
          <a:stretch/>
        </p:blipFill>
        <p:spPr>
          <a:xfrm>
            <a:off x="3114720" y="3116160"/>
            <a:ext cx="29145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Picture 2" descr="C:\Documents and Settings\Sentry\Рабочий стол\1\5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мечательные дочки-линии и точ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8" name="Picture 2" descr="C:\Documents and Settings\Sentry\Рабочий стол\1\11.jpg"/>
          <p:cNvPicPr/>
          <p:nvPr/>
        </p:nvPicPr>
        <p:blipFill>
          <a:blip r:embed="rId1"/>
          <a:stretch/>
        </p:blipFill>
        <p:spPr>
          <a:xfrm>
            <a:off x="457200" y="3186000"/>
            <a:ext cx="8229600" cy="245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мечательные точк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2" descr="C:\Documents and Settings\Sentry\Рабочий стол\1\12.jpg"/>
          <p:cNvPicPr/>
          <p:nvPr/>
        </p:nvPicPr>
        <p:blipFill>
          <a:blip r:embed="rId1"/>
          <a:stretch/>
        </p:blipFill>
        <p:spPr>
          <a:xfrm>
            <a:off x="457200" y="3578400"/>
            <a:ext cx="8229600" cy="166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усть на сторонах треугольн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ыбраны точки  .  Отрезки  пересекаются в одной точке тогда и только тогда, когда выполняется равенств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C:\Documents and Settings\Sentry\Рабочий стол\1\13.jpg"/>
          <p:cNvPicPr/>
          <p:nvPr/>
        </p:nvPicPr>
        <p:blipFill>
          <a:blip r:embed="rId1"/>
          <a:stretch/>
        </p:blipFill>
        <p:spPr>
          <a:xfrm>
            <a:off x="2743200" y="1143000"/>
            <a:ext cx="35701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105520" y="5410080"/>
            <a:ext cx="21333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орема утвержда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чки пересечения смежных трисектрис углов произвольного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являются вершинам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равностороннего 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Documents and Settings\Sentry\Рабочий стол\1\14.jpg"/>
          <p:cNvPicPr/>
          <p:nvPr/>
        </p:nvPicPr>
        <p:blipFill>
          <a:blip r:embed="rId3"/>
          <a:stretch/>
        </p:blipFill>
        <p:spPr>
          <a:xfrm>
            <a:off x="2895480" y="990720"/>
            <a:ext cx="30844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лежат соответственно на сторонах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реугольника или на их продолжениях, то он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коллинеар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и только тогда, когд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C:\Documents and Settings\Sentry\Рабочий стол\1\15.jpg"/>
          <p:cNvPicPr/>
          <p:nvPr/>
        </p:nvPicPr>
        <p:blipFill>
          <a:blip r:embed="rId2"/>
          <a:stretch/>
        </p:blipFill>
        <p:spPr>
          <a:xfrm>
            <a:off x="2666880" y="1143000"/>
            <a:ext cx="3748320" cy="285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\frac{AB'}{B'C}\cdot\frac{CA'}{A'B}\cdot\frac{BC'}{C'A}=1."/>
          <p:cNvPicPr/>
          <p:nvPr/>
        </p:nvPicPr>
        <p:blipFill>
          <a:blip r:embed="rId3"/>
          <a:stretch/>
        </p:blipFill>
        <p:spPr>
          <a:xfrm>
            <a:off x="4343400" y="5486400"/>
            <a:ext cx="32004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2" descr="C:\Documents and Settings\Sentry\Рабочий стол\1\4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 дворе школы похитили трех друзей. Было проведено тщательное расследование, составлен протокол на 4000 листах, но дело похитили. Учащиеся 7 «г» класса обнаружили в коридоре около двери несколько листов украденного протокола, что позволило нам составить словесный портрет пропавших, и провести собственное расследов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ризнаки равенства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2" descr="C:\Documents and Settings\Sentry\Рабочий стол\1\16.jpg"/>
          <p:cNvPicPr/>
          <p:nvPr/>
        </p:nvPicPr>
        <p:blipFill>
          <a:blip r:embed="rId1"/>
          <a:stretch/>
        </p:blipFill>
        <p:spPr>
          <a:xfrm>
            <a:off x="457200" y="2935440"/>
            <a:ext cx="822960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измерить на местности расстояние между двумя точкам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между которыми нельзя пройти по прямой, выбирают какую-нибудь точку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для которой можно измерить расстояния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и откладывают отрезк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D=A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E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расстояние между точкам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будет равно искомому. Объясните поч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C:\Documents and Settings\Sentry\Рабочий стол\1\Задача.jpg"/>
          <p:cNvPicPr/>
          <p:nvPr/>
        </p:nvPicPr>
        <p:blipFill>
          <a:blip r:embed="rId1"/>
          <a:stretch/>
        </p:blipFill>
        <p:spPr>
          <a:xfrm>
            <a:off x="5410080" y="609480"/>
            <a:ext cx="2365560" cy="17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гипетски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9" name="Picture 2" descr="C:\Documents and Settings\Sentry\Рабочий стол\1\17.jpg"/>
          <p:cNvPicPr/>
          <p:nvPr/>
        </p:nvPicPr>
        <p:blipFill>
          <a:blip r:embed="rId1"/>
          <a:stretch/>
        </p:blipFill>
        <p:spPr>
          <a:xfrm>
            <a:off x="3043080" y="3530520"/>
            <a:ext cx="305784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Picture 2" descr="C:\Documents and Settings\Sentry\Рабочий стол\1\18.jpg"/>
          <p:cNvPicPr/>
          <p:nvPr/>
        </p:nvPicPr>
        <p:blipFill>
          <a:blip r:embed="rId1"/>
          <a:stretch/>
        </p:blipFill>
        <p:spPr>
          <a:xfrm>
            <a:off x="3157560" y="258300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Жесткость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Picture 2" descr="C:\Documents and Settings\Sentry\Рабочий стол\1\19.jpg"/>
          <p:cNvPicPr/>
          <p:nvPr/>
        </p:nvPicPr>
        <p:blipFill>
          <a:blip r:embed="rId1"/>
          <a:stretch/>
        </p:blipFill>
        <p:spPr>
          <a:xfrm>
            <a:off x="2786040" y="2658960"/>
            <a:ext cx="357192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орема Пифаг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C:\Documents and Settings\Sentry\Рабочий стол\1\20.jpg"/>
          <p:cNvPicPr/>
          <p:nvPr/>
        </p:nvPicPr>
        <p:blipFill>
          <a:blip r:embed="rId1"/>
          <a:stretch/>
        </p:blipFill>
        <p:spPr>
          <a:xfrm>
            <a:off x="3143160" y="3016080"/>
            <a:ext cx="28576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 Наполео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2" descr="C:\Documents and Settings\Sentry\Рабочий стол\1\21.jpg"/>
          <p:cNvPicPr/>
          <p:nvPr/>
        </p:nvPicPr>
        <p:blipFill>
          <a:blip r:embed="rId1"/>
          <a:stretch/>
        </p:blipFill>
        <p:spPr>
          <a:xfrm>
            <a:off x="2281320" y="2249640"/>
            <a:ext cx="458136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5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Picture 2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1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Picture 2" descr="C:\Documents and Settings\Sentry\Рабочий стол\1\1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5" name="Picture 2" descr="C:\Documents and Settings\Sentry\Рабочий стол\1\2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едините кружки одним росчерк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3348000" y="3430440"/>
            <a:ext cx="2448000" cy="196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1719360" y="3444840"/>
            <a:ext cx="5705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еложите 4 спички так, чтобы получилось 2 равных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3557520" y="3530520"/>
            <a:ext cx="202896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2995560" y="3587760"/>
            <a:ext cx="3152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5" name="Picture 2" descr="C:\Documents and Settings\Sentry\Рабочий стол\8.jpg"/>
          <p:cNvPicPr/>
          <p:nvPr/>
        </p:nvPicPr>
        <p:blipFill>
          <a:blip r:embed="rId1"/>
          <a:stretch/>
        </p:blipFill>
        <p:spPr>
          <a:xfrm>
            <a:off x="1262160" y="2701800"/>
            <a:ext cx="6619680" cy="34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но треугольник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∆DCB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равнобедренные (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DC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B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ссектрисы углов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C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ть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O=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Y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еравенство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1795320" y="3192480"/>
            <a:ext cx="555336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ые чис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Documents and Settings\Sentry\Рабочий стол\1\9.jpg"/>
          <p:cNvPicPr/>
          <p:nvPr/>
        </p:nvPicPr>
        <p:blipFill>
          <a:blip r:embed="rId1"/>
          <a:stretch/>
        </p:blipFill>
        <p:spPr>
          <a:xfrm>
            <a:off x="533520" y="2819520"/>
            <a:ext cx="804852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треугольник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457200" y="3848040"/>
            <a:ext cx="8229600" cy="112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1-12-31T21:23:53Z</dcterms:modified>
  <cp:revision>19</cp:revision>
  <dc:subject/>
  <dc:title>Загадочный и увлекательный треугольник</dc:title>
</cp:coreProperties>
</file>