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B68-83C0-4F0F-93FB-745C010E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7DC-3599-4065-AD1F-EC85036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164-8033-41A3-8525-1FED4E7F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2D7-3BB0-4540-A20E-3B1715E7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E472-4320-4006-A089-4E3C8C5A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AE1C-14FF-4B31-87DC-E039DBD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BF97-8498-4B92-9AAB-B95C86A3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6890-416A-401E-A2A4-EBC1331E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9291-B6E6-4E0E-AAD1-091A02AB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A35D-E050-4EF5-8D8A-778997F0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66B9-536D-45D6-9C3F-35B0CDA6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A26-3104-41A8-87A5-1589ED0D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E088-6A08-40FB-8C22-F0A0732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B25C-91DB-460F-A2FA-A831CDE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46DF-97D0-4049-8B79-C521F4D1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333-C7D1-436A-983A-DC3BE745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5095-9CDF-4897-B348-527D97EF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6375B-A115-4FAA-95AB-3383BB70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AC458-9086-4297-99E2-5A41A06D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96CEB-7ABF-4308-919C-C041856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013BA-7A22-41C6-8C2B-12E5093D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3E578-AE3C-44A6-B5A3-BEE7DCCD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B53-0D4D-49F7-B17D-FD0BAF12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F6D99-CABF-4461-9249-4DFF38C9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77DAD-5A85-4A0A-A828-E24A3F03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94103-1746-4C7B-B18C-745DA3B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61728-2A19-44C0-A762-D0442F5C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2CA19-F801-41FF-B446-2866792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1AEDD-C6A4-4800-80D0-09C0631C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AF511-6276-4BC2-8455-7659DF81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0F12-52DA-4682-B230-D34F19A8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2626-039C-45F1-9B3B-3ECD072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87FE-7EC3-4DFB-ADFE-E07FF26A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026-B9AA-4F82-948E-609409E2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1E16-60A6-4A6F-A42E-C2B195F6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0D33-1AE4-433E-9967-129BB0FC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B36A-EF88-4E97-A01A-ED1BF7A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2917-D657-4422-AC9D-772D7408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0BC9-3042-4D0E-90EC-2F01AA4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F27E-D087-4414-9CBB-C1BFC721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9CDD-E6D2-4276-B25B-42CA5648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3A23-E73C-4E66-83F1-1729D2F3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CA98E-C502-4E18-AD8D-D4B2845A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16B-99C3-479C-BD78-4EC1FC24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802-3692-4D70-847D-6059FC31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588-B2C9-484A-B68D-D80CEAE7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C6E-BAB0-4A1C-AFEA-0E3181A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E9E-7863-4056-8661-9282B0A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D538-E72D-4A31-B8C3-F921539FD54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B55F-1AE2-4F48-BAD3-5D00DF6476A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B99D-F563-4B7A-A900-66DB73E7A7B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118E-6724-47DA-8FE6-07628DB27D2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1;&#1075;&#1086;&#1083;&#1100;&#1085;&#1080;&#1082;" TargetMode="External"/><Relationship Id="rId2" Type="http://schemas.openxmlformats.org/officeDocument/2006/relationships/hyperlink" Target="http://ru.wikipedia.org/wiki/&#1056;&#1072;&#1074;&#1085;&#1086;&#1089;&#1090;&#1086;&#1088;&#1086;&#1085;&#1085;&#1080;&#1081;_&#1090;&#1088;&#1077;&#1091;&#1075;&#1086;&#1083;&#1100;&#1085;&#1080;&#1082;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3;&#1083;&#1080;&#1085;&#1077;&#1072;&#1088;&#1085;&#1099;&#1077;_&#1090;&#1086;&#1095;&#1082;&#1080;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Загадочный и увлекательный треугольник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Собраться вместе – это начало, остаться вместе – это прогресс, работать вместе – это успе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Г. Форд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И трижды трудные дела мы трижды соверши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риволинейный треугольн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Picture 2" descr="C:\Documents and Settings\Sentry\Рабочий стол\1\10.jpg"/>
          <p:cNvPicPr/>
          <p:nvPr/>
        </p:nvPicPr>
        <p:blipFill>
          <a:blip r:embed="rId1"/>
          <a:stretch/>
        </p:blipFill>
        <p:spPr>
          <a:xfrm>
            <a:off x="3114720" y="3116160"/>
            <a:ext cx="29145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Picture 2" descr="C:\Documents and Settings\Sentry\Рабочий стол\1\5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мечательные дочки-линии и точк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8" name="Picture 2" descr="C:\Documents and Settings\Sentry\Рабочий стол\1\11.jpg"/>
          <p:cNvPicPr/>
          <p:nvPr/>
        </p:nvPicPr>
        <p:blipFill>
          <a:blip r:embed="rId1"/>
          <a:stretch/>
        </p:blipFill>
        <p:spPr>
          <a:xfrm>
            <a:off x="457200" y="3186000"/>
            <a:ext cx="8229600" cy="245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мечательные точк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Picture 2" descr="C:\Documents and Settings\Sentry\Рабочий стол\1\12.jpg"/>
          <p:cNvPicPr/>
          <p:nvPr/>
        </p:nvPicPr>
        <p:blipFill>
          <a:blip r:embed="rId1"/>
          <a:stretch/>
        </p:blipFill>
        <p:spPr>
          <a:xfrm>
            <a:off x="457200" y="3578400"/>
            <a:ext cx="8229600" cy="1666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усть на сторонах треугольн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ыбраны точки  .  Отрезки  пересекаются в одной точке тогда и только тогда, когда выполняется равенств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C:\Documents and Settings\Sentry\Рабочий стол\1\13.jpg"/>
          <p:cNvPicPr/>
          <p:nvPr/>
        </p:nvPicPr>
        <p:blipFill>
          <a:blip r:embed="rId1"/>
          <a:stretch/>
        </p:blipFill>
        <p:spPr>
          <a:xfrm>
            <a:off x="2743200" y="1143000"/>
            <a:ext cx="35701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105520" y="5410080"/>
            <a:ext cx="213336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орема утвержда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чки пересечения смежных трисектрис углов произвольного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тре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являются вершинами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равностороннего тре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C:\Documents and Settings\Sentry\Рабочий стол\1\14.jpg"/>
          <p:cNvPicPr/>
          <p:nvPr/>
        </p:nvPicPr>
        <p:blipFill>
          <a:blip r:embed="rId3"/>
          <a:stretch/>
        </p:blipFill>
        <p:spPr>
          <a:xfrm>
            <a:off x="2895480" y="990720"/>
            <a:ext cx="30844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,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 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 лежат соответственно на сторонах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CA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реугольника или на их продолжениях, то они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коллинеарн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огда и только тогда, когд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C:\Documents and Settings\Sentry\Рабочий стол\1\15.jpg"/>
          <p:cNvPicPr/>
          <p:nvPr/>
        </p:nvPicPr>
        <p:blipFill>
          <a:blip r:embed="rId2"/>
          <a:stretch/>
        </p:blipFill>
        <p:spPr>
          <a:xfrm>
            <a:off x="2666880" y="1143000"/>
            <a:ext cx="3748320" cy="285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\frac{AB'}{B'C}\cdot\frac{CA'}{A'B}\cdot\frac{BC'}{C'A}=1."/>
          <p:cNvPicPr/>
          <p:nvPr/>
        </p:nvPicPr>
        <p:blipFill>
          <a:blip r:embed="rId3"/>
          <a:stretch/>
        </p:blipFill>
        <p:spPr>
          <a:xfrm>
            <a:off x="4343400" y="5486400"/>
            <a:ext cx="320040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Picture 2" descr="C:\Documents and Settings\Sentry\Рабочий стол\1\4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о дворе школы похитили трех друзей. Было проведено тщательное расследование, составлен протокол на 4000 листах, но дело похитили. Учащиеся 7 «г» класса обнаружили в коридоре около двери несколько листов украденного протокола, что позволило нам составить словесный портрет пропавших, и провести собственное расследов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ризнаки равенства треугольни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Picture 2" descr="C:\Documents and Settings\Sentry\Рабочий стол\1\16.jpg"/>
          <p:cNvPicPr/>
          <p:nvPr/>
        </p:nvPicPr>
        <p:blipFill>
          <a:blip r:embed="rId1"/>
          <a:stretch/>
        </p:blipFill>
        <p:spPr>
          <a:xfrm>
            <a:off x="457200" y="2935440"/>
            <a:ext cx="822960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гад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Picture 2" descr="C:\Documents and Settings\Sentry\Рабочий стол\1.jpg"/>
          <p:cNvPicPr/>
          <p:nvPr/>
        </p:nvPicPr>
        <p:blipFill>
          <a:blip r:embed="rId1"/>
          <a:stretch/>
        </p:blipFill>
        <p:spPr>
          <a:xfrm>
            <a:off x="2004840" y="3268800"/>
            <a:ext cx="51343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бы измерить на местности расстояние между двумя точкам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между которыми нельзя пройти по прямой, выбирают какую-нибудь точку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для которой можно измерить расстояния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и откладывают отрезк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D=A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E=B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огда расстояние между точкам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будет равно искомому. Объясните поче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C:\Documents and Settings\Sentry\Рабочий стол\1\Задача.jpg"/>
          <p:cNvPicPr/>
          <p:nvPr/>
        </p:nvPicPr>
        <p:blipFill>
          <a:blip r:embed="rId1"/>
          <a:stretch/>
        </p:blipFill>
        <p:spPr>
          <a:xfrm>
            <a:off x="5410080" y="609480"/>
            <a:ext cx="2365560" cy="174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Египетский треугольн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9" name="Picture 2" descr="C:\Documents and Settings\Sentry\Рабочий стол\1\17.jpg"/>
          <p:cNvPicPr/>
          <p:nvPr/>
        </p:nvPicPr>
        <p:blipFill>
          <a:blip r:embed="rId1"/>
          <a:stretch/>
        </p:blipFill>
        <p:spPr>
          <a:xfrm>
            <a:off x="3043080" y="3530520"/>
            <a:ext cx="3057840" cy="176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Picture 2" descr="C:\Documents and Settings\Sentry\Рабочий стол\1\18.jpg"/>
          <p:cNvPicPr/>
          <p:nvPr/>
        </p:nvPicPr>
        <p:blipFill>
          <a:blip r:embed="rId1"/>
          <a:stretch/>
        </p:blipFill>
        <p:spPr>
          <a:xfrm>
            <a:off x="3157560" y="258300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Жесткость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3" name="Picture 2" descr="C:\Documents and Settings\Sentry\Рабочий стол\1\19.jpg"/>
          <p:cNvPicPr/>
          <p:nvPr/>
        </p:nvPicPr>
        <p:blipFill>
          <a:blip r:embed="rId1"/>
          <a:stretch/>
        </p:blipFill>
        <p:spPr>
          <a:xfrm>
            <a:off x="2786040" y="2658960"/>
            <a:ext cx="357192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орема Пифаго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5" name="Picture 2" descr="C:\Documents and Settings\Sentry\Рабочий стол\1\20.jpg"/>
          <p:cNvPicPr/>
          <p:nvPr/>
        </p:nvPicPr>
        <p:blipFill>
          <a:blip r:embed="rId1"/>
          <a:stretch/>
        </p:blipFill>
        <p:spPr>
          <a:xfrm>
            <a:off x="3143160" y="3016080"/>
            <a:ext cx="2857680" cy="27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 Наполеон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7" name="Picture 2" descr="C:\Documents and Settings\Sentry\Рабочий стол\1\21.jpg"/>
          <p:cNvPicPr/>
          <p:nvPr/>
        </p:nvPicPr>
        <p:blipFill>
          <a:blip r:embed="rId1"/>
          <a:stretch/>
        </p:blipFill>
        <p:spPr>
          <a:xfrm>
            <a:off x="2281320" y="2249640"/>
            <a:ext cx="458136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3" name="Picture 2" descr="C:\Documents and Settings\Sentry\Рабочий стол\5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5" name="Picture 2" descr="C:\Documents and Settings\Sentry\Рабочий стол\4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гад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2" descr="C:\Documents and Settings\Sentry\Рабочий стол\2.jpg"/>
          <p:cNvPicPr/>
          <p:nvPr/>
        </p:nvPicPr>
        <p:blipFill>
          <a:blip r:embed="rId1"/>
          <a:stretch/>
        </p:blipFill>
        <p:spPr>
          <a:xfrm>
            <a:off x="2004840" y="3268800"/>
            <a:ext cx="513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7" name="Picture 2" descr="C:\Documents and Settings\Sentry\Рабочий стол\3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Picture 2" descr="C:\Documents and Settings\Sentry\Рабочий стол\2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1" name="Picture 2" descr="C:\Documents and Settings\Sentry\Рабочий стол\1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3" name="Picture 2" descr="C:\Documents and Settings\Sentry\Рабочий стол\1\1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5" name="Picture 2" descr="C:\Documents and Settings\Sentry\Рабочий стол\1\2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оедините кружки одним росчерк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Picture 2" descr="C:\Documents and Settings\Sentry\Рабочий стол\4.jpg"/>
          <p:cNvPicPr/>
          <p:nvPr/>
        </p:nvPicPr>
        <p:blipFill>
          <a:blip r:embed="rId1"/>
          <a:stretch/>
        </p:blipFill>
        <p:spPr>
          <a:xfrm>
            <a:off x="3348000" y="3430440"/>
            <a:ext cx="2448000" cy="1962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" name="Picture 2" descr="C:\Documents and Settings\Sentry\Рабочий стол\5.jpg"/>
          <p:cNvPicPr/>
          <p:nvPr/>
        </p:nvPicPr>
        <p:blipFill>
          <a:blip r:embed="rId1"/>
          <a:stretch/>
        </p:blipFill>
        <p:spPr>
          <a:xfrm>
            <a:off x="1719360" y="3444840"/>
            <a:ext cx="5705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еложите 4 спички так, чтобы получилось 2 равных треугольни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3557520" y="3530520"/>
            <a:ext cx="2028960" cy="1762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2" descr="C:\Documents and Settings\Sentry\Рабочий стол\7.jpg"/>
          <p:cNvPicPr/>
          <p:nvPr/>
        </p:nvPicPr>
        <p:blipFill>
          <a:blip r:embed="rId1"/>
          <a:stretch/>
        </p:blipFill>
        <p:spPr>
          <a:xfrm>
            <a:off x="2995560" y="3587760"/>
            <a:ext cx="31528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5" name="Picture 2" descr="C:\Documents and Settings\Sentry\Рабочий стол\8.jpg"/>
          <p:cNvPicPr/>
          <p:nvPr/>
        </p:nvPicPr>
        <p:blipFill>
          <a:blip r:embed="rId1"/>
          <a:stretch/>
        </p:blipFill>
        <p:spPr>
          <a:xfrm>
            <a:off x="1262160" y="2701800"/>
            <a:ext cx="6619680" cy="341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но треугольник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DC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∆DCB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равнобедренные (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C=DC=B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C=B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ссектрисы углов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C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казать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XO=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Y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еравенство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icture 2" descr="C:\Documents and Settings\Sentry\Рабочий стол\7.jpg"/>
          <p:cNvPicPr/>
          <p:nvPr/>
        </p:nvPicPr>
        <p:blipFill>
          <a:blip r:embed="rId1"/>
          <a:stretch/>
        </p:blipFill>
        <p:spPr>
          <a:xfrm>
            <a:off x="1795320" y="3192480"/>
            <a:ext cx="555336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мма углов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Picture 2" descr="C:\Documents and Settings\Sentry\Рабочий стол\1\8.jpg"/>
          <p:cNvPicPr/>
          <p:nvPr/>
        </p:nvPicPr>
        <p:blipFill>
          <a:blip r:embed="rId1"/>
          <a:stretch/>
        </p:blipFill>
        <p:spPr>
          <a:xfrm>
            <a:off x="2295360" y="2744640"/>
            <a:ext cx="4553280" cy="3333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мма углов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C:\Documents and Settings\Sentry\Рабочий стол\1\8.jpg"/>
          <p:cNvPicPr/>
          <p:nvPr/>
        </p:nvPicPr>
        <p:blipFill>
          <a:blip r:embed="rId1"/>
          <a:stretch/>
        </p:blipFill>
        <p:spPr>
          <a:xfrm>
            <a:off x="2295360" y="2744640"/>
            <a:ext cx="45532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ые числ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C:\Documents and Settings\Sentry\Рабочий стол\1\9.jpg"/>
          <p:cNvPicPr/>
          <p:nvPr/>
        </p:nvPicPr>
        <p:blipFill>
          <a:blip r:embed="rId1"/>
          <a:stretch/>
        </p:blipFill>
        <p:spPr>
          <a:xfrm>
            <a:off x="533520" y="2819520"/>
            <a:ext cx="8048520" cy="240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иды треугольник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icture 3" descr="C:\Documents and Settings\Sentry\Рабочий стол\3.jpg"/>
          <p:cNvPicPr/>
          <p:nvPr/>
        </p:nvPicPr>
        <p:blipFill>
          <a:blip r:embed="rId1"/>
          <a:stretch/>
        </p:blipFill>
        <p:spPr>
          <a:xfrm>
            <a:off x="457200" y="3848040"/>
            <a:ext cx="8229600" cy="112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01-12-31T21:23:53Z</dcterms:modified>
  <cp:revision>19</cp:revision>
  <dc:subject/>
  <dc:title>Загадочный и увлекательный треугольник</dc:title>
</cp:coreProperties>
</file>