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56E-C2AF-443C-BDA8-9B7F4E80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46B-25CF-421C-AD5A-F0E52479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A5D-BD0C-4C18-BEC8-6DC7614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986-24D4-4D2E-A554-83CD670B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A68-948C-4CBD-99AE-F357969F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AE8-EDDF-497F-97A7-B17589C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869-B002-4EC2-8A0D-9425D6A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781-7C72-4E70-950C-07C1D77B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1688-654E-44D9-9F07-60F749A2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973-E15F-40BC-A258-6FCF722F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00B-F133-445B-9BAD-B0DF46F8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8B8B-CF8F-44AD-B1B7-15BD64FE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E58F-D545-4901-AF00-6BF458F157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640" y="356760"/>
            <a:ext cx="58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000066"/>
                </a:solidFill>
                <a:uFillTx/>
                <a:latin typeface="Calibri"/>
              </a:rPr>
              <a:t>Цель работы: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48000" y="1628280"/>
            <a:ext cx="579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cc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Выявить действие биогенных и не биогенных тяжелых металлов на состояние растительной клетк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800" spc="-1" strike="noStrike">
                <a:solidFill>
                  <a:srgbClr val="000066"/>
                </a:solidFill>
                <a:latin typeface="Calibri"/>
              </a:rPr>
              <a:t>Задачи исследовани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зучить данные мониторинга загрязнения почв            г. Москвы солями тяжелых металлов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зучить данные литературных источников о влиянии на растения и организм человека солей тяжелых металлов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Исследовать характер воздействия тяжелых металлов  на состояние растительной клетки на примере клеток кожицы лука и кожицы листа традесканции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Сделать вывод о влиянии солей тяжелых металлов на растительную клетк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66"/>
                </a:solidFill>
                <a:latin typeface="Calibri"/>
              </a:rPr>
              <a:t>Выявить меры борьбы с загрязнениями почв г. Москвы солями тяжелых металлов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8101080" cy="31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20062"/>
                </a:solidFill>
                <a:latin typeface="Calibri"/>
              </a:rPr>
              <a:t>ЗАГРЯЗНЕНИЕ ПОЧВЕННОГО ПОКРОВА г. МОСКВЫ. ВОЗДЕЙСТВИЕ ТЯЖЕЛЫХ МЕТАЛЛОВ НА СОСТОЯНИЕ КЛЕТОК РАСТЕНИ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56000" y="5084280"/>
            <a:ext cx="64008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Козлова Елизавета Максимовна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Чирина Анастасия Сергеевна 10 «А»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Журавлева Марина Викторовна, учитель биологи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40049"/>
                </a:solidFill>
                <a:latin typeface="Calibri"/>
              </a:rPr>
              <a:t>ГОУ СОШ № 37, Западный Округ, Москв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про.jpg"/>
          <p:cNvPicPr/>
          <p:nvPr/>
        </p:nvPicPr>
        <p:blipFill>
          <a:blip r:embed="rId2"/>
          <a:stretch/>
        </p:blipFill>
        <p:spPr>
          <a:xfrm>
            <a:off x="4859280" y="1052640"/>
            <a:ext cx="4284720" cy="5805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проектная работа\ecologia.jpg"/>
          <p:cNvPicPr/>
          <p:nvPr/>
        </p:nvPicPr>
        <p:blipFill>
          <a:blip r:embed="rId3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проектная работа\sum.jpg"/>
          <p:cNvPicPr/>
          <p:nvPr/>
        </p:nvPicPr>
        <p:blipFill>
          <a:blip r:embed="rId4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7200" y="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Загрязнение почвен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окрова Моск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ИССЛЕДОВАНИЕ ВОЗДЕЙСТВИЯ СОЛЕЙ ТЯЖЕЛЫХ МЕТАЛЛОВ НА СОСТОЯНИЕ КЛЕТОК РАСТЕНИЙ</a:t>
            </a: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Содержимое 5" descr="clip_image002.jpg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12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7559640" y="5229360"/>
            <a:ext cx="158436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H</a:t>
            </a:r>
            <a:r>
              <a:rPr b="1" lang="en-US" sz="48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Рисунок 3" descr="clip_image002.jpg"/>
          <p:cNvPicPr/>
          <p:nvPr/>
        </p:nvPicPr>
        <p:blipFill>
          <a:blip r:embed="rId3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008760" y="5732640"/>
            <a:ext cx="3135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libri"/>
              </a:rPr>
              <a:t>     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Pb(NO</a:t>
            </a:r>
            <a:r>
              <a:rPr b="1" lang="en-US" sz="4400" spc="-1" strike="noStrike" baseline="-25000">
                <a:solidFill>
                  <a:srgbClr val="0d0d0d"/>
                </a:solidFill>
                <a:latin typeface="Calibri"/>
              </a:rPr>
              <a:t>3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)</a:t>
            </a:r>
            <a:r>
              <a:rPr b="1" lang="en-US" sz="4400" spc="-1" strike="noStrike" baseline="-25000">
                <a:solidFill>
                  <a:srgbClr val="0d0d0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FeCl3_5"/>
          <p:cNvPicPr/>
          <p:nvPr/>
        </p:nvPicPr>
        <p:blipFill>
          <a:blip r:embed="rId4"/>
          <a:srcRect l="0" t="0" r="0" b="1476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7497720" y="5805360"/>
            <a:ext cx="1646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uCl2_2"/>
          <p:cNvPicPr/>
          <p:nvPr/>
        </p:nvPicPr>
        <p:blipFill>
          <a:blip r:embed="rId5"/>
          <a:srcRect l="8858" t="0" r="0" b="20669"/>
          <a:stretch/>
        </p:blipFill>
        <p:spPr>
          <a:xfrm>
            <a:off x="0" y="1052640"/>
            <a:ext cx="9144000" cy="57830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7473240" y="5805360"/>
            <a:ext cx="140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CH3COOCd"/>
          <p:cNvPicPr/>
          <p:nvPr/>
        </p:nvPicPr>
        <p:blipFill>
          <a:blip r:embed="rId6"/>
          <a:srcRect l="0" t="0" r="0" b="1476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5683320" y="5877000"/>
            <a:ext cx="3460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O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CoCl2_2"/>
          <p:cNvPicPr/>
          <p:nvPr/>
        </p:nvPicPr>
        <p:blipFill>
          <a:blip r:embed="rId7"/>
          <a:srcRect l="0" t="0" r="0" b="15748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7"/>
          <p:cNvSpPr/>
          <p:nvPr/>
        </p:nvSpPr>
        <p:spPr>
          <a:xfrm>
            <a:off x="7626240" y="6086520"/>
            <a:ext cx="1517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Cl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oCl2"/>
          <p:cNvPicPr/>
          <p:nvPr/>
        </p:nvPicPr>
        <p:blipFill>
          <a:blip r:embed="rId2"/>
          <a:srcRect l="0" t="0" r="0" b="14764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7671960" y="5877000"/>
            <a:ext cx="1447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Cl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18900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ИССЛЕДОВАНИЕ ВОЗДЕЙСТВИЯ СОЛЕЙ ТЯЖЕЛЫХ МЕТАЛЛОВ НА СОСТОЯНИЕ КЛЕТОК  ЭПИДЕРМИСА ЛИСТА ТРАДЕСКА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CuCl2-1"/>
          <p:cNvPicPr/>
          <p:nvPr/>
        </p:nvPicPr>
        <p:blipFill>
          <a:blip r:embed="rId3"/>
          <a:srcRect l="0" t="0" r="0" b="14764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7750440" y="5805360"/>
            <a:ext cx="1374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8:04:51Z</dcterms:created>
  <dc:creator>stud</dc:creator>
  <dc:description/>
  <dc:language>en-US</dc:language>
  <cp:lastModifiedBy>Андрей</cp:lastModifiedBy>
  <dcterms:modified xsi:type="dcterms:W3CDTF">2013-11-26T21:51:09Z</dcterms:modified>
  <cp:revision>51</cp:revision>
  <dc:subject/>
  <dc:title>ЗАГРЯЗНЕНИЕ ПОЧВЕННОГО ПОКРОВА г. МОСКВЫ. ВОЗДЕЙСТВИЕ ТЯЖЕЛЫХ МЕТАЛЛОВ НА СОСТОЯНИЕ КЛЕТОК РАСТЕНИЙ</dc:title>
</cp:coreProperties>
</file>