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D5B8-BC83-4F77-8B82-99E0AB99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EA5-3DD3-428E-B1DF-A64B2C06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760-5D89-4A3D-9A0A-D829A1C8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458-1E17-4787-9A01-9B1489A9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8E9-1C8F-428B-A678-C0DBE80F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D7D-B2FE-4819-83D3-B49B8B25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E06-A7C1-4A94-99F3-48ABA95F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805-74D8-4487-BF76-19FE60AD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4AE-7EF3-41FF-82EF-4E2E26EC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20D-E209-487C-B88B-B82DA53C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19D-EDAA-4036-8FEA-A13177FF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C13-D8FA-47CF-AF29-86DF926F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D52A-86F2-4EE3-8778-1CBBDDBF251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640" y="356760"/>
            <a:ext cx="58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 u="sng">
                <a:solidFill>
                  <a:srgbClr val="000066"/>
                </a:solidFill>
                <a:uFillTx/>
                <a:latin typeface="Calibri"/>
              </a:rPr>
              <a:t>Цель работы: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48000" y="1628280"/>
            <a:ext cx="579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Выявить действие биогенных и не биогенных тяжелых металлов на состояние растительной клетки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800" spc="-1" strike="noStrike">
                <a:solidFill>
                  <a:srgbClr val="000066"/>
                </a:solidFill>
                <a:latin typeface="Calibri"/>
              </a:rPr>
              <a:t>Задачи исследования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Calibri"/>
              </a:rPr>
              <a:t>Изучить данные мониторинга загрязнения почв            г. Москвы солями тяжелых металлов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Calibri"/>
              </a:rPr>
              <a:t>Изучить данные литературных источников о влиянии на растения и организм человека солей тяжелых металлов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Calibri"/>
              </a:rPr>
              <a:t>Исследовать характер воздействия тяжелых металлов  на состояние растительной клетки на примере клеток кожицы лука и кожицы листа традесканции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66"/>
                </a:solidFill>
                <a:latin typeface="Calibri"/>
              </a:rPr>
              <a:t>Сделать вывод о влиянии солей тяжелых металлов на растительную клетку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Calibri"/>
              </a:rPr>
              <a:t>Выявить меры борьбы с загрязнениями почв г. Москвы солями тяжелых металлов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600" y="642960"/>
            <a:ext cx="8101080" cy="31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20062"/>
                </a:solidFill>
                <a:latin typeface="Calibri"/>
              </a:rPr>
              <a:t>ЗАГРЯЗНЕНИЕ ПОЧВЕННОГО ПОКРОВА г. МОСКВЫ. ВОЗДЕЙСТВИЕ ТЯЖЕЛЫХ МЕТАЛЛОВ НА СОСТОЯНИЕ КЛЕТОК РАСТЕНИЙ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56000" y="5084280"/>
            <a:ext cx="64008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40049"/>
                </a:solidFill>
                <a:latin typeface="Calibri"/>
              </a:rPr>
              <a:t>Козлова Елизавета Максимовна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40049"/>
                </a:solidFill>
                <a:latin typeface="Calibri"/>
              </a:rPr>
              <a:t>Чирина Анастасия Сергеевна 10 «А» класс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40049"/>
                </a:solidFill>
                <a:latin typeface="Calibri"/>
              </a:rPr>
              <a:t>Журавлева Марина Викторовна, учитель биологи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40049"/>
                </a:solidFill>
                <a:latin typeface="Calibri"/>
              </a:rPr>
              <a:t>ГОУ СОШ № 37, Западный Округ, Москв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4" descr="про.jpg"/>
          <p:cNvPicPr/>
          <p:nvPr/>
        </p:nvPicPr>
        <p:blipFill>
          <a:blip r:embed="rId2"/>
          <a:stretch/>
        </p:blipFill>
        <p:spPr>
          <a:xfrm>
            <a:off x="4859280" y="1052640"/>
            <a:ext cx="4284720" cy="5805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E:\проектная работа\ecologia.jpg"/>
          <p:cNvPicPr/>
          <p:nvPr/>
        </p:nvPicPr>
        <p:blipFill>
          <a:blip r:embed="rId3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E:\проектная работа\sum.jpg"/>
          <p:cNvPicPr/>
          <p:nvPr/>
        </p:nvPicPr>
        <p:blipFill>
          <a:blip r:embed="rId4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7200" y="0"/>
            <a:ext cx="540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Загрязнение почвен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покрова Моск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2800" spc="-1" strike="noStrike">
                <a:solidFill>
                  <a:srgbClr val="000066"/>
                </a:solidFill>
                <a:latin typeface="Calibri"/>
              </a:rPr>
              <a:t>ИССЛЕДОВАНИЕ ВОЗДЕЙСТВИЯ СОЛЕЙ ТЯЖЕЛЫХ МЕТАЛЛОВ НА СОСТОЯНИЕ КЛЕТОК РАСТЕНИЙ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Содержимое 5" descr="clip_image002.jpg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12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7559640" y="5229360"/>
            <a:ext cx="158436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4800" spc="-1" strike="noStrike">
                <a:solidFill>
                  <a:srgbClr val="0d0d0d"/>
                </a:solidFill>
                <a:latin typeface="Calibri"/>
              </a:rPr>
              <a:t>H</a:t>
            </a:r>
            <a:r>
              <a:rPr b="1" lang="en-US" sz="4800" spc="-1" strike="noStrike" baseline="-25000">
                <a:solidFill>
                  <a:srgbClr val="0d0d0d"/>
                </a:solidFill>
                <a:latin typeface="Calibri"/>
              </a:rPr>
              <a:t>2</a:t>
            </a:r>
            <a:r>
              <a:rPr b="1" lang="en-US" sz="4800" spc="-1" strike="noStrike">
                <a:solidFill>
                  <a:srgbClr val="0d0d0d"/>
                </a:solidFill>
                <a:latin typeface="Calibri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Рисунок 3" descr="clip_image002.jpg"/>
          <p:cNvPicPr/>
          <p:nvPr/>
        </p:nvPicPr>
        <p:blipFill>
          <a:blip r:embed="rId3"/>
          <a:stretch/>
        </p:blipFill>
        <p:spPr>
          <a:xfrm>
            <a:off x="0" y="1063800"/>
            <a:ext cx="9144000" cy="5794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008760" y="5732640"/>
            <a:ext cx="3135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alibri"/>
              </a:rPr>
              <a:t>     </a:t>
            </a: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Pb(NO</a:t>
            </a:r>
            <a:r>
              <a:rPr b="1" lang="en-US" sz="4400" spc="-1" strike="noStrike" baseline="-25000">
                <a:solidFill>
                  <a:srgbClr val="0d0d0d"/>
                </a:solidFill>
                <a:latin typeface="Calibri"/>
              </a:rPr>
              <a:t>3</a:t>
            </a: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)</a:t>
            </a:r>
            <a:r>
              <a:rPr b="1" lang="en-US" sz="4400" spc="-1" strike="noStrike" baseline="-25000">
                <a:solidFill>
                  <a:srgbClr val="0d0d0d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FeCl3_5"/>
          <p:cNvPicPr/>
          <p:nvPr/>
        </p:nvPicPr>
        <p:blipFill>
          <a:blip r:embed="rId4"/>
          <a:srcRect l="0" t="0" r="0" b="14764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7497720" y="5805360"/>
            <a:ext cx="1646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CuCl2_2"/>
          <p:cNvPicPr/>
          <p:nvPr/>
        </p:nvPicPr>
        <p:blipFill>
          <a:blip r:embed="rId5"/>
          <a:srcRect l="8858" t="0" r="0" b="20669"/>
          <a:stretch/>
        </p:blipFill>
        <p:spPr>
          <a:xfrm>
            <a:off x="0" y="1052640"/>
            <a:ext cx="9144000" cy="57830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7473240" y="5805360"/>
            <a:ext cx="1404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CH3COOCd"/>
          <p:cNvPicPr/>
          <p:nvPr/>
        </p:nvPicPr>
        <p:blipFill>
          <a:blip r:embed="rId6"/>
          <a:srcRect l="0" t="0" r="0" b="14764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5683320" y="5877000"/>
            <a:ext cx="3460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O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CoCl2_2"/>
          <p:cNvPicPr/>
          <p:nvPr/>
        </p:nvPicPr>
        <p:blipFill>
          <a:blip r:embed="rId7"/>
          <a:srcRect l="0" t="0" r="0" b="15748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7"/>
          <p:cNvSpPr/>
          <p:nvPr/>
        </p:nvSpPr>
        <p:spPr>
          <a:xfrm>
            <a:off x="7626240" y="6086520"/>
            <a:ext cx="1517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Cl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oCl2"/>
          <p:cNvPicPr/>
          <p:nvPr/>
        </p:nvPicPr>
        <p:blipFill>
          <a:blip r:embed="rId2"/>
          <a:srcRect l="0" t="0" r="0" b="14764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7671960" y="5877000"/>
            <a:ext cx="14472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Cl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0" y="1890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ИССЛЕДОВАНИЕ ВОЗДЕЙСТВИЯ СОЛЕЙ ТЯЖЕЛЫХ МЕТАЛЛОВ НА СОСТОЯНИЕ КЛЕТОК  ЭПИДЕРМИСА ЛИСТА ТРАДЕСКА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CuCl2-1"/>
          <p:cNvPicPr/>
          <p:nvPr/>
        </p:nvPicPr>
        <p:blipFill>
          <a:blip r:embed="rId3"/>
          <a:srcRect l="0" t="0" r="0" b="14764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7750440" y="5805360"/>
            <a:ext cx="1374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8:04:51Z</dcterms:created>
  <dc:creator>stud</dc:creator>
  <dc:description/>
  <dc:language>en-US</dc:language>
  <cp:lastModifiedBy>Андрей</cp:lastModifiedBy>
  <dcterms:modified xsi:type="dcterms:W3CDTF">2013-11-26T21:51:09Z</dcterms:modified>
  <cp:revision>51</cp:revision>
  <dc:subject/>
  <dc:title>ЗАГРЯЗНЕНИЕ ПОЧВЕННОГО ПОКРОВА г. МОСКВЫ. ВОЗДЕЙСТВИЕ ТЯЖЕЛЫХ МЕТАЛЛОВ НА СОСТОЯНИЕ КЛЕТОК РАСТЕНИЙ</dc:title>
</cp:coreProperties>
</file>