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5A06-A79B-404D-9369-B8F77C7CF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A3B7-701A-482E-ABBB-EE17E0CC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A17E-3C36-4D61-8956-302F5E127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B82C-B2FD-4281-BF43-C60B03A16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B61F-098F-4137-B2BB-588DAB46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73B7-1BD3-4648-8565-0DE605B8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29F4-198E-4873-ABC0-5A1066E4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62CD-7CCA-4F2A-9659-06F506DA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0D40-79C7-4891-A471-F100F022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6B9C-960D-472A-B99F-4C06AC02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C767-EAF0-41E9-B985-CCD24F10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04F0-C520-4B3F-827C-6BA7EFC2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305A-F2E4-45D8-9ADF-86933F3D8F5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5400" spc="-1" strike="noStrike" u="sng">
                <a:solidFill>
                  <a:srgbClr val="000066"/>
                </a:solidFill>
                <a:uFillTx/>
                <a:latin typeface="Calibri"/>
              </a:rPr>
              <a:t>Результаты</a:t>
            </a:r>
            <a:r>
              <a:rPr b="1" i="1" lang="ru-RU" sz="54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i="1" lang="ru-RU" sz="5400" spc="-1" strike="noStrike" u="sng">
                <a:solidFill>
                  <a:srgbClr val="000066"/>
                </a:solidFill>
                <a:uFillTx/>
                <a:latin typeface="Calibri"/>
              </a:rPr>
              <a:t>исследования</a:t>
            </a:r>
            <a:br>
              <a:rPr sz="4000"/>
            </a:b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68360" y="191628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Calibri"/>
              </a:rPr>
              <a:t>При продолжающемся плазмолизе длительное время, клетка погибает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0066"/>
                </a:solidFill>
                <a:latin typeface="Calibri"/>
              </a:rPr>
              <a:t>При добавлении солей тяжелых металлов в большинстве случаев происходило нарушение движения протоплазмы, что также приводит к нарушению обменных процессов в клетке, вследствие нарушения перераспределения продуктов обмена веществ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Calibri"/>
              </a:rPr>
              <a:t>Соли тяжелых металлов также влияют на пигментацию клетки, например в клетке лука, в растворе свинца. Это говорит о том, что вероятнее всего нарушаются хромопласты (пигменты, отвечающие за цветную окраску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00066"/>
                </a:solidFill>
                <a:uFillTx/>
                <a:latin typeface="Calibri"/>
              </a:rPr>
              <a:t>Заключение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Calibri"/>
              </a:rPr>
              <a:t>Изучив данные мониторинга загрязнения почв тяжелыми металлами, мы пришли к выводу о серьёзном загрязнении почвы. Вместе с водой и другими веществами почвы тяжелые металлы попадают в клетки растений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66"/>
                </a:solidFill>
                <a:latin typeface="Calibri"/>
              </a:rPr>
              <a:t>Мы провели исследование и обнаружили, что тяжелые металлы отрицательно влияют на растительную клетку, тем самым разрушая её строение. Это приводит к гибели растений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3600" spc="-1" strike="noStrike" u="sng">
                <a:solidFill>
                  <a:srgbClr val="000066"/>
                </a:solidFill>
                <a:uFillTx/>
                <a:latin typeface="Calibri"/>
              </a:rPr>
              <a:t>Рекомендации по борьбе с загрязнениями почв г. Москвы солями тяжелых металлов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221472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66"/>
                </a:solidFill>
                <a:latin typeface="Calibri"/>
              </a:rPr>
              <a:t>Использовать экологически более чистое топливо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66"/>
                </a:solidFill>
                <a:latin typeface="Calibri"/>
              </a:rPr>
              <a:t>Ужесточить контроль за качественным составом выхлопных газов, выбросами в атмосферу котельных и обогатительных фабрик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66"/>
                </a:solidFill>
                <a:latin typeface="Calibri"/>
              </a:rPr>
              <a:t>Предложить экологическому комитету разработать систему мероприятий по нейтрализации токсичных отходов, содержащих ионы тяжелых металлов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E:\Козлова и Чирина\Рисунок5.jpg"/>
          <p:cNvPicPr/>
          <p:nvPr/>
        </p:nvPicPr>
        <p:blipFill>
          <a:blip r:embed="rId1"/>
          <a:stretch/>
        </p:blipFill>
        <p:spPr>
          <a:xfrm>
            <a:off x="-19080" y="-19080"/>
            <a:ext cx="9175680" cy="6889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66"/>
                </a:solidFill>
                <a:uFillTx/>
                <a:latin typeface="Calibri"/>
              </a:rPr>
              <a:t>БИБЛИОГРАФИЧЕСКИЙ </a:t>
            </a:r>
            <a:r>
              <a:rPr b="1" i="1" lang="en-US" sz="4000" spc="-1" strike="noStrike" u="sng">
                <a:solidFill>
                  <a:srgbClr val="000066"/>
                </a:solidFill>
                <a:uFillTx/>
                <a:latin typeface="Calibri"/>
              </a:rPr>
              <a:t>СПИСОК</a:t>
            </a:r>
            <a:r>
              <a:rPr b="1" i="1" lang="ru-RU" sz="4000" spc="-1" strike="noStrike" u="sng">
                <a:solidFill>
                  <a:srgbClr val="000066"/>
                </a:solidFill>
                <a:uFillTx/>
                <a:latin typeface="Calibri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Calibri"/>
              </a:rPr>
              <a:t>Генкель П.А. Физиология растений. – М.: Просвещение, 1970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Calibri"/>
              </a:rPr>
              <a:t>Рубин Б.А. Большой практикум по физиологии растений. – М.: Высшая школа, 1978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Calibri"/>
              </a:rPr>
              <a:t>Федорова А.И. Практикум по экологии окружающей среды. – М.: Владос, 2001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Calibri"/>
              </a:rPr>
              <a:t>Журнал «Недвижимость и инвестиции. Правовое регулирование» №1(34) Апрель </a:t>
            </a: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2008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08:04:51Z</dcterms:created>
  <dc:creator>stud</dc:creator>
  <dc:description/>
  <dc:language>en-US</dc:language>
  <cp:lastModifiedBy>Андрей</cp:lastModifiedBy>
  <dcterms:modified xsi:type="dcterms:W3CDTF">2013-11-26T21:52:11Z</dcterms:modified>
  <cp:revision>51</cp:revision>
  <dc:subject/>
  <dc:title>ЗАГРЯЗНЕНИЕ ПОЧВЕННОГО ПОКРОВА г. МОСКВЫ. ВОЗДЕЙСТВИЕ ТЯЖЕЛЫХ МЕТАЛЛОВ НА СОСТОЯНИЕ КЛЕТОК РАСТЕНИЙ</dc:title>
</cp:coreProperties>
</file>