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17F-756D-4D78-BBFB-6D635135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036-B5DF-4A3F-B1EB-DD7E379B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BC1-0AF5-4333-9494-E4EB927E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9B9-B7D0-4866-905E-D46283F8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B5C-6C44-4E62-A2D2-36FBC68E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1D1-D63A-4C1C-A8D4-5BDE7AD6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576-6E29-41B9-86FF-B9278479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229-696C-41AE-A2D1-8B8106C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D93-5EFF-4D3E-AC7A-BD0A9DE6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1D1-1A15-4390-B483-0E49689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A53-ADDC-434C-931A-C1EADBC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67C-5DA3-4CAD-BD52-5368A18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84B2-DA6E-4349-AF48-4ACA1480B3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libri"/>
              </a:rPr>
              <a:t>Результаты</a:t>
            </a:r>
            <a:r>
              <a:rPr b="1" i="1" lang="ru-RU" sz="5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libri"/>
              </a:rPr>
              <a:t>исследова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91628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При продолжающемся плазмолизе длительное время, клетка погибае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При добавлении солей тяжелых металлов в большинстве случаев происходило нарушение движения протоплазмы, что также приводит к нарушению обменных процессов в клетке, вследствие нарушения перераспределения продуктов обмена вещест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Соли тяжелых металлов также влияют на пигментацию клетки, например в клетке лука, в растворе свинца. Это говорит о том, что вероятнее всего нарушаются хромопласты (пигменты, отвечающие за цветную окраску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libri"/>
              </a:rPr>
              <a:t>Заключен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Изучив данные мониторинга загрязнения почв тяжелыми металлами, мы пришли к выводу о серьёзном загрязнении почвы. Вместе с водой и другими веществами почвы тяжелые металлы попадают в клетки растени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Мы провели исследование и обнаружили, что тяжелые металлы отрицательно влияют на растительную клетку, тем самым разрушая её строение. Это приводит к гибели растени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 u="sng">
                <a:solidFill>
                  <a:srgbClr val="000066"/>
                </a:solidFill>
                <a:uFillTx/>
                <a:latin typeface="Calibri"/>
              </a:rPr>
              <a:t>Рекомендации по борьбе с загрязнениями почв г. Москвы солями тяжелых металло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1472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Использовать экологически более чистое топливо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Ужесточить контроль за качественным составом выхлопных газов, выбросами в атмосферу котельных и обогатительных фабрик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Предложить экологическому комитету разработать систему мероприятий по нейтрализации токсичных отходов, содержащих ионы тяжелых металлов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Козлова и Чирина\Рисунок5.jpg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889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alibri"/>
              </a:rPr>
              <a:t>БИБЛИОГРАФИЧЕСКИЙ </a:t>
            </a:r>
            <a:r>
              <a:rPr b="1" i="1" lang="en-US" sz="4000" spc="-1" strike="noStrike" u="sng">
                <a:solidFill>
                  <a:srgbClr val="000066"/>
                </a:solidFill>
                <a:uFillTx/>
                <a:latin typeface="Calibri"/>
              </a:rPr>
              <a:t>СПИСОК</a:t>
            </a: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Генкель П.А. Физиология растений. – М.: Просвещение, 197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Рубин Б.А. Большой практикум по физиологии растений. – М.: Высшая школа, 1978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Федорова А.И. Практикум по экологии окружающей среды. – М.: Владос, 200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Журнал «Недвижимость и инвестиции. Правовое регулирование» №1(34) Апрель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2008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8:04:51Z</dcterms:created>
  <dc:creator>stud</dc:creator>
  <dc:description/>
  <dc:language>en-US</dc:language>
  <cp:lastModifiedBy>Андрей</cp:lastModifiedBy>
  <dcterms:modified xsi:type="dcterms:W3CDTF">2013-11-26T21:52:11Z</dcterms:modified>
  <cp:revision>51</cp:revision>
  <dc:subject/>
  <dc:title>ЗАГРЯЗНЕНИЕ ПОЧВЕННОГО ПОКРОВА г. МОСКВЫ. ВОЗДЕЙСТВИЕ ТЯЖЕЛЫХ МЕТАЛЛОВ НА СОСТОЯНИЕ КЛЕТОК РАСТЕНИЙ</dc:title>
</cp:coreProperties>
</file>