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784F-D72B-4CCA-A1AB-B5F2BB8675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915E-36BD-4E34-A4DE-1E9C440FD942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FAB3-070C-4EAB-A789-76C8451C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FDEE-07D1-47F5-830F-D5FBF461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2969-D702-4ABA-8276-52FFF5FA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077B-4399-419D-8C17-4164E91E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D7A2-FBAB-4984-AA9D-4D4FF300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5E96-9A84-4D2B-B08F-5273FC21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FA52-01F9-4A67-A6E7-AFED2999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8013-68CB-4A1C-9E78-2E7AF60D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3B48-1BB7-4A1A-9C30-C00CB71E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96BD-7724-4825-AA3B-EA7B58D6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2D81-7AF2-43A6-8F41-D1F6378E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C110-2B19-4E97-9EF4-62D6D89B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E649-9696-4A4C-AB1D-F310AC5A1814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C0E8-BCE3-4E8C-8F17-922658BAAA9A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8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8640" y="4786200"/>
            <a:ext cx="63579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ыполнила: Гузенко Е.В. </a:t>
            </a:r>
            <a:br>
              <a:rPr sz="2000"/>
            </a:br>
            <a:r>
              <a:rPr b="0" i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нструктор по физической культуре</a:t>
            </a:r>
            <a:br>
              <a:rPr sz="2000"/>
            </a:br>
            <a:r>
              <a:rPr b="0" i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БДОУ детский сад г. Конаково №6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9720" y="713880"/>
            <a:ext cx="76438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общение</a:t>
            </a:r>
            <a:r>
              <a:rPr b="0" lang="en-US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из опыта работы</a:t>
            </a:r>
            <a:endParaRPr b="0" lang="en-US" sz="1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“</a:t>
            </a: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учение детей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лементам</a:t>
            </a:r>
            <a:r>
              <a:rPr b="1" i="1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различных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дов </a:t>
            </a:r>
            <a:r>
              <a:rPr b="1" i="1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орта</a:t>
            </a:r>
            <a:r>
              <a:rPr b="1" i="1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”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0000"/>
                </a:solidFill>
                <a:latin typeface="Calibri"/>
              </a:rPr>
              <a:t>Ноябрь 2013г</a:t>
            </a:r>
            <a:r>
              <a:rPr b="1" lang="ru-RU" sz="4000" spc="-1" strike="noStrike">
                <a:solidFill>
                  <a:srgbClr val="4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50" name="Рисунок 3" descr="http://wiki.edu54.ru/images/4/4a/330026694634_86618_image00040.jpg"/>
          <p:cNvPicPr/>
          <p:nvPr/>
        </p:nvPicPr>
        <p:blipFill>
          <a:blip r:embed="rId1"/>
          <a:stretch/>
        </p:blipFill>
        <p:spPr>
          <a:xfrm>
            <a:off x="428760" y="3533760"/>
            <a:ext cx="3929040" cy="2778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утбол: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00040" y="85680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и обучении дошкольников игре в футбол важно изучить отдельные элементы: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рабатывать передачу мяча друг другу,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дар по мячу стоя на месте (на расстоянии 3–4 м),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учиться отбивать мяч правой и левой ногой,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дбрасывать его ногой и ловить руками,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ести "змейкой" между предметами, забивать его в ворота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3E40-2A8B-4560-ACE5-6B6238AFE2AC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C3FC-CF47-4C3E-A1F8-F0C378F15F72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9" name="Рисунок 6" descr=" (478x331, 45Kb)"/>
          <p:cNvPicPr/>
          <p:nvPr/>
        </p:nvPicPr>
        <p:blipFill>
          <a:blip r:embed="rId1"/>
          <a:stretch/>
        </p:blipFill>
        <p:spPr>
          <a:xfrm>
            <a:off x="4857840" y="4286160"/>
            <a:ext cx="351612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 (496x341, 56Kb)"/>
          <p:cNvPicPr/>
          <p:nvPr/>
        </p:nvPicPr>
        <p:blipFill>
          <a:blip r:embed="rId2"/>
          <a:stretch/>
        </p:blipFill>
        <p:spPr>
          <a:xfrm>
            <a:off x="642960" y="4286160"/>
            <a:ext cx="36432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Хоккей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71320" y="713880"/>
            <a:ext cx="8258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и обучении игре в хоккей  также необходимо изучить отдельные элементы: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едение шайбы (мяча) клюшкой, не отрывая ее от шайбы (мяча);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едача шайбы (мяча) друг другу клюшкой;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едение шайбы (мяча) вокруг разных предметов и между ними;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бивание шайбы (мяча)в ворота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CC20-26A4-46FB-A555-ECE965ABDE9C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4" name="Содержимое 8" descr=" (412x348, 59Kb)"/>
          <p:cNvPicPr/>
          <p:nvPr/>
        </p:nvPicPr>
        <p:blipFill>
          <a:blip r:embed="rId1"/>
          <a:stretch/>
        </p:blipFill>
        <p:spPr>
          <a:xfrm>
            <a:off x="4857840" y="4071960"/>
            <a:ext cx="3429000" cy="24289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9" descr=" (434x321, 53Kb)"/>
          <p:cNvPicPr/>
          <p:nvPr/>
        </p:nvPicPr>
        <p:blipFill>
          <a:blip r:embed="rId2"/>
          <a:stretch/>
        </p:blipFill>
        <p:spPr>
          <a:xfrm>
            <a:off x="714240" y="4071960"/>
            <a:ext cx="3500640" cy="2454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аскетбол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28400" y="928800"/>
            <a:ext cx="83293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пражнения с элементами игры в баскетбол даются детям с постепенным усложнением: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едение мяча правой и левой рукой на месте, вокруг себя, с продвижением вперед, с изменением направления передвижения;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едача мяча друг другу с продвижением по площадке парами;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едение мяча бегом парами;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росание его в корзину двумя руками из-за головы, от груди, от плеча и т д. 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8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D27B-F25A-4AE0-9E82-D026A7848810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9" name="Содержимое 7" descr=" (437x313, 54Kb)"/>
          <p:cNvPicPr/>
          <p:nvPr/>
        </p:nvPicPr>
        <p:blipFill>
          <a:blip r:embed="rId1"/>
          <a:stretch/>
        </p:blipFill>
        <p:spPr>
          <a:xfrm>
            <a:off x="571680" y="3929040"/>
            <a:ext cx="3786120" cy="25002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0" descr=" (511x334, 60Kb)"/>
          <p:cNvPicPr/>
          <p:nvPr/>
        </p:nvPicPr>
        <p:blipFill>
          <a:blip r:embed="rId2"/>
          <a:stretch/>
        </p:blipFill>
        <p:spPr>
          <a:xfrm>
            <a:off x="4786200" y="3929040"/>
            <a:ext cx="375120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олейбол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1071720"/>
            <a:ext cx="822960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ля волейбола важно освоить передачу мяча и подачу     двумя руками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3E5D-9C34-45BC-9072-FF3302365B3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4" name="Рисунок 6" descr="007 (566x432, 110 Kb)"/>
          <p:cNvPicPr/>
          <p:nvPr/>
        </p:nvPicPr>
        <p:blipFill>
          <a:blip r:embed="rId1"/>
          <a:stretch/>
        </p:blipFill>
        <p:spPr>
          <a:xfrm>
            <a:off x="4071960" y="2786040"/>
            <a:ext cx="4714920" cy="38577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2" descr=" (436x334, 51Kb)"/>
          <p:cNvPicPr/>
          <p:nvPr/>
        </p:nvPicPr>
        <p:blipFill>
          <a:blip r:embed="rId2"/>
          <a:stretch/>
        </p:blipFill>
        <p:spPr>
          <a:xfrm>
            <a:off x="571680" y="3286080"/>
            <a:ext cx="3527280" cy="2960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ородки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3840" y="999720"/>
            <a:ext cx="864396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таринная русская игра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та игра развивает глазомер, точность движений, укрепляет мышцы рук и плечевого пояса,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зывает сильные эмоции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обходимо выбить городки всех фигур партии за меньшее       количество бросков биты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65F5-9123-41EB-BA95-68CDDDC98D2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9" name="Рисунок 4" descr="http://f.mypage.ru/6e5d39904993f673c48a7388e86a1b58_5901347d8630cabb70851225d561ba37.jpg"/>
          <p:cNvPicPr/>
          <p:nvPr/>
        </p:nvPicPr>
        <p:blipFill>
          <a:blip r:embed="rId1"/>
          <a:stretch/>
        </p:blipFill>
        <p:spPr>
          <a:xfrm>
            <a:off x="785880" y="3643200"/>
            <a:ext cx="3584520" cy="28162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7" descr="http://moikompas.ru/img/compas/2008-02-10/gorodki/85078151.jpg"/>
          <p:cNvPicPr/>
          <p:nvPr/>
        </p:nvPicPr>
        <p:blipFill>
          <a:blip r:embed="rId2"/>
          <a:stretch/>
        </p:blipFill>
        <p:spPr>
          <a:xfrm>
            <a:off x="4786200" y="3643200"/>
            <a:ext cx="335772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апта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BE8F-766C-47C8-A49F-716F957DD9B4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3" name="Содержимое 6" descr=" (542x350, 57Kb)"/>
          <p:cNvPicPr/>
          <p:nvPr/>
        </p:nvPicPr>
        <p:blipFill>
          <a:blip r:embed="rId1"/>
          <a:stretch/>
        </p:blipFill>
        <p:spPr>
          <a:xfrm>
            <a:off x="785880" y="1357200"/>
            <a:ext cx="7572240" cy="5000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оулинг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0D7B-A55F-426F-8FCA-C32AC83CA684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6" name="Содержимое 6" descr=" (423x321, 53Kb)"/>
          <p:cNvPicPr/>
          <p:nvPr/>
        </p:nvPicPr>
        <p:blipFill>
          <a:blip r:embed="rId1"/>
          <a:stretch/>
        </p:blipFill>
        <p:spPr>
          <a:xfrm>
            <a:off x="785880" y="1428840"/>
            <a:ext cx="7572240" cy="4929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лавание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0040" y="1071360"/>
            <a:ext cx="82296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лавание всегда присутствует в перечне обязательных видов физической культуры, поэтому обучение плаванию было и остается актуальной темой не только человека, но и для общества в целом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дные процедуры способствуют развитию двигательной активностью, закаливанию детского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рганизма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E2B9-B511-4B25-9083-D42CE35C3E2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0" name="Рисунок 6" descr=" (379x309, 41Kb)"/>
          <p:cNvPicPr/>
          <p:nvPr/>
        </p:nvPicPr>
        <p:blipFill>
          <a:blip r:embed="rId1"/>
          <a:stretch/>
        </p:blipFill>
        <p:spPr>
          <a:xfrm>
            <a:off x="571680" y="3714840"/>
            <a:ext cx="3614400" cy="2500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 (460x340, 52Kb)"/>
          <p:cNvPicPr/>
          <p:nvPr/>
        </p:nvPicPr>
        <p:blipFill>
          <a:blip r:embed="rId2"/>
          <a:stretch/>
        </p:blipFill>
        <p:spPr>
          <a:xfrm>
            <a:off x="4714920" y="3714840"/>
            <a:ext cx="347976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портивные упражнения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0040" y="78552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 холодный период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64a2"/>
                </a:solidFill>
                <a:latin typeface="Calibri"/>
              </a:rPr>
              <a:t>Катание на санках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64a2"/>
                </a:solidFill>
                <a:latin typeface="Calibri"/>
              </a:rPr>
              <a:t>Катание на коньках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64a2"/>
                </a:solidFill>
                <a:latin typeface="Calibri"/>
              </a:rPr>
              <a:t>Ходьба на лыжах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64a2"/>
                </a:solidFill>
                <a:latin typeface="Calibri"/>
              </a:rPr>
              <a:t>Скольжение на ногах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D21E-CDCF-426F-AB69-05E4135D7668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5" name="Рисунок 7" descr=" (467x365, 64Kb)"/>
          <p:cNvPicPr/>
          <p:nvPr/>
        </p:nvPicPr>
        <p:blipFill>
          <a:blip r:embed="rId1"/>
          <a:stretch/>
        </p:blipFill>
        <p:spPr>
          <a:xfrm>
            <a:off x="5143680" y="3643200"/>
            <a:ext cx="3138480" cy="27147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8" descr="http://neposedkishop.ru/data/papka/2.jpg"/>
          <p:cNvPicPr/>
          <p:nvPr/>
        </p:nvPicPr>
        <p:blipFill>
          <a:blip r:embed="rId2"/>
          <a:stretch/>
        </p:blipFill>
        <p:spPr>
          <a:xfrm>
            <a:off x="5143680" y="857160"/>
            <a:ext cx="3084480" cy="24321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9" descr="http://img.beatrisa.ru/forums/monthly_05_2009/user3/post84302_img1.jpg"/>
          <p:cNvPicPr/>
          <p:nvPr/>
        </p:nvPicPr>
        <p:blipFill>
          <a:blip r:embed="rId3"/>
          <a:stretch/>
        </p:blipFill>
        <p:spPr>
          <a:xfrm>
            <a:off x="642960" y="3714840"/>
            <a:ext cx="355428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портивные упражнения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168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 теплый период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Катание на самокате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Езда на велосипеде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Плавание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0" name="Дата 3"/>
          <p:cNvSpPr/>
          <p:nvPr/>
        </p:nvSpPr>
        <p:spPr>
          <a:xfrm rot="16805400">
            <a:off x="1565280" y="5427720"/>
            <a:ext cx="247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Нижний колонтитул 4"/>
          <p:cNvSpPr/>
          <p:nvPr/>
        </p:nvSpPr>
        <p:spPr>
          <a:xfrm flipV="1">
            <a:off x="5357880" y="4786200"/>
            <a:ext cx="1857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A52A-FFFD-4CB1-A304-875C05D56987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3" name="Рисунок 7" descr=" (413x326, 60Kb)"/>
          <p:cNvPicPr/>
          <p:nvPr/>
        </p:nvPicPr>
        <p:blipFill>
          <a:blip r:embed="rId1"/>
          <a:stretch/>
        </p:blipFill>
        <p:spPr>
          <a:xfrm>
            <a:off x="4786200" y="3786120"/>
            <a:ext cx="3243240" cy="24289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9" descr=" (379x309, 41Kb)"/>
          <p:cNvPicPr/>
          <p:nvPr/>
        </p:nvPicPr>
        <p:blipFill>
          <a:blip r:embed="rId2"/>
          <a:stretch/>
        </p:blipFill>
        <p:spPr>
          <a:xfrm>
            <a:off x="785880" y="3786120"/>
            <a:ext cx="3214800" cy="242892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0" descr="http://img11.nnm.ru/0/2/e/9/e/02e9ef1abf9dcc7ce261e049dd90be2d_full.jpg"/>
          <p:cNvPicPr/>
          <p:nvPr/>
        </p:nvPicPr>
        <p:blipFill>
          <a:blip r:embed="rId3"/>
          <a:stretch/>
        </p:blipFill>
        <p:spPr>
          <a:xfrm>
            <a:off x="4786200" y="1357200"/>
            <a:ext cx="3214800" cy="2227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ольшую роль в физическом воспитании детей дошкольного возраста играют спортивные игры, элементы спортивных игр и спортивные упражнения. Они подбираются с учетом возраста, состояния здоровья, индивидуальной склонности и интересов детей. 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 их помощью дети усваивают разнообразные двигательные навыки, приобретают нравственные, волевые качества: решительность, самостоятельность, смелость, выносливость. 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бенок учится согласовывать свои действия с действиями товарищей; у него воспитывается сдержанность, самообладание, ответственность. 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7370-1261-450C-8C2A-0E55D0208B28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екомендованно 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00040" y="571320"/>
            <a:ext cx="4038480" cy="52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2-й младшей группе: 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- катание на трёхколёсном велосипеде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- хождение на лыжах ступающим шагом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- подготовка к плаванию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- катание на санках кукол, друг друга с невысоких горок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Средней группе: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- катание на санках и лыжах 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- катание на двух- и трёхколёсном велосипедах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- плавание </a:t>
            </a:r>
            <a:br>
              <a:rPr sz="2000"/>
            </a:b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857840" y="642960"/>
            <a:ext cx="40384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Старшей   группе: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- катание на санках, лыжах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- катание на велосипеде и самокате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- плавание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Подвижные игры: 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- городки, бадминтон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- баскетбол, футбол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Подготовительной   группе: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- катание на санках, лыжах, коньках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- катание на велосипеде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- плавание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- игры – эстафеты 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Элементы спортивных игр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- городки, бадминтон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- баскетбол, волейбол,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         </a:t>
            </a: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футбол, хоккей, настольный теннис</a:t>
            </a:r>
            <a:br>
              <a:rPr sz="1800"/>
            </a:br>
            <a:br>
              <a:rPr sz="1800"/>
            </a:b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C6D1-56B1-4177-B2A9-C73C92FA843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3" descr="http://www.egraphic.ru/uploads/1244748660_final.jpg"/>
          <p:cNvPicPr/>
          <p:nvPr/>
        </p:nvPicPr>
        <p:blipFill>
          <a:blip r:embed="rId1"/>
          <a:stretch/>
        </p:blipFill>
        <p:spPr>
          <a:xfrm>
            <a:off x="357120" y="357120"/>
            <a:ext cx="8501040" cy="6215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ортивные игры и упражнения должны приносить радость взрослым и детям, чтобы малыши испытывали потребность в занятиях, чтоб спорт стал у них привычкой.</a:t>
            </a: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4806-3CBD-4648-8180-BA675DE0997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3" name="Рисунок 3" descr="http://www.egraphic.ru/uploads/1244748660_final.jpg"/>
          <p:cNvPicPr/>
          <p:nvPr/>
        </p:nvPicPr>
        <p:blipFill>
          <a:blip r:embed="rId1"/>
          <a:stretch/>
        </p:blipFill>
        <p:spPr>
          <a:xfrm>
            <a:off x="357120" y="214200"/>
            <a:ext cx="8501040" cy="635796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5" descr=""/>
          <p:cNvPicPr/>
          <p:nvPr/>
        </p:nvPicPr>
        <p:blipFill>
          <a:blip r:embed="rId2"/>
          <a:stretch/>
        </p:blipFill>
        <p:spPr>
          <a:xfrm>
            <a:off x="219240" y="463680"/>
            <a:ext cx="848016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28800" y="428760"/>
            <a:ext cx="765792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бучая детей элементам спортивных игр, решаются следующие задачи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400" y="1571760"/>
            <a:ext cx="8329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ировать у дошкольников устойчивый интерес к играм с элементами спорта, спортивным упражнениям, желание использовать их в самостоятельной двигательной деятельности;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огащать двигательный опыт дошкольников новыми двигательными действиями;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ить правильной технике выполнения элементов спортивных игр;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действовать развитию двигательных способностей;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спитывать положительные морально-волевые качества;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ировать привычку к здоровому образу жизни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8626-D4D1-493B-90FD-C4279FB8F9DA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00040" y="999720"/>
            <a:ext cx="8072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учение детей спортивным упражнениям и играм проводится на занятиях по физической культуре.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 обучении детей элементам спортивных игр используется показ и объяснения.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иболее простые элементы включаются в физкультурные занятия со всеми детьми одновременно.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иболее сложные движения разучиваю с детьми  индивидуально.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409C-0694-40F9-9B91-7121290BC22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314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жде чем приступить к систематическому обучению детей спортивным играм и спортивным упражнениям, необходимо познакомить их с различными видами спорта, спортсменами, провести экскурсию или целевую прогулку на стадион (городской, школьный, дворовый), рассмотреть иллюстрации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ь этой работы – вызвать интерес, сформировать желание заниматься спортом.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D6D0-1954-42AB-A40C-F45D6751AD6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0" name="Рисунок 5" descr="http://2krota.ru/uploads/posts/2011-09/BertoMartinez15.jpg"/>
          <p:cNvPicPr/>
          <p:nvPr/>
        </p:nvPicPr>
        <p:blipFill>
          <a:blip r:embed="rId1"/>
          <a:srcRect l="0" t="0" r="2129" b="7316"/>
          <a:stretch/>
        </p:blipFill>
        <p:spPr>
          <a:xfrm>
            <a:off x="714240" y="3571920"/>
            <a:ext cx="671544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50104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торым этапом является накопление опыта общения с предметами: ракеткой, мячом, городками и т. д.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я этого целесообразно поместить их в спортивный уголок и дать возможность самостоятельно манипулировать ими и лишь после этого приступить к обучению.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" name="Нижний колонтитул 3"/>
          <p:cNvSpPr/>
          <p:nvPr/>
        </p:nvSpPr>
        <p:spPr>
          <a:xfrm flipH="1" flipV="1">
            <a:off x="4142520" y="6572160"/>
            <a:ext cx="7164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E5E2-D99C-442D-AD95-3EDB92D6B53C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4" name="Рисунок 5" descr="http://s3.timetoast.com/public/uploads/photos/3765975/1302972216_sport1.jpg?1364555266"/>
          <p:cNvPicPr/>
          <p:nvPr/>
        </p:nvPicPr>
        <p:blipFill>
          <a:blip r:embed="rId1"/>
          <a:stretch/>
        </p:blipFill>
        <p:spPr>
          <a:xfrm>
            <a:off x="500040" y="3487680"/>
            <a:ext cx="3929040" cy="3017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2960" y="274680"/>
            <a:ext cx="785808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аряду со спортивными упражнениями во время прогулок детям можно предложить  игры с элементами спорта.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071440" y="1714320"/>
            <a:ext cx="51433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админтон,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ннис,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утбол,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Хоккей,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аскетбол,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лейбол,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ородки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6C88-0041-49F1-883E-6859BA8E479A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админтон и теннис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школьников важно научить играть в настольный теннис и бадминтон по упрощенным правилам, которые строятся на разнообразных действиях с маленьким мячом (воланом) и ракеткой.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дварительно детей нужно научить попадать ракеткой по мячу, соразмерять силу удара по мячу или волану, с тем чтобы правильно посылать их на сторону партнера по игре.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этих игровых упражнениях дети овладевают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личными навыками: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BC01-6A46-4B4A-BEC3-1E1E8D2F8AE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571320" y="428760"/>
            <a:ext cx="82580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авильно держать ракетку,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росать и ловить маленький мяч (волан),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риентироваться в пространстве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6193-E238-4908-B431-CFE7A8984F1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3" name="Содержимое 7" descr=" (535x307, 66Kb)"/>
          <p:cNvPicPr/>
          <p:nvPr/>
        </p:nvPicPr>
        <p:blipFill>
          <a:blip r:embed="rId1"/>
          <a:stretch/>
        </p:blipFill>
        <p:spPr>
          <a:xfrm>
            <a:off x="857160" y="1857240"/>
            <a:ext cx="7358040" cy="4500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5T16:46:57Z</dcterms:created>
  <dc:creator>Алексей</dc:creator>
  <dc:description>http://aida.ucoz.ru</dc:description>
  <dc:language>en-US</dc:language>
  <cp:lastModifiedBy>Олег</cp:lastModifiedBy>
  <dcterms:modified xsi:type="dcterms:W3CDTF">2013-11-23T14:27:57Z</dcterms:modified>
  <cp:revision>109</cp:revision>
  <dc:subject/>
  <dc:title>Спортивные игры в летний период в ДОУ                                Консультация  для педагогов                                                                 в режиме пед. совета                                                                                  подготовлена инструктором по ФК                                                              Лаврентьевой М.И.      МДОУ д \ с № 49 2011 г.</dc:title>
</cp:coreProperties>
</file>