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3C5-8DFE-4FF3-9318-66278837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24E-62DB-4BC9-9721-6F8279C4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058-CB20-4D22-AD36-BE6C8DB1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7BF-C69C-40CB-8876-827A7249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3E3-D663-4DCF-BEDC-095DD56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ABF-59A5-4790-BA2A-59FAE67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A36-61D7-445D-8B4A-F8071C4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0EE-4CE4-47EF-8ADB-356897D5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363-94CE-4A6B-BE9E-83639CF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BF2-B70D-434C-83A4-7879DC3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6BB-6976-4FED-9751-F132A2F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63B-ABF9-46FB-BEBD-B016F6C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4C09-754E-4742-AD78-657665A254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400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6228"/>
                </a:solidFill>
                <a:latin typeface="Calibri"/>
              </a:rPr>
              <a:t>Le respect </a:t>
            </a:r>
            <a:br>
              <a:rPr sz="5400"/>
            </a:br>
            <a:r>
              <a:rPr b="1" lang="en-US" sz="5400" spc="-1" strike="noStrike">
                <a:solidFill>
                  <a:srgbClr val="4f6228"/>
                </a:solidFill>
                <a:latin typeface="Calibri"/>
              </a:rPr>
              <a:t>de l'environnement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12dem01i01.png"/>
          <p:cNvPicPr/>
          <p:nvPr/>
        </p:nvPicPr>
        <p:blipFill>
          <a:blip r:embed="rId1"/>
          <a:stretch/>
        </p:blipFill>
        <p:spPr>
          <a:xfrm>
            <a:off x="1285920" y="2671920"/>
            <a:ext cx="2381040" cy="238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292720" y="3500280"/>
            <a:ext cx="339408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Автор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презентации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Учитель французского язы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7933c"/>
                </a:solidFill>
                <a:latin typeface="Calibri"/>
              </a:rPr>
              <a:t>Максимова Татьяна Валерьев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ГБОУ школа № 18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г. Санкт-Петербур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565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orsque tu quittes une pièce,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il faut éteindre la lumiè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pour ne pas consommer de l'énergie inuti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2dem01i25.png"/>
          <p:cNvPicPr/>
          <p:nvPr/>
        </p:nvPicPr>
        <p:blipFill>
          <a:blip r:embed="rId1"/>
          <a:stretch/>
        </p:blipFill>
        <p:spPr>
          <a:xfrm>
            <a:off x="3708360" y="2781360"/>
            <a:ext cx="1515960" cy="219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0" name="12dem01s22.mp3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48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f6228"/>
                </a:solidFill>
                <a:latin typeface="Calibri"/>
              </a:rPr>
              <a:t>Respectez l'environnemen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8" descr="montagneete_cd.png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372096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14" descr="mer_gv.png"/>
          <p:cNvPicPr/>
          <p:nvPr/>
        </p:nvPicPr>
        <p:blipFill>
          <a:blip r:embed="rId2"/>
          <a:stretch/>
        </p:blipFill>
        <p:spPr>
          <a:xfrm>
            <a:off x="4356000" y="4005360"/>
            <a:ext cx="4475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5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Кабинет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французского языка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БОУ школы № 181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. Санкт- 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C:\Users\123\Desktop\Завтрак\VISUEL SAC A DOS.jpg"/>
          <p:cNvPicPr/>
          <p:nvPr/>
        </p:nvPicPr>
        <p:blipFill>
          <a:blip r:embed="rId1"/>
          <a:stretch/>
        </p:blipFill>
        <p:spPr>
          <a:xfrm>
            <a:off x="7086600" y="402912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123\Desktop\Завтрак\VISUEL SAC A DOS.jpg"/>
          <p:cNvPicPr/>
          <p:nvPr/>
        </p:nvPicPr>
        <p:blipFill>
          <a:blip r:embed="rId2"/>
          <a:stretch/>
        </p:blipFill>
        <p:spPr>
          <a:xfrm>
            <a:off x="3564000" y="0"/>
            <a:ext cx="4248000" cy="461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:\ДЕТКИ\Юлиана\осень 2011\P1100742.JPG"/>
          <p:cNvPicPr/>
          <p:nvPr/>
        </p:nvPicPr>
        <p:blipFill>
          <a:blip r:embed="rId3"/>
          <a:stretch/>
        </p:blipFill>
        <p:spPr>
          <a:xfrm>
            <a:off x="250920" y="3357720"/>
            <a:ext cx="34671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f6228"/>
                </a:solidFill>
                <a:latin typeface="Calibri"/>
              </a:rPr>
              <a:t>Respecter l'environ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11" descr="12dem01i02.png"/>
          <p:cNvPicPr/>
          <p:nvPr/>
        </p:nvPicPr>
        <p:blipFill>
          <a:blip r:embed="rId1"/>
          <a:stretch/>
        </p:blipFill>
        <p:spPr>
          <a:xfrm>
            <a:off x="1042920" y="4005360"/>
            <a:ext cx="1666800" cy="196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specter l'environnement permet de 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protéger la planète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des gestes simples, on peut tous les jours faire quelque chose pour que la Terre aille mieux. Par exemple 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– 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éteindre les</a:t>
            </a: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lumières inutiles</a:t>
            </a: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e pas laisser les appareils allumés sans raison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12dem01s01 (1).mp3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27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8" descr="12dem01i03.png"/>
          <p:cNvPicPr/>
          <p:nvPr/>
        </p:nvPicPr>
        <p:blipFill>
          <a:blip r:embed="rId1"/>
          <a:stretch/>
        </p:blipFill>
        <p:spPr>
          <a:xfrm>
            <a:off x="1332000" y="333360"/>
            <a:ext cx="2381040" cy="194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hiver, mettre un pull et</a:t>
            </a: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 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baisser un peu le chauffage</a:t>
            </a: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– 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ne pas laisser l'eau couler</a:t>
            </a: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utilement : prendre une douche plutôt qu'un bain, fermer les robinets quand on se brosse les dent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Татьяна\Desktop\охрана природы\Le respect de l'environnement - Réviser une leçon - Découverte du monde - Grande section - Assistance scolaire personnalisée et gratuite - ASP_files\12dem01i04.png"/>
          <p:cNvPicPr/>
          <p:nvPr/>
        </p:nvPicPr>
        <p:blipFill>
          <a:blip r:embed="rId2"/>
          <a:stretch/>
        </p:blipFill>
        <p:spPr>
          <a:xfrm>
            <a:off x="1332000" y="3141720"/>
            <a:ext cx="2663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0000" y="274680"/>
            <a:ext cx="454644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– 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utiliser des feuilles de papier recyclé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et s'en servir des deux côtés 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 – 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se déplac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le plus possible 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à vélo ou à pied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pour ne pas utiliser la voiture qui est très polluante pour l'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5" descr="12dem01i05.png"/>
          <p:cNvPicPr/>
          <p:nvPr/>
        </p:nvPicPr>
        <p:blipFill>
          <a:blip r:embed="rId1"/>
          <a:stretch/>
        </p:blipFill>
        <p:spPr>
          <a:xfrm>
            <a:off x="1258920" y="620640"/>
            <a:ext cx="238104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7" descr="12dem01i06.png"/>
          <p:cNvPicPr/>
          <p:nvPr/>
        </p:nvPicPr>
        <p:blipFill>
          <a:blip r:embed="rId2"/>
          <a:stretch/>
        </p:blipFill>
        <p:spPr>
          <a:xfrm>
            <a:off x="1332000" y="3573360"/>
            <a:ext cx="23810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’ est-ce qui consomme le moins d’ ea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2dem01s11.mp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Le respect de l'environnement - illustration 7"/>
          <p:cNvPicPr/>
          <p:nvPr/>
        </p:nvPicPr>
        <p:blipFill>
          <a:blip r:embed="rId2"/>
          <a:stretch/>
        </p:blipFill>
        <p:spPr>
          <a:xfrm>
            <a:off x="4067280" y="2009880"/>
            <a:ext cx="1944720" cy="155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Le respect de l'environnement - illustration 7"/>
          <p:cNvPicPr/>
          <p:nvPr/>
        </p:nvPicPr>
        <p:blipFill>
          <a:blip r:embed="rId3"/>
          <a:stretch/>
        </p:blipFill>
        <p:spPr>
          <a:xfrm>
            <a:off x="4140360" y="4292640"/>
            <a:ext cx="20160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12dem01s13.mp3" descr=""/>
          <p:cNvPicPr/>
          <p:nvPr/>
        </p:nvPicPr>
        <p:blipFill>
          <a:blip r:embed="rId4"/>
          <a:stretch/>
        </p:blipFill>
        <p:spPr>
          <a:xfrm>
            <a:off x="2484360" y="2276640"/>
            <a:ext cx="647640" cy="793440"/>
          </a:xfrm>
          <a:prstGeom prst="rect">
            <a:avLst/>
          </a:prstGeom>
          <a:ln w="0">
            <a:noFill/>
          </a:ln>
        </p:spPr>
      </p:pic>
      <p:pic>
        <p:nvPicPr>
          <p:cNvPr id="59" name="12dem01s12 (1).mp3" descr=""/>
          <p:cNvPicPr/>
          <p:nvPr/>
        </p:nvPicPr>
        <p:blipFill>
          <a:blip r:embed="rId5"/>
          <a:stretch/>
        </p:blipFill>
        <p:spPr>
          <a:xfrm>
            <a:off x="2411280" y="486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9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10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moyenne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un bain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somme autant d'eau que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trois douch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Pour économiser l'eau, il est donc plus raisonnable de prendre des dou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12dem01i04.png"/>
          <p:cNvPicPr/>
          <p:nvPr/>
        </p:nvPicPr>
        <p:blipFill>
          <a:blip r:embed="rId1"/>
          <a:stretch/>
        </p:blipFill>
        <p:spPr>
          <a:xfrm>
            <a:off x="2700360" y="2997360"/>
            <a:ext cx="3340080" cy="2577960"/>
          </a:xfrm>
          <a:prstGeom prst="rect">
            <a:avLst/>
          </a:prstGeom>
          <a:ln w="0">
            <a:noFill/>
          </a:ln>
        </p:spPr>
      </p:pic>
      <p:pic>
        <p:nvPicPr>
          <p:cNvPr id="62" name="12dem01s14.mp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891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’ est-ce qui consomme le moins de l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électricité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12dem01s15.mp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99640" y="3573360"/>
            <a:ext cx="7559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Laiss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  télévision 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en veil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sque tu ne la regardes p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Éteindre totalement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télévision lorsque tu ne la regardes p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Le respect de l'environnement - illustration 7"/>
          <p:cNvPicPr/>
          <p:nvPr/>
        </p:nvPicPr>
        <p:blipFill>
          <a:blip r:embed="rId2"/>
          <a:stretch/>
        </p:blipFill>
        <p:spPr>
          <a:xfrm>
            <a:off x="3635280" y="1125360"/>
            <a:ext cx="164808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12dem01s16.mp3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8" name="12dem01s17.mp3" descr=""/>
          <p:cNvPicPr/>
          <p:nvPr/>
        </p:nvPicPr>
        <p:blipFill>
          <a:blip r:embed="rId4"/>
          <a:stretch/>
        </p:blipFill>
        <p:spPr>
          <a:xfrm>
            <a:off x="395280" y="4653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3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79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69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vaut mieux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éteindre totale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télévision ca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eillle, elle consomme encore de l'électricité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12dem01s18.mp3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e respect de l'environnement - illustration 7"/>
          <p:cNvPicPr/>
          <p:nvPr/>
        </p:nvPicPr>
        <p:blipFill>
          <a:blip r:embed="rId2"/>
          <a:stretch/>
        </p:blipFill>
        <p:spPr>
          <a:xfrm>
            <a:off x="3492360" y="2349360"/>
            <a:ext cx="1648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672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 dois-tu faire lorsque tu quittes une pièce éclairé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dem01i25.png"/>
          <p:cNvPicPr/>
          <p:nvPr/>
        </p:nvPicPr>
        <p:blipFill>
          <a:blip r:embed="rId1"/>
          <a:stretch/>
        </p:blipFill>
        <p:spPr>
          <a:xfrm>
            <a:off x="3564000" y="1413000"/>
            <a:ext cx="1647720" cy="23810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1258920" y="3357720"/>
            <a:ext cx="69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Étreind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 lumiè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Laisser la lumière allumée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elqu’un d’autre l’éteind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2dem01s20 (3).mp3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6" name="12dem01s21.mp3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12dem01s19.mp3" descr=""/>
          <p:cNvPicPr/>
          <p:nvPr/>
        </p:nvPicPr>
        <p:blipFill>
          <a:blip r:embed="rId4"/>
          <a:stretch/>
        </p:blipFill>
        <p:spPr>
          <a:xfrm>
            <a:off x="468360" y="692280"/>
            <a:ext cx="647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28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85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95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0:27:07Z</dcterms:created>
  <dc:creator>Татьяна</dc:creator>
  <dc:description/>
  <dc:language>en-US</dc:language>
  <cp:lastModifiedBy>Татьяна</cp:lastModifiedBy>
  <dcterms:modified xsi:type="dcterms:W3CDTF">2013-10-27T09:28:44Z</dcterms:modified>
  <cp:revision>31</cp:revision>
  <dc:subject/>
  <dc:title>Le respect de l'environnement</dc:title>
</cp:coreProperties>
</file>