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1BB-1EF2-47FA-87B5-B258B4F9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3D2-88C5-4514-A20E-571F98C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B81-F419-448F-9D81-26B77C0A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407-2EB9-4693-9FB0-E0023CE7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9023-938E-4D82-960F-B2F7EB2E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F4D-EB38-4867-B913-6879AA8B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A70-63AB-485A-82A7-B79757C1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AC7-47DF-4028-AA28-C99D6DDF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E10-BEC2-4386-8004-3EF3D8DF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C4A-1847-4B71-BFF0-6197E2DA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1B7-243A-4197-8480-0A6567D1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0E9-8875-42D0-A0FE-1FDE544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394F-170B-40B5-9EB8-CEF0F0697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50000">
              <a:srgbClr val="ffcc00"/>
            </a:gs>
            <a:gs pos="100000">
              <a:srgbClr val="7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«В здоровом теле –здоровый ду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3048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сночные амулеты, помогают для иммунит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P1050156"/>
          <p:cNvPicPr/>
          <p:nvPr/>
        </p:nvPicPr>
        <p:blipFill>
          <a:blip r:embed="rId1"/>
          <a:stretch/>
        </p:blipFill>
        <p:spPr>
          <a:xfrm>
            <a:off x="3886200" y="228600"/>
            <a:ext cx="5029200" cy="3772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P1050155"/>
          <p:cNvPicPr/>
          <p:nvPr/>
        </p:nvPicPr>
        <p:blipFill>
          <a:blip r:embed="rId2"/>
          <a:stretch/>
        </p:blipFill>
        <p:spPr>
          <a:xfrm>
            <a:off x="4343400" y="358128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2819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йте дети молоко, будете ЗДОРОВЫ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1050158"/>
          <p:cNvPicPr/>
          <p:nvPr/>
        </p:nvPicPr>
        <p:blipFill>
          <a:blip r:embed="rId1"/>
          <a:stretch/>
        </p:blipFill>
        <p:spPr>
          <a:xfrm rot="5184600">
            <a:off x="2916000" y="590400"/>
            <a:ext cx="2925720" cy="2192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P1050159"/>
          <p:cNvPicPr/>
          <p:nvPr/>
        </p:nvPicPr>
        <p:blipFill>
          <a:blip r:embed="rId2"/>
          <a:stretch/>
        </p:blipFill>
        <p:spPr>
          <a:xfrm>
            <a:off x="7010280" y="244440"/>
            <a:ext cx="194328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1050161"/>
          <p:cNvPicPr/>
          <p:nvPr/>
        </p:nvPicPr>
        <p:blipFill>
          <a:blip r:embed="rId3"/>
          <a:stretch/>
        </p:blipFill>
        <p:spPr>
          <a:xfrm>
            <a:off x="5143680" y="191916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P1050167"/>
          <p:cNvPicPr/>
          <p:nvPr/>
        </p:nvPicPr>
        <p:blipFill>
          <a:blip r:embed="rId4"/>
          <a:stretch/>
        </p:blipFill>
        <p:spPr>
          <a:xfrm rot="5184000">
            <a:off x="3062160" y="3708360"/>
            <a:ext cx="2633760" cy="1976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P1050168"/>
          <p:cNvPicPr/>
          <p:nvPr/>
        </p:nvPicPr>
        <p:blipFill>
          <a:blip r:embed="rId5"/>
          <a:stretch/>
        </p:blipFill>
        <p:spPr>
          <a:xfrm>
            <a:off x="6934320" y="3503520"/>
            <a:ext cx="1790640" cy="238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3581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занятий физкультурой Будет стройная фигура.        Нам полезно без сомненья Все, что связано с движеньем. Вот, поэтому ребятки     Будем делать мы заряд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P1050175"/>
          <p:cNvPicPr/>
          <p:nvPr/>
        </p:nvPicPr>
        <p:blipFill>
          <a:blip r:embed="rId1"/>
          <a:stretch/>
        </p:blipFill>
        <p:spPr>
          <a:xfrm>
            <a:off x="4267080" y="1828800"/>
            <a:ext cx="4216680" cy="316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8240" y="685440"/>
            <a:ext cx="33526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г полезен и игра. Занимайся детвора!   Чтоб успешно  развиваться Нужно спортом заним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1050177"/>
          <p:cNvPicPr/>
          <p:nvPr/>
        </p:nvPicPr>
        <p:blipFill>
          <a:blip r:embed="rId1"/>
          <a:stretch/>
        </p:blipFill>
        <p:spPr>
          <a:xfrm>
            <a:off x="5715000" y="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P1050180"/>
          <p:cNvPicPr/>
          <p:nvPr/>
        </p:nvPicPr>
        <p:blipFill>
          <a:blip r:embed="rId2"/>
          <a:stretch/>
        </p:blipFill>
        <p:spPr>
          <a:xfrm>
            <a:off x="4038480" y="213372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P1050181"/>
          <p:cNvPicPr/>
          <p:nvPr/>
        </p:nvPicPr>
        <p:blipFill>
          <a:blip r:embed="rId3"/>
          <a:stretch/>
        </p:blipFill>
        <p:spPr>
          <a:xfrm>
            <a:off x="5562720" y="41911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32004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рогулку выход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жим воздухом дыш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лько помни при уходе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евайся по погоде!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1050183"/>
          <p:cNvPicPr/>
          <p:nvPr/>
        </p:nvPicPr>
        <p:blipFill>
          <a:blip r:embed="rId1"/>
          <a:stretch/>
        </p:blipFill>
        <p:spPr>
          <a:xfrm>
            <a:off x="3429000" y="914400"/>
            <a:ext cx="5587920" cy="4191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666880" y="1065600"/>
            <a:ext cx="4548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лезен он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дача и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320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девчонки и мальчишки! Озорные ребятишки. Каждый день здоровые, дружные, весёлы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1050101"/>
          <p:cNvPicPr/>
          <p:nvPr/>
        </p:nvPicPr>
        <p:blipFill>
          <a:blip r:embed="rId1"/>
          <a:stretch/>
        </p:blipFill>
        <p:spPr>
          <a:xfrm rot="399000">
            <a:off x="5105520" y="456840"/>
            <a:ext cx="3860640" cy="2895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1050103"/>
          <p:cNvPicPr/>
          <p:nvPr/>
        </p:nvPicPr>
        <p:blipFill>
          <a:blip r:embed="rId2"/>
          <a:stretch/>
        </p:blipFill>
        <p:spPr>
          <a:xfrm>
            <a:off x="4038480" y="3352680"/>
            <a:ext cx="3936960" cy="295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3048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в спорте первым бы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о спорт всегда люб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1050105"/>
          <p:cNvPicPr/>
          <p:nvPr/>
        </p:nvPicPr>
        <p:blipFill>
          <a:blip r:embed="rId1"/>
          <a:srcRect l="12780" t="0" r="0" b="0"/>
          <a:stretch/>
        </p:blipFill>
        <p:spPr>
          <a:xfrm rot="679200">
            <a:off x="5495400" y="590040"/>
            <a:ext cx="319104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P1050108"/>
          <p:cNvPicPr/>
          <p:nvPr/>
        </p:nvPicPr>
        <p:blipFill>
          <a:blip r:embed="rId2"/>
          <a:stretch/>
        </p:blipFill>
        <p:spPr>
          <a:xfrm rot="21211800">
            <a:off x="3987360" y="3179880"/>
            <a:ext cx="4079880" cy="305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335304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важен спорт для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- здоровье и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P1050112"/>
          <p:cNvPicPr/>
          <p:nvPr/>
        </p:nvPicPr>
        <p:blipFill>
          <a:blip r:embed="rId1"/>
          <a:stretch/>
        </p:blipFill>
        <p:spPr>
          <a:xfrm>
            <a:off x="6477120" y="152280"/>
            <a:ext cx="257148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1050111"/>
          <p:cNvPicPr/>
          <p:nvPr/>
        </p:nvPicPr>
        <p:blipFill>
          <a:blip r:embed="rId2"/>
          <a:stretch/>
        </p:blipFill>
        <p:spPr>
          <a:xfrm rot="21237600">
            <a:off x="4255560" y="3238200"/>
            <a:ext cx="3857760" cy="289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38098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ни один микроб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пал случайно в рот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и мыть перед ед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но мылом и водой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1050119"/>
          <p:cNvPicPr/>
          <p:nvPr/>
        </p:nvPicPr>
        <p:blipFill>
          <a:blip r:embed="rId1"/>
          <a:stretch/>
        </p:blipFill>
        <p:spPr>
          <a:xfrm rot="5799600">
            <a:off x="4641840" y="1761120"/>
            <a:ext cx="4372200" cy="327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3962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шать овощи и фрукты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у, молокопродукты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полезная ед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ами полна!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1050123"/>
          <p:cNvPicPr/>
          <p:nvPr/>
        </p:nvPicPr>
        <p:blipFill>
          <a:blip r:embed="rId1"/>
          <a:stretch/>
        </p:blipFill>
        <p:spPr>
          <a:xfrm>
            <a:off x="4800600" y="30492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P1050124"/>
          <p:cNvPicPr/>
          <p:nvPr/>
        </p:nvPicPr>
        <p:blipFill>
          <a:blip r:embed="rId2"/>
          <a:stretch/>
        </p:blipFill>
        <p:spPr>
          <a:xfrm>
            <a:off x="3962520" y="357840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31240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лнце только что проснулось! И ребятам улыбнулось! Поскорей, дружок, встава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рядку выбег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1050142"/>
          <p:cNvPicPr/>
          <p:nvPr/>
        </p:nvPicPr>
        <p:blipFill>
          <a:blip r:embed="rId1"/>
          <a:stretch/>
        </p:blipFill>
        <p:spPr>
          <a:xfrm>
            <a:off x="3589200" y="533520"/>
            <a:ext cx="3794400" cy="284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1050143"/>
          <p:cNvPicPr/>
          <p:nvPr/>
        </p:nvPicPr>
        <p:blipFill>
          <a:blip r:embed="rId2"/>
          <a:stretch/>
        </p:blipFill>
        <p:spPr>
          <a:xfrm>
            <a:off x="5181480" y="3581280"/>
            <a:ext cx="3773520" cy="2830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32767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о лечь и рано вст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болезней нам не зн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рядку в ряд сто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ь здоровыми хот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1050144"/>
          <p:cNvPicPr/>
          <p:nvPr/>
        </p:nvPicPr>
        <p:blipFill>
          <a:blip r:embed="rId1"/>
          <a:stretch/>
        </p:blipFill>
        <p:spPr>
          <a:xfrm>
            <a:off x="6324480" y="152280"/>
            <a:ext cx="2667240" cy="355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1050146"/>
          <p:cNvPicPr/>
          <p:nvPr/>
        </p:nvPicPr>
        <p:blipFill>
          <a:blip r:embed="rId2"/>
          <a:stretch/>
        </p:blipFill>
        <p:spPr>
          <a:xfrm rot="5019000">
            <a:off x="4773240" y="3655800"/>
            <a:ext cx="294624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P1050148"/>
          <p:cNvPicPr/>
          <p:nvPr/>
        </p:nvPicPr>
        <p:blipFill>
          <a:blip r:embed="rId3"/>
          <a:stretch/>
        </p:blipFill>
        <p:spPr>
          <a:xfrm rot="4867800">
            <a:off x="3403440" y="86328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28195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, ребята, зн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всем подольше сп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 потом уж не лениться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рядку становиться!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1050151"/>
          <p:cNvPicPr/>
          <p:nvPr/>
        </p:nvPicPr>
        <p:blipFill>
          <a:blip r:embed="rId1"/>
          <a:stretch/>
        </p:blipFill>
        <p:spPr>
          <a:xfrm>
            <a:off x="5029200" y="35812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P1050152"/>
          <p:cNvPicPr/>
          <p:nvPr/>
        </p:nvPicPr>
        <p:blipFill>
          <a:blip r:embed="rId2"/>
          <a:stretch/>
        </p:blipFill>
        <p:spPr>
          <a:xfrm>
            <a:off x="3962520" y="6094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1-28T12:48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