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hdphoto2.wdp" ContentType="image/vnd.ms-photo"/>
  <Override PartName="/ppt/media/image12.png" ContentType="image/png"/>
  <Override PartName="/ppt/media/hdphoto4.wdp" ContentType="image/vnd.ms-photo"/>
  <Override PartName="/ppt/media/image1.jpeg" ContentType="image/jpeg"/>
  <Override PartName="/ppt/media/image2.jpeg" ContentType="image/jpeg"/>
  <Override PartName="/ppt/media/hdphoto1.wdp" ContentType="image/vnd.ms-photo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hdphoto3.wdp" ContentType="image/vnd.ms-photo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51A96E-112A-4870-BD0D-BA5B3719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9130D7-A3B1-412E-8908-F5A289787A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D49AD7-4C30-40F7-B845-511995FA5DD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4E57-14A8-4DE5-88A5-39327200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335-7E1C-42FF-BDCF-0D5474A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57C-06FF-4C44-A0E0-8E1C4C0D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89F-2153-41DB-816E-0DCE89B92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249B-9650-4C1D-9166-9A6BED45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D09F-8447-4C22-BB23-FFE3D51D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6013-618B-4571-9FDE-EE758EE3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1867-BFA4-4C30-AB2D-EBC2CFC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520C-E8A5-4654-B03D-D335337A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7F7E-F098-40FC-8DB7-F42DB96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3FAC-3204-4CB4-9503-18A92191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7C0-2B16-4067-8AA0-4F5A530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A30-FF0C-4EB3-B0FB-2816DD4E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606B-A461-4183-AB63-97EF3115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31B0-7A2B-4C2B-AD70-3F012A2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D974-C144-4983-A1F5-2479ACAB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C942-D741-4733-937C-624A3ADA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D7B22-6062-4162-B20C-34C18249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02809-98DE-4729-B436-BDF724F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877C-4348-4E47-93B3-4124C52F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9F21-29CC-4953-93E2-771662C2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CC5C-ADBD-4C4A-9313-72805F3F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11F-B9C1-47B9-BD0E-CB8A2E8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517E-C752-4573-BB74-4C50BFEF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607D-6C06-488E-9877-3397A28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4297D-41BA-4CEB-A184-3BF04F5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38631-6852-4552-A6FD-B3CC6FF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D191-38AC-4D03-B141-929E2FCB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E546-7E1D-49DE-BBB5-1C4CFF0D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B2BB8-DDFD-4BB6-8E0D-A8205915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C35-4029-4B17-984C-E850C466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E839-51FE-4E3E-BF21-C0B75BEA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1A7-E8A5-4A93-87DD-8AF6DF22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8FA-2550-459B-B4BC-EAC590A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1C4-5366-416B-B682-85D539C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51A-B91E-4BEA-BFB5-DB087255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DB9F0E8-1354-4D43-AA2B-D83A7BF4AAE2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Click to edit the outline text format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Fourth Outline Level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4e5b6f"/>
                </a:solidFill>
                <a:latin typeface="Calibri"/>
              </a:rPr>
              <a:t>Второй уровень</a:t>
            </a:r>
            <a:endParaRPr b="0" lang="ru-RU" sz="2200" spc="-1" strike="noStrike">
              <a:solidFill>
                <a:srgbClr val="4e5b6f"/>
              </a:solidFill>
              <a:latin typeface="Calibri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7fd13b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AC0A13-5B35-4532-9CC0-1436147CEF46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105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09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Rounded Rectangle 11"/>
          <p:cNvSpPr/>
          <p:nvPr/>
        </p:nvSpPr>
        <p:spPr>
          <a:xfrm>
            <a:off x="228600" y="228600"/>
            <a:ext cx="8695440" cy="1425960"/>
          </a:xfrm>
          <a:prstGeom prst="roundRect">
            <a:avLst>
              <a:gd name="adj" fmla="val 7136"/>
            </a:avLst>
          </a:prstGeom>
          <a:gradFill rotWithShape="0">
            <a:gsLst>
              <a:gs pos="10000">
                <a:srgbClr val="b2e389"/>
              </a:gs>
              <a:gs pos="100000">
                <a:srgbClr val="5fa3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211680" y="714240"/>
            <a:ext cx="8723160" cy="1329480"/>
            <a:chOff x="211680" y="714240"/>
            <a:chExt cx="8723160" cy="1329480"/>
          </a:xfrm>
        </p:grpSpPr>
        <p:sp>
          <p:nvSpPr>
            <p:cNvPr id="112" name="Freeform 14"/>
            <p:cNvSpPr/>
            <p:nvPr/>
          </p:nvSpPr>
          <p:spPr>
            <a:xfrm>
              <a:off x="6047280" y="85932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8"/>
            <p:cNvSpPr/>
            <p:nvPr/>
          </p:nvSpPr>
          <p:spPr>
            <a:xfrm>
              <a:off x="2619360" y="73080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"/>
            <p:cNvSpPr/>
            <p:nvPr/>
          </p:nvSpPr>
          <p:spPr>
            <a:xfrm>
              <a:off x="2828880" y="74304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6"/>
            <p:cNvSpPr/>
            <p:nvPr/>
          </p:nvSpPr>
          <p:spPr>
            <a:xfrm>
              <a:off x="5609520" y="72972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 useBgFill="1">
          <p:nvSpPr>
            <p:cNvPr id="116" name="Freeform 10"/>
            <p:cNvSpPr/>
            <p:nvPr/>
          </p:nvSpPr>
          <p:spPr>
            <a:xfrm>
              <a:off x="211680" y="71424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4e5b6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4e5b6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56B66B1-88DC-4F73-AF45-752B123D938A}" type="slidenum">
              <a:rPr b="0" lang="ru-RU" sz="1000" spc="-1" strike="noStrike">
                <a:solidFill>
                  <a:srgbClr val="4e5b6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e5b6f"/>
                </a:solidFill>
                <a:latin typeface="Calibri"/>
              </a:rPr>
              <a:t>Click to edit the outline text format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e5b6f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4e5b6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4e5b6f"/>
                </a:solidFill>
                <a:latin typeface="Calibri"/>
              </a:rPr>
              <a:t>Fourth Outline Level</a:t>
            </a:r>
            <a:endParaRPr b="0" lang="ru-RU" sz="1600" spc="-1" strike="noStrike">
              <a:solidFill>
                <a:srgbClr val="4e5b6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5b6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microsoft.com/office/2007/relationships/hdphoto" Target="../media/hdphoto1.wdp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microsoft.com/office/2007/relationships/hdphoto" Target="../media/hdphoto2.wdp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microsoft.com/office/2007/relationships/hdphoto" Target="../media/hdphoto3.wdp"/><Relationship Id="rId4" Type="http://schemas.openxmlformats.org/officeDocument/2006/relationships/image" Target="../media/image11.jpeg"/><Relationship Id="rId5" Type="http://schemas.microsoft.com/office/2007/relationships/hdphoto" Target="../media/hdphoto4.wdp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143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вместный проект с родителями «Пальчиковые игр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» 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9360" y="5013000"/>
            <a:ext cx="3312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оспитатель:  Милецкая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ладшая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МБДОУ д/с № 4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0" algn="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п.г.т. Росляково, 2013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2286000" y="2828880"/>
            <a:ext cx="660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:\ЦИПР Пальчиковые игры\DSC_1694.JPG"/>
          <p:cNvPicPr/>
          <p:nvPr/>
        </p:nvPicPr>
        <p:blipFill>
          <a:blip r:embed="rId1"/>
          <a:stretch/>
        </p:blipFill>
        <p:spPr>
          <a:xfrm>
            <a:off x="209520" y="3645000"/>
            <a:ext cx="4427640" cy="30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F:\ЦИПР Пальчиковые игры\DSC_1639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4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248360" y="1484640"/>
            <a:ext cx="464364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деть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Оксана\Downloads\SAM_3323.JPG"/>
          <p:cNvPicPr/>
          <p:nvPr/>
        </p:nvPicPr>
        <p:blipFill>
          <a:blip r:embed="rId1"/>
          <a:stretch/>
        </p:blipFill>
        <p:spPr>
          <a:xfrm>
            <a:off x="402120" y="2795040"/>
            <a:ext cx="4457880" cy="3034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Users\Оксана\Downloads\SAM_3311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-2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860000" y="2565000"/>
            <a:ext cx="3652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71920" y="1772640"/>
            <a:ext cx="740808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оказ развлечения с использованием пальчиковых игр  для педагогов и родителей ДОУ и центра игровой поддержки ребенка 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резентация  картотеки пальчиковых игр и предоставление её в общее пользование для детей и родителей группы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ительный этап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ключительный этап – итог проек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F:\ЦИПР Пальчиковые игры\DSC_1690.JPG"/>
          <p:cNvPicPr/>
          <p:nvPr/>
        </p:nvPicPr>
        <p:blipFill>
          <a:blip r:embed="rId1"/>
          <a:stretch/>
        </p:blipFill>
        <p:spPr>
          <a:xfrm>
            <a:off x="4284000" y="1700640"/>
            <a:ext cx="4392000" cy="295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F:\ЦИПР Пальчиковые игры\DSC_1658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9640" y="1556640"/>
            <a:ext cx="3347640" cy="2520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F:\ЦИПР Пальчиковые игры\DSC_1639.JPG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brightnessContrast bright="400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41280" y="4365000"/>
            <a:ext cx="37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1700640"/>
            <a:ext cx="8064360" cy="44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Убедитесь в том, что малыши знают персонажей стихов, песенок и потешек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Перед проведением пальчиковых игр убедитесь, что руки у детей теплые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При проведении первых пальчиковых игр текст читайте медленно, чтобы дети успели показать движения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Не торопитесь обновлять репертуар: в вашем повседневном активе должно быть не более 2-3 игр, новые игры вводите постепенно, исключая по одной из знакомых (но через время возвращайтесь к ней)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Советы по проведению пальчиковых игр И. А. Лыковой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640" y="2367000"/>
            <a:ext cx="8136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Для занятий пальчиковой гимнастикой нужно только ваше желание – ведь для этих веселых и полезных игр не нужно ни специального места, ни каких-либо подручных средств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                                                                               </a:t>
            </a:r>
            <a:r>
              <a:rPr b="1" lang="ru-RU" sz="2800" spc="-1" strike="noStrike">
                <a:solidFill>
                  <a:srgbClr val="003f75"/>
                </a:solidFill>
                <a:latin typeface="Times New Roman"/>
              </a:rPr>
              <a:t>Успехов вам, дорогие коллег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Психолог\Local Settings\Temporary Internet Files\Content.IE5\L0XNN2OT\MP900202038[1].jpg"/>
          <p:cNvPicPr/>
          <p:nvPr/>
        </p:nvPicPr>
        <p:blipFill>
          <a:blip r:embed="rId1"/>
          <a:stretch/>
        </p:blipFill>
        <p:spPr>
          <a:xfrm rot="20754600">
            <a:off x="829080" y="4611600"/>
            <a:ext cx="2312280" cy="20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640" y="404640"/>
            <a:ext cx="777636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звание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Совместный проект с родителями «Пальчиковые игры»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ид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образовательны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Тип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длительны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Авторы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заместитель заведующего  по учебно-воспитательной работе  –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опивницкая Ю. П,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:   Милецкая О.Н.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Участники проект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воспитатель, родители, дети   младшей группы «Теремок»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80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рок ре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ктябрь-апрель 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5194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7200" y="1285920"/>
            <a:ext cx="7500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блема: </a:t>
            </a: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Times New Roman"/>
              </a:rPr>
              <a:t>  </a:t>
            </a:r>
            <a:br>
              <a:rPr sz="4800"/>
            </a:b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003f75"/>
                </a:solidFill>
                <a:latin typeface="Calibri"/>
              </a:rPr>
              <a:t>низкий уровень развития  мелкой моторики рук у детей младшего школьного возраста</a:t>
            </a:r>
            <a:r>
              <a:rPr b="1" lang="ru-RU" sz="4400" spc="-1" strike="noStrike">
                <a:solidFill>
                  <a:srgbClr val="003f75"/>
                </a:solidFill>
                <a:latin typeface="Calibri"/>
              </a:rPr>
              <a:t>.</a:t>
            </a:r>
            <a:br>
              <a:rPr sz="4400"/>
            </a:b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Оксана\Downloads\SAM_3314.JPG"/>
          <p:cNvPicPr/>
          <p:nvPr/>
        </p:nvPicPr>
        <p:blipFill>
          <a:blip r:embed="rId1"/>
          <a:stretch/>
        </p:blipFill>
        <p:spPr>
          <a:xfrm>
            <a:off x="2123640" y="292500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0872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54520" indent="0">
              <a:lnSpc>
                <a:spcPct val="100000"/>
              </a:lnSpc>
              <a:spcBef>
                <a:spcPts val="660"/>
              </a:spcBef>
              <a:buNone/>
              <a:tabLst>
                <a:tab algn="l" pos="0"/>
              </a:tabLst>
            </a:pPr>
            <a:endParaRPr b="0" lang="ru-RU" sz="3300" spc="-1" strike="noStrike">
              <a:solidFill>
                <a:srgbClr val="4e5b6f"/>
              </a:solidFill>
              <a:latin typeface="Calibri"/>
            </a:endParaRPr>
          </a:p>
          <a:p>
            <a:pPr marL="25452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Calibri"/>
              </a:rPr>
              <a:t>Цель проекта: </a:t>
            </a:r>
            <a:r>
              <a:rPr b="0" lang="ru-RU" sz="4100" spc="-1" strike="noStrike">
                <a:solidFill>
                  <a:srgbClr val="003f75"/>
                </a:solidFill>
                <a:latin typeface="Calibri"/>
              </a:rPr>
              <a:t>развивать мелкую моторику рук детей в процессе пальчиковых игр</a:t>
            </a: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819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Calibri"/>
              </a:rPr>
              <a:t>Задачи:</a:t>
            </a:r>
            <a:endParaRPr b="0" lang="ru-RU" sz="41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формировать произвольные, координированные движения пальцев рук.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привлечь и заинтересовать родителей к занятиям игровой деятельностью в домашних условиях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создать условия для  проведения пальчиковых игр с детьми в разных видах деятельности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-254520">
              <a:lnSpc>
                <a:spcPct val="100000"/>
              </a:lnSpc>
              <a:spcBef>
                <a:spcPts val="720"/>
              </a:spcBef>
              <a:buClr>
                <a:srgbClr val="7fd13b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ru-RU" sz="3600" spc="-1" strike="noStrike">
                <a:solidFill>
                  <a:srgbClr val="003f75"/>
                </a:solidFill>
                <a:latin typeface="Calibri"/>
              </a:rPr>
              <a:t>подготовить методический материал по данной теме, картотеку пальчиковых игр</a:t>
            </a: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  <a:p>
            <a:pPr marL="254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83640" y="188640"/>
            <a:ext cx="781776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Оксана\Downloads\SAM_3308.JPG"/>
          <p:cNvPicPr/>
          <p:nvPr/>
        </p:nvPicPr>
        <p:blipFill>
          <a:blip r:embed="rId1"/>
          <a:stretch/>
        </p:blipFill>
        <p:spPr>
          <a:xfrm>
            <a:off x="5436000" y="4005000"/>
            <a:ext cx="1872000" cy="2406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3640" y="1484640"/>
            <a:ext cx="8208720" cy="50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Развитие  мелкой моторики рук   детей  в процессе пальчиковых игр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Вовлечение  родителей в проект на основе вариативного и конструктивного диалог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внедрение здоровьесберегающей технологии  в образовательный    процесс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79040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жидаемые результат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000080"/>
            <a:ext cx="7786440" cy="55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Составление плана  и паспорта проект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разработка перспективного плана проведения пальчиковых игр и упражнений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постановка проблемы перед родителями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800" spc="-1" strike="noStrike">
                <a:solidFill>
                  <a:srgbClr val="003f75"/>
                </a:solidFill>
                <a:latin typeface="Calibri"/>
              </a:rPr>
              <a:t>информирование и ознакомление  родителей  с темой и планом проекта.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4280" y="428760"/>
            <a:ext cx="76435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дготовительный этап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71920" y="2205000"/>
            <a:ext cx="7408080" cy="39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Организация совместной деятельности с родителями по содержанию проекта (оказание помощи в сборе и оформлении информации): 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Изучение  родителями методической литературы по теме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создание соответствующей развивающей среды совместно с родителям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тематические беседы и консультации с родителям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3f75"/>
                </a:solidFill>
                <a:latin typeface="Calibri"/>
              </a:rPr>
              <a:t>практикумы «Наши пальчики играют» для родителей с участием детей.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Формирующий этап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640" y="1772640"/>
            <a:ext cx="41760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79"/>
              </a:spcBef>
              <a:buClr>
                <a:srgbClr val="7fd13b"/>
              </a:buClr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Еженедельное информирование о ходе проект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Индивидуальные буклеты и беседы  по подбору, разучиванию пальчиковых игр и оформлению картотеки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marL="254880" indent="-254880">
              <a:lnSpc>
                <a:spcPct val="100000"/>
              </a:lnSpc>
              <a:spcBef>
                <a:spcPts val="601"/>
              </a:spcBef>
              <a:buClr>
                <a:srgbClr val="7fd13b"/>
              </a:buClr>
              <a:buSzPct val="80000"/>
              <a:buFont typeface="Wingdings" charset="2"/>
              <a:buChar char=""/>
            </a:pPr>
            <a:r>
              <a:rPr b="1" lang="ru-RU" sz="2400" spc="-1" strike="noStrike">
                <a:solidFill>
                  <a:srgbClr val="003f75"/>
                </a:solidFill>
                <a:latin typeface="Times New Roman"/>
              </a:rPr>
              <a:t>Информирование родителей о ежедневных индивидуальных достижениях их ребёнка</a:t>
            </a: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родителя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D:\практикум для родителей польч гимн\IMG_2239.jpg"/>
          <p:cNvPicPr/>
          <p:nvPr/>
        </p:nvPicPr>
        <p:blipFill>
          <a:blip r:embed="rId1"/>
          <a:stretch/>
        </p:blipFill>
        <p:spPr>
          <a:xfrm>
            <a:off x="5310720" y="422100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D:\практикум для родителей польч гимн\IMG_2246.jpg"/>
          <p:cNvPicPr/>
          <p:nvPr/>
        </p:nvPicPr>
        <p:blipFill>
          <a:blip r:embed="rId2"/>
          <a:srcRect l="23113" t="0" r="0" b="0"/>
          <a:stretch/>
        </p:blipFill>
        <p:spPr>
          <a:xfrm>
            <a:off x="5310720" y="1681200"/>
            <a:ext cx="3221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55640" y="1989000"/>
            <a:ext cx="7524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тренняя гимнасти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Занятия (физ.минутки)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огул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Бодрящая гимнастика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гры в центрах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Доминантное занятие «Сказки и стихи на пальчиках»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7fd13b"/>
              </a:buClr>
              <a:buFont typeface="Symbol"/>
              <a:buChar char=""/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В любое свободное время</a:t>
            </a: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ормирующий этап – работа с деть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Волна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042</TotalTime>
  <Application>LibreOffice/7.4.7.2$Linux_X86_64 LibreOffice_project/40$Build-2</Application>
  <AppVersion>15.0000</AppVersion>
  <Words>478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9:23:25Z</dcterms:created>
  <dc:creator>Наташа</dc:creator>
  <dc:description/>
  <dc:language>en-US</dc:language>
  <cp:lastModifiedBy>Оксана</cp:lastModifiedBy>
  <dcterms:modified xsi:type="dcterms:W3CDTF">2013-11-28T18:38:50Z</dcterms:modified>
  <cp:revision>65</cp:revision>
  <dc:subject/>
  <dc:title>Проект:  Млекопитающие Кольского полуострова, занесенные в Красную книгу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