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E39-5742-41D5-BE92-3537AE6D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F8A-8326-4EFF-83CF-41B66932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F8F-3D4F-46EE-807A-6043606B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9FE-3668-44F7-A188-BA951B9E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F914-2360-4DDA-BBAD-6BDD75C7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38DF-75D2-4511-954D-FD7DC571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6D3A-4C4A-4993-AA7A-12F8B252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5419-B317-49F6-81D7-CE016FFF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5506-EF9F-43E4-BEA9-974E200D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549C-B4F1-4F4B-B029-5ADF2B1A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9E4E-305C-4350-97CB-1097CAEC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4F8-1897-4475-9ADE-B4F59FB1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FE96-61C3-401E-BFFD-07FF58BC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5010-7F90-4019-A561-7032FAAE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6567-E81E-450D-AFA1-D968ACCD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0AC5-55A8-40B6-827E-EF403585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F7E6-4119-48FF-8AD5-792EBEA9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E720C-8CDD-43B8-BBCA-BB7E2604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8176C-CDE8-4CCD-B987-981BC614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3C6EA-AE22-4414-8EE1-5C69E2F0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5D64C-0B60-4695-AA29-03D462F0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41A53-2FAB-4F17-918D-79EBBEB9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1B0-75E9-4046-AD1C-D60B0031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B221E-2542-4D8B-99E9-4ACBE4DF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DDEF9-F0ED-4EB7-B859-CB446BCC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2DA08-ACF6-4448-A707-11BF73D5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B21A5-ED40-48FF-B437-218C1BAE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5AE3D-5FE2-45B6-9E8B-904EA215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D9670-8C2D-4F87-A732-C61E75E4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D021F-D5D7-410C-9D7B-898ACB4A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ECC99-B173-4183-8495-A9D6C105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D732-CD3B-4A01-A085-0FEDE547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AFE29-DD86-40D0-9A45-52D5DD3F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7C5-5577-4A77-A2D9-A5B818C5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2957-7201-4C6C-85C4-B0B0E2AA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83176-FC0E-41BA-BB0A-66A2E333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FE171-65DB-46DF-B9CD-B0C6330B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CC14-77AB-416F-94D7-C5EEDBEB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15D1-D864-4A69-A910-482C59A3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29FD2-5557-4951-B142-3DA0EC83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5149D-C338-42D8-A7EE-4609BFB2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C8F8-F71F-4652-9983-879519D5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3C54-DCF8-4317-8827-059A9F31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F1129-CB69-4C95-8F13-9C8004DA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564-4216-4E8B-9345-99BA729F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B852A-04B5-49A9-95CB-D169A263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A8E41-34EC-44D4-989E-00FBB9BA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A28CF-EA0A-4152-BA6D-E4307353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B76ED-ED60-4932-B164-756C7F6B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2B8B-CEE9-424C-8F75-4F3C4C2D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34B47-AED1-43B8-B85F-2CF6BF65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1AB78-1BC1-43D5-8139-48FC5D71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3487F-BF09-4C96-9B64-54FE3DF1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146AA-F223-4E9E-B8B1-58F66501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B3C3-837A-42EE-89C0-EDCA20CA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AB6-B88B-4DFF-B68A-0EEDA5FA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9BA1C-095E-4413-A577-06E9F592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40300-A13E-4B7B-A7FD-4E1D444C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DB01D-35ED-444F-816C-9A553C3C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16082-C635-4DBF-A02D-0BA0CE1C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FBD79-DB60-479E-ADF1-95BCCA02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F4CB7-B6E6-4D46-91B1-373BBE47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8C83F-3D9D-4F5E-9F3E-9C043D24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B2ADC-758D-4EA4-ABDD-9437283F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8378D-E258-450B-940B-CD61848F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E64F7-73D9-4D56-BEA0-016D3365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2B9-DAE0-4AAA-AE3A-1217354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26092-E37A-4A75-8946-6E58F3CA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69B8B-B42C-4A29-A52E-198A5DBA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47AF6-DF70-43E4-97AE-5490A110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9A1-85CC-48B6-99E2-537228AF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08B-A963-41B5-91CB-E507535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A328-E3BE-4587-8869-071980D1845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0AC8-D6E5-485E-AC5D-32A716B7B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35CB-743F-4E19-AA73-42E2C599B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4E85-471A-40DE-B416-E632449D5E8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EC4F-CCFA-4B23-8C05-0401A8005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0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0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1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93B6-2E50-46F7-9EEB-71B4EDDC2E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6d8c0"/>
                </a:solidFill>
                <a:latin typeface="Arial"/>
              </a:rPr>
              <a:t>Окружающий мир 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читель начальных класс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БОУ СОШ № 89 Челябинска Пятаева Виктория Виктор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4"/>
          <p:cNvSpPr txBox="1"/>
          <p:nvPr/>
        </p:nvSpPr>
        <p:spPr>
          <a:xfrm>
            <a:off x="1295280" y="260280"/>
            <a:ext cx="65534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осстанови поговорку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WordArt 5"/>
          <p:cNvSpPr txBox="1"/>
          <p:nvPr/>
        </p:nvSpPr>
        <p:spPr>
          <a:xfrm>
            <a:off x="1619280" y="1773360"/>
            <a:ext cx="599436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ужин отдай врагу</a:t>
            </a:r>
            <a:endParaRPr b="0" i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Завтрак съешь сам</a:t>
            </a:r>
            <a:endParaRPr b="0" i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обед раздели с другом</a:t>
            </a:r>
            <a:endParaRPr b="0" i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xit" presetID="1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WordArt 5"/>
          <p:cNvSpPr txBox="1"/>
          <p:nvPr/>
        </p:nvSpPr>
        <p:spPr>
          <a:xfrm>
            <a:off x="755640" y="1916280"/>
            <a:ext cx="7632720" cy="30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трак съешь сам,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ед раздели с другом,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жин отдай врагу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азличные каш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ворожные блю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Яичные блю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Хлопья с молоком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ака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сло, сыр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WordArt 4"/>
          <p:cNvSpPr txBox="1"/>
          <p:nvPr/>
        </p:nvSpPr>
        <p:spPr>
          <a:xfrm>
            <a:off x="2843280" y="260280"/>
            <a:ext cx="3313080" cy="1224000"/>
          </a:xfrm>
          <a:prstGeom prst="rect">
            <a:avLst/>
          </a:prstGeom>
        </p:spPr>
        <p:txBody>
          <a:bodyPr wrap="none" lIns="90000" rIns="90000" tIns="46800" bIns="46800" anchor="t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Завтрак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ала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уп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Мясное или рыбное блюд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Гарнир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омпот, сок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WordArt 6"/>
          <p:cNvSpPr txBox="1"/>
          <p:nvPr/>
        </p:nvSpPr>
        <p:spPr>
          <a:xfrm>
            <a:off x="2843280" y="260280"/>
            <a:ext cx="288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ед</a:t>
            </a:r>
            <a:endParaRPr b="1" lang="en-US" sz="4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3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пеканк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вощные блю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акарон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ворожные блю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ефир, простокваша, йогур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WordArt 4"/>
          <p:cNvSpPr txBox="1"/>
          <p:nvPr/>
        </p:nvSpPr>
        <p:spPr>
          <a:xfrm>
            <a:off x="2340000" y="260280"/>
            <a:ext cx="41036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жин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Times New Roman"/>
              </a:rPr>
              <a:t>Литература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.М.Безруких, Т.А.Филиппова, А.Г.Макеева «Разговор о правильном питании». М.: «Нестле» «Олма-пресс»,2000г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роки «Мастер – класс» по программе «Школа2100» (1-4 классы). Составитель Н.А.Леонова; Волгоград, издательско-торговый дом «Корифей», 2006г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ae8ba"/>
                </a:solidFill>
                <a:latin typeface="Garamond"/>
              </a:rPr>
              <a:t>Разговор о правильном питании</a:t>
            </a:r>
            <a:endParaRPr b="1" lang="en-US" sz="48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357" name="Picture 10" descr="j0212661"/>
          <p:cNvPicPr/>
          <p:nvPr/>
        </p:nvPicPr>
        <p:blipFill>
          <a:blip r:embed="rId1"/>
          <a:stretch/>
        </p:blipFill>
        <p:spPr>
          <a:xfrm>
            <a:off x="2230560" y="2133720"/>
            <a:ext cx="478944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3"/>
          <p:cNvSpPr/>
          <p:nvPr/>
        </p:nvSpPr>
        <p:spPr>
          <a:xfrm>
            <a:off x="1692360" y="620640"/>
            <a:ext cx="86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58010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ae8ba"/>
                </a:solidFill>
                <a:latin typeface="Times New Roman"/>
              </a:rPr>
              <a:t>«Здравствуйте, друзья! Своё письмо я пишу из больницы. У меня ухудшилось здоровье, болит голова, в глазах звёздочки, всё тело вялое. Доктор говорит, что мне нужно правильно питаться. Я составил себе меню на обед: торт с лимонадом, чипсы, варенье и пепси-кола. Это моя любимая еда. Наверное</a:t>
            </a:r>
            <a:r>
              <a:rPr b="1" i="1" lang="en-US" sz="3600" spc="-1" strike="noStrike">
                <a:solidFill>
                  <a:srgbClr val="bae8ba"/>
                </a:solidFill>
                <a:latin typeface="Times New Roman"/>
              </a:rPr>
              <a:t>,</a:t>
            </a:r>
            <a:r>
              <a:rPr b="1" i="1" lang="ru-RU" sz="3600" spc="-1" strike="noStrike">
                <a:solidFill>
                  <a:srgbClr val="bae8ba"/>
                </a:solidFill>
                <a:latin typeface="Times New Roman"/>
              </a:rPr>
              <a:t> скоро я буду здоров. </a:t>
            </a:r>
            <a:br>
              <a:rPr sz="3600"/>
            </a:br>
            <a:r>
              <a:rPr b="1" i="1" lang="ru-RU" sz="3600" spc="-1" strike="noStrike">
                <a:solidFill>
                  <a:srgbClr val="bae8ba"/>
                </a:solidFill>
                <a:latin typeface="Times New Roman"/>
              </a:rPr>
              <a:t>                                           Ваш Карлсон»</a:t>
            </a:r>
            <a:r>
              <a:rPr b="1" i="1" lang="en-US" sz="3600" spc="-1" strike="noStrike">
                <a:solidFill>
                  <a:srgbClr val="bae8ba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3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3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3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205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Лето целое старалась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девалась, одевалась…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 как осень подошла,                                   Нам одёжки отд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отню одежон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ложили мы в бочонок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2" name="Picture 7" descr="is?PQl_iSPfWyjxfWImDARzaUnLlNeHVZX_GP-T-97oggc"/>
          <p:cNvPicPr/>
          <p:nvPr/>
        </p:nvPicPr>
        <p:blipFill>
          <a:blip r:embed="rId1"/>
          <a:stretch/>
        </p:blipFill>
        <p:spPr>
          <a:xfrm>
            <a:off x="539640" y="2637000"/>
            <a:ext cx="381636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Кругла, а не месяц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Желта, а не масло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хвостом, а не мышь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5" name="Picture 9" descr="is?LSUnwLZq0ngbXh5RTfMiHnAbzycza3MUUTXjdU0HvWc"/>
          <p:cNvPicPr/>
          <p:nvPr/>
        </p:nvPicPr>
        <p:blipFill>
          <a:blip r:embed="rId2"/>
          <a:stretch/>
        </p:blipFill>
        <p:spPr>
          <a:xfrm>
            <a:off x="5076720" y="2421000"/>
            <a:ext cx="29512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иний мундир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Жёлтая подкладка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 середине – сладко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68" name="Picture 6" descr="is?4Ru0ZknfjOcdipt5t-w2wZoK06pwemgUBGYH6tjrfbI"/>
          <p:cNvPicPr/>
          <p:nvPr/>
        </p:nvPicPr>
        <p:blipFill>
          <a:blip r:embed="rId2"/>
          <a:stretch/>
        </p:blipFill>
        <p:spPr>
          <a:xfrm>
            <a:off x="5003640" y="2276640"/>
            <a:ext cx="331344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кинули с Егоруш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олотые пёрышки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ставил Егоруш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лакать и без горю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8" descr="is?kgUD9Dp2I7XI_grltLce2sPXIMi2ICFV_qekz9LYCDs"/>
          <p:cNvPicPr/>
          <p:nvPr/>
        </p:nvPicPr>
        <p:blipFill>
          <a:blip r:embed="rId1"/>
          <a:stretch/>
        </p:blipFill>
        <p:spPr>
          <a:xfrm>
            <a:off x="5364000" y="2421000"/>
            <a:ext cx="273708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Хоть и сахарной зовусь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о от дождей я не размокл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упна, кругла, сладка на вкус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знали вы? Я ..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4" name="Picture 6" descr="is?vS4vM8-0xcqnBwQfiR9urd6llWBrRKbPTyshGGGF40k"/>
          <p:cNvPicPr/>
          <p:nvPr/>
        </p:nvPicPr>
        <p:blipFill>
          <a:blip r:embed="rId1"/>
          <a:stretch/>
        </p:blipFill>
        <p:spPr>
          <a:xfrm>
            <a:off x="4932360" y="2349360"/>
            <a:ext cx="324000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e8ba"/>
                </a:solidFill>
                <a:latin typeface="Garamond"/>
              </a:rPr>
              <a:t>КРОССВОРД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57200" y="1905120"/>
          <a:ext cx="8229600" cy="4197240"/>
        </p:xfrm>
        <a:graphic>
          <a:graphicData uri="http://schemas.openxmlformats.org/drawingml/2006/table">
            <a:tbl>
              <a:tblPr/>
              <a:tblGrid>
                <a:gridCol w="1019160"/>
                <a:gridCol w="1076400"/>
                <a:gridCol w="1076400"/>
                <a:gridCol w="1065240"/>
                <a:gridCol w="1029960"/>
                <a:gridCol w="1111320"/>
                <a:gridCol w="1019160"/>
                <a:gridCol w="83196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У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874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У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Ё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4:12:54Z</dcterms:created>
  <dc:creator>Пользователь</dc:creator>
  <dc:description/>
  <dc:language>en-US</dc:language>
  <cp:lastModifiedBy>Вика</cp:lastModifiedBy>
  <dcterms:modified xsi:type="dcterms:W3CDTF">2013-11-28T17:52:29Z</dcterms:modified>
  <cp:revision>10</cp:revision>
  <dc:subject/>
  <dc:title>Поговорим о правильном питании</dc:title>
</cp:coreProperties>
</file>