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C87D-8DCE-4099-963D-9924E3C2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2BFB-609E-44DA-BA5C-D10C55DB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ED92-7706-4CCE-9230-0DF23A8E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964-67A2-40C8-BE2D-D3358CFD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845F-4E60-411D-95F8-B6AC3751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CA73-BA53-469C-ADC4-1BDD7397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0E9A-C0D9-4F5E-9CDA-708582ED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9629-1413-4CB3-82D4-AA892185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A335-3E1C-4011-9357-A8A9928C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0219-A122-42E4-AC2A-AC170234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DDD1-719F-4607-A36B-46B48193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F32-F095-4CCD-BD99-42CCE54E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CD74-55B8-4E61-8D83-C5B208AB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6136-0C78-4C6A-A326-AF4F86AC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503F-A4A3-4E9E-8F17-2266F360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A499-0A20-4C11-BF06-A266E3ED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E9E2-C581-4920-8A23-84DA9BA0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F3040-20B4-427F-8282-4723AF09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26626-DD84-4514-856C-9614D61C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2575A-732A-45BD-9E71-1131882A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BDD0B-AB42-4958-AF74-45AE41DE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35B4C-89B2-4CD6-9C6B-43E75497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D08-16A3-448D-BF2F-FDF7BF60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91BE9-47F7-41B0-B3A4-17DD7599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8B68D8-9ACE-454F-B988-E2BFD2AD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1533F-EBC1-4E25-99B8-9D325031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D7329-17C9-45C9-9503-0704556F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4DEC0-57CB-4A74-AA9A-5AB3E4BB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C30FC-3950-482D-B2E7-F1678B2C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7B65C-2412-4F38-8114-17BEEB09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6B1CC-7E63-496F-9FC4-36E8608E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0BCA9-D919-46D1-934F-6CDEA8C3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5272D-E1D8-43A6-8A1C-31F4F723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F939-89CA-4B63-BADD-A7BE9F21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D9DFF-D00B-4184-B579-008603D1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0BA6E-ADA0-4F01-AC41-52A64ED1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FD126-20B8-46F3-BC9F-E58AC9EA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4E93A-9E52-4215-951F-E565A6C5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5C706-6F65-4C80-AA03-D6E8F46C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F2B86-5E2F-465B-8887-81B435A1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FF189-E549-4E47-97B6-94FD157E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C539B-0DBB-475B-B451-4BCF4112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779EE-CA30-41A9-9D48-8F086647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8876F-884C-4191-B752-9B3F9B3D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49B5-6E9E-4739-A862-ECB68C49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BA385-CCD2-4872-AA98-B7C21D35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16B12-608E-470C-82CC-FDE82002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AE702-1709-4DEB-8193-326138A9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7AED7-CFC8-4D9B-8C84-58784583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90BD9-3B4E-4741-BF8D-9F34471E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67296-A9DA-47A0-8DFD-6702D960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0CE45-71C7-46A6-9BC5-A31376CE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56773-98A0-464A-9CA5-3AA2CA40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42A78-F821-4198-A3E2-6D1EB998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4519C-4666-4D9D-80AF-E25D1525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87A-A53C-472E-A741-B6D2CB3F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CA033-3334-4E0F-B17A-96AF5963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F52C3-7199-4943-B335-C26765BA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F3A48-2B6F-4A0D-B1F2-A172E44C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52621-2CF6-469D-8AC9-5CA020A8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80962-F35E-49C7-ADBD-6C8D24BE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1A182-55F4-4F2F-8B06-B1331CA3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590DC-66F8-4424-8C3B-759F5FD4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1402E-9FDA-4852-B6C4-F3E6F444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D26E2-CC76-4B28-A8F5-67FF28B8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CB849-5015-4EA7-A839-55EDB33C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BF14-BED2-475B-B525-FB1D10B0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6C47E-D40A-436D-AB7C-CDA59625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4B4B3-D322-47CA-89E1-5AAC866D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3654C-EB78-4BA9-8B80-1BB07D81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BB59-B774-49FA-9955-BE711518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CFD9-6584-4AD1-B9C6-7537D7D3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5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706C-4F06-4992-AE8B-59E58495015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8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f99b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F0C5-582F-4312-B83A-704041AFD8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09FC-4C0A-46EC-B065-EDBAA0C752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5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8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f99b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A34C-3945-4AE5-BE93-BCCD83403E5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5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D8B0-B2C0-4FA8-A598-D69BFC2B02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05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06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1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7DED-CD20-4FB0-AC81-4E5A272B90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6d8c0"/>
                </a:solidFill>
                <a:latin typeface="Arial"/>
              </a:rPr>
              <a:t>Окружающий мир </a:t>
            </a:r>
            <a:endParaRPr b="0" lang="en-US" sz="5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читель начальных класс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БОУ СОШ № 89 Челябинска Пятаева Виктория Викторов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" nodeType="after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WordArt 4"/>
          <p:cNvSpPr txBox="1"/>
          <p:nvPr/>
        </p:nvSpPr>
        <p:spPr>
          <a:xfrm>
            <a:off x="1295280" y="260280"/>
            <a:ext cx="655344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осстанови поговорку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8" name="WordArt 5"/>
          <p:cNvSpPr txBox="1"/>
          <p:nvPr/>
        </p:nvSpPr>
        <p:spPr>
          <a:xfrm>
            <a:off x="1619280" y="1773360"/>
            <a:ext cx="5994360" cy="33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ужин отдай врагу</a:t>
            </a:r>
            <a:endParaRPr b="0" i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Завтрак съешь сам</a:t>
            </a:r>
            <a:endParaRPr b="0" i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обед раздели с другом</a:t>
            </a:r>
            <a:endParaRPr b="0" i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xit" presetID="1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WordArt 5"/>
          <p:cNvSpPr txBox="1"/>
          <p:nvPr/>
        </p:nvSpPr>
        <p:spPr>
          <a:xfrm>
            <a:off x="755640" y="1916280"/>
            <a:ext cx="7632720" cy="30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втрак съешь сам,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ед раздели с другом,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жин отдай врагу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азличные каш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ворожные блю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Яичные блю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Хлопья с молоком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ака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асло, сыр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WordArt 4"/>
          <p:cNvSpPr txBox="1"/>
          <p:nvPr/>
        </p:nvSpPr>
        <p:spPr>
          <a:xfrm>
            <a:off x="2843280" y="260280"/>
            <a:ext cx="3313080" cy="1224000"/>
          </a:xfrm>
          <a:prstGeom prst="rect">
            <a:avLst/>
          </a:prstGeom>
        </p:spPr>
        <p:txBody>
          <a:bodyPr wrap="none" lIns="90000" rIns="90000" tIns="46800" bIns="46800" anchor="t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Завтрак</a:t>
            </a:r>
            <a:endParaRPr b="1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ала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уп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Мясное или рыбное блюд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Гарнир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омпот, сок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WordArt 6"/>
          <p:cNvSpPr txBox="1"/>
          <p:nvPr/>
        </p:nvSpPr>
        <p:spPr>
          <a:xfrm>
            <a:off x="2843280" y="260280"/>
            <a:ext cx="288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бед</a:t>
            </a:r>
            <a:endParaRPr b="1" lang="en-US" sz="44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3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3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3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3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Запеканк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вощные блю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акароны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ворожные блю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ефир, простокваша, йогур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WordArt 4"/>
          <p:cNvSpPr txBox="1"/>
          <p:nvPr/>
        </p:nvSpPr>
        <p:spPr>
          <a:xfrm>
            <a:off x="2340000" y="260280"/>
            <a:ext cx="41036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жин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Times New Roman"/>
              </a:rPr>
              <a:t>Литература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М.М.Безруких, Т.А.Филиппова, А.Г.Макеева «Разговор о правильном питании». М.: «Нестле» «Олма-пресс»,2000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Уроки «Мастер – класс» по программе «Школа2100» (1-4 классы). Составитель Н.А.Леонова; Волгоград, издательско-торговый дом «Корифей», 2006г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ae8ba"/>
                </a:solidFill>
                <a:latin typeface="Garamond"/>
              </a:rPr>
              <a:t>Разговор о правильном питании</a:t>
            </a:r>
            <a:endParaRPr b="1" lang="en-US" sz="48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357" name="Picture 10" descr="j0212661"/>
          <p:cNvPicPr/>
          <p:nvPr/>
        </p:nvPicPr>
        <p:blipFill>
          <a:blip r:embed="rId1"/>
          <a:stretch/>
        </p:blipFill>
        <p:spPr>
          <a:xfrm>
            <a:off x="2230560" y="2133720"/>
            <a:ext cx="478944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4" nodeType="after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3"/>
          <p:cNvSpPr/>
          <p:nvPr/>
        </p:nvSpPr>
        <p:spPr>
          <a:xfrm>
            <a:off x="1692360" y="620640"/>
            <a:ext cx="864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91520" cy="58010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ae8ba"/>
                </a:solidFill>
                <a:latin typeface="Times New Roman"/>
              </a:rPr>
              <a:t>«Здравствуйте, друзья! Своё письмо я пишу из больницы. У меня ухудшилось здоровье, болит голова, в глазах звёздочки, всё тело вялое. Доктор говорит, что мне нужно правильно питаться. Я составил себе меню на обед: торт с лимонадом, чипсы, варенье и пепси-кола. Это моя любимая еда. Наверное</a:t>
            </a:r>
            <a:r>
              <a:rPr b="1" i="1" lang="en-US" sz="3600" spc="-1" strike="noStrike">
                <a:solidFill>
                  <a:srgbClr val="bae8ba"/>
                </a:solidFill>
                <a:latin typeface="Times New Roman"/>
              </a:rPr>
              <a:t>,</a:t>
            </a:r>
            <a:r>
              <a:rPr b="1" i="1" lang="ru-RU" sz="3600" spc="-1" strike="noStrike">
                <a:solidFill>
                  <a:srgbClr val="bae8ba"/>
                </a:solidFill>
                <a:latin typeface="Times New Roman"/>
              </a:rPr>
              <a:t> скоро я буду здоров. </a:t>
            </a:r>
            <a:br>
              <a:rPr sz="3600"/>
            </a:br>
            <a:r>
              <a:rPr b="1" i="1" lang="ru-RU" sz="3600" spc="-1" strike="noStrike">
                <a:solidFill>
                  <a:srgbClr val="bae8ba"/>
                </a:solidFill>
                <a:latin typeface="Times New Roman"/>
              </a:rPr>
              <a:t>                                           Ваш Карлсон»</a:t>
            </a:r>
            <a:r>
              <a:rPr b="1" i="1" lang="en-US" sz="3600" spc="-1" strike="noStrike">
                <a:solidFill>
                  <a:srgbClr val="bae8ba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3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3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3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2050"/>
                            </p:stCondLst>
                            <p:childTnLst>
                              <p:par>
                                <p:cTn id="57" nodeType="after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5e5e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Лето целое старалась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девалась, одевалась…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 как осень подошла,                                   Нам одёжки отда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отню одежон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ложили мы в бочонок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2" name="Picture 7" descr="is?PQl_iSPfWyjxfWImDARzaUnLlNeHVZX_GP-T-97oggc"/>
          <p:cNvPicPr/>
          <p:nvPr/>
        </p:nvPicPr>
        <p:blipFill>
          <a:blip r:embed="rId1"/>
          <a:stretch/>
        </p:blipFill>
        <p:spPr>
          <a:xfrm>
            <a:off x="539640" y="2637000"/>
            <a:ext cx="381636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Кругла, а не месяц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Желта, а не масло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 хвостом, а не мышь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5" name="Picture 9" descr="is?LSUnwLZq0ngbXh5RTfMiHnAbzycza3MUUTXjdU0HvWc"/>
          <p:cNvPicPr/>
          <p:nvPr/>
        </p:nvPicPr>
        <p:blipFill>
          <a:blip r:embed="rId2"/>
          <a:stretch/>
        </p:blipFill>
        <p:spPr>
          <a:xfrm>
            <a:off x="5076720" y="2421000"/>
            <a:ext cx="295128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иний мундир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Жёлтая подкладк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 середине – сладко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8" name="Picture 6" descr="is?4Ru0ZknfjOcdipt5t-w2wZoK06pwemgUBGYH6tjrfbI"/>
          <p:cNvPicPr/>
          <p:nvPr/>
        </p:nvPicPr>
        <p:blipFill>
          <a:blip r:embed="rId2"/>
          <a:stretch/>
        </p:blipFill>
        <p:spPr>
          <a:xfrm>
            <a:off x="5003640" y="2276640"/>
            <a:ext cx="3313440" cy="28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5e5e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кинули с Егоруш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олотые пёрышки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ставил Егоруш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лакать и без горюш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8" descr="is?kgUD9Dp2I7XI_grltLce2sPXIMi2ICFV_qekz9LYCDs"/>
          <p:cNvPicPr/>
          <p:nvPr/>
        </p:nvPicPr>
        <p:blipFill>
          <a:blip r:embed="rId1"/>
          <a:stretch/>
        </p:blipFill>
        <p:spPr>
          <a:xfrm>
            <a:off x="5364000" y="2421000"/>
            <a:ext cx="273708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Хоть и сахарной зовусь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о от дождей я не размокл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упна, кругла, сладка на вкус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знали вы? Я ..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4" name="Picture 6" descr="is?vS4vM8-0xcqnBwQfiR9urd6llWBrRKbPTyshGGGF40k"/>
          <p:cNvPicPr/>
          <p:nvPr/>
        </p:nvPicPr>
        <p:blipFill>
          <a:blip r:embed="rId1"/>
          <a:stretch/>
        </p:blipFill>
        <p:spPr>
          <a:xfrm>
            <a:off x="4932360" y="2349360"/>
            <a:ext cx="3240000" cy="32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КРОССВОРД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57200" y="1905120"/>
          <a:ext cx="8229600" cy="4197240"/>
        </p:xfrm>
        <a:graphic>
          <a:graphicData uri="http://schemas.openxmlformats.org/drawingml/2006/table">
            <a:tbl>
              <a:tblPr/>
              <a:tblGrid>
                <a:gridCol w="1019160"/>
                <a:gridCol w="1076400"/>
                <a:gridCol w="1076400"/>
                <a:gridCol w="1065240"/>
                <a:gridCol w="1029960"/>
                <a:gridCol w="1111320"/>
                <a:gridCol w="1019160"/>
                <a:gridCol w="83196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У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874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7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У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Ё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4:12:54Z</dcterms:created>
  <dc:creator>Пользователь</dc:creator>
  <dc:description/>
  <dc:language>en-US</dc:language>
  <cp:lastModifiedBy>Вика</cp:lastModifiedBy>
  <dcterms:modified xsi:type="dcterms:W3CDTF">2013-11-28T17:52:29Z</dcterms:modified>
  <cp:revision>10</cp:revision>
  <dc:subject/>
  <dc:title>Поговорим о правильном питании</dc:title>
</cp:coreProperties>
</file>