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jpeg" ContentType="image/jpeg"/>
  <Override PartName="/ppt/media/image2.gif" ContentType="image/gi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png" ContentType="image/png"/>
  <Override PartName="/ppt/media/image34.jpeg" ContentType="image/jpeg"/>
  <Override PartName="/ppt/media/image20.jpeg" ContentType="image/jpeg"/>
  <Override PartName="/ppt/media/image8.png" ContentType="image/pn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39.png" ContentType="image/png"/>
  <Override PartName="/ppt/media/image22.jpeg" ContentType="image/jpeg"/>
  <Override PartName="/ppt/media/image9.png" ContentType="image/png"/>
  <Override PartName="/ppt/media/image41.gif" ContentType="image/gif"/>
  <Override PartName="/ppt/media/image40.png" ContentType="image/png"/>
  <Override PartName="/ppt/media/image4.jpeg" ContentType="image/jpeg"/>
  <Override PartName="/ppt/media/image25.jpeg" ContentType="image/jpeg"/>
  <Override PartName="/ppt/media/image6.png" ContentType="image/png"/>
  <Override PartName="/ppt/media/image11.jpeg" ContentType="image/jpeg"/>
  <Override PartName="/ppt/media/image1.gif" ContentType="image/gif"/>
  <Override PartName="/ppt/media/image31.jpeg" ContentType="image/jpeg"/>
  <Override PartName="/ppt/media/image14.gif" ContentType="image/gi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CF08-1826-4A28-94C8-7845BC1F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24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3963600"/>
            <a:ext cx="82324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9B7D-8F7B-443A-9873-85C21E5B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39636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7F0B-A8E1-4560-B60F-0EAFAA52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800" y="16002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39636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800" y="39636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4719-A2B2-484F-ACBA-F9B2052C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600200"/>
            <a:ext cx="8232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A6C2-DEED-42FA-9A24-804571A0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24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827F-1DFD-4116-917F-CF04DD60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683A-22FF-4115-90C8-FB3AFD7A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0B3D-F08D-473F-B380-749F5263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760" y="274320"/>
            <a:ext cx="82324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5524-0BE4-47B9-B8BE-7070D89C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39636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5701-D1E3-4BA6-A1B8-FCFD893E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93FC-FB7A-4442-9F1A-9E3880C8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3963600"/>
            <a:ext cx="82324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3CC2-D925-4437-8A64-B59D7E89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600200"/>
            <a:ext cx="82324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300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5400" y="6244920"/>
            <a:ext cx="21366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280" y="6244920"/>
            <a:ext cx="21366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7AF4-483B-4EE6-A786-DF143F04EE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539640" y="981000"/>
            <a:ext cx="784872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   </a:t>
            </a: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рок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кружающего      мира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Picture 8" descr="08"/>
          <p:cNvPicPr/>
          <p:nvPr/>
        </p:nvPicPr>
        <p:blipFill>
          <a:blip r:embed="rId1"/>
          <a:stretch/>
        </p:blipFill>
        <p:spPr>
          <a:xfrm>
            <a:off x="468360" y="333360"/>
            <a:ext cx="3456000" cy="1871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5760" y="274680"/>
            <a:ext cx="8232480" cy="58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ЗМЕИ И УЖИ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picture"/>
          <p:cNvPicPr/>
          <p:nvPr/>
        </p:nvPicPr>
        <p:blipFill>
          <a:blip r:embed="rId1"/>
          <a:stretch/>
        </p:blipFill>
        <p:spPr>
          <a:xfrm>
            <a:off x="4648320" y="2522520"/>
            <a:ext cx="4039920" cy="26798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65" name="Picture 10" descr="picture"/>
          <p:cNvPicPr/>
          <p:nvPr/>
        </p:nvPicPr>
        <p:blipFill>
          <a:blip r:embed="rId2"/>
          <a:stretch/>
        </p:blipFill>
        <p:spPr>
          <a:xfrm>
            <a:off x="468360" y="2492280"/>
            <a:ext cx="4040280" cy="27590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66" name="Picture 11" descr=""/>
          <p:cNvPicPr/>
          <p:nvPr/>
        </p:nvPicPr>
        <p:blipFill>
          <a:blip r:embed="rId3"/>
          <a:stretch/>
        </p:blipFill>
        <p:spPr>
          <a:xfrm>
            <a:off x="395280" y="2492280"/>
            <a:ext cx="4105440" cy="280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"/>
          <p:cNvPicPr/>
          <p:nvPr/>
        </p:nvPicPr>
        <p:blipFill>
          <a:blip r:embed="rId4"/>
          <a:stretch/>
        </p:blipFill>
        <p:spPr>
          <a:xfrm>
            <a:off x="4643280" y="2492280"/>
            <a:ext cx="41054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3357720"/>
            <a:ext cx="823248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Читаем в учебнике </a:t>
            </a:r>
            <a:br>
              <a:rPr sz="6600"/>
            </a:b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с. 3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06"/>
          <p:cNvPicPr/>
          <p:nvPr/>
        </p:nvPicPr>
        <p:blipFill>
          <a:blip r:embed="rId1"/>
          <a:stretch/>
        </p:blipFill>
        <p:spPr>
          <a:xfrm>
            <a:off x="0" y="0"/>
            <a:ext cx="2619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24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ЧЁЛ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00015904"/>
          <p:cNvPicPr/>
          <p:nvPr/>
        </p:nvPicPr>
        <p:blipFill>
          <a:blip r:embed="rId1"/>
          <a:stretch/>
        </p:blipFill>
        <p:spPr>
          <a:xfrm>
            <a:off x="4788000" y="1413000"/>
            <a:ext cx="3949560" cy="482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Пчелы"/>
          <p:cNvPicPr/>
          <p:nvPr/>
        </p:nvPicPr>
        <p:blipFill>
          <a:blip r:embed="rId2"/>
          <a:stretch/>
        </p:blipFill>
        <p:spPr>
          <a:xfrm>
            <a:off x="395280" y="1413000"/>
            <a:ext cx="3790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0"/>
            <a:ext cx="68529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ШМЕЛЬ            О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5537160" y="765000"/>
            <a:ext cx="3225960" cy="367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i?id=60710411&amp;tov=7"/>
          <p:cNvPicPr/>
          <p:nvPr/>
        </p:nvPicPr>
        <p:blipFill>
          <a:blip r:embed="rId2"/>
          <a:stretch/>
        </p:blipFill>
        <p:spPr>
          <a:xfrm>
            <a:off x="250920" y="836640"/>
            <a:ext cx="3220920" cy="367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Картинка 1 из 165"/>
          <p:cNvPicPr/>
          <p:nvPr/>
        </p:nvPicPr>
        <p:blipFill>
          <a:blip r:embed="rId3"/>
          <a:stretch/>
        </p:blipFill>
        <p:spPr>
          <a:xfrm>
            <a:off x="3059280" y="4005360"/>
            <a:ext cx="3384360" cy="2852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8"/>
          <p:cNvSpPr/>
          <p:nvPr/>
        </p:nvSpPr>
        <p:spPr>
          <a:xfrm>
            <a:off x="0" y="522936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шершен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равила поведения, если рядом летают жалящие насекомы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74872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"/>
              </a:rPr>
              <a:t>Держись подальше  от гнёзд жалящих насекомы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"/>
              </a:rPr>
              <a:t>Не гоняйтесь за ними, не старайтесь уби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64216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176720" cy="381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4284720" y="2349360"/>
            <a:ext cx="46432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324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авила безопасного куп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упайтесь только под присмотром взросл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 плавайте в незнакомом месте. Там могут быть опасные подводные теч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 купайся в холодной вод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упаться лучше с друзь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упаться можно только в чистых водоём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2997000"/>
            <a:ext cx="823284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Рассмотрим рисунки на с. 35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06"/>
          <p:cNvPicPr/>
          <p:nvPr/>
        </p:nvPicPr>
        <p:blipFill>
          <a:blip r:embed="rId1"/>
          <a:stretch/>
        </p:blipFill>
        <p:spPr>
          <a:xfrm>
            <a:off x="1116000" y="404640"/>
            <a:ext cx="2376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24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6600" spc="-1" strike="noStrike">
                <a:solidFill>
                  <a:srgbClr val="333399"/>
                </a:solidFill>
                <a:latin typeface="Monotype Corsiva"/>
              </a:rPr>
              <a:t>Разгадаем кроссвор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5"/>
          <p:cNvSpPr txBox="1"/>
          <p:nvPr/>
        </p:nvSpPr>
        <p:spPr>
          <a:xfrm>
            <a:off x="539640" y="260280"/>
            <a:ext cx="784872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   </a:t>
            </a: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рок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кружающего      мира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321080" cy="3024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0" descr=""/>
          <p:cNvPicPr/>
          <p:nvPr/>
        </p:nvPicPr>
        <p:blipFill>
          <a:blip r:embed="rId2"/>
          <a:stretch/>
        </p:blipFill>
        <p:spPr>
          <a:xfrm>
            <a:off x="4932360" y="3500280"/>
            <a:ext cx="3960720" cy="3168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6" descr=""/>
          <p:cNvPicPr/>
          <p:nvPr/>
        </p:nvPicPr>
        <p:blipFill>
          <a:blip r:embed="rId3"/>
          <a:stretch/>
        </p:blipFill>
        <p:spPr>
          <a:xfrm>
            <a:off x="4932360" y="260280"/>
            <a:ext cx="3960720" cy="3024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6" descr="Картинка 17 из 590"/>
          <p:cNvPicPr/>
          <p:nvPr/>
        </p:nvPicPr>
        <p:blipFill>
          <a:blip r:embed="rId4"/>
          <a:stretch/>
        </p:blipFill>
        <p:spPr>
          <a:xfrm>
            <a:off x="250920" y="3500280"/>
            <a:ext cx="426708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3888000" cy="4508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6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99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7" descr=""/>
          <p:cNvPicPr/>
          <p:nvPr/>
        </p:nvPicPr>
        <p:blipFill>
          <a:blip r:embed="rId1"/>
          <a:stretch/>
        </p:blipFill>
        <p:spPr>
          <a:xfrm>
            <a:off x="4932360" y="1413000"/>
            <a:ext cx="3816360" cy="4680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8" descr="295666"/>
          <p:cNvPicPr/>
          <p:nvPr/>
        </p:nvPicPr>
        <p:blipFill>
          <a:blip r:embed="rId2"/>
          <a:stretch/>
        </p:blipFill>
        <p:spPr>
          <a:xfrm>
            <a:off x="455760" y="1413000"/>
            <a:ext cx="40399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ru-RU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4645080" y="3933720"/>
            <a:ext cx="40352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4645080" y="3933720"/>
            <a:ext cx="40352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4645080" y="3933720"/>
            <a:ext cx="40352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0"/>
          <p:cNvSpPr/>
          <p:nvPr/>
        </p:nvSpPr>
        <p:spPr>
          <a:xfrm>
            <a:off x="466560" y="3933720"/>
            <a:ext cx="404028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1"/>
          <p:cNvSpPr/>
          <p:nvPr/>
        </p:nvSpPr>
        <p:spPr>
          <a:xfrm>
            <a:off x="466560" y="3933720"/>
            <a:ext cx="404028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0" descr="picture"/>
          <p:cNvPicPr/>
          <p:nvPr/>
        </p:nvPicPr>
        <p:blipFill>
          <a:blip r:embed="rId1"/>
          <a:stretch/>
        </p:blipFill>
        <p:spPr>
          <a:xfrm>
            <a:off x="468360" y="1052640"/>
            <a:ext cx="3887640" cy="446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ru-RU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4" descr=""/>
          <p:cNvPicPr/>
          <p:nvPr/>
        </p:nvPicPr>
        <p:blipFill>
          <a:blip r:embed="rId2"/>
          <a:stretch/>
        </p:blipFill>
        <p:spPr>
          <a:xfrm>
            <a:off x="4643280" y="981000"/>
            <a:ext cx="4248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24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Виктор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«Назовите лесные ягоды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105080" cy="304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4249800" cy="3024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"/>
          <p:cNvPicPr/>
          <p:nvPr/>
        </p:nvPicPr>
        <p:blipFill>
          <a:blip r:embed="rId3"/>
          <a:stretch/>
        </p:blipFill>
        <p:spPr>
          <a:xfrm>
            <a:off x="250920" y="3500280"/>
            <a:ext cx="4105080" cy="3168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"/>
          <p:cNvPicPr/>
          <p:nvPr/>
        </p:nvPicPr>
        <p:blipFill>
          <a:blip r:embed="rId4"/>
          <a:stretch/>
        </p:blipFill>
        <p:spPr>
          <a:xfrm>
            <a:off x="4643280" y="3500280"/>
            <a:ext cx="4248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406728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ЛЧЬЕ ЛЫ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picture"/>
          <p:cNvPicPr/>
          <p:nvPr/>
        </p:nvPicPr>
        <p:blipFill>
          <a:blip r:embed="rId1"/>
          <a:stretch/>
        </p:blipFill>
        <p:spPr>
          <a:xfrm>
            <a:off x="5033880" y="1844640"/>
            <a:ext cx="3267000" cy="4321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0" name="Picture 10" descr="picture"/>
          <p:cNvPicPr/>
          <p:nvPr/>
        </p:nvPicPr>
        <p:blipFill>
          <a:blip r:embed="rId2"/>
          <a:stretch/>
        </p:blipFill>
        <p:spPr>
          <a:xfrm>
            <a:off x="809640" y="1844640"/>
            <a:ext cx="3332160" cy="42800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1" name="Picture 11" descr=""/>
          <p:cNvPicPr/>
          <p:nvPr/>
        </p:nvPicPr>
        <p:blipFill>
          <a:blip r:embed="rId3"/>
          <a:stretch/>
        </p:blipFill>
        <p:spPr>
          <a:xfrm>
            <a:off x="5003640" y="1773360"/>
            <a:ext cx="3313440" cy="4408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4"/>
          <a:stretch/>
        </p:blipFill>
        <p:spPr>
          <a:xfrm>
            <a:off x="611280" y="1844640"/>
            <a:ext cx="3622680" cy="43210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3"/>
          <p:cNvSpPr/>
          <p:nvPr/>
        </p:nvSpPr>
        <p:spPr>
          <a:xfrm>
            <a:off x="4716360" y="476280"/>
            <a:ext cx="44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РОНИЙ ГЛАЗ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3429000"/>
            <a:ext cx="82328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Домашнее задание.</a:t>
            </a:r>
            <a:br>
              <a:rPr sz="6000"/>
            </a:b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Выучить по учебнику</a:t>
            </a:r>
            <a:br>
              <a:rPr sz="5400"/>
            </a:b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с.32 - 3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книга"/>
          <p:cNvPicPr/>
          <p:nvPr/>
        </p:nvPicPr>
        <p:blipFill>
          <a:blip r:embed="rId1"/>
          <a:stretch/>
        </p:blipFill>
        <p:spPr>
          <a:xfrm>
            <a:off x="395280" y="404640"/>
            <a:ext cx="36720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539640" y="549360"/>
            <a:ext cx="8280360" cy="54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урок</a:t>
            </a:r>
            <a:endParaRPr b="1" lang="en-US" sz="6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250920" y="0"/>
            <a:ext cx="8893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                             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Источники: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.А.Плешаков.Мир вокруг нас.Учебник. Москва «Просвещение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одическое пособие.О.В.Казакова, Н.А.Сбоева, Н.И.Гаврилкина.«Универсальные поурочные разработки по курсу «Окружающий мир». Издание 3. Москва «Вако» 2006 г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50920" y="1557360"/>
            <a:ext cx="817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формление слайд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http://hghltd.yandex.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фото пчелы и ос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ео и фото взяты из «Большой энциклопедии Кирилла 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фодия 2006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50920" y="3573360"/>
            <a:ext cx="88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smiles.rc-mir.com/smile.bereich149_0.html -анимационная картин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 images.yandex.ru/yandsearch – фото грибов маслята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 насекомого шершн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бор открыток Ядовитые растения» - картинки волчьего лы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вороньего глаз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http://www.photohost.ru/showpicture.php?pictureid=295666&amp;galleryid=0&amp;user=0&amp;days=140&amp;sti  - фото белого гриб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24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Тема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сные опасност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нужно купать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4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12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3573360"/>
            <a:ext cx="823248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Читаем в учебнике с.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03"/>
          <p:cNvPicPr/>
          <p:nvPr/>
        </p:nvPicPr>
        <p:blipFill>
          <a:blip r:embed="rId1"/>
          <a:stretch/>
        </p:blipFill>
        <p:spPr>
          <a:xfrm>
            <a:off x="755640" y="549360"/>
            <a:ext cx="21607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0"/>
            <a:ext cx="82324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ВОРОНИЙ ГЛАЗ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002303.mpg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642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0214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033403.mpg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642160" cy="5904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2340000" y="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лчье лыко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3062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Andy-GS1"/>
          <p:cNvPicPr/>
          <p:nvPr/>
        </p:nvPicPr>
        <p:blipFill>
          <a:blip r:embed="rId1"/>
          <a:stretch/>
        </p:blipFill>
        <p:spPr>
          <a:xfrm>
            <a:off x="2340000" y="765000"/>
            <a:ext cx="43196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4859280" y="3645000"/>
            <a:ext cx="4105440" cy="3024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4859280" y="189000"/>
            <a:ext cx="4105440" cy="3241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3"/>
          <a:stretch/>
        </p:blipFill>
        <p:spPr>
          <a:xfrm>
            <a:off x="179280" y="3645000"/>
            <a:ext cx="4392720" cy="302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4392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br>
              <a:rPr sz="6100"/>
            </a:br>
            <a:br>
              <a:rPr sz="4700"/>
            </a:br>
            <a:br>
              <a:rPr sz="4700"/>
            </a:b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0" y="0"/>
            <a:ext cx="9144000" cy="686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WordArt 7"/>
          <p:cNvSpPr txBox="1"/>
          <p:nvPr/>
        </p:nvSpPr>
        <p:spPr>
          <a:xfrm>
            <a:off x="250920" y="333360"/>
            <a:ext cx="8566200" cy="38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лчье лыко,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роний глаз,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едная поганка,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хомор ядовиты.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WordArt 8"/>
          <p:cNvSpPr txBox="1"/>
          <p:nvPr/>
        </p:nvSpPr>
        <p:spPr>
          <a:xfrm>
            <a:off x="395280" y="4437000"/>
            <a:ext cx="8064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терегайтесь их!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2:07:52Z</dcterms:created>
  <dc:creator>1</dc:creator>
  <dc:description/>
  <dc:language>en-US</dc:language>
  <cp:lastModifiedBy>Admin</cp:lastModifiedBy>
  <dcterms:modified xsi:type="dcterms:W3CDTF">2013-11-28T15:39:43Z</dcterms:modified>
  <cp:revision>31</cp:revision>
  <dc:subject/>
  <dc:title>Слайд 1</dc:title>
</cp:coreProperties>
</file>