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14C1-B3A1-43C4-8E0F-B7FA40309A3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точник жизни, бытия живых существ во Вселенной" - вот как о нём удивительно поэтично и образно повествуется в "Книге Коляды". Бог Сущий и Бог Всевышний! Родитель и Нарожденный! Бог Истинный, Всемогущий! Святой и Неизреченный! Эта песнь о Тебе - Родитель! До рождения Света Белого тьмой кромешною был окутан Мир. Был во тьме лишь Род - Прародитель наш. Род - Родник Вселенной, отец Богов. Был вначале Род заключён в яйце, был он семенем непророщеным, был он почкою нераскрывшейся, но конец пришёл заточению, Род родил Любовь - Ладу-матушку. Род разрушил темницу силою любви, и тогда любовью мир наполнился. И родил он Царство Небесное, а под ним создал Поднебесное. Отделил Океан - море синее от небесных вод твердью каменной. Разделил Свет и Тьму, Правду с Кривдою. На картине Он восседает на небесном Троне. Одной рукой Он перелистывает Книгу Жизни Бытия, а другой - благословляет на Бытие, даёт энергию жизни.</a:t>
            </a:r>
            <a:endParaRPr b="0" lang="en-US" sz="1000" spc="-1" strike="noStrike">
              <a:solidFill>
                <a:srgbClr val="000000"/>
              </a:solidFill>
              <a:latin typeface="Arial"/>
            </a:endParaRPr>
          </a:p>
        </p:txBody>
      </p:sp>
      <p:sp>
        <p:nvSpPr>
          <p:cNvPr id="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4EAB-90C7-41CD-9E05-3F5DDE4DE6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жественная спутница Сварога.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дёт всех путём созидания и сотворчества по законам и принципам божественного мира Прави. Мать Небесная, Богородица. Мать Богов Расы Великой, Покровительница Великой Расении (Славно-Арийских территорий). На картине она дарит всем цветы любви, и понимание света мудрости Бытия - её одеяние.</a:t>
            </a:r>
            <a:endParaRPr b="0" lang="en-US" sz="1000" spc="-1" strike="noStrike">
              <a:solidFill>
                <a:srgbClr val="000000"/>
              </a:solidFill>
              <a:latin typeface="Arial"/>
            </a:endParaRPr>
          </a:p>
        </p:txBody>
      </p:sp>
      <p:sp>
        <p:nvSpPr>
          <p:cNvPr id="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E3CD-1CFC-41CF-B1C9-CC91B520F1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лес</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едний Сын Рода.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л энергию движения материальной Вселенной, её коловращение, что отображено в свастичных символах. Свастика - это инволюция, уплотнение Святого Духа до проявленных форм, воплощённых в Мире Яви; и эволюция, по мере завершения каждым своего пребывания в нижних, более плотных и ограниченных сферах бытия и возрастанием своего совершенства, разуплотнение и уход через преображение и вознесение в более прекрасные и гармоничные миры Света. В человеческом общежитии даёт дары Земные, а также и дары духовные тем, кто этого заслуживает. Он - хранитель Врат, ведущих в Райский Сад - Вырий. В человеческом существе и мире проявляется, прежде всего, через трудолюбие, постоянную работу над собой, оттачивание граней своего нравственного состояния и, как сотворца Всевышнего на Земле, посредством творческого созидательного труда на всеобщее благо. Человек не должен быть паразитом, впустую прожигающим земную жизнь и лишь пользующимся трудом других. Сколько отдал обществу, столько на небе и отмерено будет. На картине Велес как бы растворён в Природе, по сути, она движима Им.</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лес - хозяин дикой Природы. В «Повести временных лет» летописец Нестор называет Велеса - «скотьим богом», покровителем домашних животных. Он - также Господин Путей, покровитель всех путешественников. Хозяин Нави, властитель непознанного, черный бог. Посмертный судья и прижизненный испытатель, могучий волшебник и повелитель магии, оборотень. Покровитель торговли, посредник в договорах и толкователь законов. Податель богатств. Покровитель знающих и ищущих, учитель искусствам. Бог удачи.</a:t>
            </a:r>
            <a:endParaRPr b="0" lang="en-US" sz="1000" spc="-1" strike="noStrike">
              <a:solidFill>
                <a:srgbClr val="000000"/>
              </a:solidFill>
              <a:latin typeface="Arial"/>
            </a:endParaRPr>
          </a:p>
        </p:txBody>
      </p:sp>
      <p:sp>
        <p:nvSpPr>
          <p:cNvPr id="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4E82-2DE5-4CED-93A8-7A97C4203C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ын Сварога и Лады.</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Бог воинства Сил Света, основной задачей которых, прежде всего, является оказание помощи человеку в очищении от присутствующих в нём демонических качеств. В каждом человеке сосредоточены все энергии Вселенной. Есть силы созидания и силы разрушения, светлое начало и тёмная сторона. Согласно закону Свободы Воли, каждый творит либо благое деяние мыслью, чувством, словом и действием, либо - неблагое. Воинство Небесное помогает разобраться в жизненных ситуациях через честь, совесть, искренность и другие качества яснопонимания, утвердить Свет и Добро, Любовь и Лад во Вселенной. Они теснят воинство силы тёмной, которое поддерживает эгоизм личности, стремится заставить человека нарушить закон Любви и Гармонии и привести его к ниспадению. Небесное Перуново Воинство помогает человеку победить в себе невежественные качества характера. На щитах воинов надписи: чистота, милосердие, любовь, мужество, самопожертвование, доблесть, честность, искренность и т.д. В стародавние времена Перун поведал людям Священные Веды или законы праведной жизни. Они записаны Рунами в книге мудрости Перуна.</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ерун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варога и Лады.</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 воззрению славян, Отсюда Перун производитель, творец. В то же время Перун — божество грозное и карающее; его явление возбуждает страх и трепет. Перун являлся верховным божеством пантеона князя Владимира как покровитель правящей военной элиты.</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Бог воинства Сил Света, основной задачей которых, прежде всего, является оказание помощи человеку в очищении от присутствующих в нём демонических качеств. Небесное Перуново воинство помогало человеку победить в себе невежественные качества характера. На щитах воинов надписи: чистота, милосердие, любовь, мужество, самопожертвование, доблесть, честность, искренность и т.д.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древние времена Перун поведал людям Священные Веды или законы праведной жизни. Они записаны Рунами в книге мудрости Перуна.</a:t>
            </a:r>
            <a:endParaRPr b="0" lang="en-US" sz="900" spc="-1" strike="noStrike">
              <a:solidFill>
                <a:srgbClr val="000000"/>
              </a:solidFill>
              <a:latin typeface="Arial"/>
            </a:endParaRPr>
          </a:p>
        </p:txBody>
      </p:sp>
      <p:sp>
        <p:nvSpPr>
          <p:cNvPr id="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ADDC-46A5-4AD1-8F0C-CC13BB2F13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 покровитель светлых помыслов, чистого Сердца и нашего светила. Благодаря энергии тепла и света, что даёт нам всем Ярило-Солнце, и возможна сама жизнь на Земле.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знании деревенских жителей даже в XIX веке Ярило представлялся молодым красивым женихом, принимающем участие во всевозможных праздниках весны и ищущим себе красавицу невесту.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рило давал хороший урожай, здоровое потомство, он изгонял зиму и холода. Само имя Ярила происходит от слова «ярый» — сильный, мощный. Недаром в западных землях у него было другое имя — Яровит.</a:t>
            </a:r>
            <a:endParaRPr b="0" lang="en-US" sz="1200" spc="-1" strike="noStrike">
              <a:solidFill>
                <a:srgbClr val="000000"/>
              </a:solidFill>
              <a:latin typeface="Arial"/>
            </a:endParaRPr>
          </a:p>
        </p:txBody>
      </p:sp>
      <p:sp>
        <p:nvSpPr>
          <p:cNvPr id="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5E14-FEB5-4814-9ED8-423125DFFB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9819A-C7F5-41D4-B464-2A6845A0D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4CD9-7E14-4BCA-AB82-BCF1A19E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D6307-1169-46EB-BC55-2B8ACC4F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E38F2-0233-413E-9822-3404667DB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A7DB-D101-44DF-8A62-3A9A741B6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C1F79-FA44-4F40-9380-A386D3A4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30233-4B8A-44B7-A532-864D642B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28134-C239-4755-ADAE-A0B3A8A47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C8EFA-DCB3-48B3-8B7A-FE1A3E44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776B-CB45-4CFE-A47B-C96D8DCA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0AD3-54B3-4442-BA28-F7FE9BD2B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4FFA-E88D-4BED-A3C0-ACC413124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393C-1A0D-43F7-AF59-40109AD335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28760"/>
            <a:ext cx="7772400" cy="267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3300"/>
                </a:solidFill>
                <a:latin typeface="Palatino Linotype"/>
              </a:rPr>
              <a:t>Б О Г И </a:t>
            </a:r>
            <a:br>
              <a:rPr sz="6000"/>
            </a:br>
            <a:r>
              <a:rPr b="1" lang="en-US" sz="6000" spc="-1" strike="noStrike">
                <a:solidFill>
                  <a:srgbClr val="663300"/>
                </a:solidFill>
                <a:latin typeface="Palatino Linotype"/>
              </a:rPr>
              <a:t>Д Р Е В Н И Х </a:t>
            </a:r>
            <a:br>
              <a:rPr sz="6000"/>
            </a:br>
            <a:r>
              <a:rPr b="1" lang="en-US" sz="6000" spc="-1" strike="noStrike">
                <a:solidFill>
                  <a:srgbClr val="663300"/>
                </a:solidFill>
                <a:latin typeface="Palatino Linotype"/>
              </a:rPr>
              <a:t>С Л А В Я Н</a:t>
            </a:r>
            <a:endParaRPr b="0" lang="en-US" sz="6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Прямоугольник 1"/>
          <p:cNvSpPr/>
          <p:nvPr/>
        </p:nvSpPr>
        <p:spPr>
          <a:xfrm>
            <a:off x="2500200" y="428760"/>
            <a:ext cx="66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alatino Linotype"/>
              </a:rPr>
              <a:t>Главное божество древних славян </a:t>
            </a:r>
            <a:endParaRPr b="0" lang="en-US" sz="2800" spc="-1" strike="noStrike">
              <a:solidFill>
                <a:srgbClr val="000000"/>
              </a:solidFill>
              <a:latin typeface="Arial"/>
            </a:endParaRPr>
          </a:p>
        </p:txBody>
      </p:sp>
      <p:pic>
        <p:nvPicPr>
          <p:cNvPr id="50" name="Picture 2" descr="C:\Documents and Settings\admin\Рабочий стол\ИзображенияБогов\Род.jpg"/>
          <p:cNvPicPr/>
          <p:nvPr/>
        </p:nvPicPr>
        <p:blipFill>
          <a:blip r:embed="rId1"/>
          <a:stretch/>
        </p:blipFill>
        <p:spPr>
          <a:xfrm>
            <a:off x="1017720" y="500040"/>
            <a:ext cx="3597120" cy="11685600"/>
          </a:xfrm>
          <a:prstGeom prst="rect">
            <a:avLst/>
          </a:prstGeom>
          <a:ln w="0">
            <a:noFill/>
          </a:ln>
        </p:spPr>
      </p:pic>
      <p:sp>
        <p:nvSpPr>
          <p:cNvPr id="51" name="Прямоугольник 3"/>
          <p:cNvSpPr/>
          <p:nvPr/>
        </p:nvSpPr>
        <p:spPr>
          <a:xfrm>
            <a:off x="5072040" y="1000080"/>
            <a:ext cx="3714840" cy="594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Palatino Linotype"/>
              </a:rPr>
              <a:t>Род  Небесны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Palatino Linotype"/>
              </a:rPr>
              <a:t>Среди множества богов древних славян один, вероятно, самый древний бог, стоит особняком. Этот бог, по представлениям древних славян, создал всё живое, всё существующее вокруг и разделил мир на видимый и невидимый - на Явь и Навь. Он дал миру закон – Правь. Имя этого бога можно услышать во множестве славянских слов: «при</a:t>
            </a:r>
            <a:r>
              <a:rPr b="1" lang="ru-RU" sz="2000" spc="-1" strike="noStrike">
                <a:solidFill>
                  <a:srgbClr val="c00000"/>
                </a:solidFill>
                <a:latin typeface="Palatino Linotype"/>
              </a:rPr>
              <a:t>РОД</a:t>
            </a:r>
            <a:r>
              <a:rPr b="1" lang="ru-RU" sz="2000" spc="-1" strike="noStrike">
                <a:solidFill>
                  <a:srgbClr val="663300"/>
                </a:solidFill>
                <a:latin typeface="Palatino Linotype"/>
              </a:rPr>
              <a:t>а», «по</a:t>
            </a:r>
            <a:r>
              <a:rPr b="1" lang="ru-RU" sz="2000" spc="-1" strike="noStrike">
                <a:solidFill>
                  <a:srgbClr val="c00000"/>
                </a:solidFill>
                <a:latin typeface="Palatino Linotype"/>
              </a:rPr>
              <a:t>РОД</a:t>
            </a:r>
            <a:r>
              <a:rPr b="1" lang="ru-RU" sz="2000" spc="-1" strike="noStrike">
                <a:solidFill>
                  <a:srgbClr val="663300"/>
                </a:solidFill>
                <a:latin typeface="Palatino Linotype"/>
              </a:rPr>
              <a:t>а», </a:t>
            </a:r>
            <a:r>
              <a:rPr b="1" lang="ru-RU" sz="2000" spc="-1" strike="noStrike">
                <a:solidFill>
                  <a:srgbClr val="c00000"/>
                </a:solidFill>
                <a:latin typeface="Palatino Linotype"/>
              </a:rPr>
              <a:t>РОД</a:t>
            </a:r>
            <a:r>
              <a:rPr b="1" lang="ru-RU" sz="2000" spc="-1" strike="noStrike">
                <a:solidFill>
                  <a:srgbClr val="663300"/>
                </a:solidFill>
                <a:latin typeface="Palatino Linotype"/>
              </a:rPr>
              <a:t>ина». Имя этому Единому богу – </a:t>
            </a:r>
            <a:r>
              <a:rPr b="1" lang="ru-RU" sz="2000" spc="-1" strike="noStrike">
                <a:solidFill>
                  <a:srgbClr val="c00000"/>
                </a:solidFill>
                <a:latin typeface="Palatino Linotype"/>
              </a:rPr>
              <a:t>Род.</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0200" y="285840"/>
            <a:ext cx="694368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Bookman Old Style"/>
              </a:rPr>
              <a:t>Любовь - Лада матушка </a:t>
            </a:r>
            <a:br>
              <a:rPr sz="3600"/>
            </a:br>
            <a:endParaRPr b="0" lang="en-US" sz="3600" spc="-1" strike="noStrike">
              <a:solidFill>
                <a:srgbClr val="000000"/>
              </a:solidFill>
              <a:latin typeface="Arial"/>
            </a:endParaRPr>
          </a:p>
        </p:txBody>
      </p:sp>
      <p:sp>
        <p:nvSpPr>
          <p:cNvPr id="53" name=""/>
          <p:cNvSpPr txBox="1"/>
          <p:nvPr/>
        </p:nvSpPr>
        <p:spPr>
          <a:xfrm>
            <a:off x="928800" y="928440"/>
            <a:ext cx="3643200" cy="542916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663300"/>
                </a:solidFill>
                <a:latin typeface="Palatino Linotype"/>
              </a:rPr>
              <a:t>Первая, кого породил Род Небесный. В человеческом понимании это всё светлое, доброе, что объединяет между собой людей на принципах взаимопомощи, сотрудничества, братства. Она даёт Лад и Гармонию между мужчиной и женщиной.</a:t>
            </a:r>
            <a:endParaRPr b="0" lang="en-US" sz="2400" spc="-1" strike="noStrike">
              <a:solidFill>
                <a:srgbClr val="000000"/>
              </a:solidFill>
              <a:latin typeface="Arial"/>
            </a:endParaRPr>
          </a:p>
        </p:txBody>
      </p:sp>
      <p:pic>
        <p:nvPicPr>
          <p:cNvPr id="54" name="Picture 2" descr="C:\Documents and Settings\admin\Рабочий стол\ИзображенияБогов\Лада1.jpg"/>
          <p:cNvPicPr/>
          <p:nvPr/>
        </p:nvPicPr>
        <p:blipFill>
          <a:blip r:embed="rId1"/>
          <a:stretch/>
        </p:blipFill>
        <p:spPr>
          <a:xfrm>
            <a:off x="4700520" y="628560"/>
            <a:ext cx="4235400" cy="6174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142560"/>
            <a:ext cx="51148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Palatino Linotype"/>
              </a:rPr>
              <a:t>Велес</a:t>
            </a:r>
            <a:endParaRPr b="0" lang="en-US" sz="4400" spc="-1" strike="noStrike">
              <a:solidFill>
                <a:srgbClr val="000000"/>
              </a:solidFill>
              <a:latin typeface="Arial"/>
            </a:endParaRPr>
          </a:p>
        </p:txBody>
      </p:sp>
      <p:sp>
        <p:nvSpPr>
          <p:cNvPr id="56" name=""/>
          <p:cNvSpPr txBox="1"/>
          <p:nvPr/>
        </p:nvSpPr>
        <p:spPr>
          <a:xfrm>
            <a:off x="4785840" y="619200"/>
            <a:ext cx="3971880" cy="62388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Palatino Linotype"/>
              </a:rPr>
              <a:t>	</a:t>
            </a:r>
            <a:r>
              <a:rPr b="1" lang="en-US" sz="2400" spc="-1" strike="noStrike">
                <a:solidFill>
                  <a:srgbClr val="663300"/>
                </a:solidFill>
                <a:latin typeface="Palatino Linotype"/>
              </a:rPr>
              <a:t>Хозяин дикой Природы. Покровитель домашних животных, Господин Путей, покровитель всех путешественников. Покровитель торговли, посредник в договорах и толкователь законов. Податель богатств. Покровитель знающих и ищущих, учитель искусствам. Бог удачи.</a:t>
            </a:r>
            <a:endParaRPr b="0" lang="en-US" sz="2400" spc="-1" strike="noStrike">
              <a:solidFill>
                <a:srgbClr val="000000"/>
              </a:solidFill>
              <a:latin typeface="Arial"/>
            </a:endParaRPr>
          </a:p>
        </p:txBody>
      </p:sp>
      <p:pic>
        <p:nvPicPr>
          <p:cNvPr id="57" name="Picture 2" descr="C:\Documents and Settings\admin\Рабочий стол\ИзображенияБогов\Велес.jpg"/>
          <p:cNvPicPr/>
          <p:nvPr/>
        </p:nvPicPr>
        <p:blipFill>
          <a:blip r:embed="rId1"/>
          <a:stretch/>
        </p:blipFill>
        <p:spPr>
          <a:xfrm>
            <a:off x="933480" y="938160"/>
            <a:ext cx="3705120" cy="10607760"/>
          </a:xfrm>
          <a:prstGeom prst="rect">
            <a:avLst/>
          </a:prstGeom>
          <a:ln w="0">
            <a:noFill/>
          </a:ln>
        </p:spPr>
      </p:pic>
    </p:spTree>
  </p:cSld>
  <p:transition spd="med">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14800" y="285480"/>
            <a:ext cx="554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Palatino Linotype"/>
              </a:rPr>
              <a:t>Перун</a:t>
            </a:r>
            <a:endParaRPr b="0" lang="en-US" sz="4400" spc="-1" strike="noStrike">
              <a:solidFill>
                <a:srgbClr val="000000"/>
              </a:solidFill>
              <a:latin typeface="Arial"/>
            </a:endParaRPr>
          </a:p>
        </p:txBody>
      </p:sp>
      <p:sp>
        <p:nvSpPr>
          <p:cNvPr id="59" name=""/>
          <p:cNvSpPr txBox="1"/>
          <p:nvPr/>
        </p:nvSpPr>
        <p:spPr>
          <a:xfrm>
            <a:off x="4672080" y="1404720"/>
            <a:ext cx="4471920" cy="5452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663300"/>
                </a:solidFill>
                <a:latin typeface="Palatino Linotype"/>
              </a:rPr>
              <a:t>Бог грома и молнии, покровитель воинов. Перун в теплые дни весны являлся со своими молниями, оплодотворял землю дождями и выводил из-за рассеянных туч ясное солнце. Его творческою силою пробуждалась природа к жизни, и он как бы вновь созидал Мир. </a:t>
            </a:r>
            <a:endParaRPr b="0" lang="en-US" sz="2400" spc="-1" strike="noStrike">
              <a:solidFill>
                <a:srgbClr val="000000"/>
              </a:solidFill>
              <a:latin typeface="Arial"/>
            </a:endParaRPr>
          </a:p>
        </p:txBody>
      </p:sp>
      <p:pic>
        <p:nvPicPr>
          <p:cNvPr id="60" name="Picture 2" descr="C:\Documents and Settings\admin\Рабочий стол\ИзображенияБогов\Перун.jpg"/>
          <p:cNvPicPr/>
          <p:nvPr/>
        </p:nvPicPr>
        <p:blipFill>
          <a:blip r:embed="rId1"/>
          <a:stretch/>
        </p:blipFill>
        <p:spPr>
          <a:xfrm>
            <a:off x="1596960" y="609480"/>
            <a:ext cx="3316320" cy="1146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71720" y="571680"/>
            <a:ext cx="418608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Arial"/>
              </a:rPr>
              <a:t>Бог Ра </a:t>
            </a:r>
            <a:br>
              <a:rPr sz="4000"/>
            </a:br>
            <a:r>
              <a:rPr b="1" lang="ru-RU" sz="4000" spc="-1" strike="noStrike">
                <a:solidFill>
                  <a:srgbClr val="c00000"/>
                </a:solidFill>
                <a:latin typeface="Arial"/>
              </a:rPr>
              <a:t>Ярило-Солнце</a:t>
            </a:r>
            <a:r>
              <a:rPr b="0" lang="ru-RU"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62" name=""/>
          <p:cNvSpPr txBox="1"/>
          <p:nvPr/>
        </p:nvSpPr>
        <p:spPr>
          <a:xfrm>
            <a:off x="1285560" y="1500120"/>
            <a:ext cx="3714840" cy="406728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663300"/>
                </a:solidFill>
                <a:latin typeface="Palatino Linotype"/>
              </a:rPr>
              <a:t>Покровитель Светлых помыслов, чистого Сердца и нашего светила. Благодаря энергии Тепла и Света, что даёт нам всем Ярило-Солнце, и возможна сама жизнь на Земле. </a:t>
            </a:r>
            <a:endParaRPr b="0" lang="en-US" sz="2800" spc="-1" strike="noStrike">
              <a:solidFill>
                <a:srgbClr val="000000"/>
              </a:solidFill>
              <a:latin typeface="Arial"/>
            </a:endParaRPr>
          </a:p>
          <a:p>
            <a:pPr marL="291600" indent="-291600">
              <a:lnSpc>
                <a:spcPct val="100000"/>
              </a:lnSpc>
              <a:spcBef>
                <a:spcPts val="700"/>
              </a:spcBef>
              <a:buClr>
                <a:srgbClr val="6633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2" descr="C:\Documents and Settings\admin\Рабочий стол\ИзображенияБогов\Ярило-Солнце.jpg"/>
          <p:cNvPicPr/>
          <p:nvPr/>
        </p:nvPicPr>
        <p:blipFill>
          <a:blip r:embed="rId1"/>
          <a:stretch/>
        </p:blipFill>
        <p:spPr>
          <a:xfrm>
            <a:off x="5102280" y="719280"/>
            <a:ext cx="3797280" cy="591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1T14:56:24Z</dcterms:created>
  <dc:creator>user</dc:creator>
  <dc:description/>
  <dc:language>en-US</dc:language>
  <cp:lastModifiedBy>user</cp:lastModifiedBy>
  <dcterms:modified xsi:type="dcterms:W3CDTF">2013-12-01T14:56:43Z</dcterms:modified>
  <cp:revision>1</cp:revision>
  <dc:subject/>
  <dc:title>Б О Г И  Д Р Е В Н И Х  С Л А В Я Н</dc:title>
</cp:coreProperties>
</file>