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9.png" ContentType="image/png"/>
  <Override PartName="/ppt/media/image5.gif" ContentType="image/gif"/>
  <Override PartName="/ppt/media/image13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3.gif" ContentType="image/gif"/>
  <Override PartName="/ppt/media/image26.gif" ContentType="image/gif"/>
  <Override PartName="/ppt/media/image25.gif" ContentType="image/gif"/>
  <Override PartName="/ppt/media/image24.gif" ContentType="image/gif"/>
  <Override PartName="/ppt/media/image16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7.gif" ContentType="image/gif"/>
  <Override PartName="/ppt/media/image15.gif" ContentType="image/gif"/>
  <Override PartName="/ppt/media/image18.png" ContentType="image/png"/>
  <Override PartName="/ppt/media/image10.png" ContentType="image/png"/>
  <Override PartName="/ppt/media/image22.gif" ContentType="image/gi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D20-2BCF-4187-A2EB-8D4F0EAE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7F0-9DFE-44E4-B86F-428DF57A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241-8485-44B5-A5AA-978FB3E9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7CB-C7A4-4472-8B3C-C343B913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9EC-9A57-439B-81F2-50657CE5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A7B-3361-4E1A-9B9B-3E742FD8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151-378D-458B-A2C7-F2925146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707-5AB9-4A87-8DC8-8A821AA4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4DF-8DF1-4017-A61F-829DCC22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3FD-A6B6-46C5-BAD8-3D5CE4C6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898-3B78-46BD-8D72-65A24EA4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04F-0ACC-4EF3-9B97-DE588977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3735-A98F-4BA3-8978-15D32345F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4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Monotype Corsiva"/>
              </a:rPr>
              <a:t>Слайд-презентация</a:t>
            </a:r>
            <a:br>
              <a:rPr sz="5400"/>
            </a:br>
            <a:r>
              <a:rPr b="1" lang="ru-RU" sz="5400" spc="-1" strike="noStrike">
                <a:solidFill>
                  <a:srgbClr val="9900cc"/>
                </a:solidFill>
                <a:latin typeface="Monotype Corsiva"/>
              </a:rPr>
              <a:t>«Моя дружная семья»</a:t>
            </a:r>
            <a:br>
              <a:rPr sz="5400"/>
            </a:br>
            <a:br>
              <a:rPr sz="5400"/>
            </a:br>
            <a:r>
              <a:rPr b="1" lang="ru-RU" sz="4000" spc="-1" strike="noStrike">
                <a:solidFill>
                  <a:srgbClr val="9900cc"/>
                </a:solidFill>
                <a:latin typeface="Monotype Corsiva"/>
              </a:rPr>
              <a:t>Автор: Ахметова Мадина</a:t>
            </a: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Monotype Corsiva"/>
              </a:rPr>
              <a:t>Кривощековская средняя школа</a:t>
            </a: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Monotype Corsiva"/>
              </a:rPr>
              <a:t>Руководитель конкурсной работы: Анеева Жанар Босекеевна</a:t>
            </a: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Monotype Corsiva"/>
              </a:rPr>
              <a:t>Должность: учитель гео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бабочка"/>
          <p:cNvPicPr/>
          <p:nvPr/>
        </p:nvPicPr>
        <p:blipFill>
          <a:blip r:embed="rId1"/>
          <a:stretch/>
        </p:blipFill>
        <p:spPr>
          <a:xfrm>
            <a:off x="7429680" y="2214720"/>
            <a:ext cx="12236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2143080" y="571680"/>
            <a:ext cx="48974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Что может быть семьи дороже?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Теплом встречает отчий дом,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Здесь ждут тебя всегда с любовью,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провожают в путь с добром!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Отец и мать, и дети дружно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Сидят за праздничным столом,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вместе им совсем не скучно,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А интересно шестером.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Любите! И цените счастье!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Оно рождается в семье,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Что может быть ее дороже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На этой сказочной земле</a:t>
            </a: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708258z77xitimzp"/>
          <p:cNvPicPr/>
          <p:nvPr/>
        </p:nvPicPr>
        <p:blipFill>
          <a:blip r:embed="rId1"/>
          <a:stretch/>
        </p:blipFill>
        <p:spPr>
          <a:xfrm>
            <a:off x="179280" y="4797360"/>
            <a:ext cx="1968480" cy="206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115152029"/>
          <p:cNvPicPr/>
          <p:nvPr/>
        </p:nvPicPr>
        <p:blipFill>
          <a:blip r:embed="rId2"/>
          <a:stretch/>
        </p:blipFill>
        <p:spPr>
          <a:xfrm>
            <a:off x="7054920" y="2349360"/>
            <a:ext cx="2089080" cy="206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197"/>
          <p:cNvPicPr/>
          <p:nvPr/>
        </p:nvPicPr>
        <p:blipFill>
          <a:blip r:embed="rId3"/>
          <a:stretch/>
        </p:blipFill>
        <p:spPr>
          <a:xfrm>
            <a:off x="7134120" y="0"/>
            <a:ext cx="2009880" cy="2060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cv011"/>
          <p:cNvPicPr/>
          <p:nvPr/>
        </p:nvPicPr>
        <p:blipFill>
          <a:blip r:embed="rId4"/>
          <a:stretch/>
        </p:blipFill>
        <p:spPr>
          <a:xfrm>
            <a:off x="0" y="0"/>
            <a:ext cx="202392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703007"/>
          <p:cNvPicPr/>
          <p:nvPr/>
        </p:nvPicPr>
        <p:blipFill>
          <a:blip r:embed="rId5"/>
          <a:stretch/>
        </p:blipFill>
        <p:spPr>
          <a:xfrm>
            <a:off x="3635280" y="5791320"/>
            <a:ext cx="217980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flowers_263"/>
          <p:cNvPicPr/>
          <p:nvPr/>
        </p:nvPicPr>
        <p:blipFill>
          <a:blip r:embed="rId6"/>
          <a:stretch/>
        </p:blipFill>
        <p:spPr>
          <a:xfrm>
            <a:off x="6804000" y="4869000"/>
            <a:ext cx="21924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99760" y="1285920"/>
            <a:ext cx="5232600" cy="44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А вместе взятое одним словом – семья.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Семья – это то, что мы делим на всех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Всем понемножку: и слезы и смех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Взлет и падение, радость, печаль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Дружбу и ссоры, молчанья печать.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Семья – это то, что с тобою всегда.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Пусть мчатся секунды, недели, года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Но стены родные, отчий твой дом –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Сердце навеки останется в нем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288650814"/>
          <p:cNvPicPr/>
          <p:nvPr/>
        </p:nvPicPr>
        <p:blipFill>
          <a:blip r:embed="rId1"/>
          <a:stretch/>
        </p:blipFill>
        <p:spPr>
          <a:xfrm>
            <a:off x="6429240" y="4786200"/>
            <a:ext cx="1621080" cy="157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1248077842_babochka66"/>
          <p:cNvPicPr/>
          <p:nvPr/>
        </p:nvPicPr>
        <p:blipFill>
          <a:blip r:embed="rId2"/>
          <a:stretch/>
        </p:blipFill>
        <p:spPr>
          <a:xfrm>
            <a:off x="8229600" y="0"/>
            <a:ext cx="735120" cy="184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33348yuwi008h5k"/>
          <p:cNvPicPr/>
          <p:nvPr/>
        </p:nvPicPr>
        <p:blipFill>
          <a:blip r:embed="rId3"/>
          <a:stretch/>
        </p:blipFill>
        <p:spPr>
          <a:xfrm>
            <a:off x="428760" y="3143160"/>
            <a:ext cx="1187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95280" y="155736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Monotype Corsiva"/>
              </a:rPr>
              <a:t>«Счастлив тот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Monotype Corsiva"/>
              </a:rPr>
              <a:t>            </a:t>
            </a:r>
            <a:r>
              <a:rPr b="1" lang="ru-RU" sz="6000" spc="-1" strike="noStrike">
                <a:solidFill>
                  <a:srgbClr val="9900cc"/>
                </a:solidFill>
                <a:latin typeface="Monotype Corsiva"/>
              </a:rPr>
              <a:t>кто счастлив дом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Monotype Corsiva"/>
              </a:rPr>
              <a:t>Л.Н.Толстой</a:t>
            </a:r>
            <a:r>
              <a:rPr b="0" lang="ru-RU" sz="60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248077842_babochka66"/>
          <p:cNvPicPr/>
          <p:nvPr/>
        </p:nvPicPr>
        <p:blipFill>
          <a:blip r:embed="rId1"/>
          <a:stretch/>
        </p:blipFill>
        <p:spPr>
          <a:xfrm>
            <a:off x="6877080" y="0"/>
            <a:ext cx="1295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971640" y="404640"/>
            <a:ext cx="66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Когда появилось слово семья?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Когда-то о нём не слыхала Земля –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Но Еве сказал перед свадьбой Адам;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– Сейчас я тебе семь вопросов задам: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Кто деток родит мне, богиня моя?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Ева тихонько ответила: «Я»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– Кто их воспитает, царица моя?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Ева покорно ответила: «Я»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– Кто есть приготовит, о радость моя?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Ева всё также ответила: «Я»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– Кто платье сошьёт, постирает бельё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Меня приласкает, украсит жильё?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«Я, я», – тихо молвила Ева: «я, я»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Сказала она знаменитых семь «Я»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Вот так на Земле появилась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703007"/>
          <p:cNvPicPr/>
          <p:nvPr/>
        </p:nvPicPr>
        <p:blipFill>
          <a:blip r:embed="rId1"/>
          <a:stretch/>
        </p:blipFill>
        <p:spPr>
          <a:xfrm>
            <a:off x="6500880" y="428760"/>
            <a:ext cx="244800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40908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С кем пеpвым мы встpечаемся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Пpидя на белый свет, -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Так это наша мамочка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Ее милее нет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Вся жизнь вокpyг нее вpащается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Весь миp наш ею обогpет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Весь век она стаpается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Hас yбеpечь от бед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Она - опоpа в доме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Хлопочет каждый час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никого нет кpоме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Кто так любил бы нас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Так счастья ей побольше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жизни лет подольше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pадость ей в yдел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меньше гpyстных де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5470930_thumb"/>
          <p:cNvPicPr/>
          <p:nvPr/>
        </p:nvPicPr>
        <p:blipFill>
          <a:blip r:embed="rId1"/>
          <a:stretch/>
        </p:blipFill>
        <p:spPr>
          <a:xfrm>
            <a:off x="6572160" y="2643120"/>
            <a:ext cx="1666800" cy="219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153913987"/>
          <p:cNvPicPr/>
          <p:nvPr/>
        </p:nvPicPr>
        <p:blipFill>
          <a:blip r:embed="rId2"/>
          <a:stretch/>
        </p:blipFill>
        <p:spPr>
          <a:xfrm>
            <a:off x="250920" y="189000"/>
            <a:ext cx="21207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643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Без т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Не прошло в моей жизни ни д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С той младенческой нежной по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Хорошо, что родилась ты раньше ме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В гордом звании старшей сест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Старше — значит ум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Старше — значит силь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Я речонка пока, ты — р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Старше — значит и м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В самый черный из дн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Есть и свет, и тепло, и ру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Без тебя не прошло в моей жизни ни д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И за то, что мой парус не сни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И за то, что ты сильна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Есть у меня — Я твой самый счастливый должн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И за то, что речо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Взбурлила рек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Огонек разгорелся костром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Если в жизни придется тебе нелегко — Хочешь? — я буду старшей сестро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flowers_59"/>
          <p:cNvPicPr/>
          <p:nvPr/>
        </p:nvPicPr>
        <p:blipFill>
          <a:blip r:embed="rId1"/>
          <a:stretch/>
        </p:blipFill>
        <p:spPr>
          <a:xfrm>
            <a:off x="6804000" y="5270400"/>
            <a:ext cx="1800360" cy="158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iovpkql5"/>
          <p:cNvPicPr/>
          <p:nvPr/>
        </p:nvPicPr>
        <p:blipFill>
          <a:blip r:embed="rId2"/>
          <a:stretch/>
        </p:blipFill>
        <p:spPr>
          <a:xfrm>
            <a:off x="5724360" y="3645000"/>
            <a:ext cx="1184400" cy="145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ac797199d73d"/>
          <p:cNvPicPr/>
          <p:nvPr/>
        </p:nvPicPr>
        <p:blipFill>
          <a:blip r:embed="rId3"/>
          <a:stretch/>
        </p:blipFill>
        <p:spPr>
          <a:xfrm>
            <a:off x="6858000" y="1928880"/>
            <a:ext cx="13032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85960" y="1500120"/>
            <a:ext cx="55087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Я братом своим очень-очень горжу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И в этом всем с радостью вновь признаюс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Знакомы с рожденья и с детства дружн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Поэтому очень друг другу нужн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Спасибо за то, что ты добр и умё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Отзывчив, надёжен, красив и силён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Готов ты помочь и понять меня р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Талгат— самый хороший и преданный бра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233348yuwi008h5k"/>
          <p:cNvPicPr/>
          <p:nvPr/>
        </p:nvPicPr>
        <p:blipFill>
          <a:blip r:embed="rId1"/>
          <a:stretch/>
        </p:blipFill>
        <p:spPr>
          <a:xfrm>
            <a:off x="7429680" y="3143160"/>
            <a:ext cx="975960" cy="98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1311_Photo_050"/>
          <p:cNvPicPr/>
          <p:nvPr/>
        </p:nvPicPr>
        <p:blipFill>
          <a:blip r:embed="rId2"/>
          <a:stretch/>
        </p:blipFill>
        <p:spPr>
          <a:xfrm>
            <a:off x="468360" y="189000"/>
            <a:ext cx="138420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4859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Между нами разница — пять л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Но с годами тоньше эти гр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Мы взрослеем...(Не стареем, нет!:-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И поэтому друг к другу больше тя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Ты зовёшь меня «сестрёнкой», я — «сестро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Внешне мы ни капли не похож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И характер, жизненный уст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Как и лица, не похожи тож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Мы взрослеем. Не стареем, 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Я тебя, как прежде, догоня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Мне, как в детстве, нужен твой со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Слушаюсь и мудрости внима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Жизнь бежит, струится струйкой тонкой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И когда состаримся с тоб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Называй всегда меня «сестрёнкой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Я тебя — «сестричкой» и «сестро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1063862etmec3apfe"/>
          <p:cNvPicPr/>
          <p:nvPr/>
        </p:nvPicPr>
        <p:blipFill>
          <a:blip r:embed="rId1"/>
          <a:stretch/>
        </p:blipFill>
        <p:spPr>
          <a:xfrm>
            <a:off x="6072120" y="3500280"/>
            <a:ext cx="1382760" cy="1455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ovpkql5"/>
          <p:cNvPicPr/>
          <p:nvPr/>
        </p:nvPicPr>
        <p:blipFill>
          <a:blip r:embed="rId2"/>
          <a:stretch/>
        </p:blipFill>
        <p:spPr>
          <a:xfrm>
            <a:off x="6372360" y="5229360"/>
            <a:ext cx="132696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1248077842_babochka66"/>
          <p:cNvPicPr/>
          <p:nvPr/>
        </p:nvPicPr>
        <p:blipFill>
          <a:blip r:embed="rId3"/>
          <a:stretch/>
        </p:blipFill>
        <p:spPr>
          <a:xfrm>
            <a:off x="6588000" y="0"/>
            <a:ext cx="1008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000160" y="1357200"/>
            <a:ext cx="504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Стежок к стежку, игла рисует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Сложнейший колорит шитья.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И вышивальщица рискует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Уйти за грани бытия...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Но нити крепко держат сердце,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Гармонии рождая лад,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И как сиреневое скерцо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Те нити радостно звучат. 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55440" y="12600"/>
            <a:ext cx="7497720" cy="1822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"/>
          <p:cNvPicPr/>
          <p:nvPr/>
        </p:nvPicPr>
        <p:blipFill>
          <a:blip r:embed="rId2"/>
          <a:stretch/>
        </p:blipFill>
        <p:spPr>
          <a:xfrm>
            <a:off x="7524720" y="87480"/>
            <a:ext cx="1193760" cy="1125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"/>
          <p:cNvPicPr/>
          <p:nvPr/>
        </p:nvPicPr>
        <p:blipFill>
          <a:blip r:embed="rId3"/>
          <a:stretch/>
        </p:blipFill>
        <p:spPr>
          <a:xfrm>
            <a:off x="363600" y="5162400"/>
            <a:ext cx="162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14720" y="1643040"/>
            <a:ext cx="388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На природе отдых -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Средство от болезней.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Загородный воздух!..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Нет его полезней.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Нет его приятней,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Даже если в зное.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Рядом - наш приятель,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Озеро лесно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1925640" y="12600"/>
            <a:ext cx="5297400" cy="1822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1776240" cy="17413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3"/>
          <a:stretch/>
        </p:blipFill>
        <p:spPr>
          <a:xfrm>
            <a:off x="3059280" y="5240160"/>
            <a:ext cx="223344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4"/>
          <a:stretch/>
        </p:blipFill>
        <p:spPr>
          <a:xfrm>
            <a:off x="6659640" y="333360"/>
            <a:ext cx="19666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07:21:24Z</dcterms:created>
  <dc:creator>A.Klein</dc:creator>
  <dc:description/>
  <dc:language>en-US</dc:language>
  <cp:lastModifiedBy>admin</cp:lastModifiedBy>
  <dcterms:modified xsi:type="dcterms:W3CDTF">2013-12-01T12:20:24Z</dcterms:modified>
  <cp:revision>25</cp:revision>
  <dc:subject/>
  <dc:title>Слайд 1</dc:title>
</cp:coreProperties>
</file>