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gif" ContentType="image/gif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sldIdLst>
    <p:sldId id="256" r:id="rId43"/>
    <p:sldId id="257" r:id="rId44"/>
    <p:sldId id="258" r:id="rId45"/>
    <p:sldId id="259" r:id="rId46"/>
    <p:sldId id="260" r:id="rId47"/>
    <p:sldId id="261" r:id="rId48"/>
    <p:sldId id="262" r:id="rId49"/>
    <p:sldId id="263" r:id="rId50"/>
    <p:sldId id="264" r:id="rId51"/>
    <p:sldId id="265" r:id="rId52"/>
    <p:sldId id="266" r:id="rId53"/>
    <p:sldId id="26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" Target="slides/slide1.xml"/><Relationship Id="rId44" Type="http://schemas.openxmlformats.org/officeDocument/2006/relationships/slide" Target="slides/slide2.xml"/><Relationship Id="rId45" Type="http://schemas.openxmlformats.org/officeDocument/2006/relationships/slide" Target="slides/slide3.xml"/><Relationship Id="rId46" Type="http://schemas.openxmlformats.org/officeDocument/2006/relationships/slide" Target="slides/slide4.xml"/><Relationship Id="rId47" Type="http://schemas.openxmlformats.org/officeDocument/2006/relationships/slide" Target="slides/slide5.xml"/><Relationship Id="rId48" Type="http://schemas.openxmlformats.org/officeDocument/2006/relationships/slide" Target="slides/slide6.xml"/><Relationship Id="rId49" Type="http://schemas.openxmlformats.org/officeDocument/2006/relationships/slide" Target="slides/slide7.xml"/><Relationship Id="rId50" Type="http://schemas.openxmlformats.org/officeDocument/2006/relationships/slide" Target="slides/slide8.xml"/><Relationship Id="rId51" Type="http://schemas.openxmlformats.org/officeDocument/2006/relationships/slide" Target="slides/slide9.xml"/><Relationship Id="rId52" Type="http://schemas.openxmlformats.org/officeDocument/2006/relationships/slide" Target="slides/slide10.xml"/><Relationship Id="rId53" Type="http://schemas.openxmlformats.org/officeDocument/2006/relationships/slide" Target="slides/slide11.xml"/><Relationship Id="rId54" Type="http://schemas.openxmlformats.org/officeDocument/2006/relationships/slide" Target="slides/slide1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24E2-324E-47C3-9416-7E4052FE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13C7-EE3E-4216-86EB-4B2CC5C2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75449-D5A7-4474-9C69-A0F3C8EE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0E400F-AFFA-4D90-88D8-4FA3B80B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0680B-C7AB-4F93-905E-4AB8D2FA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A534D-CB15-4183-99BE-41EC2CB9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B68A6-8432-4794-858D-8A953B42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1D290E-6AD1-4348-8D9A-4A24E5EE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B4CD1-8755-4285-905B-D3738B6A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DF58DF-DC91-411D-961D-2C8798B68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672B7-1195-4678-8010-0D63C41D7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0733F-DD63-4D25-BA31-90FCCCAC3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BDC3-AE55-4521-B5FF-EE8C916D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D68277-8333-4B8E-9289-F86C79B8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98A39F-B709-4BA8-8577-8312FD70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20530-3274-43CF-B853-AAE21799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2F213-D21C-4A99-9B77-68440FE4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AFD55-C8D0-4966-930B-C2EE9109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368A9-6142-42BF-BF36-9E213E96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5B743-8405-4361-876B-831D3F34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8A6E0-B333-4407-B1D5-890276AB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8F1C5-E664-4A5E-8254-94D63C14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6DEB2-B92C-4CED-9C89-948683D82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39BE-F3DF-4E2A-9D92-E55B7CEB6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81B2C3-0EAB-4D2F-8292-93E2736D8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7CC654-583E-4BBB-9DC3-C740720A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EE040-D994-433A-A71E-97B8604F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31A87-FF32-41FA-865A-22B0754D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1F9A5-AF69-41CE-B4E1-F9CD44DB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3CE48-CC76-4C05-B713-25AD3AFD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2D522-A560-46AC-B716-039E6E60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736ACE-DE95-4FCC-8E50-A7D9AD8B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6EF3D-BEFD-4AFA-A834-40C5B525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91204F-D3DA-4093-98D3-D53493C0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007A-A7D3-4760-8562-7B36CDD8D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65A8D-683E-4CD9-B2F9-8E03B3C3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A0786E-6822-4FFC-AC85-329C3C829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9AD8D-CD50-430B-B54D-5A69FFEAD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CD50A-4BCD-4759-BAFD-C00E5638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F0F43-15AD-4C55-9AC0-D7E58831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DE7D5-9230-4E44-AC39-075E85BE5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2DD18-4D3B-4A64-974F-8FB8BC6B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666CF-3486-4FB7-9BF7-12DDFF64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988BB5-F1D8-4DB9-AFD5-64006832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5F44C-3B20-4AC6-9B2A-A804F86E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902E-E09C-4A89-9375-675DEBB7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4D9102-3ABD-4C8B-A6C4-ECAFA7EE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C4152-22B9-4CC2-9ECC-8D4BBBC2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947CDD-0E81-4F06-B921-78F0337D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19B4D-50F4-42E0-BA2D-89FAE7DF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4A922-CADC-4D7F-818B-398103EB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25741-CAD3-4D97-82CB-430CCBC5A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648B2C-CFC3-4970-B50E-B2B7CC68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9A31C-98A0-423D-BB10-653CF778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EA0AE-339B-4A8A-9B40-74765B05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6F7976-F99E-4113-BF30-0B89B0C3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57A0-E86B-4EBB-B784-ED32C31E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7C5276-9965-4522-A2DD-B0D222CA6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BE5B3-F23E-4B83-83D6-F9D60CA6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D366AA-D5C7-41CE-A583-5AC052F2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F509F0-05AB-447F-BD9C-AC4C860A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FBB717-BCCC-4128-AC55-8B7C4B77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B3BCA-E108-41D6-BE20-D1F308B3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4F9D13-B817-4CF1-BBB9-8D8BBB0A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4EA6BF-DD08-45A0-9879-1419D0B6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AE51D0-32FC-4930-B689-64B86543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D49826-70F6-4794-81D9-34B88BCB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B2E3-7318-42DD-95AA-5F59E6B7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B850E8-489F-47BF-A884-C1F6A691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92B9E6-5CE3-415C-AB86-AF7B383D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15FDF9-54B7-45CA-A910-9AB89CCF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B57062-BC4A-49FC-A64E-5DCB52E0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9E2ADB-1143-42AC-8D8A-526EAD2A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056637-4B81-4D3E-82AD-06778345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A11E9C-F1D3-4040-81C4-39BAE9EF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B564CE-B49C-4B93-AFFC-41135B15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0A66D8-33FC-420C-B2C7-30043D2D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00CDF9-5934-485E-A5F7-F13952C3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1D97-DA9B-4D00-8B08-3961BFD0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0B4924-E033-4678-BD8D-5FC7DA5F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67D883-1F45-492D-9BBF-5CE40E59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058BC1-2EEA-4402-AD16-F9D7FCB6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90E36F-0DD8-4445-BAD2-050F0A64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5523E0-47ED-4059-8D6D-BC0E5B92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4D6C24-5673-411E-9DE9-C2D27C2D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70FD4D-A834-4FB2-A093-676C36D0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4ECCEE-B2C8-4A77-9A21-53FC0B0A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4C816B-4BFA-44F0-B15B-F41130C88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17C4C8-C196-4122-822C-4101C9B3F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1ADC-DFD1-48A1-BF6E-B98DC7CA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0071A0-2192-42EE-BF86-9726D8434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4E8908-DFDA-48F9-A180-30FA7B01E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48075A-15F1-47C8-9234-42780847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232AA9-B7F4-4D84-A0E4-0BCF4C35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90CD4C-8299-4216-9C90-1D92C48E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5CF23E-FB80-4EFD-BC97-F378C4EB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E1FA5F-A980-476F-AE0D-4E01A7E3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77BFE4-8BCC-4586-9915-380272FF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64E8D6-FCB5-4E8B-9F9D-AD6B03B7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E547C2-ED28-4047-8E91-51A0121F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A277-E4AD-407E-A285-5DF02C1B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2B4B2A-6C79-466C-A9D3-B1427174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800CC6-4CA6-4640-B501-FBAD0B5D2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B2CC67-F116-472E-9D11-655D78AF2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085355-24E0-40DB-A067-BD8699D0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EC5608-0621-4B23-9974-162ED413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718471-6844-4B57-BD7C-16BBF556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6E91EC-35C9-48EB-B293-37ABF145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FAF4EF-3F42-497D-AD81-7790810F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E44A89-CC12-49B3-A85D-6A045812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F08ECE-8616-4475-94EC-F2B1ABAC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AC1D-0B4F-4047-81F2-ED2C3410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2A18-738C-4FC6-B3E6-4EEB957E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67BCA0-421F-4C29-B763-7B555642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10F42D-FBEA-4E75-BD7E-40913FE5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D2B39F-E2C3-4BFE-A468-2D923803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8307A6-28A8-4E0C-A126-8A781B4B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CDBD42-C523-4396-B7B1-E32A8DF64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653729-CD52-4BEF-9ADF-C46D85D6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BC6BF2-3103-4248-9F64-6F7D3543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823E6C-24BA-4212-ADCD-3CE11B13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902B3C-D76B-4304-8EC6-69DAF610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8ECBB0-8006-431F-A652-BFBAF206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6B20-3538-4B80-8684-A27BBA74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60E2AB-30C7-4EA6-995D-97F23F63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CAF368-3903-4EB4-BFB4-EFF929B5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04C8F3-34F2-43A6-91F1-9D5D0D55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B356BD-8F71-4AAB-9AF7-C5AB85D0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E1102A-E154-49DF-AD1D-A6BF51F5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6C35BC-7F13-4F05-8478-521000BA1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8966F5-3388-489A-A608-8EDEE3E7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E6806A-2208-4D88-A8A6-F311EFA5F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F82A44-EC12-41CB-BB64-7EF9CD84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F5F33F-5E49-4EF3-8EC9-9B021DF8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1001-1190-4565-ABB6-36983B49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1A6B68-A388-4098-8E27-AC9FA70B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A8DA00-3076-49F3-A0BD-ACB4CF09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CC82D9-B4B5-400D-8280-25551182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BDAF60-5CF8-45D8-AB26-B255163B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8CEC43-582E-4412-95A3-EF97F69B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3F8A46-97B8-48AA-82E1-CDE55088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466A12-78C8-4F54-8693-D8888741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D4D881-045B-4105-9E79-241247B1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C5B3B7-84C6-442E-8E24-C6015D25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1DC513-4F36-4D47-92B8-0D04C122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D2AAE-D085-45A1-802E-80F12E95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A63A19-8BA9-41FC-BA8B-8EB079C33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5829A0-2420-4183-819B-69D591A6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63DA57-F50F-4A15-9916-00C1632A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47CEA7-8C47-422D-A585-8FF97A9A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708B99-D1BA-4DB2-A605-15B891AB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2C056F-9B83-4DCE-9F9B-3524B5F5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1650D0-4D0C-4CA8-908D-B96619EC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F77E37-8BB2-4DF1-8186-A3E85F27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3A0922-3378-49C6-BF6A-1659A5BB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2488AF-4241-4348-81D3-E4731619A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45D6-FB0D-45CB-BF7F-430084D5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F65EEB-C8EC-44E5-A5CF-677B2255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3FD30C-C01A-4A8A-BEC6-EE516888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992DED-5631-4F4C-AB85-6D082FB7E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639729-E99A-462B-BE8B-06B82C2E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1D1B58-D00F-4D24-9FC1-3036669F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FF90D2-664B-48F3-8E4C-C513E5BB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3A9A3C-AA65-4D53-B418-E23691CC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251040-70D6-452A-99D3-0BA5E1AA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37EB1E-D0CB-464A-A94F-96C932DF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BE1E4A-D7EB-4270-A1E9-92689AD4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86F54-2BED-49B8-9F25-07BB415A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E563D8-F512-47DC-9AEF-FF3D39D16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F1B4E9-7E41-4AEC-8D51-E974B436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3D09EA-BCC5-4985-BC70-C23D74D80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D39E68-7064-476B-A0EC-46B00FA71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B06823-412A-4D36-A1F0-6FD74D25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D8D1EB-DED3-4E2A-B560-C51488E4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83C6D8-A922-4D95-A21F-662509CAB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80C8D92-A1C5-401B-9658-B4058059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47A986-A104-4120-A8B5-4B57A13A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28924E-1A9C-449A-90B5-E359E81C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B3581-8D9D-4E61-B879-7CCE7D91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E45408-CF41-4903-8932-3D5FD460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EA3485-BB51-4CB3-B5BE-1451ED29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4E6D2B-AF69-48AB-8795-5FB40EE7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EA5700-49EB-4A1A-B0CC-5459B91F1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62E653-DDF7-449C-A876-68C02F9CC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39C10E-4C41-4565-98D7-9BA86DF4C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489BEF-58E1-4456-9ED8-3F13EA08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572009-6946-409F-9F0B-4C2FC88A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113EE9-A4D4-46C0-81B8-807EEF30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378B02-D891-48B8-84B6-56460968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5FE09-C310-4B61-BE8B-83E35461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154B2D-0889-48D6-B5E5-A8A27B475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77A1B8-C017-49EF-B501-5024A24D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56F810-02C4-4556-8C7B-07D7FC51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9BF567-7114-4329-8A97-871F4808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24F393F-B96B-4C30-B446-C63FAEC8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A7D7AC-5C21-4078-A96E-D76089A5F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F33D28-B435-477A-B62B-DB2DF7BBD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67D8E1-6615-47A8-BBBA-F5351D67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5C83443-2BBD-4F41-B5C1-F8F56BFB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D22DE8-4F4F-41EA-98F7-9F0F058F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1BF1A-E0CB-4642-B462-5935133C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6FD3D9-339D-4A3D-97B2-95DB8BEF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B963AC-4E38-451A-8DB7-2264518F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A909B9-259D-4F5E-9A4C-38E991D9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B2CD36-8FD2-43CC-9283-9A4A8ED0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91449C-51A1-492E-82AA-EB32EA92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3E7C19-BCE6-4324-BA77-F2C178B2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21F131-CA01-4D40-BA8A-2D358ABF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043DCE-B467-4F83-9104-94A6D79B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DF3A628-95A7-454D-93F0-8956104E7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21569D-5E3B-4B73-8958-34ACDF7A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EDEFC-CDE5-4C01-BCD9-C231F63E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B80DF3-7C2C-4298-9BD0-204452AF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7EA449-781B-44AB-9B0F-6DCFCB21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A5D219-E2D9-40DD-A6C9-4ACA3FF7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A5EAF8-18B8-4E89-AEE9-E234CD1A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665D1F5-7F26-4707-B99E-74CB9C63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6CB338F-1BAD-40BE-B9AE-E9D5C4CB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B176657-9EFB-4C49-97A3-817173FC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FA39C18-A917-4CEE-BBF9-0D44ABBC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B551AD-F6AA-4D8A-8481-8023E069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5937728-4C8E-4322-A222-AEB14011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1CA7-E444-4EC1-B9CB-DD9A8A46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4BD28-E96D-48E0-9444-D662942C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4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24CDFA-6A65-44D7-9D73-A3493E65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2BDF7C-FE3B-44F9-9EC3-625D1478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D8011A-1DDE-41A8-A601-F46955405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92A152-23FC-4709-A249-14BD2ABC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13B081-4114-430F-800C-A2A75FBA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901F40-F2F9-4625-95D7-3364A4891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73ADE4-45D8-4163-AFA2-94F20FB3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77A2704-55A3-4587-AEA2-3BB55AD4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A930B5-63E8-4848-92B1-F4E6151A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6058E8-868B-4D4E-8F06-8E20DD4D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29FAC-71AE-475A-8E28-072DD5ED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B19222-DCDD-435A-B1BC-E0919DAC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80C00C-B5D5-4E85-BF64-FE55D6FC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F8504D-D440-4E14-8359-77F820E34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80E299-94CD-48E1-98D0-7EE2EF1E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493B29B-E92D-4EA4-9173-5DEEB3DB2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42ECBE-E948-480D-A153-FB7FD809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0F6B83-DAE4-4B00-8C6E-04254003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3F7D41-5586-4F8D-B92B-930C3D26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3025D0-8628-4F57-81A7-3B6B1DEC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B1E8DB8-0E0B-4DC2-8203-B43F27E2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DC138-4124-4720-9905-0FCE0D38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C5377B-4247-438C-8D79-1A67038F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DE8203-FCF2-43E7-BD44-FB68FD1E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ECE1036-23E5-4998-A00B-4351A689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862D437-DA5F-42F1-A133-F557C26AD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FAE8F43-4B8E-43FF-89D0-405C66EA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97CD32-EFD6-480D-8A0D-21F2D287C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DAA4E1-C0B6-453D-9664-382AD1D6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734A56C-A6DD-481C-A969-4DDBC1AA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8A56AE-06A6-4E56-A9BF-98A78994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6B83A5-D67A-423B-A8DA-8D48645B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BA7BB-43AF-4145-865B-1A1AA92E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788AE1-B0BE-49F3-941A-87AAAE47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3A71BB-C139-438A-ADAF-4BC2173A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2E0FF0-B9E9-4BA1-8172-536E55D9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58966E-866F-4387-A3C1-341EA122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54C7B5-1574-47B9-A919-13FD01A7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838D0E-14AA-417C-A4B2-24D33D594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8A02D4-CF6D-4904-BC7E-6CF7C0347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A12EE1-4775-4800-A07C-764B2E3A9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C333FB-64C2-4B48-AFAE-29E9C272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FFEDE9-2376-46B2-BF4B-1D757D56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661D1-0D2E-4654-953D-13E06F7E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13608F-7963-433F-BBD6-1A16B485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27C4CC3-8D89-4772-AF68-AE3FAC69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5354E5-0532-4351-AD87-D212D830A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28FC52-3783-4258-BF02-8855D447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FD30617-C836-40C1-97BC-A1284459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5BE66AA-37C6-4C83-B346-3DFE7E0C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F22C20-74BB-4967-AB82-ACD3D670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2529BD-2A72-4817-859E-734DEBEDE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ECDDD9-8336-4A59-A609-175B243D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22F2D5-638C-4D04-B056-9B6BE18D1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74946-BE6C-410B-83E5-4811F5120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53D580-ED60-45BF-835D-D833A4B5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E4D3B1-3913-4018-A2EB-5DF40820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3F47B2-2CF4-43BE-9289-94E9238B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373A08B-7382-45B5-8C97-A9AAFBA0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422386-6B74-44CC-9307-2BEDCBE6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DA000AE-1884-42FD-809B-D1CD2B73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C582F30-23FE-4F0A-AE6F-8729EF6D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4270C11-4EC7-4C04-A993-E7F6DC54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92776C-7F29-4062-AFE0-D42EFAFE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708370C-2DB9-4259-AFF6-E85EB059B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1B75F-F279-4502-A631-FDB954D4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070869B-1981-430D-9AFE-4555C3FA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ABDECCC-FAB1-4B0C-93A2-90FFAAB9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4B106F-8EDD-49B8-B2DE-C69A5768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AA4A90-07B3-443B-A746-52E32A104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6CF7D5-190F-4920-A996-AF112F959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DD948F-4C1B-4460-A606-430DEE8A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C48502-A604-4C7F-92F1-9792C5E6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0826F8-3EE6-4067-BCDE-7884FCD2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E5F495-F103-4E03-A5F9-0F6334AE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D105C9-BA8A-4A12-8E2D-D0DAC55F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66FE9F-D4C3-4DD3-8B5C-8572736E4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6C9AF0-B95D-4044-AF39-D5ADEA55A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2F717D-0DD6-42EE-AE1B-8EF9065C6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C3D6E7-B9E8-4418-93CA-95CFED08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18AFC9-104E-4126-8902-47E222E0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FB69A9-39AB-4694-B546-B63B61C5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4E8CA11-0BF2-4D22-80C1-26AABE44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847C63-798F-4DF8-AAA5-4D0A7978D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63882E4-E716-4D99-9559-EB88BAB7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4651B26-FD41-4924-888E-DFF06030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08C685-9B52-4313-A5E9-9612DA84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FEC73-0DB6-4671-9E53-2EA4825CA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1951824-4CF2-4451-AD20-BFFFBA5F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06C03A-64DB-44FF-8A9D-4CC9A33F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55D50D-FF16-45ED-A12D-348992C6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244E320-C3F2-4659-AFCC-623BE52F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CDA838-0BF6-4C92-89C8-EEB9622D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C8674B-5814-46C3-ADD6-434DA4F42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2F48CC1-133E-4F81-AB3E-BF27FF52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572859-AEAE-4326-943A-BC59519F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479AA9-611E-4736-8995-7E17AB1D5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2F494B-7DC8-44AE-8DC7-DA90C8EED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1460D-3E53-49E2-B7BD-3B7E616F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7F6DC2E-61A8-454A-8B0C-EABFE75B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566FB94-7F63-4C55-B2BD-0376276F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A940D0-A69E-4879-ACDE-97E1E998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FF77E6-C4C2-4412-8413-8566686E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5808C2-345A-45BC-A3BE-0AE51884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D4E731-348A-4887-8652-72EDB4584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BDC00B6-30AB-466F-B52A-B10390E0F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90ED197-5779-4568-AEBE-813AB800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8932BF-128B-49B3-ABCF-EF9B8B33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112B47C-7751-4169-902E-9955274C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9B00-7B86-455D-9D3F-3645B9CE7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456B5-6B04-46D9-AAA8-75CA9944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A37AE8-3A99-4762-80CE-043225C2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C64065C-FD90-4EB7-A0BA-F7B8BAF2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9E3D406-C483-4E4B-AEB6-2DDE680A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E3ED032-2514-48D3-A8B6-8CEFB378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47E911E-5FDB-4B0B-9E21-E4FD881F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F0FBFB-0053-42C7-91E7-9D913890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3C0D99-6622-4B57-A692-BF1B05CB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A53D25-0793-40AE-8CAC-19B75F20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DA21A56-555A-4D4C-8B0B-D75B8CA3A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4F4DE21-7448-4038-B75D-91B80425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70595-684F-460D-8E7A-6C1BB89B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468523B-FE15-448F-89FD-C34A2030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6A3DDC-C575-439D-B50D-D7AC762F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4871C8F-1027-4D01-A53C-A152C9D3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D02C724-A3B1-4E2F-B76F-612C3E33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758680-196B-4126-9E8C-E485C54A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937EE4C-859F-4901-AC92-17DA39EE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B704B2A-2443-471A-A90F-0CE35B15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1C33CD-9562-40F2-AE22-3AE5ED85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40EB12-B649-4FA0-BC47-275C2192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0DB5414-E2BC-4154-9FAB-042F53B9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F0751-E59A-45D6-AE09-82A9490A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69A5A62-E289-4BCA-8BE5-FA6A5C26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4ACE246-9B4B-4018-8747-FE5C1B658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9B11C7-579D-4AA5-B82B-63D8FF65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8F155DB-9BC2-4808-A3BA-BD46547BD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EDF1B47-A853-4393-BB32-6A407515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438A19C-3417-4E5E-99BA-3B49FD80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B1B728-CF82-4F45-BFBF-EBDB67BB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AE2B577-B9B0-44CF-A45E-8CEACC62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8CC1299-F012-4C64-825F-BBA125C6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1943BE-707F-403E-B554-ED9265F0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EDDFD-8DAF-4252-8437-705C4ACF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5D30144-DFC0-4594-884F-4EBF9504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CD2C604-165D-4D1F-9C48-E6772BE9D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A1D8F3-B4BD-4A60-8BEB-CFAA2BA6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16A0FA4-5E19-43D2-8461-1CAE0E419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4A92CE2-FF94-431D-9B6A-27980834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E78B0D9-6BC9-4948-94FB-CBDFAA3E6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82578C5-B2AD-4F06-A0FD-5EA8B410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CDF1378-8043-41FD-AC50-A2E545199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EA13F14-43DC-46DA-BC2C-B0AE16F45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275ECA5-A357-4600-8C7A-0E0E2CB2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BDAE1-C7E8-4300-8D00-891B93A1B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9C2136D-D761-456E-AEBC-A1BB8930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BEE751-6B1D-42C6-854E-EBB08FBD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9866C89-5C41-4A74-9848-A4793F34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2E3380E-4DAB-46EF-ABE8-ED5CAEEE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309B3B5-7BED-4782-9C8E-FDF0B799D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A409034-F58E-48ED-9A0E-7C732F85C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8FD1DAE-E337-48AF-8615-47C80EC2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8D9F102-5591-4D4C-95C6-08989E4A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46A6815-E584-476C-B900-815B0AFB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23250C9-2191-4A4D-BCDE-3ADAE100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C23F8-30CB-4048-8213-A0D0E5E8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D3456D8-28D2-4485-836A-45194817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33A3CFC-7E14-4A2B-B67E-6F465CFC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6C37E5C-6574-4BD3-9BAD-262975AF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C09F381-B406-41D8-A666-D376D418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F86DCA-5008-401E-88A1-F21BF202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24336EB-C4F7-497D-B502-120F856FA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6FBEF09-EE23-49EF-BD35-4F344D56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A9D8CCA-D570-480C-8395-E67DB758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6D4A94C-1F38-4C42-B7D0-8B5FBEB4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2D731E1-ABB0-4968-8D63-BBACEC56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9F6DC-069B-4452-8D57-37C25E99F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1EB4DCA-DBA0-4EC0-A6F9-7F44A303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2A535AE-B7CE-46DD-90FC-F849BBA7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CF35200-C738-430F-A6E7-AD3A8FC8D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CF4D04D-CFD1-4166-BD35-C8331B0D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C11A392-632D-4C13-82B6-D5FA7677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2AC025F-AB9D-4F1E-BA46-D4C1AB48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C9DC153-366E-4C26-9DCC-6ED9916E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3D8F99F-173A-4C55-85EC-CF6FD2AF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0DF2237-CD77-4805-9DA7-BEDCD5E2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B66D01E-B443-480B-A45A-83890F97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3D65F-2441-4FB5-8736-034B1F3B2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AACDB38-2454-4980-A04F-4871B0AD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F753843-17BD-4206-804D-9EE78C06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E60DB2-E85F-4A97-84AB-1E506AE3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CA42FE8-C78F-490F-A1E5-D5A8F6B4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D0FF497-EF36-4C4F-BA82-F24E285D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E493677-ACD3-4375-A126-76F4F3BC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3B830F7-518B-4F1B-BD97-D4AB83E7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719841C-8FA0-4F24-BBD2-79B98BFF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AD30FC0-54BE-4B22-8A74-089FF3B4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9F145B1-3C93-4FEA-AA3B-F971FB68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83B51-4B09-43EE-B196-26798E6C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A2B761C-B7D6-4BEA-A911-7066A9BC1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B0EB5E9-E454-4BD0-A2C9-80F3BB54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244FBB7-1FE2-4096-9482-BF58022D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E193D06-B700-4294-B157-97C6DB08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69EB5B4-B5F8-4DEF-BEFE-EACBA827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1EA34AE-3AAB-41F8-A7B5-176D41294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81B15B0-EBCD-4686-98E7-B1A451C6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7BC404D-05A7-426E-9016-C7FB3FB1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2797BDF-8FB0-459C-80FE-25DA30E2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CC8AB34-B9B4-4F5A-8B40-51A54814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484A0-EF42-44D5-A9CC-3AC78DFA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AAA0E39-9F16-4533-B8AD-47DF5C82D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C915FDC-062B-44BA-81C6-B071331D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D407F6B-0086-4E3B-97CC-7A304645F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9AB3-3F0B-4401-9600-0929D5E0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F8786-3D17-46BD-86D2-1C847FB6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01721-D475-4368-AA71-BF4D3A14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72CCD-74BD-4213-A198-8476F2BB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19AA4-83C9-4A35-8364-6E9273F5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09714-6056-46A7-BCAF-942A4C4E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C94F2-76B3-4110-BF65-BE1AE288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D20B3-2ED5-4344-BE76-08408B09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07A05-81C5-4727-9D36-2196C3D7D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2DB74-3267-4C65-9406-111985F06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385B5-F6E4-454D-8A22-24FE934BC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62D9-057B-4963-A3F3-F6D2D80C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22C00-B474-4E0E-86C2-F89B50A2A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CCE33-1805-4E77-85B4-6B6B8A7BF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3615F-5D39-47F1-B8CA-C91D146F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C7D98-8F57-405A-8A54-5B5EBCE21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5959A-983B-4F4C-B702-1452D72DB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2F0B7-6908-4505-BFD2-C4C67E5F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93955-F7B0-4CD0-827C-D1159578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DE14E-2872-4B58-A8F0-1268B655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2DED7-D25F-4FBB-99E4-3DC4EF6D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37F6C-66CD-4AC5-905E-B59C9D69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2B8-F363-441C-8421-EE3AE1B9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B2587-AB2D-4010-8BBF-ED0AF4B49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BFC869-3135-4171-8656-EF707630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B51B7-BA03-409A-AA70-B14D0279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147CF-F49A-44BE-9AD7-6691A667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A9E300-D8B5-45E0-900E-8DAAE1E9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606B0-2F9B-472F-A635-05EA9078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58B53-6A40-4181-8AE5-88CA783B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47B24-0176-4E7A-85B1-83F613CC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30210-649C-41E7-BF00-0A4E6E56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CF2B1D-9A4E-488F-BB47-78D21FD1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C193-CECC-46CA-8A25-ACE64A7D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07DC1-8AA0-4CDE-9EB5-B0DC383D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B5052-0FDB-4F4F-A9CE-22BCDA15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EA13D-5395-49A1-93DF-AB5E8206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D866D-C2CC-4500-AC62-AF2D9E8B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3DBFA-82EE-4532-B235-AF0C165A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8130BB-95EF-4276-A953-0E756BD7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A8A17-0697-4435-A7C6-063E827F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2DFA8-5D77-4867-89AD-F840B004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70802-66B0-4256-B1B0-0E6FCC52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A2702-5BB6-4F44-AD74-E8B918B4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125-58E9-4E0C-B599-D7794589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94E3A-42D5-4757-A44D-E1F677006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596BB-EED3-4765-B428-6D2E69E2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F55BC-5DB4-437C-9239-4B313DF3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664D8-67FE-4FC3-AA6B-DDB712FC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F8E69-C541-4798-9A04-7F1F1E08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762CE-AC8B-41E6-88DA-EF2B3CFE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5B72A-7F44-40E2-9DE8-057C63196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A32BC-D09B-430A-8F9B-AA564B52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4DDC5-3B64-4263-B17A-2715C6CC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89CFD-AF3C-4264-917E-E3C5EA2F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21.xml"/><Relationship Id="rId6" Type="http://schemas.openxmlformats.org/officeDocument/2006/relationships/slideLayout" Target="../slideLayouts/slideLayout422.xml"/><Relationship Id="rId7" Type="http://schemas.openxmlformats.org/officeDocument/2006/relationships/slideLayout" Target="../slideLayouts/slideLayout423.xml"/><Relationship Id="rId8" Type="http://schemas.openxmlformats.org/officeDocument/2006/relationships/slideLayout" Target="../slideLayouts/slideLayout424.xml"/><Relationship Id="rId9" Type="http://schemas.openxmlformats.org/officeDocument/2006/relationships/slideLayout" Target="../slideLayouts/slideLayout425.xml"/><Relationship Id="rId10" Type="http://schemas.openxmlformats.org/officeDocument/2006/relationships/slideLayout" Target="../slideLayouts/slideLayout426.xml"/><Relationship Id="rId11" Type="http://schemas.openxmlformats.org/officeDocument/2006/relationships/slideLayout" Target="../slideLayouts/slideLayout427.xml"/><Relationship Id="rId12" Type="http://schemas.openxmlformats.org/officeDocument/2006/relationships/slideLayout" Target="../slideLayouts/slideLayout428.xml"/><Relationship Id="rId13" Type="http://schemas.openxmlformats.org/officeDocument/2006/relationships/slideLayout" Target="../slideLayouts/slideLayout429.xml"/><Relationship Id="rId14" Type="http://schemas.openxmlformats.org/officeDocument/2006/relationships/slideLayout" Target="../slideLayouts/slideLayout430.xml"/><Relationship Id="rId15" Type="http://schemas.openxmlformats.org/officeDocument/2006/relationships/slideLayout" Target="../slideLayouts/slideLayout431.xml"/><Relationship Id="rId16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FFFC-51AE-4F67-B7AC-633B287CA40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4341-6684-477C-B6EE-2325E4DDB4FA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6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46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31885-2075-4CE2-BA9A-75DD49379D1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1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1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17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18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2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33A8-4345-4ECD-B3DD-B258A30613D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64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565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6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A8A1-9BA1-438F-8155-E0561675895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4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4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4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D031-5521-45A8-B0CF-943D53637B0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7BEF-7DAF-474E-85B8-381C1C9D010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4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4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FAD7-A25C-4797-9223-A4531E3F4A6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4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73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3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5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5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01E2-C3A4-4E13-8AE1-82CE0CEEC85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78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78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8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787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788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79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5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5819-6E44-4F31-8340-AD90C4B5296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834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835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83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5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5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5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C731-E2AE-4E07-AA1D-F05D636221F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D348-8FD0-4AF7-9F74-A79EE91EFD2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 type="dt" idx="5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 type="ftr" idx="5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 type="sldNum" idx="6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068C-1C4F-4157-9D47-52AE2AC98AB6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6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6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6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1A36-AC0F-415D-A715-D1A263D435C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6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6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7A64E-ED3C-4814-B0BE-625693A7AE5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4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00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0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 type="dt" idx="6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 type="ftr" idx="6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 type="sldNum" idx="6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2F07-0E0A-4934-90F6-FEF4383A9AA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5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5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57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058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6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dt" idx="7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 type="ftr" idx="7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 type="sldNum" idx="7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B759-5A1E-4CC3-93CE-6DFF19F72B9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104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105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10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dt" idx="7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 type="ftr" idx="7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 type="sldNum" idx="7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CAAB-2779-4DA6-987C-4B55AFB515E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dt" idx="7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 type="ftr" idx="7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 type="sldNum" idx="7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83F2-14E1-4D08-94C7-374DAC94DD29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 type="dt" idx="7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 type="ftr" idx="8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 type="sldNum" idx="8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78F26-F900-46D2-923B-CB1DA22BB04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8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8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8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2899-808F-45E2-B9EE-231CE5ECF96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27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27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 type="dt" idx="8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 type="ftr" idx="8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 type="sldNum" idx="8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5ACE-25DE-4065-BB0E-0F7B9B8F5767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98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99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1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AC41-079A-4CCC-8118-DA77C28976F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32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32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32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327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328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33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 type="dt" idx="8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 type="ftr" idx="8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5" name="PlaceHolder 5"/>
          <p:cNvSpPr>
            <a:spLocks noGrp="1"/>
          </p:cNvSpPr>
          <p:nvPr>
            <p:ph type="sldNum" idx="9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7C1E-A4DD-4EAD-9A0C-6F41FAF945C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374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375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37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 type="dt" idx="9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 type="ftr" idx="9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 type="sldNum" idx="9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BF11-8684-431D-A0FC-AF049B236AB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 type="dt" idx="9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 type="ftr" idx="9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 type="sldNum" idx="9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54EF-3CDE-414C-8D05-9EF39C6DC84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 type="dt" idx="9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 type="ftr" idx="9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 type="sldNum" idx="9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4B56-F5F9-4F59-A44A-38B8A9460781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dt" idx="10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ftr" idx="10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 type="sldNum" idx="10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A7EF-787C-4A05-BC24-E730A2C9FC7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4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54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54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 type="dt" idx="10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 type="ftr" idx="10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 type="sldNum" idx="10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76C4-1C53-4DCA-A09D-4EA56B85A075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59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59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59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597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1598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60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dt" idx="10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 type="ftr" idx="10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 type="sldNum" idx="10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02B4-A236-440D-A816-D3A865D205A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5"/>
    <p:sldLayoutId id="2147484105" r:id="rId6"/>
    <p:sldLayoutId id="2147484106" r:id="rId7"/>
    <p:sldLayoutId id="2147484107" r:id="rId8"/>
    <p:sldLayoutId id="2147484108" r:id="rId9"/>
    <p:sldLayoutId id="2147484109" r:id="rId10"/>
    <p:sldLayoutId id="2147484110" r:id="rId11"/>
    <p:sldLayoutId id="2147484111" r:id="rId12"/>
    <p:sldLayoutId id="2147484112" r:id="rId13"/>
    <p:sldLayoutId id="2147484113" r:id="rId14"/>
    <p:sldLayoutId id="2147484114" r:id="rId15"/>
    <p:sldLayoutId id="2147484115" r:id="rId16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644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645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64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 type="dt" idx="10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 type="ftr" idx="11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2" name="PlaceHolder 5"/>
          <p:cNvSpPr>
            <a:spLocks noGrp="1"/>
          </p:cNvSpPr>
          <p:nvPr>
            <p:ph type="sldNum" idx="11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DE13-D6AA-4651-B273-89F99ED9F9A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 type="dt" idx="11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 type="ftr" idx="11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3" name="PlaceHolder 5"/>
          <p:cNvSpPr>
            <a:spLocks noGrp="1"/>
          </p:cNvSpPr>
          <p:nvPr>
            <p:ph type="sldNum" idx="11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00CA-56B8-4756-8444-C9714436C15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 type="dt" idx="11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 type="ftr" idx="11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 type="sldNum" idx="11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9D31-08A1-4952-825C-FE2200BFED22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4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4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4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E738-9F04-48A2-965B-2952F48192A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 type="dt" idx="11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 type="ftr" idx="11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 type="sldNum" idx="12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684C-4C66-4D2B-B3B5-0F740472B20D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4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1815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817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8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 type="dt" idx="12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 type="ftr" idx="12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3" name="PlaceHolder 5"/>
          <p:cNvSpPr>
            <a:spLocks noGrp="1"/>
          </p:cNvSpPr>
          <p:nvPr>
            <p:ph type="sldNum" idx="12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8988-C0B3-4BF1-BB8E-D87376252ED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94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9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0D76-68F1-448B-93B1-4D0147A7AA0B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4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4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4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47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248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50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6ED8-F6A3-4887-B08A-41F9D632C67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94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295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97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5E6A-61F2-4803-91FD-265A0C91FB03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2975-C2C4-48E4-8DE2-C38C4A424D7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4022-7AFC-4A15-9CF7-B56D4067FEC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gi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&#1057;&#1091;&#1090;&#1100;%20&#1080;&#1079;&#1084;&#1077;&#1085;&#1077;&#1085;&#1080;&#1081;.doc" TargetMode="External"/><Relationship Id="rId3" Type="http://schemas.openxmlformats.org/officeDocument/2006/relationships/hyperlink" Target="file:///&#1057;&#1091;&#1090;&#1100;%20&#1080;&#1079;&#1084;&#1077;&#1085;&#1077;&#1085;&#1080;&#1081;.doc" TargetMode="External"/><Relationship Id="rId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971640" y="1773000"/>
            <a:ext cx="792936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Corbel"/>
              </a:rPr>
              <a:t>ФОРМИРОВАНИЕ </a:t>
            </a: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Corbel"/>
              </a:rPr>
              <a:t>УНИВЕРСАЛЬНЫХ </a:t>
            </a: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Corbel"/>
              </a:rPr>
              <a:t>УЧЕБНЫХ ДЕЙСТВИЙ </a:t>
            </a:r>
            <a:br>
              <a:rPr sz="4300"/>
            </a:br>
            <a:r>
              <a:rPr b="1" lang="ru-RU" sz="4300" spc="-1" strike="noStrike">
                <a:solidFill>
                  <a:srgbClr val="000000"/>
                </a:solidFill>
                <a:latin typeface="Arial"/>
              </a:rPr>
              <a:t>В РАМКАХ ВВЕДЕНИЯ ФГОС НОО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                         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1" name=""/>
          <p:cNvSpPr/>
          <p:nvPr/>
        </p:nvSpPr>
        <p:spPr>
          <a:xfrm>
            <a:off x="1979640" y="333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КОУ «Средняя общеобразовательная школа № 6» городского округа город Фролово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2" name=""/>
          <p:cNvSpPr/>
          <p:nvPr/>
        </p:nvSpPr>
        <p:spPr>
          <a:xfrm>
            <a:off x="3348000" y="5734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3.12.2013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/>
          </p:nvPr>
        </p:nvSpPr>
        <p:spPr>
          <a:xfrm>
            <a:off x="1331640" y="54900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Посредственный учител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              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Corbel"/>
              </a:rPr>
              <a:t>излагает.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Хороший учител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                  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объясняет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Выдающийся учител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                  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показывает.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Великий учител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rbel"/>
              </a:rPr>
              <a:t>                        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Corbel"/>
              </a:rPr>
              <a:t>вдохновляет».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21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Уильям Уорд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893" name="" descr=""/>
          <p:cNvPicPr/>
          <p:nvPr/>
        </p:nvPicPr>
        <p:blipFill>
          <a:blip r:embed="rId2"/>
          <a:stretch/>
        </p:blipFill>
        <p:spPr>
          <a:xfrm>
            <a:off x="125892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8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4" name="Текст 8" descr=""/>
          <p:cNvPicPr/>
          <p:nvPr/>
        </p:nvPicPr>
        <p:blipFill>
          <a:blip r:embed="rId2"/>
          <a:stretch/>
        </p:blipFill>
        <p:spPr>
          <a:xfrm>
            <a:off x="2268360" y="1557360"/>
            <a:ext cx="5829480" cy="4016520"/>
          </a:xfrm>
          <a:prstGeom prst="rect">
            <a:avLst/>
          </a:prstGeom>
          <a:ln w="0">
            <a:noFill/>
          </a:ln>
        </p:spPr>
      </p:pic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572314"/>
                </a:solidFill>
                <a:latin typeface="Corbel"/>
              </a:rPr>
              <a:t>Главное для учителя - помнить,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1402920" y="1412640"/>
            <a:ext cx="7458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что все учащиеся - звезды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маленькие и большие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близкие и далекие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но одинаково красивые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Каждая звездочка выбирает свою траекторию полет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Каждая звездочка мечтает сиять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И наша задача - помочь ученикам в это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1897" name="" descr=""/>
          <p:cNvPicPr/>
          <p:nvPr/>
        </p:nvPicPr>
        <p:blipFill>
          <a:blip r:embed="rId3"/>
          <a:stretch/>
        </p:blipFill>
        <p:spPr>
          <a:xfrm>
            <a:off x="781200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8" name="Текст 8" descr=""/>
          <p:cNvPicPr/>
          <p:nvPr/>
        </p:nvPicPr>
        <p:blipFill>
          <a:blip r:embed="rId2"/>
          <a:stretch/>
        </p:blipFill>
        <p:spPr>
          <a:xfrm>
            <a:off x="0" y="1720800"/>
            <a:ext cx="9144000" cy="5137200"/>
          </a:xfrm>
          <a:prstGeom prst="rect">
            <a:avLst/>
          </a:prstGeom>
          <a:ln w="0">
            <a:noFill/>
          </a:ln>
        </p:spPr>
      </p:pic>
      <p:sp>
        <p:nvSpPr>
          <p:cNvPr id="1899" name=""/>
          <p:cNvSpPr/>
          <p:nvPr/>
        </p:nvSpPr>
        <p:spPr>
          <a:xfrm>
            <a:off x="1042920" y="260280"/>
            <a:ext cx="7632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ЖЕЛАЕМ УДАЧИ!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Проблемы в обучении и воспитании нынешнего молодого поколения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амещение дошкольных видов деятельности занятиями учебного типа;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риентация взрослых исключительно на умственное развитие ребенка в ущерб духовно-нравственному воспитанию и личностному развитию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езко возросшая информированность детей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временные дети мало читают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ограниченность общения со сверстниками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8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8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8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5" name="Содержимое 3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8216640" cy="57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60248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Требования к формированию метапредметных результатов – универсальных учебных действий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1547280" y="2060280"/>
            <a:ext cx="7386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торые должны стать базой для овладения ключевыми компетенциями, «составляющими основу умения учиться»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первый план сегодня выходят образовательные результаты надпредметного,  общеучебного характера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1142640" y="51264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orbel"/>
              </a:rPr>
              <a:t>Универсальные учебные действия</a:t>
            </a:r>
            <a:endParaRPr b="0" lang="en-US" sz="3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69" name="Скругленный прямоугольник 4"/>
          <p:cNvSpPr/>
          <p:nvPr/>
        </p:nvSpPr>
        <p:spPr>
          <a:xfrm>
            <a:off x="1214280" y="2357280"/>
            <a:ext cx="3643560" cy="4000680"/>
          </a:xfrm>
          <a:custGeom>
            <a:avLst/>
            <a:gdLst>
              <a:gd name="textAreaLeft" fmla="*/ 177840 w 3643560"/>
              <a:gd name="textAreaRight" fmla="*/ 3465720 w 3643560"/>
              <a:gd name="textAreaTop" fmla="*/ 177840 h 4000680"/>
              <a:gd name="textAreaBottom" fmla="*/ 3822840 h 4000680"/>
            </a:gdLst>
            <a:ahLst/>
            <a:rect l="textAreaLeft" t="textAreaTop" r="textAreaRight" b="textAreaBottom"/>
            <a:pathLst>
              <a:path w="21600" h="23717">
                <a:moveTo>
                  <a:pt x="3600" y="0"/>
                </a:moveTo>
                <a:arcTo wR="3600" hR="3600" stAng="16200000" swAng="-5400000"/>
                <a:lnTo>
                  <a:pt x="0" y="20117"/>
                </a:lnTo>
                <a:arcTo wR="3600" hR="3600" stAng="10800000" swAng="-5400000"/>
                <a:lnTo>
                  <a:pt x="18000" y="237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Corbel"/>
              </a:rPr>
              <a:t>в широком значении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умение учиться, т.е. способность субъекта к саморазвитию и самосовершенствованию путем сознательного и активного присвоения нового социального опыт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0" name="Скругленный прямоугольник 5"/>
          <p:cNvSpPr/>
          <p:nvPr/>
        </p:nvSpPr>
        <p:spPr>
          <a:xfrm>
            <a:off x="1071720" y="500040"/>
            <a:ext cx="8001000" cy="928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1" name="Скругленный прямоугольник 6"/>
          <p:cNvSpPr/>
          <p:nvPr/>
        </p:nvSpPr>
        <p:spPr>
          <a:xfrm>
            <a:off x="5143680" y="2357280"/>
            <a:ext cx="3714480" cy="4000680"/>
          </a:xfrm>
          <a:custGeom>
            <a:avLst/>
            <a:gdLst>
              <a:gd name="textAreaLeft" fmla="*/ 181080 w 3714480"/>
              <a:gd name="textAreaRight" fmla="*/ 3533400 w 3714480"/>
              <a:gd name="textAreaTop" fmla="*/ 181080 h 4000680"/>
              <a:gd name="textAreaBottom" fmla="*/ 3819600 h 4000680"/>
            </a:gdLst>
            <a:ahLst/>
            <a:rect l="textAreaLeft" t="textAreaTop" r="textAreaRight" b="textAreaBottom"/>
            <a:pathLst>
              <a:path w="21600" h="23264">
                <a:moveTo>
                  <a:pt x="3600" y="0"/>
                </a:moveTo>
                <a:arcTo wR="3600" hR="3600" stAng="16200000" swAng="-5400000"/>
                <a:lnTo>
                  <a:pt x="0" y="19664"/>
                </a:lnTo>
                <a:arcTo wR="3600" hR="3600" stAng="10800000" swAng="-5400000"/>
                <a:lnTo>
                  <a:pt x="18000" y="23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b0f0"/>
                </a:solidFill>
                <a:latin typeface="Corbel"/>
              </a:rPr>
              <a:t>в узком значении 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совокупность способов действия учащегося (а также связанных с ними навыков учебной работы), обеспечивающих его способность к самостоятельному усвоению новых знаний и умений, включая организацию этого процесс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2" name="Прямая соединительная линия 8"/>
          <p:cNvSpPr/>
          <p:nvPr/>
        </p:nvSpPr>
        <p:spPr>
          <a:xfrm flipH="1">
            <a:off x="3035160" y="1428840"/>
            <a:ext cx="2036880" cy="9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3" name="Прямая соединительная линия 9"/>
          <p:cNvSpPr/>
          <p:nvPr/>
        </p:nvSpPr>
        <p:spPr>
          <a:xfrm>
            <a:off x="5072040" y="1428840"/>
            <a:ext cx="1928880" cy="928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1285560" y="428760"/>
            <a:ext cx="771516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en-US" sz="39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Функции универсальных</a:t>
            </a:r>
            <a:br>
              <a:rPr sz="3900"/>
            </a:b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1" lang="en-US" sz="3900" spc="-1" strike="noStrike">
                <a:solidFill>
                  <a:srgbClr val="000000"/>
                </a:solidFill>
                <a:latin typeface="Gill Sans MT"/>
              </a:rPr>
              <a:t>          </a:t>
            </a:r>
            <a:r>
              <a:rPr b="1" lang="ru-RU" sz="3900" spc="-1" strike="noStrike">
                <a:solidFill>
                  <a:srgbClr val="000000"/>
                </a:solidFill>
                <a:latin typeface="Corbel"/>
              </a:rPr>
              <a:t>учебных действий:</a:t>
            </a:r>
            <a:br>
              <a:rPr sz="39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i="1" lang="ru-RU" sz="2400" spc="-1" strike="noStrike">
                <a:solidFill>
                  <a:srgbClr val="c0654c"/>
                </a:solidFill>
                <a:latin typeface="Corbel"/>
              </a:rPr>
              <a:t>обеспечение возможностей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учающегося самостоятельно осуществлять деятельность учения, ставить учебные цели, искать и использовать необходимые средства и способы их достижения, контролировать и оценивать процесс и результаты деятель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-</a:t>
            </a:r>
            <a:r>
              <a:rPr b="0" lang="ru-RU" sz="2400" spc="-1" strike="noStrike">
                <a:solidFill>
                  <a:srgbClr val="00b0f0"/>
                </a:solidFill>
                <a:latin typeface="Corbel"/>
              </a:rPr>
              <a:t> </a:t>
            </a:r>
            <a:r>
              <a:rPr b="0" i="1" lang="ru-RU" sz="2400" spc="-1" strike="noStrike">
                <a:solidFill>
                  <a:srgbClr val="c0654c"/>
                </a:solidFill>
                <a:latin typeface="Corbel"/>
              </a:rPr>
              <a:t>создание условий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для гармоничного развития личности и её самореализации на основе готовности к непрерывному образованию;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еспечению успешного усвоения знаний, формирования умений, навыков и компетентностей в любой предметной области.</a:t>
            </a:r>
            <a:br>
              <a:rPr sz="39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1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Овал 6"/>
          <p:cNvSpPr/>
          <p:nvPr/>
        </p:nvSpPr>
        <p:spPr>
          <a:xfrm>
            <a:off x="6084720" y="3284640"/>
            <a:ext cx="2857680" cy="1428480"/>
          </a:xfrm>
          <a:prstGeom prst="ellipse">
            <a:avLst/>
          </a:prstGeom>
          <a:solidFill>
            <a:srgbClr val="fed46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2071440" y="713880"/>
            <a:ext cx="614340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Corbel"/>
              </a:rPr>
              <a:t>Виды </a:t>
            </a:r>
            <a:br>
              <a:rPr sz="3900"/>
            </a:br>
            <a:r>
              <a:rPr b="1" lang="en-US" sz="3900" spc="-1" strike="noStrike">
                <a:solidFill>
                  <a:srgbClr val="000000"/>
                </a:solidFill>
                <a:latin typeface="Corbel"/>
              </a:rPr>
              <a:t>универсальных </a:t>
            </a:r>
            <a:br>
              <a:rPr sz="3900"/>
            </a:br>
            <a:r>
              <a:rPr b="1" lang="en-US" sz="3900" spc="-1" strike="noStrike">
                <a:solidFill>
                  <a:srgbClr val="000000"/>
                </a:solidFill>
                <a:latin typeface="Corbel"/>
              </a:rPr>
              <a:t>учебных действий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77" name="Овал 4"/>
          <p:cNvSpPr/>
          <p:nvPr/>
        </p:nvSpPr>
        <p:spPr>
          <a:xfrm>
            <a:off x="1571760" y="357120"/>
            <a:ext cx="6786360" cy="2168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8" name="Овал 5"/>
          <p:cNvSpPr/>
          <p:nvPr/>
        </p:nvSpPr>
        <p:spPr>
          <a:xfrm>
            <a:off x="1187280" y="3284640"/>
            <a:ext cx="2928960" cy="1428480"/>
          </a:xfrm>
          <a:prstGeom prst="ellipse">
            <a:avLst/>
          </a:prstGeom>
          <a:solidFill>
            <a:srgbClr val="a9d7e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9" name="Овал 7"/>
          <p:cNvSpPr/>
          <p:nvPr/>
        </p:nvSpPr>
        <p:spPr>
          <a:xfrm>
            <a:off x="2500200" y="4500720"/>
            <a:ext cx="2857680" cy="1428480"/>
          </a:xfrm>
          <a:prstGeom prst="ellipse">
            <a:avLst/>
          </a:prstGeom>
          <a:solidFill>
            <a:srgbClr val="e17b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0" name="Овал 8"/>
          <p:cNvSpPr/>
          <p:nvPr/>
        </p:nvSpPr>
        <p:spPr>
          <a:xfrm>
            <a:off x="4716360" y="4508640"/>
            <a:ext cx="2857680" cy="1428480"/>
          </a:xfrm>
          <a:prstGeom prst="ellipse">
            <a:avLst/>
          </a:prstGeom>
          <a:solidFill>
            <a:srgbClr val="b9d77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1" name="Прямая соединительная линия 10"/>
          <p:cNvSpPr/>
          <p:nvPr/>
        </p:nvSpPr>
        <p:spPr>
          <a:xfrm flipH="1">
            <a:off x="3687840" y="2525760"/>
            <a:ext cx="1278000" cy="9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2" name="Прямая соединительная линия 12"/>
          <p:cNvSpPr/>
          <p:nvPr/>
        </p:nvSpPr>
        <p:spPr>
          <a:xfrm flipH="1">
            <a:off x="3929040" y="2525760"/>
            <a:ext cx="1036800" cy="1974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3" name="Прямая соединительная линия 13"/>
          <p:cNvSpPr/>
          <p:nvPr/>
        </p:nvSpPr>
        <p:spPr>
          <a:xfrm>
            <a:off x="4965840" y="2525760"/>
            <a:ext cx="1179360" cy="1982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4" name="Прямая соединительная линия 14"/>
          <p:cNvSpPr/>
          <p:nvPr/>
        </p:nvSpPr>
        <p:spPr>
          <a:xfrm>
            <a:off x="4965840" y="2525760"/>
            <a:ext cx="1536480" cy="9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5" name="Прямоугольник 58"/>
          <p:cNvSpPr/>
          <p:nvPr/>
        </p:nvSpPr>
        <p:spPr>
          <a:xfrm>
            <a:off x="6064200" y="3789360"/>
            <a:ext cx="29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КОММУНИКАТИВНЫ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6" name="Прямоугольник 59"/>
          <p:cNvSpPr/>
          <p:nvPr/>
        </p:nvSpPr>
        <p:spPr>
          <a:xfrm>
            <a:off x="4936320" y="508464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ПОЗНАВАТЕЛЬНЫ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7" name="Прямоугольник 60"/>
          <p:cNvSpPr/>
          <p:nvPr/>
        </p:nvSpPr>
        <p:spPr>
          <a:xfrm>
            <a:off x="2640240" y="5084640"/>
            <a:ext cx="216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РЕГУЛЯТИВНЫ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8" name="Прямоугольник 61"/>
          <p:cNvSpPr/>
          <p:nvPr/>
        </p:nvSpPr>
        <p:spPr>
          <a:xfrm>
            <a:off x="1632960" y="3789360"/>
            <a:ext cx="19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ЛИЧНОСТНЫЕ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Суть изменений, связанных с проведением урока современного типа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8dc765"/>
                </a:solidFill>
                <a:uFillTx/>
                <a:latin typeface="Arial"/>
                <a:hlinkClick r:id="rId2"/>
              </a:rPr>
              <a:t>Суть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Arial"/>
                <a:hlinkClick r:id="rId3"/>
              </a:rPr>
              <a:t>изменений.doc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/>
          </p:nvPr>
        </p:nvSpPr>
        <p:spPr>
          <a:xfrm>
            <a:off x="1258560" y="76464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5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«Нужно, чтобы дети,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5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по возможности, 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5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учились самостоятельно</a:t>
            </a: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5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а учитель </a:t>
            </a: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руководил</a:t>
            </a: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 этим самостоятельным процессом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5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Corbel"/>
              </a:rPr>
              <a:t>и давал для него материал</a:t>
            </a: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35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rbel"/>
              </a:rPr>
              <a:t>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.Д. Ушинский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01:40:29Z</dcterms:created>
  <dc:creator>Швайка</dc:creator>
  <dc:description/>
  <dc:language>en-US</dc:language>
  <cp:lastModifiedBy>1</cp:lastModifiedBy>
  <dcterms:modified xsi:type="dcterms:W3CDTF">2013-12-01T08:39:21Z</dcterms:modified>
  <cp:revision>5</cp:revision>
  <dc:subject/>
  <dc:title>ФОРМИРОВАНИЕ  УНИВЕРСАЛЬНЫХ  УЧЕБНЫХ ДЕЙСТВИЙ  И ИХ МЕСТО  В ОБРАЗОВАТЕЛЬНОЙ ПРОГРАММЕ ШКОЛЫ                                               </dc:title>
</cp:coreProperties>
</file>