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02A-8C90-46F6-91BF-EB607A49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77B-F627-45E0-B877-4CCF77E4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7B24D-C0C6-4EE3-AE51-439BEB8E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74A6-3367-40C6-BF4D-D3CF2E46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2F945-371F-417B-82B2-7E11135C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65EFB-796B-4EC3-839B-0AAC3AB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299EB-2115-49AC-938C-FBE9B50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E784-25E6-458D-AC69-4C33897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879CB-1A4B-423B-BF8E-3F1F563C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E4D0E-70EE-4CE1-8912-102EC6F4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140E3-3631-4EE5-A843-B3A9B019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EE723-5CB7-497F-B1AD-6264E3E0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CE4-7396-41E1-AA86-AF712870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81A94-6C7D-4AAC-9CB8-F564948D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45B5E-89BD-473E-A831-BE090468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B159C-974D-441E-855C-73CFAF2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5A81F-0C25-424C-91A7-4B457245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B6768-C39E-43F7-9872-4511408A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FFAA1-56DF-4502-B6D6-97359F6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C228B-774E-4D36-8F22-849F7D65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300E9-9C97-4CD3-BE74-5DF7F56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06E67-9235-41CA-BF23-62513782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7AA96-587C-4B13-8EF5-13BF0F5A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270-2229-49D9-A2B3-082A65A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C1DA7-6EC6-4CF6-9FE3-CF35301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DBEDB-4E59-40DE-932C-80A28EF3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E2225-489C-4EBB-8002-40422B8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8A1E3-0F90-4A2B-BB9F-8F05318D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01F2A-DD6A-4799-9938-E64D565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26541-D538-41CE-9055-1D5BC804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3AF4F-621B-490B-999C-43ACD566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2EFA3-725E-4C0D-AB1C-6E3F6555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CA5AB-D9CC-4C47-B566-C8E64D5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ED4E1-49E7-4A15-B813-E97E997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9E65-1652-484F-ABF3-3D89E6C9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71C8F-F6F7-4D5B-B7EE-0B200AB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B5666-8C8E-4E93-AED8-7726A191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7A9F4-6528-4A8C-94DB-55BF35C3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50A8E-7F68-444E-ADEA-D5F14EDD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47559-D369-4103-BEAF-4709697E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75DBC-27F8-4D15-8482-D9780F64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1DBC3-BAFF-4C76-9217-9C93BD0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ED07B-ADC0-4E32-859C-2FD9F0A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1349C-AFEA-4DAD-96D8-5DF8E729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D3205-51F7-44C8-8C3E-0ABCCB9D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0070-C779-4E56-AFA3-6EF2E65C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80F6E-2152-4471-B7D7-4C1A862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782CB-BF23-41F4-8BFB-9CCC570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5CD34-E626-4FD0-9A8D-0C949184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FEFB4-15DB-4285-A7EC-53EF7F4A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F13A1-4DF0-4DCD-929A-2744F871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B15CB-0AC4-4C3A-A258-4AA38A44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F113C-228D-4AD3-AD8A-B2F164EA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F25E4-BF66-49FE-A642-6A29631B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99863-3F94-41C4-96E6-74C13655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D5BD1-C9C5-43CC-B0CD-B6325CE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E4A0-2859-4B21-8597-DADE27F9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3102D-0EAB-4228-BE4C-AC987DF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64C0F-7F40-4F8B-B610-0640A54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59774-81B4-4166-8932-3203AB4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9D496-DC0C-4DB2-BCC6-9BD61AD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4D82E-40FA-4E0F-B718-F1106FD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BB4F5-7CC7-4267-884D-D721F2E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07041-DE80-48D5-8210-B045CCBA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F7186-7F2E-4517-AEA1-C76187FC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010D0-3270-4E9E-920D-C7846077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12116-812B-4C57-ACD3-44F6314F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6959-7927-4492-92F7-B2ABF98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82945-183A-492A-B2FD-147A2B6D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A0316-BF42-443D-B368-863B1C66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42A69-4274-4798-95FC-049A1E8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559BB-97A2-435F-B3C1-5532E8C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C2641-B457-4F57-9B91-8BE91C4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FF891-2C34-4036-B931-A255C8E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05CAB-D6D3-4C90-AC59-42E981CE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59ACE-049B-46C7-BB65-B4EB52AB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D0097-1034-4FF9-8547-8D271277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2BBFF-BF2E-4842-943D-B8BF55FE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7B1B-8CC7-40BE-AEC0-A617ABD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2B716-6BB5-4C66-BAC8-BF1CE9E8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B090D-038C-4F23-ADE7-C2A6D895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CAA57-A2C4-4685-BD1B-564E3BB9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21D02-5915-4B1D-9B92-3928C41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D62F8-471D-49F3-9CBE-A0D1AE0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2C981-7A2F-478E-9BFF-143368F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32797-7E7F-4990-8ED2-6107C3F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F0F41-5383-4704-A109-FDD3D18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83A13-A661-4273-BCA5-802DE9C0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B3078-24EE-466A-B8E2-D590251F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E8B-5E13-4E66-976E-964C6CC5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87379-F3B0-4310-B6BB-8125E2D4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EA748-61C9-47CA-BDBC-258F207E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162C9-B743-4C73-8731-1B79CA68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05BDC-8330-4DAF-B374-08C1214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7F2CF-D36F-40B7-908F-A884BCFD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66693-93DE-4BFA-BDBA-B02B1475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BF19C-98D2-48EF-9834-C0310689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E3F53-619A-4E61-B7C2-956A6FA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71EBF-B087-4502-B850-C6691D2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F96D3-83C8-4213-B3EA-265DB42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377E-1A20-42A3-9FC5-7CB944B5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9ED2F-E300-4927-874A-AA9B9AAD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14FA3-EF7E-491B-BEEC-69320646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790AA-2442-4EC7-AB37-8BB59D36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EB284-F99B-48FD-8CCA-67EAA7AC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17499-207B-43F4-9970-DB3D785F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817BC-D3D7-4222-A1B7-6F259812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65C9A-5928-4E83-A7FF-C48DC7B0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A7D75-9411-44E7-915F-0598791F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DB906-FD22-46A4-9DF6-FC354349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6773E-C769-45A5-9694-3534FCA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A90-1E41-4BC3-90E4-937799D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537-E71D-4536-93D7-1021E3A8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21A67-F9EE-4651-ABAB-A12A707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A82F8-80C5-4CF8-9566-49F22C9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99DE5-4C47-4990-B2DB-9333AD04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CCBDA-31AB-4906-9749-BCFD808B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5B204-3955-4DBD-AD1B-BD061DD1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173E2-E84B-494F-9504-BCDCD789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52ED3-E0E1-40AD-AC57-737B6C45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28CEDA-ED51-43F4-A70A-6AB804D5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E5392-0AB4-4EEF-A861-54A5C8F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8CF68-F3CD-474E-B01E-C1622336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AD2A-A2D6-41E6-8F32-7B992EEB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0EC65-15F7-4F71-B154-3D2B70F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DE249-A73A-4E05-A4DF-1B38D9F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22957-E58A-488F-9FFC-2FD14B7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50C9A-E90B-4B6E-9CD5-F388846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983E7-44D7-49ED-B11F-C4BBB8E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A1E06-2F93-4BFF-A4AA-871BC982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04E6F-0184-4878-B57A-81E2973D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E7FD5-9BC7-42BB-AAEA-111D9827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781D4-70DE-4A80-90EC-33AAD14E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73309-5DA4-45C4-81A6-ABBC8293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6C51-5ECD-4D92-8EEC-A2BB63F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3F4ED-660D-4139-8ADB-23A1DCD8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135B7-978D-438C-8148-9F621BB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DAF91-FC73-4661-8176-6736844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B62D4-2302-4B41-8EDA-B474027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FB8B3-7BF1-4194-A692-419F881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29992-8520-4B16-8DB9-F96D0DA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40CA7-2156-44AF-9B17-40C0FC67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F8578-14F8-4D47-98D6-3DB6419F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5FBE8-D344-4CC6-99B7-81456247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A7D7B-08C4-4B30-9C2B-A040AAAB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36E8-244A-4C65-BF84-81AA9D35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6F386-D26C-4B0C-B89E-362F4205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01964-8421-4BC3-9949-0A34F3CF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8096E-5BE4-4A11-8B68-D94ED27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6FCC8-31FF-4854-B4FB-E2C7C03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FD85F-9D72-4AAF-B254-3BB05221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3291C-4561-470A-9170-D4E27051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A5DF5-97B7-4A7C-9F2A-D5C4082C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45483-7514-41D8-8E8F-AAFD1EC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D817EE-C44A-409F-A4DF-659C304C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851A5-44C0-461F-8D86-C695B1FE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CF96-59B1-46DD-85CB-FAA5E7B9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FDC6C-70EC-442D-88B1-9FF776FD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F68B4-9088-4846-B7F0-D6725780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C32F3-D0C6-45AA-9F80-EDE27DF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02265-8498-4DE4-A05C-123F694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43968-37D0-48BF-8B5C-30CD63C3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A85A4-DAED-4A68-9CF1-DFCF942E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DA955-4E90-4842-8645-2154F0A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042DB-4798-4384-93C0-A03D296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2A604-F5B2-4E21-BE6C-F46025B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32C21B-DC14-4E49-8ABD-1448F59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959C-ECA6-4E7E-8471-55E4B304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6DB72-E480-4231-BF55-9F6498FE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9E683-38C4-44BA-A28B-6D877823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89901-2635-40FA-8028-8C1BAB89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21830-66F9-44AE-99A7-EB3BF710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09D7C9-0133-402A-BBBB-71AD551F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67EB28-E2CF-4BD5-A909-DCF2301D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BCCFD5-5E5E-419A-96EA-D271077F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27CEE7-A41F-4CD8-A4CD-B78717B0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C9F8C-8996-497A-9A4D-35A480C3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0B3863-D2F6-4B0E-9C7B-C8C67350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DDBE-A38C-4854-91BB-E2808F65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646DB-6DA2-4192-AB42-78AE22C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AAD48F-9798-4CB2-83DE-25FBBA1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4DFFB-BCE4-4737-A81A-A03B918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7C9AC8-A1D1-49B9-996D-22C74376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7A56F-2144-4D41-A8C8-505EB92D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8D79C-0D73-4EDE-AA39-5EAD0783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A05EBF-543F-4795-A5B6-7A9D677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FFDB22-6CCB-4E9D-9042-C2A66545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DDFC96-6AC1-4BF1-BD3B-0156F7E9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E60E7-86E4-4690-BC12-E159DD2F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DC1A-5464-4714-BB1F-FDFF0495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4CD2C-DD82-444A-8B9E-0ECCD316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2CBC1D-6B33-4C03-892F-7E29B953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0428D-A98E-414C-B337-8D45E10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0D1348-8361-4059-A649-FF33A2D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5D9B1B-0FC2-4077-9011-B0FD072F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C0EE46-147B-4395-8A42-79AC7A02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021A90-5CE7-493E-845D-4082612A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3D2B94-57AA-4CEE-9662-40B3B576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AC2555-A8BD-4B45-9A0C-985130E1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3B39FF-FE1C-40AD-B80D-3BE6B8D3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28B2-433B-44D2-9C0E-1711C92C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BBCDAD-2998-4165-9C12-386929B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B829D9-5BE5-4320-99C0-0A51887E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3FAE9D-0F8D-4585-87BB-7DA440D5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6077CC-BD4F-4FE9-818C-F2DD875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85331F-705B-42F7-81A2-C13824A0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8646FF-C1D9-4C14-B0EF-D87917F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B8F7C6-FD29-4579-926C-28DE1A82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FAEE3B-58BA-42A0-88E0-ECDFEFC1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9D566-E928-475C-9080-41A62EA1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3070EE-B7F7-49CF-BBD7-40B4C00E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44F9-D671-4C74-ABCF-BAE89E42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065DD3-A0C9-45E4-964E-2171DD51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C4B264-3163-4534-A74A-ABB30204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357335-30D5-40EF-BDBE-4DC19486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DF399-22C4-4D63-BDDB-25EDB15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96DD33-72AC-43A5-BAD8-422B8CAF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E6BDF1-B3D5-45DD-AAA6-9164DD4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D3BB87-A9B4-4F6A-8911-03F51E0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BFB25F-A6DA-4F13-94AF-497FFE2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20344F-50BD-49D1-87C6-DB20AA12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9E24E7-4451-48E5-8AC4-25A8888E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91B-E1F6-4798-80AF-B64EA023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CEDD-CC79-4715-A39E-1D4D1149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8EFCC2-3822-4957-9727-B988E565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A5ADA4-8ED9-41FE-B565-4CBCA6D5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4519F2-BFAA-4BCE-B0FA-7A9185F6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04FE53-8F55-4DE8-AC94-ADD3C68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F2DA71-AE8F-47BF-8EE1-F6195C2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293338-B106-43AD-AC1C-0E3ADD5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3D2FD9-4069-4C28-AB7B-EFB0E9B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6440F2-D7BF-4EF8-86A7-1168048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A1A818-9CE5-4FDC-9C39-06819414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EEB82E-02D0-4BFC-8C6E-C77692B1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F640-3D90-44C5-8DF1-D0646DB3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A7C048-51CF-45FA-99AC-39604CD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FE7029-20E4-45AA-9DF2-AEFD9761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FE193-9FA9-44D9-A2C8-1B87A1BD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9914F0-7BCC-4472-9BA7-13527A99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DFB2B1-1662-412B-9D7C-055C2D2E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EC78A0-9EE8-49C7-A97F-86E6269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7EA7D6-9327-4AC3-9B58-981749DA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416699-1577-4E1C-A449-3A98D99B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4583CF-C2FD-4420-A1BB-C5FEDD5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53A96C-4831-48CC-9079-ED3D9797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A39A-1206-4F7C-B92F-C4A23AE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D54E92-11C1-4839-8BEA-1F55A68F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5AA9F3-B97C-4902-A315-002CA954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287563-DC43-4686-B68F-8EE44F05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9561BA-19ED-494C-B780-89E80174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66D9C9-49A2-450B-8922-39B47636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50BFBC-9C8F-4D8E-B6A0-B46DB74F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C1A659-C8F7-489F-B2F6-C73132C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5D8BC6-043C-409E-95BC-CC485232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179D6C-E782-45D7-BC79-E3D4058B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7A6CA0-13A9-4C1E-B5AE-A4861747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1685-003A-4A53-9594-1DA244FE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796677-F0E8-4061-BEC3-D2654CA3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600062-31B1-4840-8103-25294AB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14EFF4-709A-471B-A441-D12821A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0385BB-023C-4F60-A1AF-00B22BB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7B3EC3-76EE-4B5E-BC8C-AF88B014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C16BB7-87FF-4C6E-93ED-4821BE0C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429073-211E-4F57-9946-CD98BAE3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E4A015-41DD-4FCD-85DF-92320913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39B8FA-9F52-4B90-ABBC-9032B171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A4E9A2-1791-4FAD-939C-CAD3F0D5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3CCC-F1F3-4E91-946B-78C825B2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A35DC1-0D30-44AF-ABE7-0E4AFCA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8655AF-A7CC-4015-B2C8-FE683B64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CC20C1-0634-4850-BAED-22920A8B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8586E8-0666-4738-8A69-1409CC3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3E17AD-9616-450E-8109-BFC3517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E5E3F1-84CA-4A53-AFD6-37AB1084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7D6747-8C1F-46A9-9BB6-1599BE4A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5D1DC8-D89C-48D3-BCFC-B122629B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72B0B8-4C6C-4A1B-ACF9-14094AD8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1E6D2A-0214-49D0-B9E0-9D4C6C8C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0155-3019-4F6E-B3B3-BE2B06EC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60D4BD-600E-4731-BC00-805EE6FD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7D3D6F-390F-4411-BD3B-2ACC034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104E40-AFDA-410F-849F-1AC2FF93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576B4E-5BFC-4AA6-A836-65607DD4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2F400C-DC72-426A-91C4-0E8E82E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54C505-7EA9-4FDE-95E5-698D657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8621D9-6E51-466D-944F-9EEC36CF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4DC0F5-CD63-42F4-95B4-E901FE1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5D82C9-464D-4A47-B2B8-FCB3C9B3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24D6D1-9457-4D83-B2E9-FC9F0DA0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908E-B114-4F9F-BFE8-B11DC18F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E64807-E712-4924-8F3E-1AF4D69A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A09A70-A805-4E2E-8CC4-8250568C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65C50E-1A41-4A2C-B95B-8D0C04D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E54353-9795-4370-95D2-87896D2B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AEDC5E-F81B-4DED-BEAE-818796F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BDBABA-CD9C-4801-A350-0EE6113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05C86E-8BA5-40AF-AA3A-C0FFAC06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2854B4-50EE-43B9-82F1-28638525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8772D2-1FCC-42E0-976F-F4F6D38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DD402C-0017-40E5-912B-4C1F3512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86A4-C2F3-492C-9AD7-400CA145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6FF490-C764-4187-A40B-1E21B6F3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1BFB51-6000-4D7C-BA95-5DB3FCC4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71A809-CDD6-4F8E-B156-1AB1A728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A5F56E-9AEC-4B3F-A00B-4A4DADBD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15CE9C-343B-4F40-A14A-90EBB1B7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19E1EA-8082-44A9-B132-5E8F9E0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63DA6F-73D7-4FF3-9043-21B4201E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283BD6-0EA6-445E-828A-CBCE92E6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BFD519-9C4A-4CF5-B8B0-1F1E9E98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40D66B-10C7-48E2-9CF5-A9335CE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8DA5-8373-4ADC-822F-CEB1DCC4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65810F-33C8-49B4-97F9-84600B4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2EDB0E-EC94-47F3-B791-2AA6E45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DB874B-3814-401C-AE57-931EFB37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52AF62-4264-43FC-A6C9-187A32EF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BBAAA0-7AB7-42B0-8507-5BD7D8D3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DFB134-C606-449A-8B78-D834C7F7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A16543-6469-4BBB-B6D3-9DD80E59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7BC3D9-68CD-43B7-812A-A4B49335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FB97C0-723A-4DAB-90ED-A7894F6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408AFF-60A6-4F2F-BEE5-CFB662B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C8D8-05F3-4D02-98C1-A37047E5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C7C035-C9F3-44CB-83B9-B6DDCDE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03BE20-3541-4CEC-9F1F-AC8F1A7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78F90F-2011-4362-9228-B7F4F51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206B64-A1A1-4A49-B0DE-689CD00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B229A0-BAE6-4044-A104-9D7BD869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CC5960-2F45-4738-9DF4-5E845026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B3615A-150A-4580-9D73-C0D1027E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4EBBE4-9307-46A9-A2BE-0C71D0A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AEA6DA-A059-4C4F-A0F8-499FD64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26D115-4AE1-4F5B-BA0E-BDEEA66C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DA8-05AF-4F6F-B3C5-FB1CAA97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EDEC-8F9B-4187-82C8-4E817038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EA986E-C339-4623-AF64-32EAB7F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7383F2-8445-4B98-B06A-B7A3701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BF25D6-ABA6-456E-9761-3BEEA395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6DDC81-7026-4ED5-8930-3F14D60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8EEE2A-7B14-487F-82F5-1DF65A4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BE4B6D-C207-40E4-B74D-B989F73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207FAB-48AD-4904-B09E-DB7F1CB0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5587C3-7E60-43F0-92BD-3239E586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8C7D2E-03CD-4DCD-AAF8-EE1B1BC8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82B72F-E092-41BD-96FA-E7F43335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917D-E040-4B48-BADC-934EB548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27BA7C-9124-441F-A545-6303092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4CC520-58E1-4C08-8E5F-F09FD0E8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AAD328-3670-4A29-8DF2-978AB85E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9FC7B5-6EE9-4424-96E6-492A854B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E3EC8B-2D1C-45FE-8086-E6CECF17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DA5CAA-C3E6-45F7-BD80-E337F08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5CCF16-6969-4A2F-938C-1E2EDA4B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EFB9BF-B377-4B79-90E4-693147B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604DB5-A514-4C34-BA9D-EC237F2E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E3334D-A764-468A-94D0-DE9DC78E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048DE-BCF7-4C0A-A20C-F819463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994B0F-F095-4C51-9214-5BBD40EC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537884-B0EE-448E-9BEF-573F38A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520CA2-E405-44D7-BC35-662C7509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2EC948-722A-498C-B4A8-7EBACC4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4A0656-F381-472B-B2A1-66AB1C1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D94DA7-D185-462F-9225-E7A09E8F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D58B27-B4FA-4A66-A8AA-B98A4802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891007-6599-478D-A490-D0FA891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78B8F4-BB6B-4D1B-96DF-E05AEEC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DA01E1-780C-4C33-A6FA-78F7F6C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7B23-F94C-4520-A851-F983AF3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6CD903-AA08-4AE2-B072-339939FE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4B3153-2D2C-4DED-A900-21D1A6C1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04115E-62BE-463E-9792-6338F0FE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5D570C-AF48-46FF-A973-3DDE2A62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1004EF-AD3F-4848-BF42-D415C477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F22954-38FE-4923-857E-00FACA36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C3AD8E-A778-472B-AB33-28490D05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F6CB67-EE64-4BC7-8BDA-0CB0067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EEE12A-2F74-41FD-A3BF-609261F8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C4AC3B-29FE-49E3-A1D9-E1C7540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B903-E769-463A-9F73-78A8E346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234A4C-88E3-44DB-BF9F-715CF35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5DEEE5-CF02-4397-ADFD-CEB683D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251B31-0234-4B24-A330-9F30564E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1ADB83-7A92-4CB7-8975-567FCFAA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CAF0F4-6BA1-4182-A052-E0B07929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ABE035-F4B3-4782-8576-005FF89B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157918-21AB-451C-A952-87D3E16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CE1D54-DD73-47A4-90EF-C7E998E5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6F60C6-E62D-47B2-8049-A505D91A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9121F4-426B-4ACD-9EDB-4D695016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9DB57-2212-4767-9B32-385FA4A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29CE06-8EBA-49E6-8AAC-DFB90E9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C93278-FCB3-4160-91EB-EF2EFCF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870C94-1CE1-4545-A62F-B25977F0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19E696-B2F7-4349-A02B-DE674922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AED4A1-AEF9-4E0B-9DB7-F2368D98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757DD2-462A-4A9D-8D8D-C645A9D6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483E9A-7129-4A11-9286-2F931108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66EE4AD-520E-4A7E-8AEF-EC5BEAE8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B52ED4-C8F3-450F-A94C-1298B78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942635-6D28-4860-940F-BEC3B742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0A0D-F983-4A89-A928-4903C6F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C674F7-2AA4-48C3-8150-FA72E69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AB6444-D541-4FEA-B30C-D7666AA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4F7DD03-08E9-44F2-85F6-B57C0BCE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FAA8CA-095F-4152-9723-1466161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462F50-A0A9-45CD-A538-4A43094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7D69542-4BB2-4463-A431-F459A783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5E78F8-01F4-46B6-B66B-AC05C8F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CD0F6C-D77A-4288-A0BD-86D2D13E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2BD7C2-1DF7-4775-A294-C4ED02B6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4935F1-63A4-46CD-B6EF-18A3F741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5EEC7-22FC-4179-BAD8-1ED80F41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C4F371-82D0-48B1-AA9C-EE81F2B9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9011D5-603F-4A67-A8CC-C719FE7F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50254E-F03D-4A4B-A6F2-5FC3541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73F26A-CCCD-429B-9343-CDE652D4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97DFD0-6199-4D34-822D-DE8BB9AD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0F51B6-C2BA-4848-BA44-9DF5CCC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D9A002-6D3D-437B-BA0E-704802B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2E03BB-EC91-4D86-8474-85B41679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48C92B-CD91-4000-A4F1-7319A25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CBA744-CBCF-48DB-A03F-38E36919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D943-8066-460F-B95B-C9EEFD8F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13015C-B55F-47D4-8082-0BFD22FB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FA508B-4213-49CF-A902-5588B3C3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393AE5-8D84-45DF-8B65-0A23B9B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FC35C9-CAD4-4769-B33A-F122B498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1ADF86-3F63-40BB-9D56-943ED24A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CB871F-46FF-43FB-9DD6-CF2B63B0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78DB19-D33F-44D0-98A9-0D5F4D4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D7E82B-B1D4-4A4B-971A-C21DD696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ADA5E9-A963-496E-85D9-7FC7AE6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2A375C-CA16-4CD5-A0DA-B129C05C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C3AE7-A430-41DE-88DD-81A1C79C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A80878-FB01-4315-89ED-A9E28324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6F6641-02E3-43AF-82C4-5C671F74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08E676-F271-48B4-BB0B-E77BB573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512-2CDA-4227-BAB6-B8704381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00137-1D01-4E51-9179-7A4ECD7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26F0-6DC1-4546-86AF-650A5C4A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9A73-BDE1-43CC-90CB-F1FBF245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1BE05-318E-4F1B-8589-2E1DCEF8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4034-C682-497C-913F-F728531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F585-A9D1-4DE3-9CFF-E456543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5D63-AD01-4E82-9DA8-9337A68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7169-6472-48CF-AD84-23D7143D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2F20-9C22-4746-8428-9C99C9D4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04166-F6BE-4BFC-A035-B046A973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755-DE99-4669-B655-0729058C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ADA2A-8B44-41B5-9FDC-A82ED667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DA7BD-B81E-4B1B-87E0-04C18575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1D83-FF16-4D46-9BD1-D700E957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B08F4-BF8A-4597-BB76-27B6DE1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8F8C-FD75-427A-B0D3-7EE61D30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7730-41F8-45C6-87DF-570CF876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6520-D5D8-467F-B21D-D55F174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018E-D82F-41C0-AEB0-46198CF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742A8-43D2-470D-B7F3-B7745D3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CEEE-63B3-4BA2-B597-56BD0AA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C25-702F-469C-9418-B6A4C99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1C20-3760-46CB-8EF0-E895DC31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A42A-FBAD-442E-BC1E-692FDAD7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C98CA-129F-4468-8A73-CB957E63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F041-82E4-4F35-BB10-D677E0C0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4BDCC-BE4D-4878-AEF2-56EC2D5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949A8-5E4D-436A-A4E6-352F67B7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42E93-2C83-4FCE-9264-8BACBA23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E420-FBFC-4AC6-9823-ACF75740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E83C-79EE-45EE-BFF4-27B4CDA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A134C-F59C-4770-8686-FAA72E08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D77-B4F5-4F09-A456-7196D08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F0C52-7794-4A86-92C8-73EDBA0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1112-9DF1-4D49-A4E5-A2A4FD21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F6F7-9580-44D1-A8E4-F20B539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A4D6F-952F-4891-A1EB-82648522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2B96-46C1-415A-AA4B-396ECC6C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71C44-512D-4801-A654-67F06039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35D07-A1D8-4A6B-BFAC-B9F0992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345FB-573E-4A7E-902F-FAE9DCC3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70960-9A1D-4B67-A6A2-7DCDC574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BBDC3-726D-4AEC-9DD8-45AC7DBB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A89-3763-40A7-9447-DF6C740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6C53B-91C3-40E8-975E-1ABD2E18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A69F-F723-4DD6-8156-9F7AFA9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BA62-B230-46A5-9AC0-E5312C9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19537-F6B2-4FB4-BD1F-CF1DFE00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C0EC9-9162-4942-94DC-5FE1837F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B6234-EF7D-4F68-8E7B-BABB5E21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5CF8-3CD6-4B01-AA5D-45D56560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614C-A96B-4FE0-BC89-475A7355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81653-964F-4C00-9B39-99591BDD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1C304-0D13-49E7-9DD2-1EDC5AA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4662-B9F2-4216-BD25-3248586044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B22-32B3-4239-AF3A-BED6D20BB4B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6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6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39C1-DA2A-40D6-A894-8C8B182448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1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2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7AEE-915B-4F9F-AB3E-A7963800154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56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6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2153-F3FF-4EE1-BC3B-04402DEC8E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AC0C-2D66-4F75-A715-0C0670B9F6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B651-F662-4286-8257-D9559BC2A3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92EB-0156-4F60-A081-DA053EC8E3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73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3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2B23-1078-496F-BADB-5DB708E4A7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8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78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8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8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78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9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E878-5065-4816-B5A6-2794CFCD48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3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83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3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51E-8B4B-423D-B3E1-2886CF97A7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06AA-8C6F-4F39-88D9-ECAEBFC786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F281-E778-4A96-8025-21B27D8BAC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DE23-C468-4637-A61A-DCCC46E8B87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8FC6-DC57-4AB9-B545-DC89693167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00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0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197-8961-4392-90A7-CF9C3CAF28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5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5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5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5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6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04E9-F551-4366-B33A-CC3B6A68B0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0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0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6E7B-E840-4ABF-BFCF-6A881AC9BF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0452-1D1B-44D8-B1F3-21035F96AA2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1012-EEA4-483C-95A6-B710192DC4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3BA3-1183-4382-9A04-EEC09BD452D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27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27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51A-877D-4A21-BA30-8E21BA4846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501-7762-4219-9996-AF77B9F8FC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2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2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2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2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2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3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E660-118C-432F-AC3C-AC744B9C0D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7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7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926C-6F79-4C9B-BEFE-FA6659A45C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BC6C-DDC0-498B-83B6-6BFC676DDB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7E3-C4B6-4B2E-8263-F60FAB13833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BF17-2452-4F1C-9180-DECBC4B1BBF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4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4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E05-4DB1-4749-BA0A-8CF5E0B549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9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9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9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9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59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60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10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10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10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C228-FE17-417D-811A-22E51555FB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64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64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64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dt" idx="10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ftr" idx="1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 type="sldNum" idx="1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464-BA43-4578-B65D-7D4F0EC4F32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320-FCC8-4537-BF10-6EE91345CF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 type="dt" idx="1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 type="ftr" idx="1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 type="sldNum" idx="1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75EC-5226-490B-815B-EE4EB99F67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575-A3BD-44B9-BD6B-DD66760517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4AB8-62B4-4F1F-B1E0-785F9FFB3A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81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1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 type="dt" idx="1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 type="ftr" idx="1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 type="sldNum" idx="1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F70B-73BD-4624-86A0-82ABE355FCC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9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6C75-7110-4E5C-BB92-1FD4A7F7275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4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4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4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4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4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5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BD49-3B05-4B48-BF65-F4524BDF39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9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9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9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21BA-4C6F-4D4E-A01A-E4897CF041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A9E0-2522-4D9F-97D6-45BDA3DE80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478-27B3-4A1E-9B96-73BC36BA27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7;&#1091;&#1090;&#1100;%20&#1080;&#1079;&#1084;&#1077;&#1085;&#1077;&#1085;&#1080;&#1081;.doc" TargetMode="External"/><Relationship Id="rId3" Type="http://schemas.openxmlformats.org/officeDocument/2006/relationships/hyperlink" Target="file:///&#1057;&#1091;&#1090;&#1100;%20&#1080;&#1079;&#1084;&#1077;&#1085;&#1077;&#1085;&#1080;&#1081;.doc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9293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ФОРМИРОВАНИЕ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ЧЕБНЫХ ДЕЙСТВИЙ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В РАМКАХ ВВЕДЕНИЯ ФГОС НОО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    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1" name=""/>
          <p:cNvSpPr/>
          <p:nvPr/>
        </p:nvSpPr>
        <p:spPr>
          <a:xfrm>
            <a:off x="197964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«Средняя общеобразовательная школа № 6» городского округа город Фроло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2" name=""/>
          <p:cNvSpPr/>
          <p:nvPr/>
        </p:nvSpPr>
        <p:spPr>
          <a:xfrm>
            <a:off x="334800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.12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Посредственный учител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излагает.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Хороший учител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объясняет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Выдающийся учител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показывает.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Великий учител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вдохновляет».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Уильям Уорд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93" name="" descr=""/>
          <p:cNvPicPr/>
          <p:nvPr/>
        </p:nvPicPr>
        <p:blipFill>
          <a:blip r:embed="rId2"/>
          <a:stretch/>
        </p:blipFill>
        <p:spPr>
          <a:xfrm>
            <a:off x="1258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8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Текст 8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5829480" cy="4016520"/>
          </a:xfrm>
          <a:prstGeom prst="rect">
            <a:avLst/>
          </a:prstGeom>
          <a:ln w="0">
            <a:noFill/>
          </a:ln>
        </p:spPr>
      </p:pic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Главное для учителя - помнить,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458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что все учащиеся - звезды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маленькие и большие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близкие и далеки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но одинаково красивы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Каждая звездочка выбирает свою траекторию полет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Каждая звездочка мечтает сиять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И наша задача - помочь ученикам в эт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97" name="" descr=""/>
          <p:cNvPicPr/>
          <p:nvPr/>
        </p:nvPicPr>
        <p:blipFill>
          <a:blip r:embed="rId3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8" name="Текст 8" descr=""/>
          <p:cNvPicPr/>
          <p:nvPr/>
        </p:nvPicPr>
        <p:blipFill>
          <a:blip r:embed="rId2"/>
          <a:stretch/>
        </p:blipFill>
        <p:spPr>
          <a:xfrm>
            <a:off x="0" y="172080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1042920" y="26028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ЖЕЛАЕМ УДАЧИ!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облемы в обучении и воспитании нынешнего молодого поколения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мещение дошкольных видов деятельности занятиями учебного типа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риентация взрослых исключительно на умственное развитие ребенка в ущерб духовно-нравственному воспитанию и личностному развити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зко возросшая информированность дете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временные дети мало читают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граниченность общения со сверстникам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5" name="Содержимое 3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821664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024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ребования к формированию метапредметных результатов – универсальных учебных действ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7386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е должны стать базой для овладения ключевыми компетенциями, «составляющими основу умения учиться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ервый план сегодня выходят образовательные результаты надпредметного,  общеучебного характер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142640" y="512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Универсальные учебные действия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9" name="Скругленный прямоугольник 4"/>
          <p:cNvSpPr/>
          <p:nvPr/>
        </p:nvSpPr>
        <p:spPr>
          <a:xfrm>
            <a:off x="1214280" y="2357280"/>
            <a:ext cx="3643560" cy="400068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000680"/>
              <a:gd name="textAreaBottom" fmla="*/ 3822840 h 4000680"/>
            </a:gdLst>
            <a:ahLst/>
            <a:rect l="textAreaLeft" t="textAreaTop" r="textAreaRight" b="textAreaBottom"/>
            <a:pathLst>
              <a:path w="21600" h="23717">
                <a:moveTo>
                  <a:pt x="3600" y="0"/>
                </a:moveTo>
                <a:arcTo wR="3600" hR="3600" stAng="16200000" swAng="-5400000"/>
                <a:lnTo>
                  <a:pt x="0" y="20117"/>
                </a:lnTo>
                <a:arcTo wR="3600" hR="3600" stAng="10800000" swAng="-5400000"/>
                <a:lnTo>
                  <a:pt x="18000" y="23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Corbel"/>
              </a:rPr>
              <a:t>в широком значени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умение учиться, т.е. с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0" name="Скругленный прямоугольник 5"/>
          <p:cNvSpPr/>
          <p:nvPr/>
        </p:nvSpPr>
        <p:spPr>
          <a:xfrm>
            <a:off x="1071720" y="500040"/>
            <a:ext cx="800100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1" name="Скругленный прямоугольник 6"/>
          <p:cNvSpPr/>
          <p:nvPr/>
        </p:nvSpPr>
        <p:spPr>
          <a:xfrm>
            <a:off x="5143680" y="2357280"/>
            <a:ext cx="3714480" cy="4000680"/>
          </a:xfrm>
          <a:custGeom>
            <a:avLst/>
            <a:gdLst>
              <a:gd name="textAreaLeft" fmla="*/ 181080 w 3714480"/>
              <a:gd name="textAreaRight" fmla="*/ 3533400 w 3714480"/>
              <a:gd name="textAreaTop" fmla="*/ 181080 h 4000680"/>
              <a:gd name="textAreaBottom" fmla="*/ 3819600 h 400068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Corbel"/>
              </a:rPr>
              <a:t>в узком значении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2" name="Прямая соединительная линия 8"/>
          <p:cNvSpPr/>
          <p:nvPr/>
        </p:nvSpPr>
        <p:spPr>
          <a:xfrm flipH="1">
            <a:off x="3035160" y="1428840"/>
            <a:ext cx="2036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3" name="Прямая соединительная линия 9"/>
          <p:cNvSpPr/>
          <p:nvPr/>
        </p:nvSpPr>
        <p:spPr>
          <a:xfrm>
            <a:off x="5072040" y="1428840"/>
            <a:ext cx="1928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7715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Функции универсальных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:</a:t>
            </a:r>
            <a:br>
              <a:rPr sz="39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обеспечение возможносте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4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создание услови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гармоничного развития личности и её самореализации на основе готовности к непрерывному образованию;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еспечению успешного усвоения знаний, формирования умений, навыков и компетентностей в любой предметной области.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Овал 6"/>
          <p:cNvSpPr/>
          <p:nvPr/>
        </p:nvSpPr>
        <p:spPr>
          <a:xfrm>
            <a:off x="6084720" y="3284640"/>
            <a:ext cx="2857680" cy="1428480"/>
          </a:xfrm>
          <a:prstGeom prst="ellipse">
            <a:avLst/>
          </a:prstGeom>
          <a:solidFill>
            <a:srgbClr val="fed4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2071440" y="713880"/>
            <a:ext cx="6143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Виды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учебных действ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7" name="Овал 4"/>
          <p:cNvSpPr/>
          <p:nvPr/>
        </p:nvSpPr>
        <p:spPr>
          <a:xfrm>
            <a:off x="1571760" y="357120"/>
            <a:ext cx="6786360" cy="216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8" name="Овал 5"/>
          <p:cNvSpPr/>
          <p:nvPr/>
        </p:nvSpPr>
        <p:spPr>
          <a:xfrm>
            <a:off x="1187280" y="3284640"/>
            <a:ext cx="2928960" cy="142848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9" name="Овал 7"/>
          <p:cNvSpPr/>
          <p:nvPr/>
        </p:nvSpPr>
        <p:spPr>
          <a:xfrm>
            <a:off x="2500200" y="4500720"/>
            <a:ext cx="2857680" cy="1428480"/>
          </a:xfrm>
          <a:prstGeom prst="ellipse">
            <a:avLst/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0" name="Овал 8"/>
          <p:cNvSpPr/>
          <p:nvPr/>
        </p:nvSpPr>
        <p:spPr>
          <a:xfrm>
            <a:off x="4716360" y="4508640"/>
            <a:ext cx="2857680" cy="142848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1" name="Прямая соединительная линия 10"/>
          <p:cNvSpPr/>
          <p:nvPr/>
        </p:nvSpPr>
        <p:spPr>
          <a:xfrm flipH="1">
            <a:off x="3687840" y="2525760"/>
            <a:ext cx="127800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2" name="Прямая соединительная линия 12"/>
          <p:cNvSpPr/>
          <p:nvPr/>
        </p:nvSpPr>
        <p:spPr>
          <a:xfrm flipH="1">
            <a:off x="3929040" y="2525760"/>
            <a:ext cx="1036800" cy="197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3" name="Прямая соединительная линия 13"/>
          <p:cNvSpPr/>
          <p:nvPr/>
        </p:nvSpPr>
        <p:spPr>
          <a:xfrm>
            <a:off x="4965840" y="2525760"/>
            <a:ext cx="117936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4" name="Прямая соединительная линия 14"/>
          <p:cNvSpPr/>
          <p:nvPr/>
        </p:nvSpPr>
        <p:spPr>
          <a:xfrm>
            <a:off x="4965840" y="2525760"/>
            <a:ext cx="153648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5" name="Прямоугольник 58"/>
          <p:cNvSpPr/>
          <p:nvPr/>
        </p:nvSpPr>
        <p:spPr>
          <a:xfrm>
            <a:off x="6064200" y="378936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6" name="Прямоугольник 59"/>
          <p:cNvSpPr/>
          <p:nvPr/>
        </p:nvSpPr>
        <p:spPr>
          <a:xfrm>
            <a:off x="4936320" y="508464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7" name="Прямоугольник 60"/>
          <p:cNvSpPr/>
          <p:nvPr/>
        </p:nvSpPr>
        <p:spPr>
          <a:xfrm>
            <a:off x="2640240" y="508464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8" name="Прямоугольник 61"/>
          <p:cNvSpPr/>
          <p:nvPr/>
        </p:nvSpPr>
        <p:spPr>
          <a:xfrm>
            <a:off x="1632960" y="3789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уть изменений, связанных с проведением урока современного типа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Суть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изменений.do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/>
          </p:nvPr>
        </p:nvSpPr>
        <p:spPr>
          <a:xfrm>
            <a:off x="1258560" y="764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«Нужно, чтобы дети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по возможности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учились самостоятельно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а учитель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руководил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этим самостоятельным процессо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и давал для него материал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.Д. Ушински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1:40:29Z</dcterms:created>
  <dc:creator>Швайка</dc:creator>
  <dc:description/>
  <dc:language>en-US</dc:language>
  <cp:lastModifiedBy>1</cp:lastModifiedBy>
  <dcterms:modified xsi:type="dcterms:W3CDTF">2013-12-01T08:39:21Z</dcterms:modified>
  <cp:revision>5</cp:revision>
  <dc:subject/>
  <dc:title>ФОРМИРОВАНИЕ  УНИВЕРСАЛЬНЫХ  УЧЕБНЫХ ДЕЙСТВИЙ  И ИХ МЕСТО  В ОБРАЗОВАТЕЛЬНОЙ ПРОГРАММЕ ШКОЛЫ                                               </dc:title>
</cp:coreProperties>
</file>