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088E-C357-454B-BE92-BDF9BB9A9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D049-4A76-47B2-8436-E215F2C45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4F17-A098-4D62-8763-FCAF9B24F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49FA-8DB8-4AED-8F06-4264A2717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BE1-8275-4F2F-9B5D-6A882369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58C-C890-49E7-B842-CB379367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8C3-2FEB-4E1C-B13D-19520A88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AE4-A8E0-4C00-946D-51507FD7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639-9776-4AC9-998C-71A8B732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D73-994D-4BF4-AAE9-36C5B490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DA5-35CA-4A1D-B998-818DBE3B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D7F-00CF-461D-A35C-A5351A20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91B-7116-4291-B0F1-EBB50819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0C2-0A2D-45E9-9F71-70B75E88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ABD-C4DE-4B65-AF78-835B1DE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C99-2A98-468C-92D8-E58BACA7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1560-7F58-4507-AE3E-A6183A7DDF7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Перпендикулярность прямой и плоскости. Решение задач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285840" y="2594880"/>
            <a:ext cx="716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3" descr="SUPER043"/>
          <p:cNvPicPr/>
          <p:nvPr/>
        </p:nvPicPr>
        <p:blipFill>
          <a:blip r:embed="rId1"/>
          <a:stretch/>
        </p:blipFill>
        <p:spPr>
          <a:xfrm>
            <a:off x="5143680" y="3214800"/>
            <a:ext cx="158112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682560" y="1504800"/>
            <a:ext cx="7785000" cy="3305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6" name="Picture 11" descr="CRCTR496"/>
          <p:cNvPicPr/>
          <p:nvPr/>
        </p:nvPicPr>
        <p:blipFill>
          <a:blip r:embed="rId2"/>
          <a:stretch/>
        </p:blipFill>
        <p:spPr>
          <a:xfrm flipH="1">
            <a:off x="357120" y="500040"/>
            <a:ext cx="1363680" cy="2203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RCTR496"/>
          <p:cNvPicPr/>
          <p:nvPr/>
        </p:nvPicPr>
        <p:blipFill>
          <a:blip r:embed="rId3"/>
          <a:stretch/>
        </p:blipFill>
        <p:spPr>
          <a:xfrm>
            <a:off x="7072200" y="3714840"/>
            <a:ext cx="1571760" cy="220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одолжить предложе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Две прямые называются перпендикулярными, ес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одолжить предложе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рямая называется перпендикулярной к плоскости, ес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1258200">
            <a:off x="1392120" y="1960920"/>
            <a:ext cx="6653160" cy="26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бник № 19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1c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нкт 15, 16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опросы стр 54 (1-6)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№ 127,129(а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№197(допол. задача)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ЕГЭ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РИГОНОМЕТРИЧЕСКИЕ ЗАДАЧИ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4406040"/>
            <a:ext cx="26290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1c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0200" y="1785960"/>
            <a:ext cx="3929040" cy="35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Стр 54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Вопросы 1-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9a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695400" y="2400840"/>
            <a:ext cx="1938960" cy="1270800"/>
          </a:xfrm>
          <a:prstGeom prst="rect">
            <a:avLst/>
          </a:prstGeom>
          <a:solidFill>
            <a:srgbClr val="fdd7f6"/>
          </a:solidFill>
          <a:ln w="54000">
            <a:solidFill>
              <a:srgbClr val="ff0000"/>
            </a:solidFill>
            <a:miter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Решение задач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Рисунок 5" descr="девочка"/>
          <p:cNvPicPr/>
          <p:nvPr/>
        </p:nvPicPr>
        <p:blipFill>
          <a:blip r:embed="rId1"/>
          <a:stretch/>
        </p:blipFill>
        <p:spPr>
          <a:xfrm>
            <a:off x="214200" y="5357880"/>
            <a:ext cx="15004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тетраэдре  ABCD         (см.  рисунок)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∠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BCD = ∠ ACD =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но ли, что  на  рисунке  ребра АВ, АС,  ВС ,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пендикулярны C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2920" y="642960"/>
            <a:ext cx="40388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5"/>
          <p:cNvSpPr/>
          <p:nvPr/>
        </p:nvSpPr>
        <p:spPr>
          <a:xfrm flipH="1">
            <a:off x="5500800" y="1357200"/>
            <a:ext cx="1440" cy="300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7"/>
          <p:cNvSpPr/>
          <p:nvPr/>
        </p:nvSpPr>
        <p:spPr>
          <a:xfrm>
            <a:off x="5500800" y="1357200"/>
            <a:ext cx="1428480" cy="32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0"/>
          <p:cNvSpPr/>
          <p:nvPr/>
        </p:nvSpPr>
        <p:spPr>
          <a:xfrm>
            <a:off x="5500800" y="1357200"/>
            <a:ext cx="2286000" cy="24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2"/>
          <p:cNvSpPr/>
          <p:nvPr/>
        </p:nvSpPr>
        <p:spPr>
          <a:xfrm>
            <a:off x="5500800" y="4357800"/>
            <a:ext cx="142848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4"/>
          <p:cNvSpPr/>
          <p:nvPr/>
        </p:nvSpPr>
        <p:spPr>
          <a:xfrm flipH="1">
            <a:off x="6929280" y="3786120"/>
            <a:ext cx="857520" cy="85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6"/>
          <p:cNvSpPr/>
          <p:nvPr/>
        </p:nvSpPr>
        <p:spPr>
          <a:xfrm flipH="1">
            <a:off x="5500800" y="3786120"/>
            <a:ext cx="2286000" cy="571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№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                   С           Дано: Точка 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жит вне плоскости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                        Е    АВ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СЕ – прямоугольник.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ь: АЕ    АМ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 flipH="1">
            <a:off x="1643040" y="2714760"/>
            <a:ext cx="64296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6"/>
          <p:cNvSpPr/>
          <p:nvPr/>
        </p:nvSpPr>
        <p:spPr>
          <a:xfrm>
            <a:off x="2286000" y="2714760"/>
            <a:ext cx="178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2"/>
          <p:cNvSpPr/>
          <p:nvPr/>
        </p:nvSpPr>
        <p:spPr>
          <a:xfrm flipH="1">
            <a:off x="3571560" y="2714760"/>
            <a:ext cx="50004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4"/>
          <p:cNvSpPr/>
          <p:nvPr/>
        </p:nvSpPr>
        <p:spPr>
          <a:xfrm>
            <a:off x="1643040" y="3857760"/>
            <a:ext cx="1928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6"/>
          <p:cNvSpPr/>
          <p:nvPr/>
        </p:nvSpPr>
        <p:spPr>
          <a:xfrm flipV="1">
            <a:off x="1642320" y="1928880"/>
            <a:ext cx="142920" cy="192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4"/>
          <p:cNvSpPr/>
          <p:nvPr/>
        </p:nvSpPr>
        <p:spPr>
          <a:xfrm>
            <a:off x="1785240" y="1928880"/>
            <a:ext cx="50004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6"/>
          <p:cNvSpPr/>
          <p:nvPr/>
        </p:nvSpPr>
        <p:spPr>
          <a:xfrm>
            <a:off x="2214720" y="2571840"/>
            <a:ext cx="285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8"/>
          <p:cNvSpPr/>
          <p:nvPr/>
        </p:nvSpPr>
        <p:spPr>
          <a:xfrm>
            <a:off x="2499480" y="2571840"/>
            <a:ext cx="71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30"/>
          <p:cNvSpPr/>
          <p:nvPr/>
        </p:nvSpPr>
        <p:spPr>
          <a:xfrm flipH="1">
            <a:off x="7429680" y="471636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32"/>
          <p:cNvSpPr/>
          <p:nvPr/>
        </p:nvSpPr>
        <p:spPr>
          <a:xfrm>
            <a:off x="7286760" y="492912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№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АВ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епипед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дм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8д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7д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Куб 4"/>
          <p:cNvSpPr/>
          <p:nvPr/>
        </p:nvSpPr>
        <p:spPr>
          <a:xfrm>
            <a:off x="1071720" y="2214720"/>
            <a:ext cx="2357280" cy="342900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2"/>
          <p:cNvSpPr/>
          <p:nvPr/>
        </p:nvSpPr>
        <p:spPr>
          <a:xfrm flipH="1">
            <a:off x="1641600" y="2214720"/>
            <a:ext cx="1440" cy="28587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4"/>
          <p:cNvSpPr/>
          <p:nvPr/>
        </p:nvSpPr>
        <p:spPr>
          <a:xfrm>
            <a:off x="1643040" y="5072040"/>
            <a:ext cx="1785960" cy="14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26"/>
          <p:cNvSpPr/>
          <p:nvPr/>
        </p:nvSpPr>
        <p:spPr>
          <a:xfrm flipH="1">
            <a:off x="1071360" y="5072040"/>
            <a:ext cx="571320" cy="571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8"/>
          <p:cNvSpPr/>
          <p:nvPr/>
        </p:nvSpPr>
        <p:spPr>
          <a:xfrm>
            <a:off x="1643040" y="2214720"/>
            <a:ext cx="1214640" cy="3429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30"/>
          <p:cNvSpPr/>
          <p:nvPr/>
        </p:nvSpPr>
        <p:spPr>
          <a:xfrm>
            <a:off x="1643040" y="2214720"/>
            <a:ext cx="1214640" cy="5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35"/>
          <p:cNvSpPr/>
          <p:nvPr/>
        </p:nvSpPr>
        <p:spPr>
          <a:xfrm>
            <a:off x="1643040" y="5072040"/>
            <a:ext cx="1214640" cy="571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2928960" y="27147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1357200" y="47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∆АВС, ВМ ⊥  АВ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 ⊥ ВС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∈ АС.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: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   ∆ М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642960"/>
            <a:ext cx="40388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                           D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5"/>
          <p:cNvSpPr/>
          <p:nvPr/>
        </p:nvSpPr>
        <p:spPr>
          <a:xfrm flipH="1">
            <a:off x="5500800" y="1357200"/>
            <a:ext cx="1440" cy="300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7"/>
          <p:cNvSpPr/>
          <p:nvPr/>
        </p:nvSpPr>
        <p:spPr>
          <a:xfrm>
            <a:off x="5500800" y="1357200"/>
            <a:ext cx="1428480" cy="32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0"/>
          <p:cNvSpPr/>
          <p:nvPr/>
        </p:nvSpPr>
        <p:spPr>
          <a:xfrm>
            <a:off x="5500800" y="1357200"/>
            <a:ext cx="2286000" cy="24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2"/>
          <p:cNvSpPr/>
          <p:nvPr/>
        </p:nvSpPr>
        <p:spPr>
          <a:xfrm>
            <a:off x="5500800" y="4357800"/>
            <a:ext cx="142848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4"/>
          <p:cNvSpPr/>
          <p:nvPr/>
        </p:nvSpPr>
        <p:spPr>
          <a:xfrm flipH="1">
            <a:off x="6929280" y="3786120"/>
            <a:ext cx="857520" cy="85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6"/>
          <p:cNvSpPr/>
          <p:nvPr/>
        </p:nvSpPr>
        <p:spPr>
          <a:xfrm flipH="1">
            <a:off x="5500800" y="3786120"/>
            <a:ext cx="2286000" cy="571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5"/>
          <p:cNvSpPr/>
          <p:nvPr/>
        </p:nvSpPr>
        <p:spPr>
          <a:xfrm flipV="1">
            <a:off x="5500800" y="4214520"/>
            <a:ext cx="1857240" cy="142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8"/>
          <p:cNvSpPr/>
          <p:nvPr/>
        </p:nvSpPr>
        <p:spPr>
          <a:xfrm>
            <a:off x="5500080" y="1357200"/>
            <a:ext cx="1857240" cy="285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∆АВС, ВМ ⊥  АВ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 ⊥ ВС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∈ АС.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: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   ∆ М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ВМ    ⊥   В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    ⊥   АВ   ⟹ ВМ ⊥ (АВС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 ⋂ ВС =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признаку перпендикуляр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й и плоск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проведем 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в  ∆АВС, тогда     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⊥ ВМ, значит ∆ М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рямоуголь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642960"/>
            <a:ext cx="40388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                           D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5"/>
          <p:cNvSpPr/>
          <p:nvPr/>
        </p:nvSpPr>
        <p:spPr>
          <a:xfrm flipH="1">
            <a:off x="5500800" y="1357200"/>
            <a:ext cx="1440" cy="300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5500800" y="1357200"/>
            <a:ext cx="1428480" cy="32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0"/>
          <p:cNvSpPr/>
          <p:nvPr/>
        </p:nvSpPr>
        <p:spPr>
          <a:xfrm>
            <a:off x="5500800" y="1357200"/>
            <a:ext cx="2286000" cy="24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2"/>
          <p:cNvSpPr/>
          <p:nvPr/>
        </p:nvSpPr>
        <p:spPr>
          <a:xfrm>
            <a:off x="5500800" y="4357800"/>
            <a:ext cx="142848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4"/>
          <p:cNvSpPr/>
          <p:nvPr/>
        </p:nvSpPr>
        <p:spPr>
          <a:xfrm flipH="1">
            <a:off x="6929280" y="3786120"/>
            <a:ext cx="857520" cy="85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6"/>
          <p:cNvSpPr/>
          <p:nvPr/>
        </p:nvSpPr>
        <p:spPr>
          <a:xfrm flipH="1">
            <a:off x="5500800" y="3786120"/>
            <a:ext cx="2286000" cy="571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3"/>
          <p:cNvSpPr/>
          <p:nvPr/>
        </p:nvSpPr>
        <p:spPr>
          <a:xfrm flipH="1">
            <a:off x="2071800" y="2286000"/>
            <a:ext cx="144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5"/>
          <p:cNvSpPr/>
          <p:nvPr/>
        </p:nvSpPr>
        <p:spPr>
          <a:xfrm flipV="1">
            <a:off x="5500800" y="4214520"/>
            <a:ext cx="1857240" cy="142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8"/>
          <p:cNvSpPr/>
          <p:nvPr/>
        </p:nvSpPr>
        <p:spPr>
          <a:xfrm>
            <a:off x="5500080" y="1357200"/>
            <a:ext cx="1857240" cy="285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9a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71760" y="2225880"/>
            <a:ext cx="4374360" cy="139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3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02T20:33:30Z</dcterms:modified>
  <cp:revision>315</cp:revision>
  <dc:subject/>
  <dc:title>Решение задач по теме «Параллельность   прямой и плоскости» </dc:title>
</cp:coreProperties>
</file>