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197E-6416-4B07-BA34-1732904D4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37DB-8ECF-4763-91B0-DDE979D34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A34B-A132-4AEA-96AC-4AEFEDF46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854-5A82-46CD-90C6-C1648C047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CAF-2CF2-4A6D-827E-D096FFED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025-6D99-4D6F-B667-130B7C96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AF5-6322-47B0-9DA0-880CB0BC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AFA-3D0F-43FE-8EFB-579E3F4E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F14-C277-4B2B-B716-28406AD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087-DAAA-486E-B8E0-6D6B0420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832-C464-4976-AB34-98FEE7A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C84-2C36-4488-B273-471077A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815-72BE-424F-A605-B1D211E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07C-49A0-4888-8E2E-41FB5C6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121-9ECA-48AD-8069-6D4AD14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DB1-E92C-4AF3-BD35-2CACA14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C41-5ACE-4CB9-B925-10AFF0D144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ерпендикулярность прямой и плоскости. Решение задач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285840" y="2594880"/>
            <a:ext cx="716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3" descr="SUPER043"/>
          <p:cNvPicPr/>
          <p:nvPr/>
        </p:nvPicPr>
        <p:blipFill>
          <a:blip r:embed="rId1"/>
          <a:stretch/>
        </p:blipFill>
        <p:spPr>
          <a:xfrm>
            <a:off x="5143680" y="3214800"/>
            <a:ext cx="158112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682560" y="1504800"/>
            <a:ext cx="7785000" cy="3305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11" descr="CRCTR496"/>
          <p:cNvPicPr/>
          <p:nvPr/>
        </p:nvPicPr>
        <p:blipFill>
          <a:blip r:embed="rId2"/>
          <a:stretch/>
        </p:blipFill>
        <p:spPr>
          <a:xfrm flipH="1">
            <a:off x="357120" y="500040"/>
            <a:ext cx="1363680" cy="220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RCTR496"/>
          <p:cNvPicPr/>
          <p:nvPr/>
        </p:nvPicPr>
        <p:blipFill>
          <a:blip r:embed="rId3"/>
          <a:stretch/>
        </p:blipFill>
        <p:spPr>
          <a:xfrm>
            <a:off x="7072200" y="3714840"/>
            <a:ext cx="1571760" cy="220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должить предло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Две прямые называются перпендикулярными, 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должить предло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рямая называется перпендикулярной к плоскости, 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258200">
            <a:off x="1392120" y="1960920"/>
            <a:ext cx="665316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ик № 19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1c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нкт 15, 16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опросы стр 54 (1-6)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127,129(а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№197(допол. задача)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ЕГЭ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РИГОНОМЕТРИЧЕСКИЕ ЗАДАЧИ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4406040"/>
            <a:ext cx="26290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1c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0200" y="1785960"/>
            <a:ext cx="392904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Стр 54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Вопросы 1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9a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95400" y="2400840"/>
            <a:ext cx="1938960" cy="1270800"/>
          </a:xfrm>
          <a:prstGeom prst="rect">
            <a:avLst/>
          </a:prstGeom>
          <a:solidFill>
            <a:srgbClr val="fdd7f6"/>
          </a:solidFill>
          <a:ln w="5400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Решение задач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5" descr="девочка"/>
          <p:cNvPicPr/>
          <p:nvPr/>
        </p:nvPicPr>
        <p:blipFill>
          <a:blip r:embed="rId1"/>
          <a:stretch/>
        </p:blipFill>
        <p:spPr>
          <a:xfrm>
            <a:off x="214200" y="5357880"/>
            <a:ext cx="1500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тетраэдре  ABCD         (см.  рисунок)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BCD = ∠ ACD =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но ли, что  на  рисунке  ребра АВ, АС,  ВС ,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пендикулярны C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         С           Дано: Точка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жит вне плоскости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                       Е    АВ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Е – прямоугольник.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: АЕ    АМ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 flipH="1">
            <a:off x="1643040" y="2714760"/>
            <a:ext cx="6429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>
            <a:off x="2286000" y="2714760"/>
            <a:ext cx="178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 flipH="1">
            <a:off x="3571560" y="2714760"/>
            <a:ext cx="5000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1643040" y="3857760"/>
            <a:ext cx="1928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6"/>
          <p:cNvSpPr/>
          <p:nvPr/>
        </p:nvSpPr>
        <p:spPr>
          <a:xfrm flipV="1">
            <a:off x="1642320" y="1928880"/>
            <a:ext cx="142920" cy="192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4"/>
          <p:cNvSpPr/>
          <p:nvPr/>
        </p:nvSpPr>
        <p:spPr>
          <a:xfrm>
            <a:off x="1785240" y="1928880"/>
            <a:ext cx="50004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6"/>
          <p:cNvSpPr/>
          <p:nvPr/>
        </p:nvSpPr>
        <p:spPr>
          <a:xfrm>
            <a:off x="2214720" y="257184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>
            <a:off x="2499480" y="2571840"/>
            <a:ext cx="71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30"/>
          <p:cNvSpPr/>
          <p:nvPr/>
        </p:nvSpPr>
        <p:spPr>
          <a:xfrm flipH="1">
            <a:off x="7429680" y="471636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32"/>
          <p:cNvSpPr/>
          <p:nvPr/>
        </p:nvSpPr>
        <p:spPr>
          <a:xfrm>
            <a:off x="7286760" y="492912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АВ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епипед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дм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8д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7д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Куб 4"/>
          <p:cNvSpPr/>
          <p:nvPr/>
        </p:nvSpPr>
        <p:spPr>
          <a:xfrm>
            <a:off x="1071720" y="2214720"/>
            <a:ext cx="2357280" cy="342900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2"/>
          <p:cNvSpPr/>
          <p:nvPr/>
        </p:nvSpPr>
        <p:spPr>
          <a:xfrm flipH="1">
            <a:off x="1641600" y="2214720"/>
            <a:ext cx="1440" cy="2858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4"/>
          <p:cNvSpPr/>
          <p:nvPr/>
        </p:nvSpPr>
        <p:spPr>
          <a:xfrm>
            <a:off x="1643040" y="5072040"/>
            <a:ext cx="1785960" cy="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6"/>
          <p:cNvSpPr/>
          <p:nvPr/>
        </p:nvSpPr>
        <p:spPr>
          <a:xfrm flipH="1">
            <a:off x="1071360" y="5072040"/>
            <a:ext cx="571320" cy="571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8"/>
          <p:cNvSpPr/>
          <p:nvPr/>
        </p:nvSpPr>
        <p:spPr>
          <a:xfrm>
            <a:off x="1643040" y="2214720"/>
            <a:ext cx="1214640" cy="3429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0"/>
          <p:cNvSpPr/>
          <p:nvPr/>
        </p:nvSpPr>
        <p:spPr>
          <a:xfrm>
            <a:off x="1643040" y="2214720"/>
            <a:ext cx="121464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5"/>
          <p:cNvSpPr/>
          <p:nvPr/>
        </p:nvSpPr>
        <p:spPr>
          <a:xfrm>
            <a:off x="1643040" y="5072040"/>
            <a:ext cx="1214640" cy="571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928960" y="27147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135720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∆АВС, ВМ ⊥  АВ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⊥ ВС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∈ АС.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 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                           D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5"/>
          <p:cNvSpPr/>
          <p:nvPr/>
        </p:nvSpPr>
        <p:spPr>
          <a:xfrm flipV="1">
            <a:off x="5500800" y="4214520"/>
            <a:ext cx="1857240" cy="142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8"/>
          <p:cNvSpPr/>
          <p:nvPr/>
        </p:nvSpPr>
        <p:spPr>
          <a:xfrm>
            <a:off x="5500080" y="1357200"/>
            <a:ext cx="1857240" cy="285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∆АВС, ВМ ⊥  АВ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⊥ ВС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∈ АС.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 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М    ⊥   В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   ⊥   АВ   ⟹ ВМ ⊥ (АВ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 ⋂ ВС =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ризнаку перпендикуляр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й и плос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роведем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в  ∆АВС, тогда    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⊥ ВМ, значит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рямоуголь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                           D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3"/>
          <p:cNvSpPr/>
          <p:nvPr/>
        </p:nvSpPr>
        <p:spPr>
          <a:xfrm flipH="1">
            <a:off x="2071800" y="2286000"/>
            <a:ext cx="14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5"/>
          <p:cNvSpPr/>
          <p:nvPr/>
        </p:nvSpPr>
        <p:spPr>
          <a:xfrm flipV="1">
            <a:off x="5500800" y="4214520"/>
            <a:ext cx="1857240" cy="142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8"/>
          <p:cNvSpPr/>
          <p:nvPr/>
        </p:nvSpPr>
        <p:spPr>
          <a:xfrm>
            <a:off x="5500080" y="1357200"/>
            <a:ext cx="1857240" cy="285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9a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71760" y="2225880"/>
            <a:ext cx="4374360" cy="139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02T20:33:30Z</dcterms:modified>
  <cp:revision>315</cp:revision>
  <dc:subject/>
  <dc:title>Решение задач по теме «Параллельность   прямой и плоскости» </dc:title>
</cp:coreProperties>
</file>