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AA7-028E-455B-A910-219669F0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6E8-5232-4514-965A-CE6A3A1F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EE6-AFE6-419B-9FDA-BDAA6B57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5DB-0CC0-4CAC-8B42-88765914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EE54-9155-4D9C-9BC4-A64C550C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AE3E-20BE-465A-912F-06493F6F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0ADA-D589-4C00-907E-71B8B1FF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34BD-A3FE-4BED-B954-62B16701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60CB-8E35-434F-A92B-7E5745B6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8481-3C24-44E0-ADA0-9D196362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62F-B445-442C-B294-06F69077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740C-3FD5-4339-A542-2F71B73E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BE9D-62C7-4A7D-8EFE-47754E4A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48AE-60F0-4B16-AE49-99CD352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807B-B4D8-43B2-9C4D-57CDAB1D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7430-FD2B-404F-A49B-7002616D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A811-D664-40A4-8BFF-A5BABC8C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2565-BA4C-485D-A33C-F8B59DBB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5557D-B282-4961-9155-E043555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51A40-DDE3-4272-BA3B-06FE8293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D1A9-6461-4F26-B518-FA6E5EA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C1813-269F-45E9-92B3-A8A56F4C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F56-2E6B-4729-AA91-6FEE747A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7C5C-C1BC-4E68-B78B-F354D0E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9D41-44CF-466D-BF13-634526C7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AEB4-EE2E-4D39-8808-7C03B0F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BC6E-B969-420A-9BD1-3CF5FD18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7C21-7B3A-4BE6-A3E1-C2F140E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8E0D-24D4-43DC-AAD3-35940653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D0FD-1790-4E12-B4A3-D2E66DD8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6FBB-2CD9-4393-802B-F47C7387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1453-24A8-4217-AA04-6CC1DAC0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E47E-B37D-4399-B61B-A7BF65F4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E7C-4BAA-4D43-9516-1196E339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3CC4-D45F-4B1A-BD02-C3F29DD8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0003-8D59-4EC7-84A4-FD1590C7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0A0F6-B5E0-478C-BD6D-5E4EC5E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49D4-57A3-4B05-A547-9EDE6390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829B-910C-4B86-B280-8C6A13A0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79E31-804F-42BF-87F2-29E2A3A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7F1A-4555-44D7-970A-7D944098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5B9A-13E0-46FE-8367-365483C4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3B9D9-32AA-4F94-9D2F-448844F8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81B-EDB2-4307-9FC9-DFC6842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7D6-D1E8-4C53-ABB7-CDDB61C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E0A-5950-4CC5-AA7A-609FF39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DDC-2013-4610-AAA8-0E4AA67A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D2B-86FE-485B-91E5-99FE9D8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B57-68E6-4CBC-9986-7EE95F1576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76C2-DA2F-45FD-B805-93ED68D7A72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4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EFA7-1008-43F3-B228-67B68832E4E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79B-C136-470D-918D-49A81DDCCE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8"/>
          <p:cNvSpPr/>
          <p:nvPr/>
        </p:nvSpPr>
        <p:spPr>
          <a:xfrm rot="16200000">
            <a:off x="-684000" y="4220640"/>
            <a:ext cx="3600360" cy="1152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108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95280" y="2781360"/>
            <a:ext cx="1440000" cy="3816360"/>
          </a:xfrm>
          <a:custGeom>
            <a:avLst/>
            <a:gdLst>
              <a:gd name="textAreaLeft" fmla="*/ 593280 w 1440000"/>
              <a:gd name="textAreaRight" fmla="*/ 846720 w 1440000"/>
              <a:gd name="textAreaTop" fmla="*/ 1572480 h 3816360"/>
              <a:gd name="textAreaBottom" fmla="*/ 2243880 h 38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MV Boli"/>
              </a:rPr>
              <a:t>7 </a:t>
            </a:r>
            <a:r>
              <a:rPr b="1" lang="ru-RU" sz="1800" spc="-1" strike="noStrike">
                <a:solidFill>
                  <a:srgbClr val="dddddd"/>
                </a:solidFill>
                <a:latin typeface="Palace Script MT"/>
              </a:rPr>
              <a:t>класс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19280" y="507240"/>
            <a:ext cx="1080720" cy="662400"/>
          </a:xfrm>
          <a:prstGeom prst="rect">
            <a:avLst/>
          </a:prstGeom>
          <a:gradFill rotWithShape="0">
            <a:gsLst>
              <a:gs pos="0">
                <a:srgbClr val="156b13"/>
              </a:gs>
              <a:gs pos="100000">
                <a:srgbClr val="ddebc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cc"/>
                </a:solidFill>
                <a:latin typeface="Arial"/>
              </a:rPr>
              <a:t>Учитель физики: Лаврова Н.В.</a:t>
            </a:r>
            <a:endParaRPr b="0" lang="en-US" sz="1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9" name="Picture 23" descr="AG00120_"/>
          <p:cNvPicPr/>
          <p:nvPr/>
        </p:nvPicPr>
        <p:blipFill>
          <a:blip r:embed="rId1"/>
          <a:stretch/>
        </p:blipFill>
        <p:spPr>
          <a:xfrm>
            <a:off x="179280" y="1557360"/>
            <a:ext cx="2060640" cy="1130400"/>
          </a:xfrm>
          <a:prstGeom prst="rect">
            <a:avLst/>
          </a:prstGeom>
          <a:ln w="0">
            <a:noFill/>
          </a:ln>
        </p:spPr>
      </p:pic>
      <p:grpSp>
        <p:nvGrpSpPr>
          <p:cNvPr id="270" name="Organization Chart 28"/>
          <p:cNvGrpSpPr/>
          <p:nvPr/>
        </p:nvGrpSpPr>
        <p:grpSpPr>
          <a:xfrm>
            <a:off x="2736720" y="465120"/>
            <a:ext cx="5903280" cy="5194080"/>
            <a:chOff x="2736720" y="465120"/>
            <a:chExt cx="5903280" cy="5194080"/>
          </a:xfrm>
        </p:grpSpPr>
        <p:cxnSp>
          <p:nvCxnSpPr>
            <p:cNvPr id="271" name="_s1028"/>
            <p:cNvCxnSpPr>
              <a:stCxn id="272" idx="0"/>
              <a:endCxn id="273" idx="2"/>
            </p:cNvCxnSpPr>
            <p:nvPr/>
          </p:nvCxnSpPr>
          <p:spPr>
            <a:xfrm flipV="1" rot="16200000">
              <a:off x="6201720" y="2028960"/>
              <a:ext cx="1039320" cy="2066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74" name="_s1029"/>
            <p:cNvCxnSpPr>
              <a:stCxn id="275" idx="0"/>
              <a:endCxn id="273" idx="2"/>
            </p:cNvCxnSpPr>
            <p:nvPr/>
          </p:nvCxnSpPr>
          <p:spPr>
            <a:xfrm rot="16200000">
              <a:off x="5168520" y="3062160"/>
              <a:ext cx="1039320" cy="3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76" name="_s1030"/>
            <p:cNvCxnSpPr>
              <a:stCxn id="277" idx="0"/>
              <a:endCxn id="273" idx="2"/>
            </p:cNvCxnSpPr>
            <p:nvPr/>
          </p:nvCxnSpPr>
          <p:spPr>
            <a:xfrm flipH="1" flipV="1" rot="5400000">
              <a:off x="4135320" y="2029320"/>
              <a:ext cx="1039320" cy="20664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73" name="_s1031"/>
            <p:cNvSpPr/>
            <p:nvPr/>
          </p:nvSpPr>
          <p:spPr>
            <a:xfrm>
              <a:off x="4802760" y="46512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eaeaea"/>
                  </a:solidFill>
                  <a:uFillTx/>
                  <a:latin typeface="Vladimir Script"/>
                </a:rPr>
                <a:t>Простые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eaeaea"/>
                  </a:solidFill>
                  <a:uFillTx/>
                  <a:latin typeface="Vladimir Script"/>
                </a:rPr>
                <a:t> </a:t>
              </a:r>
              <a:r>
                <a:rPr b="1" lang="en-US" sz="1800" spc="-1" strike="noStrike" u="sng">
                  <a:solidFill>
                    <a:srgbClr val="eaeaea"/>
                  </a:solidFill>
                  <a:uFillTx/>
                  <a:latin typeface="Vladimir Script"/>
                </a:rPr>
                <a:t>механизмы.</a:t>
              </a:r>
              <a:r>
                <a:rPr b="0" lang="en-US" sz="18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7" name="_s1032"/>
            <p:cNvSpPr/>
            <p:nvPr/>
          </p:nvSpPr>
          <p:spPr>
            <a:xfrm>
              <a:off x="2736720" y="358164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ladimir Script"/>
                </a:rPr>
                <a:t>Равновесие 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ladimir Script"/>
                </a:rPr>
                <a:t>сил на рычаге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5" name="_s1033"/>
            <p:cNvSpPr/>
            <p:nvPr/>
          </p:nvSpPr>
          <p:spPr>
            <a:xfrm>
              <a:off x="4802760" y="358164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Vladimir Script"/>
                </a:rPr>
                <a:t>Момент силы.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72" name="_s1034"/>
            <p:cNvSpPr/>
            <p:nvPr/>
          </p:nvSpPr>
          <p:spPr>
            <a:xfrm>
              <a:off x="6869160" y="3581640"/>
              <a:ext cx="1770840" cy="2077560"/>
            </a:xfrm>
            <a:custGeom>
              <a:avLst/>
              <a:gdLst>
                <a:gd name="textAreaLeft" fmla="*/ 86400 w 1770840"/>
                <a:gd name="textAreaRight" fmla="*/ 1684440 w 1770840"/>
                <a:gd name="textAreaTop" fmla="*/ 86400 h 2077560"/>
                <a:gd name="textAreaBottom" fmla="*/ 1991160 h 2077560"/>
              </a:gdLst>
              <a:ahLst/>
              <a:rect l="textAreaLeft" t="textAreaTop" r="textAreaRight" b="textAreaBottom"/>
              <a:pathLst>
                <a:path w="21600" h="25340">
                  <a:moveTo>
                    <a:pt x="3600" y="0"/>
                  </a:moveTo>
                  <a:arcTo wR="3600" hR="3600" stAng="16200000" swAng="-5400000"/>
                  <a:lnTo>
                    <a:pt x="0" y="21740"/>
                  </a:lnTo>
                  <a:arcTo wR="3600" hR="3600" stAng="10800000" swAng="-5400000"/>
                  <a:lnTo>
                    <a:pt x="18000" y="253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66"/>
            </a:solidFill>
            <a:ln w="7632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Рычаги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в технике,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быту и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 </a:t>
              </a:r>
              <a:r>
                <a:rPr b="0" lang="en-US" sz="1800" spc="-1" strike="noStrike">
                  <a:solidFill>
                    <a:srgbClr val="eaeaea"/>
                  </a:solidFill>
                  <a:latin typeface="Blackadder ITC"/>
                </a:rPr>
                <a:t>природе.</a:t>
              </a:r>
              <a:r>
                <a:rPr b="0" lang="en-US" sz="1800" spc="-1" strike="noStrike">
                  <a:solidFill>
                    <a:srgbClr val="eaeaea"/>
                  </a:solidFill>
                  <a:latin typeface="Bradley Hand ITC"/>
                </a:rPr>
                <a:t>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Решение задачи № 1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Line 8"/>
          <p:cNvSpPr/>
          <p:nvPr/>
        </p:nvSpPr>
        <p:spPr>
          <a:xfrm>
            <a:off x="3780000" y="1700280"/>
            <a:ext cx="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8" name="Picture 10" descr="94661D7A"/>
          <p:cNvPicPr/>
          <p:nvPr/>
        </p:nvPicPr>
        <p:blipFill>
          <a:blip r:embed="rId1"/>
          <a:srcRect l="2858" t="12318" r="1868" b="5498"/>
          <a:stretch/>
        </p:blipFill>
        <p:spPr>
          <a:xfrm>
            <a:off x="1042920" y="1628640"/>
            <a:ext cx="720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85928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Задача №2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Какую силу нужно приложить к рычагу в точке А, чтобы уравновесить груз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1" name="Picture 8" descr="8FD2EC69"/>
          <p:cNvPicPr/>
          <p:nvPr/>
        </p:nvPicPr>
        <p:blipFill>
          <a:blip r:embed="rId1"/>
          <a:srcRect l="48718" t="8804" r="5912" b="27614"/>
          <a:stretch/>
        </p:blipFill>
        <p:spPr>
          <a:xfrm>
            <a:off x="468360" y="2060640"/>
            <a:ext cx="3529080" cy="30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Момент сил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56000" y="105264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оизведение модуля силы, вращающей тело, на её плечо называется 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Brush Script MT"/>
              </a:rPr>
              <a:t>моментом силы;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он обозначается буквой </a:t>
            </a:r>
            <a:r>
              <a:rPr b="1" lang="ru-RU" sz="2400" spc="-1" strike="noStrike" u="sng">
                <a:solidFill>
                  <a:srgbClr val="ff9900"/>
                </a:solidFill>
                <a:uFillTx/>
                <a:latin typeface="Brush Script MT"/>
              </a:rPr>
              <a:t>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M=F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*</a:t>
            </a:r>
            <a:r>
              <a:rPr b="0" lang="en-US" sz="2400" spc="-1" strike="noStrike">
                <a:solidFill>
                  <a:srgbClr val="eaeaea"/>
                </a:solidFill>
                <a:latin typeface="Brush Script MT"/>
              </a:rPr>
              <a:t>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9900"/>
                </a:solidFill>
                <a:uFillTx/>
                <a:latin typeface="Brush Script MT"/>
              </a:rPr>
              <a:t>Правило моментов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ычаг находится в равновесии под действием двух сил, если момент силы, вращающей его по часовой стрелке, равен моменту силы, вращающей его против часовой стрелки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1" i="1" lang="ru-RU" sz="1800" spc="-1" strike="noStrike" baseline="-25000">
                <a:solidFill>
                  <a:srgbClr val="eaeaea"/>
                </a:solidFill>
                <a:latin typeface="Verdana"/>
              </a:rPr>
              <a:t>1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=</a:t>
            </a:r>
            <a:r>
              <a:rPr b="1" i="1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Verdana"/>
              </a:rPr>
              <a:t>M</a:t>
            </a:r>
            <a:r>
              <a:rPr b="1" i="1" lang="ru-RU" sz="1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а единицу момента силы принимается момент силы в 1Н, плечо которой равно 1м. Эта единица называется </a:t>
            </a: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ньютон-метр (Н*м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292720" y="2349360"/>
            <a:ext cx="122400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219640" y="5084640"/>
            <a:ext cx="158436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7" name="Picture 7" descr="8FD2EC69"/>
          <p:cNvPicPr/>
          <p:nvPr/>
        </p:nvPicPr>
        <p:blipFill>
          <a:blip r:embed="rId2"/>
          <a:srcRect l="2370" t="7047" r="52498" b="8177"/>
          <a:stretch/>
        </p:blipFill>
        <p:spPr>
          <a:xfrm>
            <a:off x="179280" y="1197000"/>
            <a:ext cx="3600720" cy="403236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8"/>
          <p:cNvSpPr/>
          <p:nvPr/>
        </p:nvSpPr>
        <p:spPr>
          <a:xfrm>
            <a:off x="971640" y="5734080"/>
            <a:ext cx="20876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 Unicode MS"/>
              </a:rPr>
              <a:t>F</a:t>
            </a:r>
            <a:r>
              <a:rPr b="1" i="1" lang="en-US" sz="3200" spc="-1" strike="noStrike" baseline="-25000">
                <a:solidFill>
                  <a:srgbClr val="eaeaea"/>
                </a:solidFill>
                <a:latin typeface="Arial Unicode MS"/>
              </a:rPr>
              <a:t>1</a:t>
            </a:r>
            <a:r>
              <a:rPr b="1" i="1" lang="en-US" sz="3200" spc="-1" strike="noStrike">
                <a:solidFill>
                  <a:srgbClr val="eaeaea"/>
                </a:solidFill>
                <a:latin typeface="Brush Script MT"/>
              </a:rPr>
              <a:t> </a:t>
            </a:r>
            <a:r>
              <a:rPr b="1" i="1" lang="en-US" sz="3600" spc="-1" strike="noStrike">
                <a:solidFill>
                  <a:srgbClr val="eaeaea"/>
                </a:solidFill>
                <a:latin typeface="Brush Script MT"/>
              </a:rPr>
              <a:t>l</a:t>
            </a:r>
            <a:r>
              <a:rPr b="1" i="1" lang="en-US" sz="3600" spc="-1" strike="noStrike" baseline="-25000">
                <a:solidFill>
                  <a:srgbClr val="eaeaea"/>
                </a:solidFill>
                <a:latin typeface="Brush Script MT"/>
              </a:rPr>
              <a:t>1</a:t>
            </a:r>
            <a:r>
              <a:rPr b="1" i="1" lang="en-US" sz="3200" spc="-1" strike="noStrike">
                <a:solidFill>
                  <a:srgbClr val="eaeaea"/>
                </a:solidFill>
                <a:latin typeface="Brush Script MT"/>
              </a:rPr>
              <a:t> =</a:t>
            </a:r>
            <a:r>
              <a:rPr b="1" i="1" lang="en-US" sz="3200" spc="-1" strike="noStrike">
                <a:solidFill>
                  <a:srgbClr val="eaeaea"/>
                </a:solidFill>
                <a:latin typeface="Arial Unicode MS"/>
              </a:rPr>
              <a:t>F</a:t>
            </a:r>
            <a:r>
              <a:rPr b="1" i="1" lang="en-US" sz="3200" spc="-1" strike="noStrike" baseline="-25000">
                <a:solidFill>
                  <a:srgbClr val="eaeaea"/>
                </a:solidFill>
                <a:latin typeface="Arial Unicode MS"/>
              </a:rPr>
              <a:t>2</a:t>
            </a:r>
            <a:r>
              <a:rPr b="1" i="1" lang="en-US" sz="32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Brush Script MT"/>
              </a:rPr>
              <a:t>l</a:t>
            </a:r>
            <a:r>
              <a:rPr b="1" lang="en-US" sz="3600" spc="-1" strike="noStrike" baseline="-25000">
                <a:solidFill>
                  <a:srgbClr val="eaeaea"/>
                </a:solidFill>
                <a:latin typeface="Brush Script MT"/>
              </a:rPr>
              <a:t>2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1476360" y="134136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Brush Script MT"/>
              </a:rPr>
              <a:t>l</a:t>
            </a:r>
            <a:r>
              <a:rPr b="1" i="1" lang="en-US" sz="4000" spc="-1" strike="noStrike" baseline="-25000">
                <a:solidFill>
                  <a:srgbClr val="006666"/>
                </a:solidFill>
                <a:latin typeface="Brush Script MT"/>
              </a:rPr>
              <a:t>1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2340000" y="134136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Brush Script MT"/>
              </a:rPr>
              <a:t>l</a:t>
            </a:r>
            <a:r>
              <a:rPr b="1" i="1" lang="en-US" sz="4000" spc="-1" strike="noStrike" baseline="-25000">
                <a:solidFill>
                  <a:srgbClr val="006666"/>
                </a:solidFill>
                <a:latin typeface="Brush Script MT"/>
              </a:rPr>
              <a:t>2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843280" y="1628640"/>
            <a:ext cx="433440" cy="36036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1332000" y="1628640"/>
            <a:ext cx="215640" cy="28764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900000" y="5589720"/>
            <a:ext cx="2232000" cy="86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Рычаги в технике, быту и природ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Picture 6" descr="67CDA24E"/>
          <p:cNvPicPr/>
          <p:nvPr/>
        </p:nvPicPr>
        <p:blipFill>
          <a:blip r:embed="rId2"/>
          <a:srcRect l="1531" t="11257" r="64287" b="17689"/>
          <a:stretch/>
        </p:blipFill>
        <p:spPr>
          <a:xfrm>
            <a:off x="1547640" y="2924280"/>
            <a:ext cx="1595520" cy="223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67CDA24E"/>
          <p:cNvPicPr/>
          <p:nvPr/>
        </p:nvPicPr>
        <p:blipFill>
          <a:blip r:embed="rId3"/>
          <a:srcRect l="44730" t="18129" r="41396" b="31434"/>
          <a:stretch/>
        </p:blipFill>
        <p:spPr>
          <a:xfrm>
            <a:off x="324000" y="4581360"/>
            <a:ext cx="647640" cy="1584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67CDA24E"/>
          <p:cNvPicPr/>
          <p:nvPr/>
        </p:nvPicPr>
        <p:blipFill>
          <a:blip r:embed="rId4"/>
          <a:srcRect l="68561" t="19543" r="17735" b="32455"/>
          <a:stretch/>
        </p:blipFill>
        <p:spPr>
          <a:xfrm>
            <a:off x="324000" y="2349360"/>
            <a:ext cx="647640" cy="2087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F03D938C"/>
          <p:cNvPicPr/>
          <p:nvPr/>
        </p:nvPicPr>
        <p:blipFill>
          <a:blip r:embed="rId5"/>
          <a:srcRect l="3922" t="1807" r="4584" b="3378"/>
          <a:stretch/>
        </p:blipFill>
        <p:spPr>
          <a:xfrm>
            <a:off x="3708360" y="2349360"/>
            <a:ext cx="504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9999"/>
                </a:solidFill>
                <a:uFillTx/>
                <a:latin typeface="Arial"/>
              </a:rPr>
              <a:t>Закреплени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ff9900"/>
                </a:solidFill>
                <a:uFillTx/>
                <a:latin typeface="Verdana"/>
              </a:rPr>
              <a:t>Теоретический материал по вопросам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называют простыми механизмами? Для какой цели их применяют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представляет собой рычаг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чём состоит правило равновесия рычаг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то называют моментом силы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 чём состоит правило моментов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68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68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68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998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Arial"/>
              </a:rPr>
              <a:t>Вырази своё мнени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2206800"/>
            <a:ext cx="822960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то нового, интересного узнали сегодня на уроке 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ему училис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то вам понравилось на уроке и почему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e855b"/>
                </a:solidFill>
                <a:latin typeface="Verdana"/>
              </a:rPr>
              <a:t>Что хотелось бы изменить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3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0"/>
                            </p:stCondLst>
                            <p:childTnLst>
                              <p:par>
                                <p:cTn id="4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3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3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3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3168720" cy="128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9900"/>
                </a:solidFill>
                <a:uFillTx/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37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Параграф №55,56,57,58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Упр.№ 30(5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Проверка домашнего задания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9900"/>
                </a:solidFill>
                <a:uFillTx/>
                <a:latin typeface="Tahoma"/>
              </a:rPr>
              <a:t>Физдиктан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1 вари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ханическая работа, есть процесс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боту вычисляют по формуле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ицу работы выражают в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3600" spc="-1" strike="noStrike">
                <a:solidFill>
                  <a:srgbClr val="ff9900"/>
                </a:solidFill>
                <a:latin typeface="Tahoma"/>
              </a:rPr>
              <a:t>2 вариа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щность характеризует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ощность вычисляют по формул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ицу мощности выражают в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1847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Проверка домашнего задания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9900"/>
                </a:solidFill>
                <a:uFillTx/>
                <a:latin typeface="Verdana"/>
              </a:rPr>
              <a:t>Физдиктан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Verdana"/>
              </a:rPr>
              <a:t>    </a:t>
            </a:r>
            <a:r>
              <a:rPr b="0" i="1" lang="ru-RU" sz="3200" spc="-1" strike="noStrike">
                <a:solidFill>
                  <a:srgbClr val="ff9900"/>
                </a:solidFill>
                <a:latin typeface="Verdana"/>
              </a:rPr>
              <a:t>1 вариан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еханическая работа, есть процесс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перемещения тела,  под действием приложенной к нему сил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Работу вычисляют по формуле: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А = </a:t>
            </a: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F * S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диницу работы выражают в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джоулях (Дж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i="1" lang="ru-RU" sz="3200" spc="-1" strike="noStrike">
                <a:solidFill>
                  <a:srgbClr val="ff9900"/>
                </a:solidFill>
                <a:latin typeface="Verdana"/>
              </a:rPr>
              <a:t>2 вариан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ощность характеризует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быстроту выполнения рабо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Мощность вычисляют по формуле:</a:t>
            </a:r>
            <a:r>
              <a:rPr b="0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Verdana"/>
              </a:rPr>
              <a:t>N = A / t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Единицу мощности выражают в </a:t>
            </a:r>
            <a:r>
              <a:rPr b="0" i="1" lang="ru-RU" sz="2400" spc="-1" strike="noStrike">
                <a:solidFill>
                  <a:srgbClr val="cc3300"/>
                </a:solidFill>
                <a:latin typeface="Verdana"/>
              </a:rPr>
              <a:t>ваттах (Вт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17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917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917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917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917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917"/>
                            </p:stCondLst>
                            <p:childTnLst>
                              <p:par>
                                <p:cTn id="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917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917"/>
                            </p:stCondLst>
                            <p:childTnLst>
                              <p:par>
                                <p:cTn id="1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98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917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знакомиться с понятиями «простой механизм», «рычаг», «момент силы»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Выяснить условие равновесия рычаг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Учиться применять правило рычага, определять момент силы при решении задач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8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Простые механизм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99"/>
                </a:solidFill>
                <a:latin typeface="Verdana"/>
              </a:rPr>
              <a:t>Приспособления, служащие для преобразования силы, называют </a:t>
            </a: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Verdana"/>
              </a:rPr>
              <a:t>механизмами.</a:t>
            </a:r>
            <a:r>
              <a:rPr b="0" i="1" lang="ru-RU" sz="2400" spc="-1" strike="noStrike">
                <a:solidFill>
                  <a:srgbClr val="0099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9900"/>
                </a:solidFill>
                <a:uFillTx/>
                <a:latin typeface="Verdana"/>
              </a:rPr>
              <a:t>Рычаг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9999"/>
                </a:solidFill>
                <a:latin typeface="Verdana"/>
              </a:rPr>
              <a:t>представляет собой твёрдое тело, которое может вращаться вокруг неподвижной опо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6" name="Picture 17" descr="E545335F"/>
          <p:cNvPicPr/>
          <p:nvPr/>
        </p:nvPicPr>
        <p:blipFill>
          <a:blip r:embed="rId1"/>
          <a:srcRect l="3488" t="58810" r="4668" b="8104"/>
          <a:stretch/>
        </p:blipFill>
        <p:spPr>
          <a:xfrm>
            <a:off x="250920" y="4581360"/>
            <a:ext cx="4500360" cy="1944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E545335F"/>
          <p:cNvPicPr/>
          <p:nvPr/>
        </p:nvPicPr>
        <p:blipFill>
          <a:blip r:embed="rId2"/>
          <a:srcRect l="0" t="0" r="0" b="63236"/>
          <a:stretch/>
        </p:blipFill>
        <p:spPr>
          <a:xfrm>
            <a:off x="250920" y="1700280"/>
            <a:ext cx="450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2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Простые механизмы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К простым механизмам относятся: </a:t>
            </a:r>
            <a:r>
              <a:rPr b="0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рычаг,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и его разновидности - </a:t>
            </a:r>
            <a:r>
              <a:rPr b="0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блок, ворот; наклонная плоскость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и её разновидности - </a:t>
            </a:r>
            <a:r>
              <a:rPr b="0" i="1" lang="ru-RU" sz="2800" spc="-1" strike="noStrike" u="sng">
                <a:solidFill>
                  <a:srgbClr val="ff9900"/>
                </a:solidFill>
                <a:uFillTx/>
                <a:latin typeface="Verdana"/>
              </a:rPr>
              <a:t>клин, винт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00720" y="5516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72" descr="FF0673C5"/>
          <p:cNvPicPr/>
          <p:nvPr/>
        </p:nvPicPr>
        <p:blipFill>
          <a:blip r:embed="rId1"/>
          <a:srcRect l="8297" t="32013" r="25404" b="7296"/>
          <a:stretch/>
        </p:blipFill>
        <p:spPr>
          <a:xfrm>
            <a:off x="324000" y="2708280"/>
            <a:ext cx="2879640" cy="3960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3" descr="FF0673C5"/>
          <p:cNvPicPr/>
          <p:nvPr/>
        </p:nvPicPr>
        <p:blipFill>
          <a:blip r:embed="rId2"/>
          <a:srcRect l="8297" t="3686" r="27045" b="76954"/>
          <a:stretch/>
        </p:blipFill>
        <p:spPr>
          <a:xfrm>
            <a:off x="395280" y="907920"/>
            <a:ext cx="2808360" cy="15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8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8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8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Применение рычагов в быту, в технике.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94" name="Picture 4" descr="89E5C963"/>
          <p:cNvPicPr/>
          <p:nvPr/>
        </p:nvPicPr>
        <p:blipFill>
          <a:blip r:embed="rId1"/>
          <a:srcRect l="45508" t="48761" r="3720" b="11594"/>
          <a:stretch/>
        </p:blipFill>
        <p:spPr>
          <a:xfrm>
            <a:off x="5724360" y="4292640"/>
            <a:ext cx="2376720" cy="18730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89E5C963"/>
          <p:cNvPicPr/>
          <p:nvPr/>
        </p:nvPicPr>
        <p:blipFill>
          <a:blip r:embed="rId2"/>
          <a:srcRect l="3752" t="47247" r="61932" b="13103"/>
          <a:stretch/>
        </p:blipFill>
        <p:spPr>
          <a:xfrm>
            <a:off x="971640" y="4292640"/>
            <a:ext cx="2305080" cy="1873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89E5C963"/>
          <p:cNvPicPr/>
          <p:nvPr/>
        </p:nvPicPr>
        <p:blipFill>
          <a:blip r:embed="rId3"/>
          <a:srcRect l="53012" t="1514" r="5200" b="60388"/>
          <a:stretch/>
        </p:blipFill>
        <p:spPr>
          <a:xfrm>
            <a:off x="5724360" y="1773360"/>
            <a:ext cx="2305080" cy="180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89E5C963"/>
          <p:cNvPicPr/>
          <p:nvPr/>
        </p:nvPicPr>
        <p:blipFill>
          <a:blip r:embed="rId4"/>
          <a:srcRect l="6746" t="1514" r="58938" b="64957"/>
          <a:stretch/>
        </p:blipFill>
        <p:spPr>
          <a:xfrm>
            <a:off x="900000" y="1773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9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Равновесие сил на рычаге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435640" y="1557000"/>
            <a:ext cx="326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000" spc="-1" strike="noStrike" u="sng">
                <a:solidFill>
                  <a:srgbClr val="ff9900"/>
                </a:solidFill>
                <a:uFillTx/>
                <a:latin typeface="Verdana"/>
              </a:rPr>
              <a:t>Правило равновесия  рычаг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Рычаг находится в равновесии тогда, когда силы, действующие на него, обратно пропорциональны плечам этих сил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0" name="Picture 4" descr="8FD2EC69"/>
          <p:cNvPicPr/>
          <p:nvPr/>
        </p:nvPicPr>
        <p:blipFill>
          <a:blip r:embed="rId1"/>
          <a:srcRect l="2370" t="7047" r="3959" b="8177"/>
          <a:stretch/>
        </p:blipFill>
        <p:spPr>
          <a:xfrm>
            <a:off x="179280" y="1700280"/>
            <a:ext cx="4932360" cy="3456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12CAB398"/>
          <p:cNvPicPr/>
          <p:nvPr/>
        </p:nvPicPr>
        <p:blipFill>
          <a:blip r:embed="rId2"/>
          <a:srcRect l="19574" t="38148" r="43257" b="10388"/>
          <a:stretch/>
        </p:blipFill>
        <p:spPr>
          <a:xfrm>
            <a:off x="1476360" y="5589720"/>
            <a:ext cx="1582920" cy="93636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9"/>
          <p:cNvSpPr/>
          <p:nvPr/>
        </p:nvSpPr>
        <p:spPr>
          <a:xfrm>
            <a:off x="1476360" y="5589720"/>
            <a:ext cx="1584360" cy="936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300"/>
                            </p:stCondLst>
                            <p:childTnLst>
                              <p:par>
                                <p:cTn id="25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Задача №1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С помощью рычага рабочий поднимает плиту массой 240 кг. Какую силу прикладывает он к большему плечу рычага, равному 2,4 м, если меньшее плечо равно 0,6 м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5" name="Picture 7" descr="E545335F"/>
          <p:cNvPicPr/>
          <p:nvPr/>
        </p:nvPicPr>
        <p:blipFill>
          <a:blip r:embed="rId1"/>
          <a:srcRect l="0" t="0" r="49806" b="63236"/>
          <a:stretch/>
        </p:blipFill>
        <p:spPr>
          <a:xfrm>
            <a:off x="324000" y="1755720"/>
            <a:ext cx="3456000" cy="421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0:04:01Z</dcterms:created>
  <dc:creator>User</dc:creator>
  <dc:description/>
  <dc:language>en-US</dc:language>
  <cp:lastModifiedBy>учитель</cp:lastModifiedBy>
  <dcterms:modified xsi:type="dcterms:W3CDTF">2011-11-22T04:53:59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