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98E-7D83-493A-B78A-B9C17BBC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8E9-723E-4F7D-9F60-CB274853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A0B-E7C2-47FC-BF74-7A247FBB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17A-CD56-4A2A-A9F5-765816DA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62DC-72C0-45D7-BE55-E359FAE8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6D4B-98C1-45BC-B28E-517FC4A2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F740-2CBA-4B6B-B449-1300446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945C-10C4-4606-BB93-3C8291A7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E0E-454D-4284-B126-0344FC33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2D0F-B2D6-40E6-8F7F-5FB572E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A363-F6CD-4FB2-89B8-182837F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091-9C8C-4C11-A0A4-1E6741E8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E8BF-D9C6-43E7-9755-CE4F862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D328-E1A2-4723-961A-B70212BE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B777-63FD-444A-B6BB-7F886A7B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A498-9DE9-45CC-9C57-58301E46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BBBB-AD13-404B-A797-0B4DC458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9883-4BF6-4615-AAA2-0A26968A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2BC6-210A-4554-A60F-FAC8C31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C9F0-D201-47A9-860F-F7BBC539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0F78-B46D-4622-8EDD-A77E2340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6D14-9E5D-43FD-8086-11DBE448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922-CA1C-4635-BB6B-D1B46620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782C-22E8-4254-A0A6-0A695C9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53ED-547F-4DCD-9ECB-48E811E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05A6-BCB7-42D9-840D-B74DAA1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018F-4A4C-4497-B8F2-3D1D5F9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3F6B-345F-4271-B169-F156683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8DD3-9BBD-48DF-B1D1-7ED86412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6D82-6136-4E77-BECB-72DAF301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7203-75EC-4EC7-92E2-D1204F50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998A8-1D9E-4CAE-AD47-9BA9CCA9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F89C-E07F-4C10-908B-1A3EE983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192-0CBE-4B49-8D95-4417A77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5030-4160-4CD9-99EF-73023CEF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DCE87-4CCE-4437-B9F1-0CB41F6B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A215-40FD-4485-AB23-92F41CFE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39C1-93F5-43A9-A46C-C4C8771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B47A-7E06-461B-9CBD-965BCE8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00F1-8BD1-425C-A7B3-3B05A1E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2BE5-2483-49C9-A85D-C2D5A830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C4C8-E020-4594-9940-137B9EE8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6703-92ED-4E3E-9D5E-0B388E5E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EA6-0219-462A-9D6A-55345D43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DB2-2B29-425C-A241-C5B51756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710-597E-445B-9F5B-2337115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127-600B-4A91-9242-8A1BA72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447-DBAA-4360-B8AF-7C72A48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94B2-EE10-48B9-9877-D713E9E2D5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04E-E61D-4A5A-9D10-10AD786F766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FFE0-3A72-4107-A1ED-EC53B1C552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A7AE-5E98-4928-B13D-CFC9B9EE88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8"/>
          <p:cNvSpPr/>
          <p:nvPr/>
        </p:nvSpPr>
        <p:spPr>
          <a:xfrm rot="16200000">
            <a:off x="-684000" y="4220640"/>
            <a:ext cx="360036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95280" y="2781360"/>
            <a:ext cx="1440000" cy="3816360"/>
          </a:xfrm>
          <a:custGeom>
            <a:avLst/>
            <a:gdLst>
              <a:gd name="textAreaLeft" fmla="*/ 593280 w 1440000"/>
              <a:gd name="textAreaRight" fmla="*/ 846720 w 1440000"/>
              <a:gd name="textAreaTop" fmla="*/ 1572480 h 3816360"/>
              <a:gd name="textAreaBottom" fmla="*/ 224388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MV Boli"/>
              </a:rPr>
              <a:t>7 </a:t>
            </a:r>
            <a:r>
              <a:rPr b="1" lang="ru-RU" sz="1800" spc="-1" strike="noStrike">
                <a:solidFill>
                  <a:srgbClr val="dddddd"/>
                </a:solidFill>
                <a:latin typeface="Palace Script MT"/>
              </a:rPr>
              <a:t>клас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9280" y="507240"/>
            <a:ext cx="1080720" cy="6624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cc"/>
                </a:solidFill>
                <a:latin typeface="Arial"/>
              </a:rPr>
              <a:t>Учитель физики: Лаврова Н.В.</a:t>
            </a:r>
            <a:endParaRPr b="0" lang="en-US" sz="1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9" name="Picture 23" descr="AG00120_"/>
          <p:cNvPicPr/>
          <p:nvPr/>
        </p:nvPicPr>
        <p:blipFill>
          <a:blip r:embed="rId1"/>
          <a:stretch/>
        </p:blipFill>
        <p:spPr>
          <a:xfrm>
            <a:off x="179280" y="1557360"/>
            <a:ext cx="2060640" cy="1130400"/>
          </a:xfrm>
          <a:prstGeom prst="rect">
            <a:avLst/>
          </a:prstGeom>
          <a:ln w="0">
            <a:noFill/>
          </a:ln>
        </p:spPr>
      </p:pic>
      <p:grpSp>
        <p:nvGrpSpPr>
          <p:cNvPr id="270" name="Organization Chart 28"/>
          <p:cNvGrpSpPr/>
          <p:nvPr/>
        </p:nvGrpSpPr>
        <p:grpSpPr>
          <a:xfrm>
            <a:off x="2736720" y="465120"/>
            <a:ext cx="5903280" cy="5194080"/>
            <a:chOff x="2736720" y="465120"/>
            <a:chExt cx="5903280" cy="5194080"/>
          </a:xfrm>
        </p:grpSpPr>
        <p:cxnSp>
          <p:nvCxnSpPr>
            <p:cNvPr id="271" name="_s1028"/>
            <p:cNvCxnSpPr>
              <a:stCxn id="272" idx="0"/>
              <a:endCxn id="273" idx="2"/>
            </p:cNvCxnSpPr>
            <p:nvPr/>
          </p:nvCxnSpPr>
          <p:spPr>
            <a:xfrm flipV="1" rot="16200000">
              <a:off x="6201720" y="2028960"/>
              <a:ext cx="1039320" cy="2066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74" name="_s1029"/>
            <p:cNvCxnSpPr>
              <a:stCxn id="275" idx="0"/>
              <a:endCxn id="273" idx="2"/>
            </p:cNvCxnSpPr>
            <p:nvPr/>
          </p:nvCxnSpPr>
          <p:spPr>
            <a:xfrm rot="16200000">
              <a:off x="5168520" y="3062160"/>
              <a:ext cx="1039320" cy="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76" name="_s1030"/>
            <p:cNvCxnSpPr>
              <a:stCxn id="277" idx="0"/>
              <a:endCxn id="273" idx="2"/>
            </p:cNvCxnSpPr>
            <p:nvPr/>
          </p:nvCxnSpPr>
          <p:spPr>
            <a:xfrm flipH="1" flipV="1" rot="5400000">
              <a:off x="4135320" y="2029320"/>
              <a:ext cx="1039320" cy="2066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73" name="_s1031"/>
            <p:cNvSpPr/>
            <p:nvPr/>
          </p:nvSpPr>
          <p:spPr>
            <a:xfrm>
              <a:off x="4802760" y="46512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eaeaea"/>
                  </a:solidFill>
                  <a:uFillTx/>
                  <a:latin typeface="Vladimir Script"/>
                </a:rPr>
                <a:t>Простые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eaeaea"/>
                  </a:solidFill>
                  <a:uFillTx/>
                  <a:latin typeface="Vladimir Script"/>
                </a:rPr>
                <a:t> </a:t>
              </a:r>
              <a:r>
                <a:rPr b="1" lang="en-US" sz="1800" spc="-1" strike="noStrike" u="sng">
                  <a:solidFill>
                    <a:srgbClr val="eaeaea"/>
                  </a:solidFill>
                  <a:uFillTx/>
                  <a:latin typeface="Vladimir Script"/>
                </a:rPr>
                <a:t>механизмы.</a:t>
              </a: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7" name="_s1032"/>
            <p:cNvSpPr/>
            <p:nvPr/>
          </p:nvSpPr>
          <p:spPr>
            <a:xfrm>
              <a:off x="2736720" y="358164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ladimir Script"/>
                </a:rPr>
                <a:t>Равновесие 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ladimir Script"/>
                </a:rPr>
                <a:t>сил на рычаге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5" name="_s1033"/>
            <p:cNvSpPr/>
            <p:nvPr/>
          </p:nvSpPr>
          <p:spPr>
            <a:xfrm>
              <a:off x="4802760" y="358164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ladimir Script"/>
                </a:rPr>
                <a:t>Момент силы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2" name="_s1034"/>
            <p:cNvSpPr/>
            <p:nvPr/>
          </p:nvSpPr>
          <p:spPr>
            <a:xfrm>
              <a:off x="6869160" y="358164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Рычаги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в технике,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быту и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 </a:t>
              </a: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природе.</a:t>
              </a:r>
              <a:r>
                <a:rPr b="0" lang="en-US" sz="1800" spc="-1" strike="noStrike">
                  <a:solidFill>
                    <a:srgbClr val="eaeaea"/>
                  </a:solidFill>
                  <a:latin typeface="Bradley Hand ITC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Решение задачи № 1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780000" y="170028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8" name="Picture 10" descr="94661D7A"/>
          <p:cNvPicPr/>
          <p:nvPr/>
        </p:nvPicPr>
        <p:blipFill>
          <a:blip r:embed="rId1"/>
          <a:srcRect l="2858" t="12318" r="1868" b="5498"/>
          <a:stretch/>
        </p:blipFill>
        <p:spPr>
          <a:xfrm>
            <a:off x="1042920" y="1628640"/>
            <a:ext cx="720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85928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Задача №2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Какую силу нужно приложить к рычагу в точке А, чтобы уравновесить груз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1" name="Picture 8" descr="8FD2EC69"/>
          <p:cNvPicPr/>
          <p:nvPr/>
        </p:nvPicPr>
        <p:blipFill>
          <a:blip r:embed="rId1"/>
          <a:srcRect l="48718" t="8804" r="5912" b="27614"/>
          <a:stretch/>
        </p:blipFill>
        <p:spPr>
          <a:xfrm>
            <a:off x="468360" y="2060640"/>
            <a:ext cx="352908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Момент сил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56000" y="1052640"/>
            <a:ext cx="4788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изведение модуля силы, вращающей тело, на её плечо называется </a:t>
            </a:r>
            <a:r>
              <a:rPr b="1" lang="ru-RU" sz="2400" spc="-1" strike="noStrike" u="sng">
                <a:solidFill>
                  <a:srgbClr val="ff9900"/>
                </a:solidFill>
                <a:uFillTx/>
                <a:latin typeface="Brush Script MT"/>
              </a:rPr>
              <a:t>моментом силы;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он обозначается буквой </a:t>
            </a:r>
            <a:r>
              <a:rPr b="1" lang="ru-RU" sz="2400" spc="-1" strike="noStrike" u="sng">
                <a:solidFill>
                  <a:srgbClr val="ff9900"/>
                </a:solidFill>
                <a:uFillTx/>
                <a:latin typeface="Brush Script MT"/>
              </a:rPr>
              <a:t>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M=F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eaeaea"/>
                </a:solidFill>
                <a:latin typeface="Brush Script MT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00"/>
                </a:solidFill>
                <a:uFillTx/>
                <a:latin typeface="Brush Script MT"/>
              </a:rPr>
              <a:t>Правило моментов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ычаг находится в равновесии под действием двух сил, если момент силы, вращающей его по часовой стрелке, равен моменту силы, вращающей его против часовой стрелк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1" i="1" lang="ru-RU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=</a:t>
            </a: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1" i="1" lang="ru-RU" sz="1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 единицу момента силы принимается момент силы в 1Н, плечо которой равно 1м. Эта единица называется </a:t>
            </a: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ньютон-метр (Н*м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292720" y="2349360"/>
            <a:ext cx="122400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219640" y="5084640"/>
            <a:ext cx="158436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7" name="Picture 7" descr="8FD2EC69"/>
          <p:cNvPicPr/>
          <p:nvPr/>
        </p:nvPicPr>
        <p:blipFill>
          <a:blip r:embed="rId2"/>
          <a:srcRect l="2370" t="7047" r="52498" b="8177"/>
          <a:stretch/>
        </p:blipFill>
        <p:spPr>
          <a:xfrm>
            <a:off x="179280" y="1197000"/>
            <a:ext cx="3600720" cy="40323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971640" y="5734080"/>
            <a:ext cx="20876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Unicode MS"/>
              </a:rPr>
              <a:t>F</a:t>
            </a:r>
            <a:r>
              <a:rPr b="1" i="1" lang="en-US" sz="3200" spc="-1" strike="noStrike" baseline="-25000">
                <a:solidFill>
                  <a:srgbClr val="eaeaea"/>
                </a:solidFill>
                <a:latin typeface="Arial Unicode MS"/>
              </a:rPr>
              <a:t>1</a:t>
            </a:r>
            <a:r>
              <a:rPr b="1" i="1" lang="en-US" sz="3200" spc="-1" strike="noStrike">
                <a:solidFill>
                  <a:srgbClr val="eaeaea"/>
                </a:solidFill>
                <a:latin typeface="Brush Script MT"/>
              </a:rPr>
              <a:t> </a:t>
            </a:r>
            <a:r>
              <a:rPr b="1" i="1" lang="en-US" sz="3600" spc="-1" strike="noStrike">
                <a:solidFill>
                  <a:srgbClr val="eaeaea"/>
                </a:solidFill>
                <a:latin typeface="Brush Script MT"/>
              </a:rPr>
              <a:t>l</a:t>
            </a:r>
            <a:r>
              <a:rPr b="1" i="1" lang="en-US" sz="3600" spc="-1" strike="noStrike" baseline="-25000">
                <a:solidFill>
                  <a:srgbClr val="eaeaea"/>
                </a:solidFill>
                <a:latin typeface="Brush Script MT"/>
              </a:rPr>
              <a:t>1</a:t>
            </a:r>
            <a:r>
              <a:rPr b="1" i="1" lang="en-US" sz="3200" spc="-1" strike="noStrike">
                <a:solidFill>
                  <a:srgbClr val="eaeaea"/>
                </a:solidFill>
                <a:latin typeface="Brush Script MT"/>
              </a:rPr>
              <a:t> =</a:t>
            </a:r>
            <a:r>
              <a:rPr b="1" i="1" lang="en-US" sz="3200" spc="-1" strike="noStrike">
                <a:solidFill>
                  <a:srgbClr val="eaeaea"/>
                </a:solidFill>
                <a:latin typeface="Arial Unicode MS"/>
              </a:rPr>
              <a:t>F</a:t>
            </a:r>
            <a:r>
              <a:rPr b="1" i="1" lang="en-US" sz="3200" spc="-1" strike="noStrike" baseline="-25000">
                <a:solidFill>
                  <a:srgbClr val="eaeaea"/>
                </a:solidFill>
                <a:latin typeface="Arial Unicode MS"/>
              </a:rPr>
              <a:t>2</a:t>
            </a:r>
            <a:r>
              <a:rPr b="1" i="1" lang="en-US" sz="32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Brush Script MT"/>
              </a:rPr>
              <a:t>l</a:t>
            </a:r>
            <a:r>
              <a:rPr b="1" lang="en-US" sz="3600" spc="-1" strike="noStrike" baseline="-25000">
                <a:solidFill>
                  <a:srgbClr val="eaeaea"/>
                </a:solidFill>
                <a:latin typeface="Brush Script MT"/>
              </a:rPr>
              <a:t>2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476360" y="134136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Brush Script MT"/>
              </a:rPr>
              <a:t>l</a:t>
            </a:r>
            <a:r>
              <a:rPr b="1" i="1" lang="en-US" sz="4000" spc="-1" strike="noStrike" baseline="-25000">
                <a:solidFill>
                  <a:srgbClr val="006666"/>
                </a:solidFill>
                <a:latin typeface="Brush Script MT"/>
              </a:rPr>
              <a:t>1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340000" y="134136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Brush Script MT"/>
              </a:rPr>
              <a:t>l</a:t>
            </a:r>
            <a:r>
              <a:rPr b="1" i="1" lang="en-US" sz="4000" spc="-1" strike="noStrike" baseline="-25000">
                <a:solidFill>
                  <a:srgbClr val="006666"/>
                </a:solidFill>
                <a:latin typeface="Brush Script MT"/>
              </a:rPr>
              <a:t>2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843280" y="1628640"/>
            <a:ext cx="433440" cy="36036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1332000" y="1628640"/>
            <a:ext cx="21564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900000" y="5589720"/>
            <a:ext cx="2232000" cy="8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Рычаги в технике, быту и природ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Picture 6" descr="67CDA24E"/>
          <p:cNvPicPr/>
          <p:nvPr/>
        </p:nvPicPr>
        <p:blipFill>
          <a:blip r:embed="rId2"/>
          <a:srcRect l="1531" t="11257" r="64287" b="17689"/>
          <a:stretch/>
        </p:blipFill>
        <p:spPr>
          <a:xfrm>
            <a:off x="1547640" y="2924280"/>
            <a:ext cx="1595520" cy="2232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67CDA24E"/>
          <p:cNvPicPr/>
          <p:nvPr/>
        </p:nvPicPr>
        <p:blipFill>
          <a:blip r:embed="rId3"/>
          <a:srcRect l="44730" t="18129" r="41396" b="31434"/>
          <a:stretch/>
        </p:blipFill>
        <p:spPr>
          <a:xfrm>
            <a:off x="324000" y="4581360"/>
            <a:ext cx="647640" cy="1584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67CDA24E"/>
          <p:cNvPicPr/>
          <p:nvPr/>
        </p:nvPicPr>
        <p:blipFill>
          <a:blip r:embed="rId4"/>
          <a:srcRect l="68561" t="19543" r="17735" b="32455"/>
          <a:stretch/>
        </p:blipFill>
        <p:spPr>
          <a:xfrm>
            <a:off x="324000" y="2349360"/>
            <a:ext cx="647640" cy="2087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F03D938C"/>
          <p:cNvPicPr/>
          <p:nvPr/>
        </p:nvPicPr>
        <p:blipFill>
          <a:blip r:embed="rId5"/>
          <a:srcRect l="3922" t="1807" r="4584" b="3378"/>
          <a:stretch/>
        </p:blipFill>
        <p:spPr>
          <a:xfrm>
            <a:off x="3708360" y="2349360"/>
            <a:ext cx="504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Закреплени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ff9900"/>
                </a:solidFill>
                <a:uFillTx/>
                <a:latin typeface="Verdana"/>
              </a:rPr>
              <a:t>Теоретический материал по вопросам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называют простыми механизмами? Для какой цели их применяю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представляет собой рычаг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чём состоит правило равновесия рычаг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называют моментом сил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чём состоит правило моментов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68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768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0" dur="768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998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Вырази своё мнени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206800"/>
            <a:ext cx="822960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то нового, интересного узнали сегодня на уроке 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ему училис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то вам понравилось на уроке и почему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то хотелось бы изменит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000"/>
                            </p:stCondLst>
                            <p:childTnLst>
                              <p:par>
                                <p:cTn id="4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3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3168720" cy="128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370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Параграф №55,56,57,58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Упр.№ 30(5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Проверка домашнего задани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9900"/>
                </a:solidFill>
                <a:uFillTx/>
                <a:latin typeface="Tahoma"/>
              </a:rPr>
              <a:t>Физдиктан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1 вариа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ханическая работа, есть процесс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боту вычисляют по формуле 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ицу работы выражают в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2 вариа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щность характеризует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щность вычисляют по формул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ицу мощности выражают в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84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Проверка домашнего задания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9900"/>
                </a:solidFill>
                <a:uFillTx/>
                <a:latin typeface="Verdana"/>
              </a:rPr>
              <a:t>Физдиктан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i="1" lang="ru-RU" sz="3200" spc="-1" strike="noStrike">
                <a:solidFill>
                  <a:srgbClr val="ff9900"/>
                </a:solidFill>
                <a:latin typeface="Verdana"/>
              </a:rPr>
              <a:t>1 вариан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еханическая работа, есть процесс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перемещения тела,  под действием приложенной к нему сил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Работу вычисляют по формуле: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А = </a:t>
            </a: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F * S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диницу работы выражают в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джоулях (Дж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i="1" lang="ru-RU" sz="3200" spc="-1" strike="noStrike">
                <a:solidFill>
                  <a:srgbClr val="ff9900"/>
                </a:solidFill>
                <a:latin typeface="Verdana"/>
              </a:rPr>
              <a:t>2 вариан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ощность характеризует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быстроту выполнения рабо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ощность вычисляют по формуле: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N = A / t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диницу мощности выражают в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ваттах (В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17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917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917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917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917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917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917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917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917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знакомиться с понятиями «простой механизм», «рычаг», «момент силы»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Выяснить условие равновесия рычаг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Учиться применять правило рычага, определять момент силы при решении задач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8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Простые механизм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Verdana"/>
              </a:rPr>
              <a:t>Приспособления, служащие для преобразования силы, называют </a:t>
            </a: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Verdana"/>
              </a:rPr>
              <a:t>механизмами.</a:t>
            </a:r>
            <a:r>
              <a:rPr b="0" i="1" lang="ru-RU" sz="2400" spc="-1" strike="noStrike">
                <a:solidFill>
                  <a:srgbClr val="0099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Verdana"/>
              </a:rPr>
              <a:t>Рычаг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9999"/>
                </a:solidFill>
                <a:latin typeface="Verdana"/>
              </a:rPr>
              <a:t>представляет собой твёрдое тело, которое может вращаться вокруг неподвижной опо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6" name="Picture 17" descr="E545335F"/>
          <p:cNvPicPr/>
          <p:nvPr/>
        </p:nvPicPr>
        <p:blipFill>
          <a:blip r:embed="rId1"/>
          <a:srcRect l="3488" t="58810" r="4668" b="8104"/>
          <a:stretch/>
        </p:blipFill>
        <p:spPr>
          <a:xfrm>
            <a:off x="250920" y="4581360"/>
            <a:ext cx="45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E545335F"/>
          <p:cNvPicPr/>
          <p:nvPr/>
        </p:nvPicPr>
        <p:blipFill>
          <a:blip r:embed="rId2"/>
          <a:srcRect l="0" t="0" r="0" b="63236"/>
          <a:stretch/>
        </p:blipFill>
        <p:spPr>
          <a:xfrm>
            <a:off x="250920" y="1700280"/>
            <a:ext cx="450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2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Простые механизм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К простым механизмам относятся: </a:t>
            </a:r>
            <a:r>
              <a:rPr b="0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рычаг,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и его разновидности - </a:t>
            </a:r>
            <a:r>
              <a:rPr b="0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блок, ворот; наклонная плоскость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и её разновидности - </a:t>
            </a:r>
            <a:r>
              <a:rPr b="0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клин, винт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00720" y="5516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1" name="Picture 72" descr="FF0673C5"/>
          <p:cNvPicPr/>
          <p:nvPr/>
        </p:nvPicPr>
        <p:blipFill>
          <a:blip r:embed="rId1"/>
          <a:srcRect l="8297" t="32013" r="25404" b="7296"/>
          <a:stretch/>
        </p:blipFill>
        <p:spPr>
          <a:xfrm>
            <a:off x="324000" y="2708280"/>
            <a:ext cx="2879640" cy="3960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3" descr="FF0673C5"/>
          <p:cNvPicPr/>
          <p:nvPr/>
        </p:nvPicPr>
        <p:blipFill>
          <a:blip r:embed="rId2"/>
          <a:srcRect l="8297" t="3686" r="27045" b="76954"/>
          <a:stretch/>
        </p:blipFill>
        <p:spPr>
          <a:xfrm>
            <a:off x="395280" y="907920"/>
            <a:ext cx="2808360" cy="15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8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8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8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Применение рычагов в быту, в технике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94" name="Picture 4" descr="89E5C963"/>
          <p:cNvPicPr/>
          <p:nvPr/>
        </p:nvPicPr>
        <p:blipFill>
          <a:blip r:embed="rId1"/>
          <a:srcRect l="45508" t="48761" r="3720" b="11594"/>
          <a:stretch/>
        </p:blipFill>
        <p:spPr>
          <a:xfrm>
            <a:off x="5724360" y="4292640"/>
            <a:ext cx="2376720" cy="1873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89E5C963"/>
          <p:cNvPicPr/>
          <p:nvPr/>
        </p:nvPicPr>
        <p:blipFill>
          <a:blip r:embed="rId2"/>
          <a:srcRect l="3752" t="47247" r="61932" b="13103"/>
          <a:stretch/>
        </p:blipFill>
        <p:spPr>
          <a:xfrm>
            <a:off x="971640" y="4292640"/>
            <a:ext cx="2305080" cy="1873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89E5C963"/>
          <p:cNvPicPr/>
          <p:nvPr/>
        </p:nvPicPr>
        <p:blipFill>
          <a:blip r:embed="rId3"/>
          <a:srcRect l="53012" t="1514" r="5200" b="60388"/>
          <a:stretch/>
        </p:blipFill>
        <p:spPr>
          <a:xfrm>
            <a:off x="5724360" y="1773360"/>
            <a:ext cx="2305080" cy="180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89E5C963"/>
          <p:cNvPicPr/>
          <p:nvPr/>
        </p:nvPicPr>
        <p:blipFill>
          <a:blip r:embed="rId4"/>
          <a:srcRect l="6746" t="1514" r="58938" b="64957"/>
          <a:stretch/>
        </p:blipFill>
        <p:spPr>
          <a:xfrm>
            <a:off x="900000" y="177336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9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Равновесие сил на рычаг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435640" y="1557000"/>
            <a:ext cx="326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Правило равновесия  рычаг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ычаг находится в равновесии тогда, когда силы, действующие на него, обратно пропорциональны плечам этих си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0" name="Picture 4" descr="8FD2EC69"/>
          <p:cNvPicPr/>
          <p:nvPr/>
        </p:nvPicPr>
        <p:blipFill>
          <a:blip r:embed="rId1"/>
          <a:srcRect l="2370" t="7047" r="3959" b="8177"/>
          <a:stretch/>
        </p:blipFill>
        <p:spPr>
          <a:xfrm>
            <a:off x="179280" y="1700280"/>
            <a:ext cx="4932360" cy="3456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12CAB398"/>
          <p:cNvPicPr/>
          <p:nvPr/>
        </p:nvPicPr>
        <p:blipFill>
          <a:blip r:embed="rId2"/>
          <a:srcRect l="19574" t="38148" r="43257" b="10388"/>
          <a:stretch/>
        </p:blipFill>
        <p:spPr>
          <a:xfrm>
            <a:off x="1476360" y="5589720"/>
            <a:ext cx="1582920" cy="9363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9"/>
          <p:cNvSpPr/>
          <p:nvPr/>
        </p:nvSpPr>
        <p:spPr>
          <a:xfrm>
            <a:off x="1476360" y="5589720"/>
            <a:ext cx="1584360" cy="936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3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Задача №1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С помощью рычага рабочий поднимает плиту массой 240 кг. Какую силу прикладывает он к большему плечу рычага, равному 2,4 м, если меньшее плечо равно 0,6 м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5" name="Picture 7" descr="E545335F"/>
          <p:cNvPicPr/>
          <p:nvPr/>
        </p:nvPicPr>
        <p:blipFill>
          <a:blip r:embed="rId1"/>
          <a:srcRect l="0" t="0" r="49806" b="63236"/>
          <a:stretch/>
        </p:blipFill>
        <p:spPr>
          <a:xfrm>
            <a:off x="324000" y="1755720"/>
            <a:ext cx="3456000" cy="421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0:04:01Z</dcterms:created>
  <dc:creator>User</dc:creator>
  <dc:description/>
  <dc:language>en-US</dc:language>
  <cp:lastModifiedBy>учитель</cp:lastModifiedBy>
  <dcterms:modified xsi:type="dcterms:W3CDTF">2011-11-22T04:53:59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