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explode.wav" ContentType="audio/x-wav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84A-E47B-4A0C-AB10-F384BF1E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285-5F67-4002-BFFD-EF33CC8A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7D0-4409-409E-BB52-8108D4A5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8C9-D5C7-4691-9D61-492DBC6B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234-9CC8-41D0-B6AB-30F9BEDF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B32-251F-472E-A97A-FC10867E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AF6-0CB0-4F76-A514-D9EA1CE5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EE5-FA38-45AB-953D-304997F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0D9-9941-4D99-B1C5-63285883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924-85D5-44B2-934E-0EC47700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F94-F56C-4629-B658-BEDA4BE2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CD5-33CB-4E88-B363-BAE67CA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EEE-B888-495E-B3AB-475481F8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«Как человек изменил Земл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слотные дож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2852640"/>
            <a:ext cx="1279440" cy="165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24320" y="3108240"/>
            <a:ext cx="3668760" cy="3489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71280" y="836640"/>
            <a:ext cx="6048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вещества, сгорая, образуют химические соединения, хорошо растворимые в  воде. Если завод или фабрика выбрасывают воздух   такие вещества, то они смешиваясь с влагой  атмосферы, образуют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44816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и из таких облаков разруш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ки, закисляют почву, губ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уют на людей, животных,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2736720" cy="244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32760" y="6399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никовый эффек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горая, топливо выделяет большое  количество  тепла и углекислый газ. Именно он не даёт рассеиваться этому теплу. Создаётся  эффект  «парн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пература  на  Земле  возрастает  с каждым  г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03640" y="4653000"/>
            <a:ext cx="2267280" cy="220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14698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ледствия парникового эфф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4365360"/>
            <a:ext cx="835164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температуры   на  Земле  привело к изменению климата, таянию ледников,  различным природным   катастроф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8204040" y="6399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388800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6872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зоновая ды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7920" y="13795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з озон защищает Землю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мической радиации.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зона находится на высоте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до 50 км, максимальная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я от 20 до 25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3911760"/>
            <a:ext cx="3924360" cy="294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0880" y="476280"/>
            <a:ext cx="381312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79200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 последнее  время  учёные  обнаружили   разрыв озонового слоя – «дыру».  Диаметр    такой  дыры  около   1000 км,  расположена она над Антарктидой, движется  в  сторону  Австр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00360" y="2922480"/>
            <a:ext cx="4176720" cy="309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574200"/>
            <a:ext cx="5256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появления озоновой дыры  до конца  не  ясны.  Большое    влияние оказывает   использование   фре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2387520"/>
            <a:ext cx="5041800" cy="284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3166920" cy="2370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1960" y="5510160"/>
            <a:ext cx="4652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олевание  глаз  у овец в Австр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16080" y="601344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83000" y="5883120"/>
            <a:ext cx="5472000" cy="642600"/>
          </a:xfrm>
          <a:prstGeom prst="rect">
            <a:avLst/>
          </a:prstGeom>
          <a:solidFill>
            <a:srgbClr val="8b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едположите, как человек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отивостоять увеличению озоновой ды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27280" y="2278080"/>
            <a:ext cx="471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лоупотребляя  загаром, человек рискует получить                             рак кожи – мела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22560" y="0"/>
            <a:ext cx="6121440" cy="381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1341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ар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оп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-7920"/>
            <a:ext cx="6912000" cy="686592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132760" y="6327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1280" y="62064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280" y="4869000"/>
            <a:ext cx="4856400" cy="1739880"/>
          </a:xfrm>
          <a:prstGeom prst="rect">
            <a:avLst/>
          </a:prstGeom>
          <a:solidFill>
            <a:srgbClr val="8b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едположите, как изменится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здоровья населения райо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над которыми располож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зоновая дыр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акие заболевания будут пора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население? Как избежать эт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так, ребята, мы познакомились с     последствиями  человеческой  деятельности на Земле. В  результате этой  деятельности  возникли экологические   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ажнейшие  из  них – сохранение   всего живого на планете, борьба с уничтожением лесов  и  наступлением   пустынь,  защита планеты   от   всех   видов   загряз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СОХРАНИМ НАШУ УНИКА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ПЛАНЕТУ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51640" y="5694480"/>
            <a:ext cx="1692360" cy="126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780000" y="2492280"/>
            <a:ext cx="160020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 Е С 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58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214280"/>
            <a:ext cx="8207280" cy="564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562040" y="260280"/>
            <a:ext cx="60199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ОЛЬКО ОТ НАС ЗАВИСИ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УЩЕЕ ЗЕМЛИ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1125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есные пож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75280" y="692280"/>
            <a:ext cx="3960720" cy="511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108000" y="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иоактивные отходы излучают смертоносные лучи. В 1986 году на одной из атомных  станций  произошел  взрыв. В результате  аварии  огромные территории подверглись радиоактивному загрязнению. Это привело к тому, что многие люди заболели   и  умер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дствия радиационного загрязнения – тяжёлые наследственные заболевания, различные уродства, р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20364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65160" y="422100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680" y="5105520"/>
            <a:ext cx="4146120" cy="916920"/>
          </a:xfrm>
          <a:prstGeom prst="rect">
            <a:avLst/>
          </a:prstGeom>
          <a:solidFill>
            <a:srgbClr val="8b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едположите, как такие ур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влияют на качество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этих животн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0764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человечество стремится использовать всю окружающую  природу : энергию воды, ветра,     Солнца и недр Зем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тряные мельницы  Солнечные батареи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10400" y="3860640"/>
            <a:ext cx="174924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56000" y="3789360"/>
            <a:ext cx="173196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3512880" cy="263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88240" y="46735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вотный и растительны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4079880"/>
            <a:ext cx="4211640" cy="277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39243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ение природных ландшафтов и охота    привели к сокращению численности видов диких растении и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35280" y="115920"/>
            <a:ext cx="3924360" cy="33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3540240"/>
            <a:ext cx="822960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 развитием науки и техники растут и запросы человека. Обществу нужно всё больше и больше природных богат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Для достижения своих целей человек «наступает» на природу, изменяя её обл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0200" y="471600"/>
            <a:ext cx="8417880" cy="1313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́нпис (англ. Greenpeace — «зелёный мир») — междуна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ая природоохранная организация, основанная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е Ванкувер (Канада) 15 сентября 197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эвидом Мактагга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 мнит себя победителем природы. Природа же мстит человеку за каждую «победу» над 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 результате  деятельности  человек  приоб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ы, связанные с наруш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весия в   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39640" y="4005360"/>
            <a:ext cx="8146800" cy="2518560"/>
            <a:chOff x="539640" y="4005360"/>
            <a:chExt cx="8146800" cy="2518560"/>
          </a:xfrm>
        </p:grpSpPr>
        <p:cxnSp>
          <p:nvCxnSpPr>
            <p:cNvPr id="79" name="_s20497"/>
            <p:cNvCxnSpPr>
              <a:stCxn id="80" idx="0"/>
              <a:endCxn id="81" idx="2"/>
            </p:cNvCxnSpPr>
            <p:nvPr/>
          </p:nvCxnSpPr>
          <p:spPr>
            <a:xfrm flipV="1" rot="16200000">
              <a:off x="5786280" y="3837960"/>
              <a:ext cx="504360" cy="28519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496"/>
            <p:cNvCxnSpPr>
              <a:stCxn id="83" idx="0"/>
              <a:endCxn id="81" idx="2"/>
            </p:cNvCxnSpPr>
            <p:nvPr/>
          </p:nvCxnSpPr>
          <p:spPr>
            <a:xfrm flipV="1">
              <a:off x="4612680" y="5011920"/>
              <a:ext cx="324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495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2935080" y="3838320"/>
              <a:ext cx="504360" cy="28519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20491"/>
            <p:cNvSpPr/>
            <p:nvPr/>
          </p:nvSpPr>
          <p:spPr>
            <a:xfrm>
              <a:off x="3390840" y="4005360"/>
              <a:ext cx="2444040" cy="100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ЛОБАЛЬ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КОЛОГИЧЕСКИ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492"/>
            <p:cNvSpPr/>
            <p:nvPr/>
          </p:nvSpPr>
          <p:spPr>
            <a:xfrm>
              <a:off x="539640" y="5516640"/>
              <a:ext cx="2444040" cy="100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КИСЛОТНЫЕ _x000b_ДОЖД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493"/>
            <p:cNvSpPr/>
            <p:nvPr/>
          </p:nvSpPr>
          <p:spPr>
            <a:xfrm>
              <a:off x="3390840" y="5516640"/>
              <a:ext cx="2444040" cy="100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ПАРНИКОВЫЙ_x000b_ЭФФЕК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494"/>
            <p:cNvSpPr/>
            <p:nvPr/>
          </p:nvSpPr>
          <p:spPr>
            <a:xfrm>
              <a:off x="6242400" y="5516640"/>
              <a:ext cx="2444040" cy="100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ОЗОНОВАЯ_x000b_ДЫ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934920" cy="9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7:37:39Z</dcterms:created>
  <dc:creator>BYP/lO</dc:creator>
  <dc:description/>
  <dc:language>en-US</dc:language>
  <cp:lastModifiedBy>123</cp:lastModifiedBy>
  <dcterms:modified xsi:type="dcterms:W3CDTF">2013-10-18T05:27:12Z</dcterms:modified>
  <cp:revision>101</cp:revision>
  <dc:subject/>
  <dc:title>ЖИЗНЬ ПОД УГРОЗОЙ!</dc:title>
</cp:coreProperties>
</file>