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explode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E3F-C749-4F29-B333-42360C9B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C9E-2AAB-46E1-893D-84B43A3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A6A-3FD1-49A7-A8CD-7A1C8739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681-286E-455A-8A8A-14D365B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0D6-569C-4193-9320-3AF3D79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07E-4AF7-4F9B-B608-68FFD86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9A9-A44A-44D7-BAD9-D940497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F5C-E165-4E82-A17F-21CC9D6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F42-51DD-49B8-8DB3-1A7E1E5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AFB-B766-48D4-9B48-B2D1920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D49-F15F-481A-9F9A-20E5EC0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C4-325D-4CE0-AA5C-6158BFEB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674-766E-40E4-9CDB-D31952C03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52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6720" y="5869080"/>
            <a:ext cx="53276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-1044720" y="0"/>
            <a:ext cx="10620360" cy="690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-324000" y="0"/>
            <a:ext cx="10333080" cy="688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-541440" y="0"/>
            <a:ext cx="10441080" cy="695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9"/>
          </p:cNvPr>
          <p:cNvSpPr/>
          <p:nvPr/>
        </p:nvSpPr>
        <p:spPr>
          <a:xfrm>
            <a:off x="7236000" y="6165720"/>
            <a:ext cx="1908000" cy="682920"/>
          </a:xfrm>
          <a:custGeom>
            <a:avLst/>
            <a:gdLst>
              <a:gd name="textAreaLeft" fmla="*/ 44280 w 1908000"/>
              <a:gd name="textAreaRight" fmla="*/ 1863720 w 1908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60328" h="21600">
                <a:moveTo>
                  <a:pt x="0" y="0"/>
                </a:moveTo>
                <a:lnTo>
                  <a:pt x="60328" y="0"/>
                </a:lnTo>
                <a:lnTo>
                  <a:pt x="60328" y="21600"/>
                </a:lnTo>
                <a:lnTo>
                  <a:pt x="0" y="21600"/>
                </a:lnTo>
                <a:close/>
              </a:path>
              <a:path fill="lightenLess" w="60328" h="21600">
                <a:moveTo>
                  <a:pt x="0" y="0"/>
                </a:moveTo>
                <a:lnTo>
                  <a:pt x="60328" y="0"/>
                </a:lnTo>
                <a:lnTo>
                  <a:pt x="58928" y="1400"/>
                </a:lnTo>
                <a:lnTo>
                  <a:pt x="1400" y="1400"/>
                </a:lnTo>
                <a:close/>
              </a:path>
              <a:path fill="darken" w="60328" h="21600">
                <a:moveTo>
                  <a:pt x="60328" y="0"/>
                </a:moveTo>
                <a:lnTo>
                  <a:pt x="60328" y="21600"/>
                </a:lnTo>
                <a:lnTo>
                  <a:pt x="58928" y="20200"/>
                </a:lnTo>
                <a:lnTo>
                  <a:pt x="58928" y="1400"/>
                </a:lnTo>
                <a:close/>
              </a:path>
              <a:path fill="darkenLess" w="60328" h="21600">
                <a:moveTo>
                  <a:pt x="60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28" y="20200"/>
                </a:lnTo>
                <a:close/>
              </a:path>
              <a:path fill="lighten" w="60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28" h="21600">
                <a:moveTo>
                  <a:pt x="23157" y="8406"/>
                </a:moveTo>
                <a:lnTo>
                  <a:pt x="27587" y="8406"/>
                </a:lnTo>
                <a:lnTo>
                  <a:pt x="32009" y="3794"/>
                </a:lnTo>
                <a:lnTo>
                  <a:pt x="32009" y="17806"/>
                </a:lnTo>
                <a:lnTo>
                  <a:pt x="27587" y="13194"/>
                </a:lnTo>
                <a:lnTo>
                  <a:pt x="23157" y="13194"/>
                </a:lnTo>
                <a:close/>
              </a:path>
              <a:path fill="darken" w="60328" h="21600">
                <a:moveTo>
                  <a:pt x="33663" y="10800"/>
                </a:moveTo>
                <a:lnTo>
                  <a:pt x="37170" y="10800"/>
                </a:lnTo>
              </a:path>
              <a:path fill="darken" w="60328" h="21600">
                <a:moveTo>
                  <a:pt x="33663" y="8406"/>
                </a:moveTo>
                <a:lnTo>
                  <a:pt x="37170" y="5639"/>
                </a:lnTo>
              </a:path>
              <a:path fill="darken" w="60328" h="21600">
                <a:moveTo>
                  <a:pt x="33663" y="13194"/>
                </a:moveTo>
                <a:lnTo>
                  <a:pt x="3717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8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Венец ли природы человек?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Является ли он единственным мерилом ценностей во 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Как человек изменил Земл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15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ловек изменил природу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360" y="1270080"/>
            <a:ext cx="8712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, вертикально ходящие приматы – люди -  появились около 6 млн лет назад. На протяжении всей своей истории  человек активно вмешивался  в  окружающую его прир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3429000"/>
            <a:ext cx="51120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29360" y="3429000"/>
            <a:ext cx="3914640" cy="3478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хота для древних людей была основным источником получения пищ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9217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а кроманьонца                Охота неандерта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321080" cy="354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33800" cy="348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нная охота, необходимость защиты от  крупных  хищников,  поддержание   огня   и   осознанная   взаимопомощь привели к образованию об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64000" y="2470320"/>
            <a:ext cx="5476680" cy="402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3344760" cy="465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37160" y="126828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86960" y="17733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едположите, как отразился на числ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диких животных загонный тип ох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епенно человек перешёл от собирательства к земледелию, а от ручного земледелия к паше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225520"/>
            <a:ext cx="7129440" cy="465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50920" y="1268280"/>
            <a:ext cx="2743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 ВОПРОС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1760" y="1268280"/>
            <a:ext cx="60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думайте, к каким положительным изменения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жизни человека привело пашенное земледел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ак оно повлияло на прир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7:37:39Z</dcterms:created>
  <dc:creator>BYP/lO</dc:creator>
  <dc:description/>
  <dc:language>en-US</dc:language>
  <cp:lastModifiedBy>123</cp:lastModifiedBy>
  <dcterms:modified xsi:type="dcterms:W3CDTF">2013-10-18T05:00:54Z</dcterms:modified>
  <cp:revision>99</cp:revision>
  <dc:subject/>
  <dc:title>ЖИЗНЬ ПОД УГРОЗОЙ!</dc:title>
</cp:coreProperties>
</file>