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33.jpeg" ContentType="image/jpeg"/>
  <Override PartName="/ppt/media/image24.jpeg" ContentType="image/jpeg"/>
  <Override PartName="/ppt/media/image21.png" ContentType="image/pn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1.gif" ContentType="image/gif"/>
  <Override PartName="/ppt/media/image10.jpeg" ContentType="image/jpeg"/>
  <Override PartName="/ppt/media/image8.jpeg" ContentType="image/jpeg"/>
  <Override PartName="/ppt/media/image29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7.jpeg" ContentType="image/jpeg"/>
  <Override PartName="/ppt/media/image28.jpeg" ContentType="image/jpeg"/>
  <Override PartName="/ppt/media/image34.png" ContentType="image/png"/>
  <Override PartName="/ppt/media/image12.jpeg" ContentType="image/jpeg"/>
  <Override PartName="/ppt/media/image37.jpeg" ContentType="image/jpeg"/>
  <Override PartName="/ppt/media/image35.png" ContentType="image/png"/>
  <Override PartName="/ppt/media/image26.jpeg" ContentType="image/jpeg"/>
  <Override PartName="/ppt/media/image6.png" ContentType="image/png"/>
  <Override PartName="/ppt/media/image3.gif" ContentType="image/gif"/>
  <Override PartName="/ppt/media/image5.jpeg" ContentType="image/jpeg"/>
  <Override PartName="/ppt/media/explode.wav" ContentType="audio/x-wav"/>
  <Override PartName="/ppt/media/image25.jpeg" ContentType="image/jpeg"/>
  <Override PartName="/ppt/media/image32.png" ContentType="image/png"/>
  <Override PartName="/ppt/media/image1.jpeg" ContentType="image/jpeg"/>
  <Override PartName="/ppt/media/image22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13.jpeg" ContentType="image/jpeg"/>
  <Override PartName="/ppt/media/image14.jpeg" ContentType="image/jpeg"/>
  <Override PartName="/ppt/media/image15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456AA-3411-407B-B39D-96EEBD597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ABDEE-7871-4DB2-8D29-AA85492F8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03F74-BE21-4F67-9E99-62EADD2D5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EA454-A4C9-4D47-82F2-7566ED208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FE71F-E7FE-4ADD-8F18-97A7191EB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9B967-3D75-4C5B-9D73-34CB6D746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636AE-342F-4C4B-A64D-8C6CA2524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CA2AC-1F6B-48FC-8E65-B1A0BD52D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07F9B-D21E-4422-99E2-D17F3991D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1417D-9973-40E9-8EBE-383DEA3BA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F052A-BF03-4476-9F57-4BFD8292F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C06EE-D6D8-41F5-AA9E-FF7447CB7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be2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63B10-09DC-4220-8EE5-052F4D301DB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gif"/><Relationship Id="rId4" Type="http://schemas.openxmlformats.org/officeDocument/2006/relationships/image" Target="../media/image4.jpeg"/><Relationship Id="rId5" Type="http://schemas.openxmlformats.org/officeDocument/2006/relationships/audio" Target="../media/explode.wav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jpe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36.jpeg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gif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be2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«Как человек изменил Землю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950760"/>
            <a:ext cx="9144000" cy="59072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67280" y="2924280"/>
            <a:ext cx="1225440" cy="12254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785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5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5500"/>
                            </p:stCondLst>
                            <p:childTnLst>
                              <p:par>
                                <p:cTn id="1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5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0500"/>
                            </p:stCondLst>
                            <p:childTnLst>
                              <p:par>
                                <p:cTn id="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4" dur="1" fill="hold"/>
                                  <p:tgtEl>
                                    <p:spTgt spid="4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be2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0" y="404280"/>
            <a:ext cx="9144000" cy="619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азвитие промышленности привело к появлению различных удобрений, ядохимикатов,   моющих веществ. Все они рано или поздно попадают в воду и почву, загрязняя их. Это приводит к гибели водных животных и растений. У человека новые вещества вызывают аллергические заболевания и ослабление защитных сил организ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08000" y="3213000"/>
            <a:ext cx="4876920" cy="321624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5219640" y="3213000"/>
            <a:ext cx="3780000" cy="3168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be2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тходы производства загрязняют  почву,  воду,  воздух, разрушают среду  обитания  живых  организм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258920" y="1754280"/>
            <a:ext cx="6551640" cy="4914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be2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57200" y="343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бъемы мусора ежегодно увеличиваются во всем мире. К 2025 году количество бытовых отходов может вырасти в два раза. … Однако с каждым годом объемы мусора только расту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3203640" y="2349360"/>
            <a:ext cx="5940360" cy="33735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179280" y="2060640"/>
            <a:ext cx="3662640" cy="274644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 txBox="1"/>
          <p:nvPr/>
        </p:nvSpPr>
        <p:spPr>
          <a:xfrm>
            <a:off x="395280" y="5078520"/>
            <a:ext cx="2743200" cy="511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? ВОПРОС ?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50720" y="5740560"/>
            <a:ext cx="6223320" cy="916920"/>
          </a:xfrm>
          <a:prstGeom prst="rect">
            <a:avLst/>
          </a:prstGeom>
          <a:solidFill>
            <a:srgbClr val="8be2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Особенно опасен пластиковый и стеклянный мусо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Подумайте и предположит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почему? Как противостоять росту бытовых о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500"/>
                            </p:stCondLst>
                            <p:childTnLst>
                              <p:par>
                                <p:cTn id="13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be2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6372360" y="4076640"/>
            <a:ext cx="2771640" cy="27720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73080" y="4221000"/>
            <a:ext cx="3419280" cy="25657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324000" y="1906560"/>
            <a:ext cx="3097080" cy="211284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4"/>
          <a:stretch/>
        </p:blipFill>
        <p:spPr>
          <a:xfrm>
            <a:off x="5651640" y="515880"/>
            <a:ext cx="3492360" cy="34848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5"/>
          <a:stretch/>
        </p:blipFill>
        <p:spPr>
          <a:xfrm>
            <a:off x="3635280" y="2708280"/>
            <a:ext cx="2584440" cy="38163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 txBox="1"/>
          <p:nvPr/>
        </p:nvSpPr>
        <p:spPr>
          <a:xfrm>
            <a:off x="468360" y="536400"/>
            <a:ext cx="6294240" cy="1020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ОДЕЛКИ ИЗ СТЕКЛЯННЫХ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И ПЛАСТИКОВЫХ БУТЫЛОК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be2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Нефтяные пятна – серьёзная проблем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965160" y="1838160"/>
            <a:ext cx="2743200" cy="511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? ВОПРОС ?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43240" y="2513160"/>
            <a:ext cx="6327000" cy="916920"/>
          </a:xfrm>
          <a:prstGeom prst="rect">
            <a:avLst/>
          </a:prstGeom>
          <a:solidFill>
            <a:srgbClr val="8be2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Что происходит, когда нефть попадает в воду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Как нефтяные пятна губят животных, находящихся 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воде? Каким образом они убивают птиц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500"/>
                            </p:stCondLst>
                            <p:childTnLst>
                              <p:par>
                                <p:cTn id="14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be2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324000" y="1341000"/>
            <a:ext cx="836280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икие предки домашних животных уничтожались человеком из-за конкуренции на пастбище и вкусного мяса. Так вымерли тарпан – дикий предок лошадей, тур – предок крупного рогатого ско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24000" y="3621240"/>
            <a:ext cx="3816360" cy="25621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284720" y="3586320"/>
            <a:ext cx="4643280" cy="25700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be2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3789000"/>
            <a:ext cx="82296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Человек начал одомашнивать диких животных около 10 – 15 тыс. лет назад. Известно, что первыми одомашненными животными  были волки и дикие овц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38120" y="77760"/>
            <a:ext cx="8381880" cy="36036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 txBox="1"/>
          <p:nvPr/>
        </p:nvSpPr>
        <p:spPr>
          <a:xfrm>
            <a:off x="250920" y="5294160"/>
            <a:ext cx="2743200" cy="511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? ВОПРОС ?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24080" y="5321160"/>
            <a:ext cx="5860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Подумайте, к каким положительны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и отрицательным последствиям могло привес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одомашнивание диких животных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be2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539640" y="3933720"/>
            <a:ext cx="8064720" cy="30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еревыпас скота  привёл  к  оскудению пастбищ,  разрушению  почвы, разрастанию   пустын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ейчас  на  грани опустынивания около 20% суш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68360" y="44280"/>
            <a:ext cx="8244000" cy="5164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0" y="404280"/>
            <a:ext cx="9144000" cy="17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 концу эпохи палеолита (15 тыс. лет до н. э.) количество людей на Земле достигало около 3 млн. человек. К концу неолита ( 2 тыс. лет до н. э.) – 50 млн. человек. К  началу нашей эры – 230  млн. человек. В 1900 году на Земле было 1,6 млрд. человек. К концу 2006 года население Земли выросло до 6,525 млрд.челове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96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96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96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96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519280" y="5943600"/>
            <a:ext cx="1332000" cy="9144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1260360" y="5981760"/>
            <a:ext cx="1295640" cy="8762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0" y="2630520"/>
            <a:ext cx="1201680" cy="10144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5143680" y="5950080"/>
            <a:ext cx="1083960" cy="9079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5"/>
          <a:stretch/>
        </p:blipFill>
        <p:spPr>
          <a:xfrm>
            <a:off x="3851280" y="5964120"/>
            <a:ext cx="1297080" cy="8938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6"/>
          <a:stretch/>
        </p:blipFill>
        <p:spPr>
          <a:xfrm>
            <a:off x="6156360" y="5950080"/>
            <a:ext cx="1679400" cy="9763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 txBox="1"/>
          <p:nvPr/>
        </p:nvSpPr>
        <p:spPr>
          <a:xfrm>
            <a:off x="965160" y="2630520"/>
            <a:ext cx="2743200" cy="511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? ВОПРОС ?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495440" y="3376440"/>
            <a:ext cx="6170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Предположите, к каким последствия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может привести рост численности населения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Как он отразится на состоянии окружающей среды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be2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395280" y="475920"/>
            <a:ext cx="822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6000"/>
          </a:bodyPr>
          <a:p>
            <a:pPr marL="1918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и переходе человека к пашенному земледелию появились новые виды животных и сорта растений, которых раньше не было в природ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18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18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918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918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918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918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18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900000" y="1484280"/>
            <a:ext cx="3456000" cy="26067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900000" y="4076640"/>
            <a:ext cx="3456000" cy="225756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4572000" y="1484280"/>
            <a:ext cx="3670200" cy="48909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1195560" y="6453360"/>
            <a:ext cx="58273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лорадский жук                                                  пыр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352040" y="1720800"/>
            <a:ext cx="3416040" cy="642600"/>
          </a:xfrm>
          <a:prstGeom prst="rect">
            <a:avLst/>
          </a:prstGeom>
          <a:solidFill>
            <a:srgbClr val="8be2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Подумайте и предположит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почему так произошло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965160" y="1557360"/>
            <a:ext cx="2743200" cy="511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? ВОПРОС ?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med">
    <p:fade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500"/>
                            </p:stCondLst>
                            <p:childTnLst>
                              <p:par>
                                <p:cTn id="7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be2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188640"/>
            <a:ext cx="8229600" cy="64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свобождая площади  для  сельскохозяйственных угодий, человек вырубал леса, осушал болота, распахивал степ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аспашка земель привела к появлению овраг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сушение болот привело к нарушению водоснабжения ре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ырубка лесов привела к обмелению рек и исчезновению многих видов животны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42920" y="1989000"/>
            <a:ext cx="2268360" cy="23767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5580000" y="1989000"/>
            <a:ext cx="3456000" cy="23767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484360" y="1989000"/>
            <a:ext cx="3024360" cy="2376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be2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7200" y="4591080"/>
            <a:ext cx="8229600" cy="45259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В самом начале развития земледелия и скотоводства площадь лесов на Земле составляла 62 млн.км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Сейчас лесами покрыто 36 млн.км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На какой площади уничтожены леса за это врем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690560" y="333360"/>
            <a:ext cx="5689800" cy="426564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 txBox="1"/>
          <p:nvPr/>
        </p:nvSpPr>
        <p:spPr>
          <a:xfrm>
            <a:off x="3581280" y="549360"/>
            <a:ext cx="1981440" cy="511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ВОПРОС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med">
    <p:fade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be2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-108000" y="11592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огда в эпоху великих географических открытий   человек   ступил  на  новые земли, природа   этих мест понесл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непоправимый  урон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икая собака Динго                                                        Тасманийский сумчатый вол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ро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179280" y="1628640"/>
            <a:ext cx="2397240" cy="33847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2700360" y="3995640"/>
            <a:ext cx="3017880" cy="22417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3132000" y="1846440"/>
            <a:ext cx="2735280" cy="20430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151760" y="1268280"/>
            <a:ext cx="1523880" cy="152424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5"/>
          <a:stretch/>
        </p:blipFill>
        <p:spPr>
          <a:xfrm>
            <a:off x="6012000" y="3141720"/>
            <a:ext cx="2698560" cy="21146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 txBox="1"/>
          <p:nvPr/>
        </p:nvSpPr>
        <p:spPr>
          <a:xfrm>
            <a:off x="7380360" y="1413000"/>
            <a:ext cx="1077840" cy="1346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?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096320" y="278136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жеймс Ку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000"/>
                            </p:stCondLst>
                            <p:childTnLst>
                              <p:par>
                                <p:cTn id="9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2000"/>
                            </p:stCondLst>
                            <p:childTnLst>
                              <p:par>
                                <p:cTn id="9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8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8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8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8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0" dur="30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30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2" dur="3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5T17:37:39Z</dcterms:created>
  <dc:creator>BYP/lO</dc:creator>
  <dc:description/>
  <dc:language>en-US</dc:language>
  <cp:lastModifiedBy>123</cp:lastModifiedBy>
  <dcterms:modified xsi:type="dcterms:W3CDTF">2013-10-18T05:03:34Z</dcterms:modified>
  <cp:revision>99</cp:revision>
  <dc:subject/>
  <dc:title>ЖИЗНЬ ПОД УГРОЗОЙ!</dc:title>
</cp:coreProperties>
</file>