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B0B-DE90-4C71-A9E9-A6BD13E1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372-94BC-45BA-8567-42046294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FE7-8A2A-443A-8173-E353B6D5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A79-5B4F-463F-850F-8D460835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3CB00-ECA2-45CF-B1F6-DA19C28B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536BA-DF5A-496B-81BC-55648743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06D30-28E3-4F2A-A622-7EB5F385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18431-213D-47EF-ABF6-6C7D978B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46E7B-9551-4194-9C8D-8597EA73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5A24E-6B26-4B6D-9C0E-A4558FCD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13482-A5B1-4E4F-9C9E-4203C99D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71F-FEC8-430C-AF5F-73D3A781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7B2CC-25FF-4C44-BADA-10905D1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2B8D5-13D6-4949-92E6-B05028C5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FA0C-47A6-4634-BA94-F5289BF5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637AD-37DE-417F-BFAA-5F6F653B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B8140-99A6-445B-B95A-CB77D6A9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78A-CFB1-4813-BF6D-21B96349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B89-8FE7-46E4-A6C2-CB92B1EF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0E5-95A8-47C0-9BAC-8DA242DF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361-2505-4D2F-83D7-86A67F91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129-3578-4CD1-BA90-5A20652D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B24-7AC0-4240-B9B7-5A1B22CA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175-DB9D-4C61-B80A-DCE4051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1F0F-06F1-42E1-AEB4-5E014AC8E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0888-A52F-4E3B-82D2-B95DA735A5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Script MT Bold"/>
              </a:rPr>
              <a:t>«Механические волны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Волновые я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Распространение механических      вол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на и скорость волны. Уравнение бегущей вол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лны в сре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ковые вол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101080" y="5950080"/>
            <a:ext cx="718920" cy="682560"/>
          </a:xfrm>
          <a:custGeom>
            <a:avLst/>
            <a:gdLst>
              <a:gd name="textAreaLeft" fmla="*/ 43920 w 718920"/>
              <a:gd name="textAreaRight" fmla="*/ 675000 w 7189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2750" h="21600">
                <a:moveTo>
                  <a:pt x="0" y="0"/>
                </a:moveTo>
                <a:lnTo>
                  <a:pt x="22750" y="0"/>
                </a:lnTo>
                <a:lnTo>
                  <a:pt x="22750" y="21600"/>
                </a:lnTo>
                <a:lnTo>
                  <a:pt x="0" y="21600"/>
                </a:lnTo>
                <a:close/>
              </a:path>
              <a:path fill="lightenLess" w="22750" h="21600">
                <a:moveTo>
                  <a:pt x="0" y="0"/>
                </a:moveTo>
                <a:lnTo>
                  <a:pt x="22750" y="0"/>
                </a:lnTo>
                <a:lnTo>
                  <a:pt x="21350" y="1400"/>
                </a:lnTo>
                <a:lnTo>
                  <a:pt x="1400" y="1400"/>
                </a:lnTo>
                <a:close/>
              </a:path>
              <a:path fill="darken" w="22750" h="21600">
                <a:moveTo>
                  <a:pt x="22750" y="0"/>
                </a:moveTo>
                <a:lnTo>
                  <a:pt x="22750" y="21600"/>
                </a:lnTo>
                <a:lnTo>
                  <a:pt x="21350" y="20200"/>
                </a:lnTo>
                <a:lnTo>
                  <a:pt x="21350" y="1400"/>
                </a:lnTo>
                <a:close/>
              </a:path>
              <a:path fill="darkenLess" w="22750" h="21600">
                <a:moveTo>
                  <a:pt x="22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0" y="20200"/>
                </a:lnTo>
                <a:close/>
              </a:path>
              <a:path fill="lighten" w="22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0" h="21600">
                <a:moveTo>
                  <a:pt x="4369" y="3794"/>
                </a:moveTo>
                <a:lnTo>
                  <a:pt x="18381" y="10800"/>
                </a:lnTo>
                <a:lnTo>
                  <a:pt x="436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2124000" y="631980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Script MT Bold"/>
              </a:rPr>
              <a:t>Волновые яв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ущения, распространяющиеся в пространстве с течением времени, называютс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олна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механические и электромагнит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юбой механической волне одновременно существуют 2 вида движения: колебания частиц среды и распространение возмущ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м возникновения волны, является появление силы упругости, возникающей в результате деформации среды при её колеба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8172360" y="587700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>
            <a:hlinkClick r:id="" action="ppaction://hlinkshowjump?jump=firstslide"/>
          </p:cNvPr>
          <p:cNvSpPr/>
          <p:nvPr/>
        </p:nvSpPr>
        <p:spPr>
          <a:xfrm>
            <a:off x="8028000" y="260280"/>
            <a:ext cx="720720" cy="6494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69" h="21600">
                <a:moveTo>
                  <a:pt x="0" y="0"/>
                </a:moveTo>
                <a:lnTo>
                  <a:pt x="23969" y="0"/>
                </a:lnTo>
                <a:lnTo>
                  <a:pt x="23969" y="21600"/>
                </a:lnTo>
                <a:lnTo>
                  <a:pt x="0" y="21600"/>
                </a:lnTo>
                <a:close/>
              </a:path>
              <a:path fill="lightenLess" w="23969" h="21600">
                <a:moveTo>
                  <a:pt x="0" y="0"/>
                </a:moveTo>
                <a:lnTo>
                  <a:pt x="23969" y="0"/>
                </a:lnTo>
                <a:lnTo>
                  <a:pt x="22569" y="1400"/>
                </a:lnTo>
                <a:lnTo>
                  <a:pt x="1400" y="1400"/>
                </a:lnTo>
                <a:close/>
              </a:path>
              <a:path fill="darken" w="23969" h="21600">
                <a:moveTo>
                  <a:pt x="23969" y="0"/>
                </a:moveTo>
                <a:lnTo>
                  <a:pt x="23969" y="21600"/>
                </a:lnTo>
                <a:lnTo>
                  <a:pt x="22569" y="20200"/>
                </a:lnTo>
                <a:lnTo>
                  <a:pt x="22569" y="1400"/>
                </a:lnTo>
                <a:close/>
              </a:path>
              <a:path fill="darkenLess" w="23969" h="21600">
                <a:moveTo>
                  <a:pt x="239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9" y="20200"/>
                </a:lnTo>
                <a:close/>
              </a:path>
              <a:path fill="lighten" w="239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9" h="21600">
                <a:moveTo>
                  <a:pt x="11985" y="3837"/>
                </a:moveTo>
                <a:lnTo>
                  <a:pt x="14561" y="6448"/>
                </a:lnTo>
                <a:lnTo>
                  <a:pt x="14561" y="4707"/>
                </a:lnTo>
                <a:lnTo>
                  <a:pt x="16337" y="4707"/>
                </a:lnTo>
                <a:lnTo>
                  <a:pt x="16337" y="8224"/>
                </a:lnTo>
                <a:lnTo>
                  <a:pt x="18948" y="10800"/>
                </a:lnTo>
                <a:lnTo>
                  <a:pt x="17294" y="10800"/>
                </a:lnTo>
                <a:lnTo>
                  <a:pt x="17294" y="17989"/>
                </a:lnTo>
                <a:lnTo>
                  <a:pt x="6675" y="17989"/>
                </a:lnTo>
                <a:lnTo>
                  <a:pt x="6675" y="10800"/>
                </a:lnTo>
                <a:lnTo>
                  <a:pt x="5022" y="10800"/>
                </a:lnTo>
                <a:close/>
              </a:path>
              <a:path fill="darkenLess" w="23969" h="21600">
                <a:moveTo>
                  <a:pt x="14561" y="6448"/>
                </a:moveTo>
                <a:lnTo>
                  <a:pt x="14561" y="4707"/>
                </a:lnTo>
                <a:lnTo>
                  <a:pt x="16337" y="4707"/>
                </a:lnTo>
                <a:lnTo>
                  <a:pt x="16337" y="8224"/>
                </a:lnTo>
                <a:close/>
              </a:path>
              <a:path fill="darkenLess" w="23969" h="21600">
                <a:moveTo>
                  <a:pt x="11062" y="14299"/>
                </a:moveTo>
                <a:lnTo>
                  <a:pt x="12907" y="14299"/>
                </a:lnTo>
                <a:lnTo>
                  <a:pt x="12907" y="17989"/>
                </a:lnTo>
                <a:lnTo>
                  <a:pt x="17294" y="17989"/>
                </a:lnTo>
                <a:lnTo>
                  <a:pt x="17294" y="10800"/>
                </a:lnTo>
                <a:lnTo>
                  <a:pt x="6675" y="10800"/>
                </a:lnTo>
                <a:lnTo>
                  <a:pt x="6675" y="17989"/>
                </a:lnTo>
                <a:lnTo>
                  <a:pt x="1106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Script MT Bold"/>
              </a:rPr>
              <a:t>Распространение механических вол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5">
            <a:hlinkClick r:id="" action="ppaction://hlinkshowjump?jump=nextslide"/>
          </p:cNvPr>
          <p:cNvSpPr/>
          <p:nvPr/>
        </p:nvSpPr>
        <p:spPr>
          <a:xfrm>
            <a:off x="817236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6"/>
          <p:cNvSpPr/>
          <p:nvPr/>
        </p:nvSpPr>
        <p:spPr>
          <a:xfrm flipH="1">
            <a:off x="1692000" y="1341360"/>
            <a:ext cx="1439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724360" y="1341360"/>
            <a:ext cx="1295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55640" y="198900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Упругие вол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распространяющиеся возмущения упругой сред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на, в которой колебания частиц среды и распространение возмущения происходят в одном направлении, называется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продоль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могут распространяться во всех средах), а волна в которой частицы среды колеблются          направлению распространения возмущения, называется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попереч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могут распространяться только в твёрдых средах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8360" y="1844640"/>
            <a:ext cx="3240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Волны на поверхности жидкост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 являются ни продольными ни поперечными; они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имеют продольно-поперечный характ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ри котором частицы жидкости движутся по окружности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268360" y="5516640"/>
            <a:ext cx="2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8"/>
          <p:cNvSpPr/>
          <p:nvPr/>
        </p:nvSpPr>
        <p:spPr>
          <a:xfrm>
            <a:off x="3995640" y="5013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3995640" y="4941720"/>
            <a:ext cx="0" cy="21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3851280" y="5157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21">
            <a:hlinkClick r:id="" action="ppaction://hlinkshowjump?jump=firstslide"/>
          </p:cNvPr>
          <p:cNvSpPr/>
          <p:nvPr/>
        </p:nvSpPr>
        <p:spPr>
          <a:xfrm>
            <a:off x="8172360" y="26028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11382" y="3837"/>
                </a:moveTo>
                <a:lnTo>
                  <a:pt x="13958" y="6448"/>
                </a:lnTo>
                <a:lnTo>
                  <a:pt x="13958" y="4707"/>
                </a:lnTo>
                <a:lnTo>
                  <a:pt x="15734" y="4707"/>
                </a:lnTo>
                <a:lnTo>
                  <a:pt x="15734" y="8224"/>
                </a:lnTo>
                <a:lnTo>
                  <a:pt x="18345" y="10800"/>
                </a:lnTo>
                <a:lnTo>
                  <a:pt x="16691" y="10800"/>
                </a:lnTo>
                <a:lnTo>
                  <a:pt x="16691" y="17989"/>
                </a:lnTo>
                <a:lnTo>
                  <a:pt x="6073" y="17989"/>
                </a:lnTo>
                <a:lnTo>
                  <a:pt x="6073" y="10800"/>
                </a:lnTo>
                <a:lnTo>
                  <a:pt x="4419" y="10800"/>
                </a:lnTo>
                <a:close/>
              </a:path>
              <a:path fill="darkenLess" w="22764" h="21600">
                <a:moveTo>
                  <a:pt x="13958" y="6448"/>
                </a:moveTo>
                <a:lnTo>
                  <a:pt x="13958" y="4707"/>
                </a:lnTo>
                <a:lnTo>
                  <a:pt x="15734" y="4707"/>
                </a:lnTo>
                <a:lnTo>
                  <a:pt x="15734" y="8224"/>
                </a:lnTo>
                <a:close/>
              </a:path>
              <a:path fill="darkenLess" w="22764" h="21600">
                <a:moveTo>
                  <a:pt x="10459" y="14299"/>
                </a:moveTo>
                <a:lnTo>
                  <a:pt x="12305" y="14299"/>
                </a:lnTo>
                <a:lnTo>
                  <a:pt x="12305" y="17989"/>
                </a:lnTo>
                <a:lnTo>
                  <a:pt x="16691" y="17989"/>
                </a:lnTo>
                <a:lnTo>
                  <a:pt x="16691" y="10800"/>
                </a:lnTo>
                <a:lnTo>
                  <a:pt x="6073" y="10800"/>
                </a:lnTo>
                <a:lnTo>
                  <a:pt x="6073" y="17989"/>
                </a:lnTo>
                <a:lnTo>
                  <a:pt x="1045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Script MT Bold"/>
              </a:rPr>
              <a:t>Длина и скорость волны. Уравнение бегущей вол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788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на волны:       =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 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Т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/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( м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волны:  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 =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Script MT Bold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Т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          (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м/с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авнение бегущей волны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=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in ( </a:t>
            </a:r>
            <a:r>
              <a:rPr b="0" i="1" lang="en-US" sz="4000" spc="-1" strike="noStrike">
                <a:solidFill>
                  <a:srgbClr val="ffffff"/>
                </a:solidFill>
                <a:latin typeface="Bodoni MT"/>
              </a:rPr>
              <a:t>w</a:t>
            </a:r>
            <a:r>
              <a:rPr b="0" i="1" lang="en-US" sz="36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doni MT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doni MT Condensed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Bodoni MT Condensed"/>
              </a:rPr>
              <a:t>t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- x|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 )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WordArt 4"/>
          <p:cNvSpPr txBox="1"/>
          <p:nvPr/>
        </p:nvSpPr>
        <p:spPr>
          <a:xfrm rot="628800">
            <a:off x="4437000" y="2445840"/>
            <a:ext cx="57636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 rot="628800">
            <a:off x="3213720" y="1798200"/>
            <a:ext cx="57600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 rot="628800">
            <a:off x="5734080" y="2445840"/>
            <a:ext cx="57636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Freeform 11"/>
          <p:cNvSpPr/>
          <p:nvPr/>
        </p:nvSpPr>
        <p:spPr>
          <a:xfrm>
            <a:off x="6372360" y="2060640"/>
            <a:ext cx="326880" cy="504720"/>
          </a:xfrm>
          <a:custGeom>
            <a:avLst/>
            <a:gdLst>
              <a:gd name="textAreaLeft" fmla="*/ 0 w 326880"/>
              <a:gd name="textAreaRight" fmla="*/ 327240 w 3268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81" h="600">
                <a:moveTo>
                  <a:pt x="100" y="210"/>
                </a:moveTo>
                <a:cubicBezTo>
                  <a:pt x="116" y="254"/>
                  <a:pt x="102" y="294"/>
                  <a:pt x="91" y="338"/>
                </a:cubicBezTo>
                <a:cubicBezTo>
                  <a:pt x="94" y="420"/>
                  <a:pt x="81" y="505"/>
                  <a:pt x="100" y="585"/>
                </a:cubicBezTo>
                <a:cubicBezTo>
                  <a:pt x="104" y="600"/>
                  <a:pt x="132" y="584"/>
                  <a:pt x="146" y="576"/>
                </a:cubicBezTo>
                <a:cubicBezTo>
                  <a:pt x="163" y="566"/>
                  <a:pt x="202" y="502"/>
                  <a:pt x="219" y="484"/>
                </a:cubicBezTo>
                <a:cubicBezTo>
                  <a:pt x="242" y="419"/>
                  <a:pt x="227" y="445"/>
                  <a:pt x="256" y="402"/>
                </a:cubicBezTo>
                <a:cubicBezTo>
                  <a:pt x="271" y="342"/>
                  <a:pt x="281" y="265"/>
                  <a:pt x="247" y="210"/>
                </a:cubicBezTo>
                <a:cubicBezTo>
                  <a:pt x="238" y="195"/>
                  <a:pt x="213" y="184"/>
                  <a:pt x="201" y="173"/>
                </a:cubicBezTo>
                <a:cubicBezTo>
                  <a:pt x="148" y="125"/>
                  <a:pt x="114" y="94"/>
                  <a:pt x="55" y="55"/>
                </a:cubicBezTo>
                <a:cubicBezTo>
                  <a:pt x="31" y="39"/>
                  <a:pt x="27" y="1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reeform 12"/>
          <p:cNvSpPr/>
          <p:nvPr/>
        </p:nvSpPr>
        <p:spPr>
          <a:xfrm>
            <a:off x="6804000" y="2781360"/>
            <a:ext cx="326880" cy="504720"/>
          </a:xfrm>
          <a:custGeom>
            <a:avLst/>
            <a:gdLst>
              <a:gd name="textAreaLeft" fmla="*/ 0 w 326880"/>
              <a:gd name="textAreaRight" fmla="*/ 327240 w 3268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81" h="600">
                <a:moveTo>
                  <a:pt x="100" y="210"/>
                </a:moveTo>
                <a:cubicBezTo>
                  <a:pt x="116" y="254"/>
                  <a:pt x="102" y="294"/>
                  <a:pt x="91" y="338"/>
                </a:cubicBezTo>
                <a:cubicBezTo>
                  <a:pt x="94" y="420"/>
                  <a:pt x="81" y="505"/>
                  <a:pt x="100" y="585"/>
                </a:cubicBezTo>
                <a:cubicBezTo>
                  <a:pt x="104" y="600"/>
                  <a:pt x="132" y="584"/>
                  <a:pt x="146" y="576"/>
                </a:cubicBezTo>
                <a:cubicBezTo>
                  <a:pt x="163" y="566"/>
                  <a:pt x="202" y="502"/>
                  <a:pt x="219" y="484"/>
                </a:cubicBezTo>
                <a:cubicBezTo>
                  <a:pt x="242" y="419"/>
                  <a:pt x="227" y="445"/>
                  <a:pt x="256" y="402"/>
                </a:cubicBezTo>
                <a:cubicBezTo>
                  <a:pt x="271" y="342"/>
                  <a:pt x="281" y="265"/>
                  <a:pt x="247" y="210"/>
                </a:cubicBezTo>
                <a:cubicBezTo>
                  <a:pt x="238" y="195"/>
                  <a:pt x="213" y="184"/>
                  <a:pt x="201" y="173"/>
                </a:cubicBezTo>
                <a:cubicBezTo>
                  <a:pt x="148" y="125"/>
                  <a:pt x="114" y="94"/>
                  <a:pt x="55" y="55"/>
                </a:cubicBezTo>
                <a:cubicBezTo>
                  <a:pt x="31" y="39"/>
                  <a:pt x="27" y="1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4">
            <a:hlinkClick r:id="" action="ppaction://hlinkshowjump?jump=nextslide"/>
          </p:cNvPr>
          <p:cNvSpPr/>
          <p:nvPr/>
        </p:nvSpPr>
        <p:spPr>
          <a:xfrm>
            <a:off x="817236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5">
            <a:hlinkClick r:id="" action="ppaction://hlinkshowjump?jump=firstslide"/>
          </p:cNvPr>
          <p:cNvSpPr/>
          <p:nvPr/>
        </p:nvSpPr>
        <p:spPr>
          <a:xfrm>
            <a:off x="8172360" y="260280"/>
            <a:ext cx="684360" cy="755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55640"/>
              <a:gd name="textAreaBottom" fmla="*/ 711360 h 755640"/>
            </a:gdLst>
            <a:ahLst/>
            <a:rect l="textAreaLeft" t="textAreaTop" r="textAreaRight" b="textAreaBottom"/>
            <a:pathLst>
              <a:path w="21600" h="23849">
                <a:moveTo>
                  <a:pt x="0" y="0"/>
                </a:moveTo>
                <a:lnTo>
                  <a:pt x="21600" y="0"/>
                </a:lnTo>
                <a:lnTo>
                  <a:pt x="21600" y="23849"/>
                </a:lnTo>
                <a:lnTo>
                  <a:pt x="0" y="23849"/>
                </a:lnTo>
                <a:close/>
              </a:path>
              <a:path fill="lightenLess" w="21600" h="238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49">
                <a:moveTo>
                  <a:pt x="21600" y="0"/>
                </a:moveTo>
                <a:lnTo>
                  <a:pt x="21600" y="23849"/>
                </a:lnTo>
                <a:lnTo>
                  <a:pt x="20200" y="22449"/>
                </a:lnTo>
                <a:lnTo>
                  <a:pt x="20200" y="1400"/>
                </a:lnTo>
                <a:close/>
              </a:path>
              <a:path fill="darkenLess" w="21600" h="23849">
                <a:moveTo>
                  <a:pt x="21600" y="23849"/>
                </a:moveTo>
                <a:lnTo>
                  <a:pt x="0" y="23849"/>
                </a:lnTo>
                <a:lnTo>
                  <a:pt x="1400" y="22449"/>
                </a:lnTo>
                <a:lnTo>
                  <a:pt x="20200" y="22449"/>
                </a:lnTo>
                <a:close/>
              </a:path>
              <a:path fill="lighten" w="21600" h="23849">
                <a:moveTo>
                  <a:pt x="0" y="238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49"/>
                </a:lnTo>
                <a:close/>
              </a:path>
              <a:path fill="darken" w="21600" h="23849">
                <a:moveTo>
                  <a:pt x="10800" y="4961"/>
                </a:moveTo>
                <a:lnTo>
                  <a:pt x="13376" y="7572"/>
                </a:lnTo>
                <a:lnTo>
                  <a:pt x="13376" y="5832"/>
                </a:lnTo>
                <a:lnTo>
                  <a:pt x="15152" y="5832"/>
                </a:lnTo>
                <a:lnTo>
                  <a:pt x="15152" y="9348"/>
                </a:lnTo>
                <a:lnTo>
                  <a:pt x="17763" y="11924"/>
                </a:lnTo>
                <a:lnTo>
                  <a:pt x="16109" y="11924"/>
                </a:lnTo>
                <a:lnTo>
                  <a:pt x="16109" y="19114"/>
                </a:lnTo>
                <a:lnTo>
                  <a:pt x="5491" y="19114"/>
                </a:lnTo>
                <a:lnTo>
                  <a:pt x="5491" y="11924"/>
                </a:lnTo>
                <a:lnTo>
                  <a:pt x="3837" y="11924"/>
                </a:lnTo>
                <a:close/>
              </a:path>
              <a:path fill="darkenLess" w="21600" h="23849">
                <a:moveTo>
                  <a:pt x="13376" y="7572"/>
                </a:moveTo>
                <a:lnTo>
                  <a:pt x="13376" y="5832"/>
                </a:lnTo>
                <a:lnTo>
                  <a:pt x="15152" y="5832"/>
                </a:lnTo>
                <a:lnTo>
                  <a:pt x="15152" y="9348"/>
                </a:lnTo>
                <a:close/>
              </a:path>
              <a:path fill="darkenLess" w="21600" h="23849">
                <a:moveTo>
                  <a:pt x="9877" y="15423"/>
                </a:moveTo>
                <a:lnTo>
                  <a:pt x="11723" y="15423"/>
                </a:lnTo>
                <a:lnTo>
                  <a:pt x="11723" y="19114"/>
                </a:lnTo>
                <a:lnTo>
                  <a:pt x="16109" y="19114"/>
                </a:lnTo>
                <a:lnTo>
                  <a:pt x="16109" y="11924"/>
                </a:lnTo>
                <a:lnTo>
                  <a:pt x="5491" y="11924"/>
                </a:lnTo>
                <a:lnTo>
                  <a:pt x="5491" y="19114"/>
                </a:lnTo>
                <a:lnTo>
                  <a:pt x="9877" y="1911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Book Antiqua"/>
              </a:rPr>
              <a:t>Волны в сред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Плоская волн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волна в упругой среде, когда все точки среды, примыкающие к помещённой в неё пластине, будут совершать колебания с одинаковыми амплитудами и в одной и той же фа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ерхности равной фазы называют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олновыми поверхност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ия, нормальная к волновой поверхности, называется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уч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инейные вол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колебания частиц среды, совершаемые в направлении,    поверхности воды, причём в одной фа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ебания в сплошной среде пульсирующей сферы называются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ферической волн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5292720" y="479736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148360" y="5013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" action="ppaction://hlinkshowjump?jump=nextslide"/>
          </p:cNvPr>
          <p:cNvSpPr/>
          <p:nvPr/>
        </p:nvSpPr>
        <p:spPr>
          <a:xfrm>
            <a:off x="824400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7">
            <a:hlinkClick r:id="" action="ppaction://hlinkshowjump?jump=firstslide"/>
          </p:cNvPr>
          <p:cNvSpPr/>
          <p:nvPr/>
        </p:nvSpPr>
        <p:spPr>
          <a:xfrm>
            <a:off x="7885080" y="476280"/>
            <a:ext cx="1042920" cy="755640"/>
          </a:xfrm>
          <a:custGeom>
            <a:avLst/>
            <a:gdLst>
              <a:gd name="textAreaLeft" fmla="*/ 48960 w 1042920"/>
              <a:gd name="textAreaRight" fmla="*/ 993960 w 1042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9808" h="21600">
                <a:moveTo>
                  <a:pt x="0" y="0"/>
                </a:moveTo>
                <a:lnTo>
                  <a:pt x="29808" y="0"/>
                </a:lnTo>
                <a:lnTo>
                  <a:pt x="29808" y="21600"/>
                </a:lnTo>
                <a:lnTo>
                  <a:pt x="0" y="21600"/>
                </a:lnTo>
                <a:close/>
              </a:path>
              <a:path fill="lightenLess" w="29808" h="21600">
                <a:moveTo>
                  <a:pt x="0" y="0"/>
                </a:moveTo>
                <a:lnTo>
                  <a:pt x="29808" y="0"/>
                </a:lnTo>
                <a:lnTo>
                  <a:pt x="28408" y="1400"/>
                </a:lnTo>
                <a:lnTo>
                  <a:pt x="1400" y="1400"/>
                </a:lnTo>
                <a:close/>
              </a:path>
              <a:path fill="darken" w="29808" h="21600">
                <a:moveTo>
                  <a:pt x="29808" y="0"/>
                </a:moveTo>
                <a:lnTo>
                  <a:pt x="29808" y="21600"/>
                </a:lnTo>
                <a:lnTo>
                  <a:pt x="28408" y="20200"/>
                </a:lnTo>
                <a:lnTo>
                  <a:pt x="28408" y="1400"/>
                </a:lnTo>
                <a:close/>
              </a:path>
              <a:path fill="darkenLess" w="29808" h="21600">
                <a:moveTo>
                  <a:pt x="29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08" y="20200"/>
                </a:lnTo>
                <a:close/>
              </a:path>
              <a:path fill="lighten" w="29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08" h="21600">
                <a:moveTo>
                  <a:pt x="14904" y="3837"/>
                </a:moveTo>
                <a:lnTo>
                  <a:pt x="17480" y="6448"/>
                </a:ln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lnTo>
                  <a:pt x="21867" y="10800"/>
                </a:lnTo>
                <a:lnTo>
                  <a:pt x="20213" y="10800"/>
                </a:lnTo>
                <a:lnTo>
                  <a:pt x="20213" y="17989"/>
                </a:lnTo>
                <a:lnTo>
                  <a:pt x="9595" y="17989"/>
                </a:lnTo>
                <a:lnTo>
                  <a:pt x="9595" y="10800"/>
                </a:lnTo>
                <a:lnTo>
                  <a:pt x="7941" y="10800"/>
                </a:lnTo>
                <a:close/>
              </a:path>
              <a:path fill="darkenLess" w="29808" h="21600">
                <a:moveTo>
                  <a:pt x="17480" y="6448"/>
                </a:move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close/>
              </a:path>
              <a:path fill="darkenLess" w="29808" h="21600">
                <a:moveTo>
                  <a:pt x="13981" y="14299"/>
                </a:moveTo>
                <a:lnTo>
                  <a:pt x="15827" y="14299"/>
                </a:lnTo>
                <a:lnTo>
                  <a:pt x="15827" y="17989"/>
                </a:lnTo>
                <a:lnTo>
                  <a:pt x="20213" y="17989"/>
                </a:lnTo>
                <a:lnTo>
                  <a:pt x="20213" y="10800"/>
                </a:lnTo>
                <a:lnTo>
                  <a:pt x="9595" y="10800"/>
                </a:lnTo>
                <a:lnTo>
                  <a:pt x="9595" y="17989"/>
                </a:lnTo>
                <a:lnTo>
                  <a:pt x="1398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Palace Script MT"/>
              </a:rPr>
              <a:t>Звуковые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Palace Script MT"/>
              </a:rPr>
              <a:t> вол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ругие волны, вызывающие у человека слуховые ощущения, называютс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звуковыми волнами или просто звук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Громкость зву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пределяется его амплитудой: чем больше амплитуда  колебаний в звуковой волне, тем громче зву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ысота зву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пределяется его высотой: чем больше частота колебаний в звуковой волне, тем выше звук4 колебаниям небольшой частоты соответствуют низкие зву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вуковую волну определённой частоты называют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музыкальным тон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ой тон с «примесью» нескольких колебаний других частот образует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музыкальный зву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ие длительности звука, вызванное его отражениями от различных препятствий, называетс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реверберацие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Эх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звуковые волны, отражённые от какого-либо препятствия и возвратившиеся снова к источн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250920" y="602136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9234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  <a:path fill="darken" w="25465" h="21600">
                <a:moveTo>
                  <a:pt x="5726" y="3794"/>
                </a:moveTo>
                <a:lnTo>
                  <a:pt x="7388" y="3794"/>
                </a:lnTo>
                <a:lnTo>
                  <a:pt x="7388" y="17806"/>
                </a:lnTo>
                <a:lnTo>
                  <a:pt x="572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4:15:07Z</dcterms:created>
  <dc:creator>User</dc:creator>
  <dc:description/>
  <dc:language>en-US</dc:language>
  <cp:lastModifiedBy>RePack by SPecialiST</cp:lastModifiedBy>
  <dcterms:modified xsi:type="dcterms:W3CDTF">2013-10-18T12:00:27Z</dcterms:modified>
  <cp:revision>9</cp:revision>
  <dc:subject/>
  <dc:title>«Механические волны»</dc:title>
</cp:coreProperties>
</file>