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E4D-17AA-477A-8081-185B84AE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13D-0C02-4DE8-A9B0-61FC2546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6EA-9CD0-4986-A747-2185EEED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DCA-F489-415D-8A12-16F9ABA5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E8116-36D2-4A20-BFED-161F937F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C2A6D-8B87-4E01-9597-2869AA27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5573F-4C7B-4B24-B7DF-DA3D90AA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72415-1448-48E5-B3A5-86766BA9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A1402-8AB8-4F4A-B29F-6521340F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01AE0-ED33-41F7-9EB7-1D0666E4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1D49D-7A1A-49E7-B97C-6D1DF94F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DBD-1920-409F-821F-A8C365CD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71731-FBE8-496D-9B91-614DF0D8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8E042-2C6E-467B-9AF9-156F539F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8F2D2-E981-4B86-9EAD-4DA7E176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5171D-6657-4534-BA06-47A9E7B3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8D1EB-0041-4ACE-832E-88AF1F74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EF0-2D06-4C7C-B5EB-13063799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1E5-3D4D-447E-8C97-736C4273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50B-F0B7-449A-BB06-49CC9191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CB3-E432-487A-8C4D-05461728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0EB-4E4B-4DA1-84C5-8C0F727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1B9-9F5E-4FA7-863E-BEDEC607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71B-4578-4CD1-8FB6-C5110F0B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5889-43E8-466C-AB18-ED694AD05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D279-66C6-46FB-AFB1-AE29553AEE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Script MT Bold"/>
              </a:rPr>
              <a:t>«Механические волны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Волновые я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Распространение механических      вол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на и скорость волны. Уравнение бегущей вол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лны в сре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ковые вол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101080" y="5950080"/>
            <a:ext cx="718920" cy="682560"/>
          </a:xfrm>
          <a:custGeom>
            <a:avLst/>
            <a:gdLst>
              <a:gd name="textAreaLeft" fmla="*/ 43920 w 718920"/>
              <a:gd name="textAreaRight" fmla="*/ 675000 w 7189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2750" h="21600">
                <a:moveTo>
                  <a:pt x="0" y="0"/>
                </a:moveTo>
                <a:lnTo>
                  <a:pt x="22750" y="0"/>
                </a:lnTo>
                <a:lnTo>
                  <a:pt x="22750" y="21600"/>
                </a:lnTo>
                <a:lnTo>
                  <a:pt x="0" y="21600"/>
                </a:lnTo>
                <a:close/>
              </a:path>
              <a:path fill="lightenLess" w="22750" h="21600">
                <a:moveTo>
                  <a:pt x="0" y="0"/>
                </a:moveTo>
                <a:lnTo>
                  <a:pt x="22750" y="0"/>
                </a:lnTo>
                <a:lnTo>
                  <a:pt x="21350" y="1400"/>
                </a:lnTo>
                <a:lnTo>
                  <a:pt x="1400" y="1400"/>
                </a:lnTo>
                <a:close/>
              </a:path>
              <a:path fill="darken" w="22750" h="21600">
                <a:moveTo>
                  <a:pt x="22750" y="0"/>
                </a:moveTo>
                <a:lnTo>
                  <a:pt x="22750" y="21600"/>
                </a:lnTo>
                <a:lnTo>
                  <a:pt x="21350" y="20200"/>
                </a:lnTo>
                <a:lnTo>
                  <a:pt x="21350" y="1400"/>
                </a:lnTo>
                <a:close/>
              </a:path>
              <a:path fill="darkenLess" w="22750" h="21600">
                <a:moveTo>
                  <a:pt x="22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0" y="20200"/>
                </a:lnTo>
                <a:close/>
              </a:path>
              <a:path fill="lighten" w="22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0" h="21600">
                <a:moveTo>
                  <a:pt x="4369" y="3794"/>
                </a:moveTo>
                <a:lnTo>
                  <a:pt x="18381" y="10800"/>
                </a:lnTo>
                <a:lnTo>
                  <a:pt x="436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2124000" y="631980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Script MT Bold"/>
              </a:rPr>
              <a:t>Волновые яв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ущения, распространяющиеся в пространстве с течением времени, называютс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олна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механические и электромагнит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юбой механической волне одновременно существуют 2 вида движения: колебания частиц среды и распространение возмущ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м возникновения волны, является появление силы упругости, возникающей в результате деформации среды при её колеба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8172360" y="587700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>
            <a:hlinkClick r:id="" action="ppaction://hlinkshowjump?jump=firstslide"/>
          </p:cNvPr>
          <p:cNvSpPr/>
          <p:nvPr/>
        </p:nvSpPr>
        <p:spPr>
          <a:xfrm>
            <a:off x="8028000" y="260280"/>
            <a:ext cx="720720" cy="6494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69" h="21600">
                <a:moveTo>
                  <a:pt x="0" y="0"/>
                </a:moveTo>
                <a:lnTo>
                  <a:pt x="23969" y="0"/>
                </a:lnTo>
                <a:lnTo>
                  <a:pt x="23969" y="21600"/>
                </a:lnTo>
                <a:lnTo>
                  <a:pt x="0" y="21600"/>
                </a:lnTo>
                <a:close/>
              </a:path>
              <a:path fill="lightenLess" w="23969" h="21600">
                <a:moveTo>
                  <a:pt x="0" y="0"/>
                </a:moveTo>
                <a:lnTo>
                  <a:pt x="23969" y="0"/>
                </a:lnTo>
                <a:lnTo>
                  <a:pt x="22569" y="1400"/>
                </a:lnTo>
                <a:lnTo>
                  <a:pt x="1400" y="1400"/>
                </a:lnTo>
                <a:close/>
              </a:path>
              <a:path fill="darken" w="23969" h="21600">
                <a:moveTo>
                  <a:pt x="23969" y="0"/>
                </a:moveTo>
                <a:lnTo>
                  <a:pt x="23969" y="21600"/>
                </a:lnTo>
                <a:lnTo>
                  <a:pt x="22569" y="20200"/>
                </a:lnTo>
                <a:lnTo>
                  <a:pt x="22569" y="1400"/>
                </a:lnTo>
                <a:close/>
              </a:path>
              <a:path fill="darkenLess" w="23969" h="21600">
                <a:moveTo>
                  <a:pt x="239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9" y="20200"/>
                </a:lnTo>
                <a:close/>
              </a:path>
              <a:path fill="lighten" w="239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9" h="21600">
                <a:moveTo>
                  <a:pt x="11985" y="3837"/>
                </a:moveTo>
                <a:lnTo>
                  <a:pt x="14561" y="6448"/>
                </a:lnTo>
                <a:lnTo>
                  <a:pt x="14561" y="4707"/>
                </a:lnTo>
                <a:lnTo>
                  <a:pt x="16337" y="4707"/>
                </a:lnTo>
                <a:lnTo>
                  <a:pt x="16337" y="8224"/>
                </a:lnTo>
                <a:lnTo>
                  <a:pt x="18948" y="10800"/>
                </a:lnTo>
                <a:lnTo>
                  <a:pt x="17294" y="10800"/>
                </a:lnTo>
                <a:lnTo>
                  <a:pt x="17294" y="17989"/>
                </a:lnTo>
                <a:lnTo>
                  <a:pt x="6675" y="17989"/>
                </a:lnTo>
                <a:lnTo>
                  <a:pt x="6675" y="10800"/>
                </a:lnTo>
                <a:lnTo>
                  <a:pt x="5022" y="10800"/>
                </a:lnTo>
                <a:close/>
              </a:path>
              <a:path fill="darkenLess" w="23969" h="21600">
                <a:moveTo>
                  <a:pt x="14561" y="6448"/>
                </a:moveTo>
                <a:lnTo>
                  <a:pt x="14561" y="4707"/>
                </a:lnTo>
                <a:lnTo>
                  <a:pt x="16337" y="4707"/>
                </a:lnTo>
                <a:lnTo>
                  <a:pt x="16337" y="8224"/>
                </a:lnTo>
                <a:close/>
              </a:path>
              <a:path fill="darkenLess" w="23969" h="21600">
                <a:moveTo>
                  <a:pt x="11062" y="14299"/>
                </a:moveTo>
                <a:lnTo>
                  <a:pt x="12907" y="14299"/>
                </a:lnTo>
                <a:lnTo>
                  <a:pt x="12907" y="17989"/>
                </a:lnTo>
                <a:lnTo>
                  <a:pt x="17294" y="17989"/>
                </a:lnTo>
                <a:lnTo>
                  <a:pt x="17294" y="10800"/>
                </a:lnTo>
                <a:lnTo>
                  <a:pt x="6675" y="10800"/>
                </a:lnTo>
                <a:lnTo>
                  <a:pt x="6675" y="17989"/>
                </a:lnTo>
                <a:lnTo>
                  <a:pt x="1106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Script MT Bold"/>
              </a:rPr>
              <a:t>Распространение механических вол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5">
            <a:hlinkClick r:id="" action="ppaction://hlinkshowjump?jump=nextslide"/>
          </p:cNvPr>
          <p:cNvSpPr/>
          <p:nvPr/>
        </p:nvSpPr>
        <p:spPr>
          <a:xfrm>
            <a:off x="817236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6"/>
          <p:cNvSpPr/>
          <p:nvPr/>
        </p:nvSpPr>
        <p:spPr>
          <a:xfrm flipH="1">
            <a:off x="1692000" y="1341360"/>
            <a:ext cx="1439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724360" y="1341360"/>
            <a:ext cx="1295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55640" y="198900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Упругие вол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распространяющиеся возмущения упругой сред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на, в которой колебания частиц среды и распространение возмущения происходят в одном направлении, называется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продоль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могут распространяться во всех средах), а волна в которой частицы среды колеблются          направлению распространения возмущения, называется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попереч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могут распространяться только в твёрдых средах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8360" y="1844640"/>
            <a:ext cx="3240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Волны на поверхности жидкост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 являются ни продольными ни поперечными; они 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имеют продольно-поперечный характ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ри котором частицы жидкости движутся по окружности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268360" y="5516640"/>
            <a:ext cx="2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8"/>
          <p:cNvSpPr/>
          <p:nvPr/>
        </p:nvSpPr>
        <p:spPr>
          <a:xfrm>
            <a:off x="3995640" y="5013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3995640" y="4941720"/>
            <a:ext cx="0" cy="21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3851280" y="5157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21">
            <a:hlinkClick r:id="" action="ppaction://hlinkshowjump?jump=firstslide"/>
          </p:cNvPr>
          <p:cNvSpPr/>
          <p:nvPr/>
        </p:nvSpPr>
        <p:spPr>
          <a:xfrm>
            <a:off x="8172360" y="26028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11382" y="3837"/>
                </a:moveTo>
                <a:lnTo>
                  <a:pt x="13958" y="6448"/>
                </a:lnTo>
                <a:lnTo>
                  <a:pt x="13958" y="4707"/>
                </a:lnTo>
                <a:lnTo>
                  <a:pt x="15734" y="4707"/>
                </a:lnTo>
                <a:lnTo>
                  <a:pt x="15734" y="8224"/>
                </a:lnTo>
                <a:lnTo>
                  <a:pt x="18345" y="10800"/>
                </a:lnTo>
                <a:lnTo>
                  <a:pt x="16691" y="10800"/>
                </a:lnTo>
                <a:lnTo>
                  <a:pt x="16691" y="17989"/>
                </a:lnTo>
                <a:lnTo>
                  <a:pt x="6073" y="17989"/>
                </a:lnTo>
                <a:lnTo>
                  <a:pt x="6073" y="10800"/>
                </a:lnTo>
                <a:lnTo>
                  <a:pt x="4419" y="10800"/>
                </a:lnTo>
                <a:close/>
              </a:path>
              <a:path fill="darkenLess" w="22764" h="21600">
                <a:moveTo>
                  <a:pt x="13958" y="6448"/>
                </a:moveTo>
                <a:lnTo>
                  <a:pt x="13958" y="4707"/>
                </a:lnTo>
                <a:lnTo>
                  <a:pt x="15734" y="4707"/>
                </a:lnTo>
                <a:lnTo>
                  <a:pt x="15734" y="8224"/>
                </a:lnTo>
                <a:close/>
              </a:path>
              <a:path fill="darkenLess" w="22764" h="21600">
                <a:moveTo>
                  <a:pt x="10459" y="14299"/>
                </a:moveTo>
                <a:lnTo>
                  <a:pt x="12305" y="14299"/>
                </a:lnTo>
                <a:lnTo>
                  <a:pt x="12305" y="17989"/>
                </a:lnTo>
                <a:lnTo>
                  <a:pt x="16691" y="17989"/>
                </a:lnTo>
                <a:lnTo>
                  <a:pt x="16691" y="10800"/>
                </a:lnTo>
                <a:lnTo>
                  <a:pt x="6073" y="10800"/>
                </a:lnTo>
                <a:lnTo>
                  <a:pt x="6073" y="17989"/>
                </a:lnTo>
                <a:lnTo>
                  <a:pt x="1045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Script MT Bold"/>
              </a:rPr>
              <a:t>Длина и скорость волны. Уравнение бегущей вол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788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на волны:       =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 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Т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/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( м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волны:  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 =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Script MT Bold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Т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Script MT Bold"/>
              </a:rPr>
              <a:t>          ( </a:t>
            </a:r>
            <a:r>
              <a:rPr b="0" lang="ru-RU" sz="3200" spc="-1" strike="noStrike">
                <a:solidFill>
                  <a:srgbClr val="ffffff"/>
                </a:solidFill>
                <a:latin typeface="Script MT Bold"/>
              </a:rPr>
              <a:t>м/с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авнение бегущей волны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=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in ( </a:t>
            </a:r>
            <a:r>
              <a:rPr b="0" i="1" lang="en-US" sz="4000" spc="-1" strike="noStrike">
                <a:solidFill>
                  <a:srgbClr val="ffffff"/>
                </a:solidFill>
                <a:latin typeface="Bodoni MT"/>
              </a:rPr>
              <a:t>w</a:t>
            </a:r>
            <a:r>
              <a:rPr b="0" i="1" lang="en-US" sz="36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doni MT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Bodoni MT Condensed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Bodoni MT Condensed"/>
              </a:rPr>
              <a:t>t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- x| </a:t>
            </a: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V )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WordArt 4"/>
          <p:cNvSpPr txBox="1"/>
          <p:nvPr/>
        </p:nvSpPr>
        <p:spPr>
          <a:xfrm rot="628800">
            <a:off x="4437000" y="2445840"/>
            <a:ext cx="57636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 rot="628800">
            <a:off x="3213720" y="1798200"/>
            <a:ext cx="57600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 rot="628800">
            <a:off x="5734080" y="2445840"/>
            <a:ext cx="57636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Freeform 11"/>
          <p:cNvSpPr/>
          <p:nvPr/>
        </p:nvSpPr>
        <p:spPr>
          <a:xfrm>
            <a:off x="6372360" y="2060640"/>
            <a:ext cx="326880" cy="504720"/>
          </a:xfrm>
          <a:custGeom>
            <a:avLst/>
            <a:gdLst>
              <a:gd name="textAreaLeft" fmla="*/ 0 w 326880"/>
              <a:gd name="textAreaRight" fmla="*/ 327240 w 3268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81" h="600">
                <a:moveTo>
                  <a:pt x="100" y="210"/>
                </a:moveTo>
                <a:cubicBezTo>
                  <a:pt x="116" y="254"/>
                  <a:pt x="102" y="294"/>
                  <a:pt x="91" y="338"/>
                </a:cubicBezTo>
                <a:cubicBezTo>
                  <a:pt x="94" y="420"/>
                  <a:pt x="81" y="505"/>
                  <a:pt x="100" y="585"/>
                </a:cubicBezTo>
                <a:cubicBezTo>
                  <a:pt x="104" y="600"/>
                  <a:pt x="132" y="584"/>
                  <a:pt x="146" y="576"/>
                </a:cubicBezTo>
                <a:cubicBezTo>
                  <a:pt x="163" y="566"/>
                  <a:pt x="202" y="502"/>
                  <a:pt x="219" y="484"/>
                </a:cubicBezTo>
                <a:cubicBezTo>
                  <a:pt x="242" y="419"/>
                  <a:pt x="227" y="445"/>
                  <a:pt x="256" y="402"/>
                </a:cubicBezTo>
                <a:cubicBezTo>
                  <a:pt x="271" y="342"/>
                  <a:pt x="281" y="265"/>
                  <a:pt x="247" y="210"/>
                </a:cubicBezTo>
                <a:cubicBezTo>
                  <a:pt x="238" y="195"/>
                  <a:pt x="213" y="184"/>
                  <a:pt x="201" y="173"/>
                </a:cubicBezTo>
                <a:cubicBezTo>
                  <a:pt x="148" y="125"/>
                  <a:pt x="114" y="94"/>
                  <a:pt x="55" y="55"/>
                </a:cubicBezTo>
                <a:cubicBezTo>
                  <a:pt x="31" y="39"/>
                  <a:pt x="27" y="1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reeform 12"/>
          <p:cNvSpPr/>
          <p:nvPr/>
        </p:nvSpPr>
        <p:spPr>
          <a:xfrm>
            <a:off x="6804000" y="2781360"/>
            <a:ext cx="326880" cy="504720"/>
          </a:xfrm>
          <a:custGeom>
            <a:avLst/>
            <a:gdLst>
              <a:gd name="textAreaLeft" fmla="*/ 0 w 326880"/>
              <a:gd name="textAreaRight" fmla="*/ 327240 w 3268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81" h="600">
                <a:moveTo>
                  <a:pt x="100" y="210"/>
                </a:moveTo>
                <a:cubicBezTo>
                  <a:pt x="116" y="254"/>
                  <a:pt x="102" y="294"/>
                  <a:pt x="91" y="338"/>
                </a:cubicBezTo>
                <a:cubicBezTo>
                  <a:pt x="94" y="420"/>
                  <a:pt x="81" y="505"/>
                  <a:pt x="100" y="585"/>
                </a:cubicBezTo>
                <a:cubicBezTo>
                  <a:pt x="104" y="600"/>
                  <a:pt x="132" y="584"/>
                  <a:pt x="146" y="576"/>
                </a:cubicBezTo>
                <a:cubicBezTo>
                  <a:pt x="163" y="566"/>
                  <a:pt x="202" y="502"/>
                  <a:pt x="219" y="484"/>
                </a:cubicBezTo>
                <a:cubicBezTo>
                  <a:pt x="242" y="419"/>
                  <a:pt x="227" y="445"/>
                  <a:pt x="256" y="402"/>
                </a:cubicBezTo>
                <a:cubicBezTo>
                  <a:pt x="271" y="342"/>
                  <a:pt x="281" y="265"/>
                  <a:pt x="247" y="210"/>
                </a:cubicBezTo>
                <a:cubicBezTo>
                  <a:pt x="238" y="195"/>
                  <a:pt x="213" y="184"/>
                  <a:pt x="201" y="173"/>
                </a:cubicBezTo>
                <a:cubicBezTo>
                  <a:pt x="148" y="125"/>
                  <a:pt x="114" y="94"/>
                  <a:pt x="55" y="55"/>
                </a:cubicBezTo>
                <a:cubicBezTo>
                  <a:pt x="31" y="39"/>
                  <a:pt x="27" y="13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4">
            <a:hlinkClick r:id="" action="ppaction://hlinkshowjump?jump=nextslide"/>
          </p:cNvPr>
          <p:cNvSpPr/>
          <p:nvPr/>
        </p:nvSpPr>
        <p:spPr>
          <a:xfrm>
            <a:off x="817236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5">
            <a:hlinkClick r:id="" action="ppaction://hlinkshowjump?jump=firstslide"/>
          </p:cNvPr>
          <p:cNvSpPr/>
          <p:nvPr/>
        </p:nvSpPr>
        <p:spPr>
          <a:xfrm>
            <a:off x="8172360" y="260280"/>
            <a:ext cx="684360" cy="755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55640"/>
              <a:gd name="textAreaBottom" fmla="*/ 711360 h 755640"/>
            </a:gdLst>
            <a:ahLst/>
            <a:rect l="textAreaLeft" t="textAreaTop" r="textAreaRight" b="textAreaBottom"/>
            <a:pathLst>
              <a:path w="21600" h="23849">
                <a:moveTo>
                  <a:pt x="0" y="0"/>
                </a:moveTo>
                <a:lnTo>
                  <a:pt x="21600" y="0"/>
                </a:lnTo>
                <a:lnTo>
                  <a:pt x="21600" y="23849"/>
                </a:lnTo>
                <a:lnTo>
                  <a:pt x="0" y="23849"/>
                </a:lnTo>
                <a:close/>
              </a:path>
              <a:path fill="lightenLess" w="21600" h="238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49">
                <a:moveTo>
                  <a:pt x="21600" y="0"/>
                </a:moveTo>
                <a:lnTo>
                  <a:pt x="21600" y="23849"/>
                </a:lnTo>
                <a:lnTo>
                  <a:pt x="20200" y="22449"/>
                </a:lnTo>
                <a:lnTo>
                  <a:pt x="20200" y="1400"/>
                </a:lnTo>
                <a:close/>
              </a:path>
              <a:path fill="darkenLess" w="21600" h="23849">
                <a:moveTo>
                  <a:pt x="21600" y="23849"/>
                </a:moveTo>
                <a:lnTo>
                  <a:pt x="0" y="23849"/>
                </a:lnTo>
                <a:lnTo>
                  <a:pt x="1400" y="22449"/>
                </a:lnTo>
                <a:lnTo>
                  <a:pt x="20200" y="22449"/>
                </a:lnTo>
                <a:close/>
              </a:path>
              <a:path fill="lighten" w="21600" h="23849">
                <a:moveTo>
                  <a:pt x="0" y="238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49"/>
                </a:lnTo>
                <a:close/>
              </a:path>
              <a:path fill="darken" w="21600" h="23849">
                <a:moveTo>
                  <a:pt x="10800" y="4961"/>
                </a:moveTo>
                <a:lnTo>
                  <a:pt x="13376" y="7572"/>
                </a:lnTo>
                <a:lnTo>
                  <a:pt x="13376" y="5832"/>
                </a:lnTo>
                <a:lnTo>
                  <a:pt x="15152" y="5832"/>
                </a:lnTo>
                <a:lnTo>
                  <a:pt x="15152" y="9348"/>
                </a:lnTo>
                <a:lnTo>
                  <a:pt x="17763" y="11924"/>
                </a:lnTo>
                <a:lnTo>
                  <a:pt x="16109" y="11924"/>
                </a:lnTo>
                <a:lnTo>
                  <a:pt x="16109" y="19114"/>
                </a:lnTo>
                <a:lnTo>
                  <a:pt x="5491" y="19114"/>
                </a:lnTo>
                <a:lnTo>
                  <a:pt x="5491" y="11924"/>
                </a:lnTo>
                <a:lnTo>
                  <a:pt x="3837" y="11924"/>
                </a:lnTo>
                <a:close/>
              </a:path>
              <a:path fill="darkenLess" w="21600" h="23849">
                <a:moveTo>
                  <a:pt x="13376" y="7572"/>
                </a:moveTo>
                <a:lnTo>
                  <a:pt x="13376" y="5832"/>
                </a:lnTo>
                <a:lnTo>
                  <a:pt x="15152" y="5832"/>
                </a:lnTo>
                <a:lnTo>
                  <a:pt x="15152" y="9348"/>
                </a:lnTo>
                <a:close/>
              </a:path>
              <a:path fill="darkenLess" w="21600" h="23849">
                <a:moveTo>
                  <a:pt x="9877" y="15423"/>
                </a:moveTo>
                <a:lnTo>
                  <a:pt x="11723" y="15423"/>
                </a:lnTo>
                <a:lnTo>
                  <a:pt x="11723" y="19114"/>
                </a:lnTo>
                <a:lnTo>
                  <a:pt x="16109" y="19114"/>
                </a:lnTo>
                <a:lnTo>
                  <a:pt x="16109" y="11924"/>
                </a:lnTo>
                <a:lnTo>
                  <a:pt x="5491" y="11924"/>
                </a:lnTo>
                <a:lnTo>
                  <a:pt x="5491" y="19114"/>
                </a:lnTo>
                <a:lnTo>
                  <a:pt x="9877" y="1911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Book Antiqua"/>
              </a:rPr>
              <a:t>Волны в сред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Плоская волн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волна в упругой среде, когда все точки среды, примыкающие к помещённой в неё пластине, будут совершать колебания с одинаковыми амплитудами и в одной и той же фа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ерхности равной фазы называют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олновыми поверхност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ия, нормальная к волновой поверхности, называется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уч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инейные вол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колебания частиц среды, совершаемые в направлении,    поверхности воды, причём в одной фа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ебания в сплошной среде пульсирующей сферы называются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ферической волн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5292720" y="479736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148360" y="5013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" action="ppaction://hlinkshowjump?jump=nextslide"/>
          </p:cNvPr>
          <p:cNvSpPr/>
          <p:nvPr/>
        </p:nvSpPr>
        <p:spPr>
          <a:xfrm>
            <a:off x="824400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7">
            <a:hlinkClick r:id="" action="ppaction://hlinkshowjump?jump=firstslide"/>
          </p:cNvPr>
          <p:cNvSpPr/>
          <p:nvPr/>
        </p:nvSpPr>
        <p:spPr>
          <a:xfrm>
            <a:off x="7885080" y="476280"/>
            <a:ext cx="1042920" cy="755640"/>
          </a:xfrm>
          <a:custGeom>
            <a:avLst/>
            <a:gdLst>
              <a:gd name="textAreaLeft" fmla="*/ 48960 w 1042920"/>
              <a:gd name="textAreaRight" fmla="*/ 993960 w 1042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9808" h="21600">
                <a:moveTo>
                  <a:pt x="0" y="0"/>
                </a:moveTo>
                <a:lnTo>
                  <a:pt x="29808" y="0"/>
                </a:lnTo>
                <a:lnTo>
                  <a:pt x="29808" y="21600"/>
                </a:lnTo>
                <a:lnTo>
                  <a:pt x="0" y="21600"/>
                </a:lnTo>
                <a:close/>
              </a:path>
              <a:path fill="lightenLess" w="29808" h="21600">
                <a:moveTo>
                  <a:pt x="0" y="0"/>
                </a:moveTo>
                <a:lnTo>
                  <a:pt x="29808" y="0"/>
                </a:lnTo>
                <a:lnTo>
                  <a:pt x="28408" y="1400"/>
                </a:lnTo>
                <a:lnTo>
                  <a:pt x="1400" y="1400"/>
                </a:lnTo>
                <a:close/>
              </a:path>
              <a:path fill="darken" w="29808" h="21600">
                <a:moveTo>
                  <a:pt x="29808" y="0"/>
                </a:moveTo>
                <a:lnTo>
                  <a:pt x="29808" y="21600"/>
                </a:lnTo>
                <a:lnTo>
                  <a:pt x="28408" y="20200"/>
                </a:lnTo>
                <a:lnTo>
                  <a:pt x="28408" y="1400"/>
                </a:lnTo>
                <a:close/>
              </a:path>
              <a:path fill="darkenLess" w="29808" h="21600">
                <a:moveTo>
                  <a:pt x="29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08" y="20200"/>
                </a:lnTo>
                <a:close/>
              </a:path>
              <a:path fill="lighten" w="29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08" h="21600">
                <a:moveTo>
                  <a:pt x="14904" y="3837"/>
                </a:moveTo>
                <a:lnTo>
                  <a:pt x="17480" y="6448"/>
                </a:ln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lnTo>
                  <a:pt x="21867" y="10800"/>
                </a:lnTo>
                <a:lnTo>
                  <a:pt x="20213" y="10800"/>
                </a:lnTo>
                <a:lnTo>
                  <a:pt x="20213" y="17989"/>
                </a:lnTo>
                <a:lnTo>
                  <a:pt x="9595" y="17989"/>
                </a:lnTo>
                <a:lnTo>
                  <a:pt x="9595" y="10800"/>
                </a:lnTo>
                <a:lnTo>
                  <a:pt x="7941" y="10800"/>
                </a:lnTo>
                <a:close/>
              </a:path>
              <a:path fill="darkenLess" w="29808" h="21600">
                <a:moveTo>
                  <a:pt x="17480" y="6448"/>
                </a:moveTo>
                <a:lnTo>
                  <a:pt x="17480" y="4707"/>
                </a:lnTo>
                <a:lnTo>
                  <a:pt x="19256" y="4707"/>
                </a:lnTo>
                <a:lnTo>
                  <a:pt x="19256" y="8224"/>
                </a:lnTo>
                <a:close/>
              </a:path>
              <a:path fill="darkenLess" w="29808" h="21600">
                <a:moveTo>
                  <a:pt x="13981" y="14299"/>
                </a:moveTo>
                <a:lnTo>
                  <a:pt x="15827" y="14299"/>
                </a:lnTo>
                <a:lnTo>
                  <a:pt x="15827" y="17989"/>
                </a:lnTo>
                <a:lnTo>
                  <a:pt x="20213" y="17989"/>
                </a:lnTo>
                <a:lnTo>
                  <a:pt x="20213" y="10800"/>
                </a:lnTo>
                <a:lnTo>
                  <a:pt x="9595" y="10800"/>
                </a:lnTo>
                <a:lnTo>
                  <a:pt x="9595" y="17989"/>
                </a:lnTo>
                <a:lnTo>
                  <a:pt x="1398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Palace Script MT"/>
              </a:rPr>
              <a:t>Звуковые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Palace Script MT"/>
              </a:rPr>
              <a:t> вол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ругие волны, вызывающие у человека слуховые ощущения, называютс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звуковыми волнами или просто звук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Громкость зву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пределяется его амплитудой: чем больше амплитуда  колебаний в звуковой волне, тем громче зву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ысота зву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пределяется его высотой: чем больше частота колебаний в звуковой волне, тем выше звук4 колебаниям небольшой частоты соответствуют низкие зву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вуковую волну определённой частоты называют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музыкальным тон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ой тон с «примесью» нескольких колебаний других частот образует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музыкальный зву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ие длительности звука, вызванное его отражениями от различных препятствий, называетс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реверберацие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Эх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звуковые волны, отражённые от какого-либо препятствия и возвратившиеся снова к источн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4">
            <a:hlinkClick r:id="" action="ppaction://hlinkshowjump?jump=nextslide"/>
          </p:cNvPr>
          <p:cNvSpPr/>
          <p:nvPr/>
        </p:nvSpPr>
        <p:spPr>
          <a:xfrm>
            <a:off x="8172360" y="595008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250920" y="602136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9234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  <a:path fill="darken" w="25465" h="21600">
                <a:moveTo>
                  <a:pt x="5726" y="3794"/>
                </a:moveTo>
                <a:lnTo>
                  <a:pt x="7388" y="3794"/>
                </a:lnTo>
                <a:lnTo>
                  <a:pt x="7388" y="17806"/>
                </a:lnTo>
                <a:lnTo>
                  <a:pt x="572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4:15:07Z</dcterms:created>
  <dc:creator>User</dc:creator>
  <dc:description/>
  <dc:language>en-US</dc:language>
  <cp:lastModifiedBy>RePack by SPecialiST</cp:lastModifiedBy>
  <dcterms:modified xsi:type="dcterms:W3CDTF">2013-10-18T12:00:27Z</dcterms:modified>
  <cp:revision>9</cp:revision>
  <dc:subject/>
  <dc:title>«Механические волны»</dc:title>
</cp:coreProperties>
</file>