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8F98-E7FE-43AD-A56B-02147A74E346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C506-27E0-4499-B4B6-1C7366035952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C22B-C4CF-419D-B5BC-A54F22847C7E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D063-EEC0-44CE-B34D-618151C52A30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6793-50CE-4B00-BB21-B9BF99A959BA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D1E8-6362-4575-B77E-5D700C36DBDA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7034-D06E-4102-9C0D-D024C4B691C8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2B8C-2008-4FDB-A19E-32971DA9FE4D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C28C-D5E4-46BA-A858-D11E33A0FAC1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FE2-439C-4EA2-8095-13A42362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EAE-22BE-4D5F-934C-5293B283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CE5-7C6E-44EC-80C6-8D9D3F20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AA0-A54A-4E82-A5BD-AA5F3012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C295-7543-4D2F-BA61-051BB2A5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3592-8836-4E65-9CE1-FB3C07F4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5A82-D38F-4D7F-8676-BE04111A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A74B-A1DC-43A1-8083-EF8B176F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6887-57AF-4DDE-92AA-8DA1105D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F552-14B8-455C-B9AD-866A3F31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0C1C-BC62-4C63-BAB7-9596A63A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092-86CF-42C5-B3CE-66A2DF00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090E-0305-48B8-BB0D-2AFAF834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6BB9-6FD0-4111-B158-28F37A12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D065-DDAA-4EA9-906C-F4612CCC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2061-A554-4395-8879-E9A8467D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7932-A938-416B-AF47-EECD1BFC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FF5-9260-4F7C-96F4-DAE9AC34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9B0-D648-4025-96F3-58307BAC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3D0-F1EE-419C-BCA4-99ECA737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720-AB35-4BCF-B180-12D5E02A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C57-D106-4FC8-B69C-E5D8366F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6DB-FFD1-484F-B79D-E7E260C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D86-EA04-4555-933B-89B4E20A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244920"/>
            <a:ext cx="201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8F0E-752F-4809-BD88-2E8E5A0A191E}" type="datetime">
              <a:rPr b="1" lang="ru-RU" sz="14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3640" y="6244920"/>
            <a:ext cx="425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31000" y="624492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84CD-74FB-4FE0-A02E-A0EA48C7FEE8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4"/>
          <p:cNvGrpSpPr/>
          <p:nvPr/>
        </p:nvGrpSpPr>
        <p:grpSpPr>
          <a:xfrm>
            <a:off x="-36360" y="2409840"/>
            <a:ext cx="1008000" cy="4447440"/>
            <a:chOff x="-36360" y="2409840"/>
            <a:chExt cx="1008000" cy="4447440"/>
          </a:xfrm>
        </p:grpSpPr>
        <p:grpSp>
          <p:nvGrpSpPr>
            <p:cNvPr id="6" name="Group 13"/>
            <p:cNvGrpSpPr/>
            <p:nvPr/>
          </p:nvGrpSpPr>
          <p:grpSpPr>
            <a:xfrm>
              <a:off x="-36360" y="3481200"/>
              <a:ext cx="1008000" cy="3376080"/>
              <a:chOff x="-36360" y="3481200"/>
              <a:chExt cx="1008000" cy="3376080"/>
            </a:xfrm>
          </p:grpSpPr>
          <p:pic>
            <p:nvPicPr>
              <p:cNvPr id="7" name="Picture 8" descr="267"/>
              <p:cNvPicPr/>
              <p:nvPr/>
            </p:nvPicPr>
            <p:blipFill>
              <a:blip r:embed="rId2"/>
              <a:stretch/>
            </p:blipFill>
            <p:spPr>
              <a:xfrm>
                <a:off x="-36360" y="5740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Picture 9" descr="230"/>
              <p:cNvPicPr/>
              <p:nvPr/>
            </p:nvPicPr>
            <p:blipFill>
              <a:blip r:embed="rId3"/>
              <a:stretch/>
            </p:blipFill>
            <p:spPr>
              <a:xfrm>
                <a:off x="-36360" y="425340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Picture 10" descr="232"/>
              <p:cNvPicPr/>
              <p:nvPr/>
            </p:nvPicPr>
            <p:blipFill>
              <a:blip r:embed="rId4"/>
              <a:stretch/>
            </p:blipFill>
            <p:spPr>
              <a:xfrm>
                <a:off x="-36360" y="490788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1" descr="233"/>
              <p:cNvPicPr/>
              <p:nvPr/>
            </p:nvPicPr>
            <p:blipFill>
              <a:blip r:embed="rId5"/>
              <a:stretch/>
            </p:blipFill>
            <p:spPr>
              <a:xfrm>
                <a:off x="-36360" y="3481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" name="Picture 12" descr="266"/>
            <p:cNvPicPr/>
            <p:nvPr/>
          </p:nvPicPr>
          <p:blipFill>
            <a:blip r:embed="rId6"/>
            <a:stretch/>
          </p:blipFill>
          <p:spPr>
            <a:xfrm>
              <a:off x="-36360" y="240984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" name="Group 15"/>
          <p:cNvGrpSpPr/>
          <p:nvPr/>
        </p:nvGrpSpPr>
        <p:grpSpPr>
          <a:xfrm>
            <a:off x="0" y="0"/>
            <a:ext cx="1008000" cy="4447440"/>
            <a:chOff x="0" y="0"/>
            <a:chExt cx="1008000" cy="4447440"/>
          </a:xfrm>
        </p:grpSpPr>
        <p:grpSp>
          <p:nvGrpSpPr>
            <p:cNvPr id="13" name="Group 16"/>
            <p:cNvGrpSpPr/>
            <p:nvPr/>
          </p:nvGrpSpPr>
          <p:grpSpPr>
            <a:xfrm>
              <a:off x="0" y="1071360"/>
              <a:ext cx="1008000" cy="3376080"/>
              <a:chOff x="0" y="1071360"/>
              <a:chExt cx="1008000" cy="3376080"/>
            </a:xfrm>
          </p:grpSpPr>
          <p:pic>
            <p:nvPicPr>
              <p:cNvPr id="14" name="Picture 17" descr="267"/>
              <p:cNvPicPr/>
              <p:nvPr/>
            </p:nvPicPr>
            <p:blipFill>
              <a:blip r:embed="rId7"/>
              <a:stretch/>
            </p:blipFill>
            <p:spPr>
              <a:xfrm>
                <a:off x="0" y="3330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8" descr="230"/>
              <p:cNvPicPr/>
              <p:nvPr/>
            </p:nvPicPr>
            <p:blipFill>
              <a:blip r:embed="rId8"/>
              <a:stretch/>
            </p:blipFill>
            <p:spPr>
              <a:xfrm>
                <a:off x="0" y="184356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9" descr="232"/>
              <p:cNvPicPr/>
              <p:nvPr/>
            </p:nvPicPr>
            <p:blipFill>
              <a:blip r:embed="rId9"/>
              <a:stretch/>
            </p:blipFill>
            <p:spPr>
              <a:xfrm>
                <a:off x="0" y="249804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20" descr="233"/>
              <p:cNvPicPr/>
              <p:nvPr/>
            </p:nvPicPr>
            <p:blipFill>
              <a:blip r:embed="rId10"/>
              <a:stretch/>
            </p:blipFill>
            <p:spPr>
              <a:xfrm>
                <a:off x="0" y="1071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" name="Picture 21" descr="266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232"/>
          <p:cNvPicPr/>
          <p:nvPr/>
        </p:nvPicPr>
        <p:blipFill>
          <a:blip r:embed="rId2"/>
          <a:stretch/>
        </p:blipFill>
        <p:spPr>
          <a:xfrm rot="16634400">
            <a:off x="6833880" y="21024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880B-F75E-4824-9958-1530C10DCA36}" type="datetime">
              <a:rPr b="1" lang="ru-RU" sz="14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605C-A621-4544-9FB5-7B40928BC09C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39"/>
          <p:cNvPicPr/>
          <p:nvPr/>
        </p:nvPicPr>
        <p:blipFill>
          <a:blip r:embed="rId1"/>
          <a:stretch/>
        </p:blipFill>
        <p:spPr>
          <a:xfrm rot="6472200">
            <a:off x="323280" y="26028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1143000" y="271476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 комплексном кур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Основы религиозных культур и светской этики» (ОРКС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Курс ОРКСЭ состоит из 6 модулей: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православной культуры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исламской культуры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буддийской культуры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иудейской культуры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мировых религиозных культур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светской этики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4"/>
          <p:cNvSpPr/>
          <p:nvPr/>
        </p:nvSpPr>
        <p:spPr>
          <a:xfrm>
            <a:off x="2700360" y="6237360"/>
            <a:ext cx="425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6AFD-B369-4947-B019-26A73785E61D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71640" y="1052280"/>
            <a:ext cx="7921440" cy="504036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аждому обучающемуся предлагается для изучения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из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модулей (по выбору родителей с согласия обучающегося)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У самостоятельно определяет перечень модулей учебного курса: на основе выбора модулей учащимися и их родителями, а также возможностей ОУ в организации образовательного процесса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2700360" y="6237360"/>
            <a:ext cx="425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8234-8DCE-4BB4-A810-8D9FE2F33AEF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православной культуры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7BDF-6F77-4E76-808E-D2DC693029FF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Объект 8" descr=""/>
          <p:cNvPicPr/>
          <p:nvPr/>
        </p:nvPicPr>
        <p:blipFill>
          <a:blip r:embed="rId1">
            <a:alphaModFix amt="50000"/>
          </a:blip>
          <a:srcRect l="57824" t="16522" r="2901" b="57351"/>
          <a:stretch/>
        </p:blipFill>
        <p:spPr>
          <a:xfrm>
            <a:off x="900000" y="1844640"/>
            <a:ext cx="7850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исламской культуры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1319-4DB6-4F85-B172-6CC34A09FFF4}" type="datetime">
              <a:rPr b="1" lang="ru-RU" sz="14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43E8-2340-4C65-AAAC-7D10D10E5E73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Объект 6" descr=""/>
          <p:cNvPicPr/>
          <p:nvPr/>
        </p:nvPicPr>
        <p:blipFill>
          <a:blip r:embed="rId1">
            <a:alphaModFix amt="50000"/>
          </a:blip>
          <a:srcRect l="57470" t="43497" r="3190" b="33497"/>
          <a:stretch/>
        </p:blipFill>
        <p:spPr>
          <a:xfrm>
            <a:off x="971640" y="1844640"/>
            <a:ext cx="7848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буддийской культуры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3FA1-5B11-44D2-8192-FB3A3C388854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Объект 7" descr=""/>
          <p:cNvPicPr/>
          <p:nvPr/>
        </p:nvPicPr>
        <p:blipFill>
          <a:blip r:embed="rId1">
            <a:alphaModFix amt="50000"/>
          </a:blip>
          <a:srcRect l="58251" t="67045" r="2985" b="12867"/>
          <a:stretch/>
        </p:blipFill>
        <p:spPr>
          <a:xfrm>
            <a:off x="1130400" y="2176560"/>
            <a:ext cx="76896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иудейской культуры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Объект 6" descr=""/>
          <p:cNvPicPr/>
          <p:nvPr/>
        </p:nvPicPr>
        <p:blipFill>
          <a:blip r:embed="rId1">
            <a:alphaModFix amt="50000"/>
          </a:blip>
          <a:srcRect l="10502" t="8323" r="50636" b="66392"/>
          <a:stretch/>
        </p:blipFill>
        <p:spPr>
          <a:xfrm>
            <a:off x="1042920" y="1886040"/>
            <a:ext cx="7777080" cy="4064040"/>
          </a:xfrm>
          <a:prstGeom prst="rect">
            <a:avLst/>
          </a:prstGeom>
          <a:ln w="0">
            <a:noFill/>
          </a:ln>
        </p:spPr>
      </p:pic>
      <p:sp>
        <p:nvSpPr>
          <p:cNvPr id="167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D007-EF23-40AF-A71D-011F9E6850C7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мировых религиозных культур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A10E-FCE9-4858-853F-8D3256030DA7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Объект 7" descr=""/>
          <p:cNvPicPr/>
          <p:nvPr/>
        </p:nvPicPr>
        <p:blipFill>
          <a:blip r:embed="rId1">
            <a:alphaModFix amt="50000"/>
          </a:blip>
          <a:srcRect l="10172" t="34516" r="50077" b="38833"/>
          <a:stretch/>
        </p:blipFill>
        <p:spPr>
          <a:xfrm>
            <a:off x="971640" y="1989000"/>
            <a:ext cx="7686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светской этики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0A14-678E-42ED-8632-DB4A1BF142F8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Объект 6" descr=""/>
          <p:cNvPicPr/>
          <p:nvPr/>
        </p:nvPicPr>
        <p:blipFill>
          <a:blip r:embed="rId1">
            <a:alphaModFix amt="50000"/>
          </a:blip>
          <a:srcRect l="10172" t="62297" r="50932" b="11890"/>
          <a:stretch/>
        </p:blipFill>
        <p:spPr>
          <a:xfrm>
            <a:off x="971640" y="1773360"/>
            <a:ext cx="77659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ижний колонтитул 4"/>
          <p:cNvSpPr/>
          <p:nvPr/>
        </p:nvSpPr>
        <p:spPr>
          <a:xfrm>
            <a:off x="3203640" y="6245280"/>
            <a:ext cx="425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3760-A52F-47F5-A1FC-5F1D909AC737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rcRect l="3408" t="0" r="2393" b="3508"/>
          <a:stretch/>
        </p:blipFill>
        <p:spPr>
          <a:xfrm>
            <a:off x="1241280" y="476280"/>
            <a:ext cx="75074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Дата 1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2"/>
          <p:cNvSpPr/>
          <p:nvPr/>
        </p:nvSpPr>
        <p:spPr>
          <a:xfrm>
            <a:off x="286056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CC67-9D72-4583-85BD-C285BD812294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rcRect l="3492" t="0" r="1524" b="0"/>
          <a:stretch/>
        </p:blipFill>
        <p:spPr>
          <a:xfrm>
            <a:off x="982800" y="692280"/>
            <a:ext cx="8010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92144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ормативно – правовая баз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71640" y="836640"/>
            <a:ext cx="7921440" cy="54720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оручение Президента РФ о введении с 2012 года во всех субъектах РФ комплексного учебного курса для общеобразовательных учреждений «Основы религиозных культур и светской этики» от 02.08.2009г. N Пр-2009;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исьмо Министерства образования и науки РФ "Об использовании учебников и учебных пособий в образовательном процессе» от 10.02.2011 г. N 03-105;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исьмо Министерства образования и науки РФ «О направлении методических материалов ОРКСЭ» от 08.07.2011 г. N МД-883/03;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исьмо Министерства образования и науки РФ «Об обеспечении преподавания комплексного учебного курса ОРКСЭ» от 24.10.2011г. N МД-1427/03;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Распоряжение Правительства РФ «Об утверждении плана мероприятий по введению с 2012 – 2013 учебного года во всех субъектах Российской Федерации комплексного учебного курса для общеобразовательных учреждений «Основы религиозных культур и светской этики» от 28.01.2012г. №84-р;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7731000" y="6381720"/>
            <a:ext cx="1162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2A60-9742-4F45-912C-B41954FB2714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203640" y="6381720"/>
            <a:ext cx="360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92144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ормативно – правовая баз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71640" y="836280"/>
            <a:ext cx="7921440" cy="57610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каз Министерства образования и науки РФ «О внесении изменений в федеральный компонент государственных образовательных стандартов начального общего, основного общего, среднего (полного) общего образования, утверждённый Министерством образования РФ от 05.03.2004 №1089» от 31.01.2012г. №69;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каз Министерства образования и науки РФ «О внесении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ом образования РФ от 09.03.2004 №1312» от 01.02.2012 №74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исьмо Министерства образования и науки РФ «О введении курса ОРКСЭ с 1 сентября 2012 года» от 09.02.2012г. № МО-102/03;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каз Департамента образования и молодёжной политики ХМАО-Югры «О внесении изменений в региональный базисный учебный план и примерные учебные планы для образовательных учреждений Ханты-Мансийского автономного округа - Югры, реализующих программы общего образования, утверждённые приказом Департамента образования и науки Ханты-Мансийского автономного округа - Югры от 30.01.2007 №99» от 22.02.2012г. №151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7731000" y="6578640"/>
            <a:ext cx="1162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DD0F-7642-43A9-BFB5-6F7CCF79AE11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203640" y="6578640"/>
            <a:ext cx="3456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850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ными задачами комплексного курса являются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71640" y="1267920"/>
            <a:ext cx="7921440" cy="504036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по выбору родителей (законных представителей)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азвитие представлений обучающихся о значении нравственных норм и ценностей личности, семьи, общества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общение знаний, понятий и представлений о духовной культуре и морали, ранее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азвитие способностей обучающихся к общению в полиэтничной, разномировоззренческой и многоконфессиональной среде на основе взаимного уважения и диалога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203640" y="6381720"/>
            <a:ext cx="3240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 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5"/>
          <p:cNvSpPr/>
          <p:nvPr/>
        </p:nvSpPr>
        <p:spPr>
          <a:xfrm>
            <a:off x="7731000" y="6381720"/>
            <a:ext cx="1162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BD70-4EB0-42C2-9415-448D2AD874C9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21800" cy="765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Из стандарта начального общего образования по основам религиозных культур и светской этики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71640" y="1125360"/>
            <a:ext cx="7921440" cy="53992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ОРКСЭ направлено на достижение следующих целей: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ставлений о значении нравственных норм и ценностей для достойной жизни личности, семьи, общества; формирование готовности к нравственному самосовершенствованию, духовному саморазвитию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основными нормами светской и религиозной морали, понимания их значения в выстраивании конструктивных отношений в семье и обществе; формирование первоначальных представлений о светской этике, о традиционных религиях, их роли в культуре, истории и современности России; об исторической роли традиционных религий в становлении российской государственности; осознание ценности человеческой жизни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нравственности, основанной на свободе совести и вероисповедания, духовных традициях народов России; становление внутренней установки личности поступать согласно своей совест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Дата 3"/>
          <p:cNvSpPr/>
          <p:nvPr/>
        </p:nvSpPr>
        <p:spPr>
          <a:xfrm>
            <a:off x="971640" y="6578640"/>
            <a:ext cx="2016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203640" y="6578640"/>
            <a:ext cx="3816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5"/>
          <p:cNvSpPr/>
          <p:nvPr/>
        </p:nvSpPr>
        <p:spPr>
          <a:xfrm>
            <a:off x="7731000" y="6578640"/>
            <a:ext cx="1162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2F43-3941-4163-BE19-76D74510CADE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ижний колонтитул 4"/>
          <p:cNvSpPr/>
          <p:nvPr/>
        </p:nvSpPr>
        <p:spPr>
          <a:xfrm>
            <a:off x="3059280" y="6237360"/>
            <a:ext cx="425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30B8-0C88-45B8-9857-E30CBB97B746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34900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тве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 некоторые вопросы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49040"/>
            <a:ext cx="7848360" cy="1323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7230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правовые основы преподавания сведений о религиозных культурах в государственной и муниципальной общеобразовательной школе? Чем отличается преподавание религиозной культуры от преподавания религии?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71640" y="1699920"/>
            <a:ext cx="7921440" cy="47530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основ религиозных культур в государственных и муниципальных общеобразовательных учреждениях осуществляется в соответствии с нормами законодательства Российской Федерации: Конституцией Российской Федерации, Законами Российской Федерации "Об образовании", "Об основных гарантиях прав ребенка в Российской Федерации"; Федеральным законом "О свободе совести и о религиозных объединениях«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преподавания комплексного курс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дусматривается обучение религ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 обучением религии понимается преподавание вероучения. В Российской Федерации законодательно закреплено право родителей обучать детей религ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образовательной программ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тья 5 Федерального закона "О свободе совести и о религиозных объединениях", далее - Закон). Такое обучение может вести религиозная организация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971640" y="657072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ижний колонтитул 4"/>
          <p:cNvSpPr/>
          <p:nvPr/>
        </p:nvSpPr>
        <p:spPr>
          <a:xfrm>
            <a:off x="3203640" y="6570720"/>
            <a:ext cx="396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7731000" y="6570720"/>
            <a:ext cx="1162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0D23-583E-4F87-93D0-A4702BD05765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307800"/>
            <a:ext cx="792144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3. Какие аспекты религиозных культур будут, а какие не будут изучаться в рамках комплексного курса?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42560" y="1700280"/>
            <a:ext cx="7921800" cy="4392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одулей по религиозным культурам ориентировано на общее знакомство с соответствующими религиями, их культурой (история, традиции, нравственные ценности, выдающиеся представители и т.п.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включает специальных богословских вопро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подавание светской этики основывается на общих для всех россиян гражданских нравственных ценностях и нормах. Содержание каждого модуля комплексного курса ориентировано на знакомство с соответствующей культурой и религиозной или светской традицией и не содержит критических оценок других религий и мировоззрений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Дата 3"/>
          <p:cNvSpPr/>
          <p:nvPr/>
        </p:nvSpPr>
        <p:spPr>
          <a:xfrm>
            <a:off x="971640" y="638172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203640" y="6381720"/>
            <a:ext cx="374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7731000" y="6381720"/>
            <a:ext cx="1162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91E5-D34A-459C-865F-5B7B50304ABB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4. Какой может быть система оценки знаний по вводимому курсу? Будут ли учитываться оценки по данному курсу при выведении общей успеваемости ученика?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640" y="170028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унктом 3 статьи 15 Закона Российской Федерации "Об образовании" образовательное учреждение самостоятельно в выборе системы оценок. Система оценивания в каждом классе, учебной группе может определяться, исходя из конкретной ситуации (готовность учащихся к изучению материала, новизна его для них, численность групп и другое)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качественная взаимооценка в виде создания и презентации творческих проектов. Результаты подготовки и защиты творческих продуктов и проектов могут учитываться при формировании портфолио учеников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лизованные требования по оценке успеваемости по результатам освоения курса не предусматриваются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39F7-B261-44BD-9321-88C93854E612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6:11:34Z</dcterms:created>
  <dc:creator>Надия</dc:creator>
  <dc:description/>
  <dc:language>en-US</dc:language>
  <cp:lastModifiedBy>777</cp:lastModifiedBy>
  <cp:lastPrinted>2012-05-14T07:38:27Z</cp:lastPrinted>
  <dcterms:modified xsi:type="dcterms:W3CDTF">2013-11-23T16:41:36Z</dcterms:modified>
  <cp:revision>34</cp:revision>
  <dc:subject/>
  <dc:title>Родительское собрание</dc:title>
</cp:coreProperties>
</file>