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9C16-C33B-4162-9406-4EFB91B9B21A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6116-ECFC-4519-978A-35E5DA727B52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86BF-D795-4B74-AC28-8FA5B433612F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900B-9708-4A38-964C-FCB7A3B5AD4C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99B-602C-4DA8-A385-C6EAC02E539E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F43-ECEC-4608-BDD1-654D6DC7ECFC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6949-F874-4311-B02E-BCFC6C5AE277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8ABB-D624-4DD1-AF75-943706671667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7DAF-CC6D-4E2C-AA04-F4E1C525C1CB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772-E32B-4959-8FA7-DBE1BD14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7D3-CF0B-4F1C-9FD8-F2379A52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031-A301-4CCE-AE39-0A9A4736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E47-6CF3-4235-8443-47874679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87EE-7269-4E64-8678-5C38B085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FEFB-2332-4529-8974-B66F125F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B38E-1561-4F13-9C67-28760AEA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BD1D-52F6-4971-B141-E853E847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1330-961F-4663-9272-B594DE12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09D8-C920-4928-A12A-66414216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FF27-0BFA-4E2E-A7B1-7B5A22F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5AE-D7DD-4634-AEBA-D18B2EFD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F0D9-356D-45F1-8274-DA0CF905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CFF1-8D38-4307-B887-ECEC946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9402-E8DD-44FD-B2B1-EFACC01D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DD58-C7FF-45C4-9BC6-B6855302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86FE-3215-49D0-BBFF-E379F130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053-9C69-4647-B3F7-ADC14C07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AA5-9017-4D9C-A0DE-88CC81BA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D78-5987-499C-8FAC-57E6A917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012-76F8-4E7A-A002-6B2448FA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6FF-3221-4AA4-96BB-826D346F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212-CA2A-48D1-A4FC-FF2427D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259-C6E9-46FC-9C12-EDF2469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244920"/>
            <a:ext cx="201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AC65-B43F-487A-9ECB-CA522C8579C7}" type="datetime">
              <a:rPr b="1" lang="ru-RU" sz="14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3640" y="6244920"/>
            <a:ext cx="425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31000" y="624492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0452-DF3B-4E46-BEBB-F445221FC724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4"/>
          <p:cNvGrpSpPr/>
          <p:nvPr/>
        </p:nvGrpSpPr>
        <p:grpSpPr>
          <a:xfrm>
            <a:off x="-36360" y="2409840"/>
            <a:ext cx="1008000" cy="4447440"/>
            <a:chOff x="-36360" y="2409840"/>
            <a:chExt cx="1008000" cy="4447440"/>
          </a:xfrm>
        </p:grpSpPr>
        <p:grpSp>
          <p:nvGrpSpPr>
            <p:cNvPr id="6" name="Group 13"/>
            <p:cNvGrpSpPr/>
            <p:nvPr/>
          </p:nvGrpSpPr>
          <p:grpSpPr>
            <a:xfrm>
              <a:off x="-36360" y="3481200"/>
              <a:ext cx="1008000" cy="3376080"/>
              <a:chOff x="-36360" y="3481200"/>
              <a:chExt cx="1008000" cy="3376080"/>
            </a:xfrm>
          </p:grpSpPr>
          <p:pic>
            <p:nvPicPr>
              <p:cNvPr id="7" name="Picture 8" descr="267"/>
              <p:cNvPicPr/>
              <p:nvPr/>
            </p:nvPicPr>
            <p:blipFill>
              <a:blip r:embed="rId2"/>
              <a:stretch/>
            </p:blipFill>
            <p:spPr>
              <a:xfrm>
                <a:off x="-36360" y="5740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9" descr="230"/>
              <p:cNvPicPr/>
              <p:nvPr/>
            </p:nvPicPr>
            <p:blipFill>
              <a:blip r:embed="rId3"/>
              <a:stretch/>
            </p:blipFill>
            <p:spPr>
              <a:xfrm>
                <a:off x="-36360" y="425340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Picture 10" descr="232"/>
              <p:cNvPicPr/>
              <p:nvPr/>
            </p:nvPicPr>
            <p:blipFill>
              <a:blip r:embed="rId4"/>
              <a:stretch/>
            </p:blipFill>
            <p:spPr>
              <a:xfrm>
                <a:off x="-36360" y="490788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1" descr="233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481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" name="Picture 12" descr="266"/>
            <p:cNvPicPr/>
            <p:nvPr/>
          </p:nvPicPr>
          <p:blipFill>
            <a:blip r:embed="rId6"/>
            <a:stretch/>
          </p:blipFill>
          <p:spPr>
            <a:xfrm>
              <a:off x="-36360" y="240984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Group 15"/>
          <p:cNvGrpSpPr/>
          <p:nvPr/>
        </p:nvGrpSpPr>
        <p:grpSpPr>
          <a:xfrm>
            <a:off x="0" y="0"/>
            <a:ext cx="1008000" cy="4447440"/>
            <a:chOff x="0" y="0"/>
            <a:chExt cx="1008000" cy="4447440"/>
          </a:xfrm>
        </p:grpSpPr>
        <p:grpSp>
          <p:nvGrpSpPr>
            <p:cNvPr id="13" name="Group 16"/>
            <p:cNvGrpSpPr/>
            <p:nvPr/>
          </p:nvGrpSpPr>
          <p:grpSpPr>
            <a:xfrm>
              <a:off x="0" y="1071360"/>
              <a:ext cx="1008000" cy="3376080"/>
              <a:chOff x="0" y="1071360"/>
              <a:chExt cx="1008000" cy="3376080"/>
            </a:xfrm>
          </p:grpSpPr>
          <p:pic>
            <p:nvPicPr>
              <p:cNvPr id="14" name="Picture 17" descr="267"/>
              <p:cNvPicPr/>
              <p:nvPr/>
            </p:nvPicPr>
            <p:blipFill>
              <a:blip r:embed="rId7"/>
              <a:stretch/>
            </p:blipFill>
            <p:spPr>
              <a:xfrm>
                <a:off x="0" y="3330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8" descr="230"/>
              <p:cNvPicPr/>
              <p:nvPr/>
            </p:nvPicPr>
            <p:blipFill>
              <a:blip r:embed="rId8"/>
              <a:stretch/>
            </p:blipFill>
            <p:spPr>
              <a:xfrm>
                <a:off x="0" y="184356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9" descr="232"/>
              <p:cNvPicPr/>
              <p:nvPr/>
            </p:nvPicPr>
            <p:blipFill>
              <a:blip r:embed="rId9"/>
              <a:stretch/>
            </p:blipFill>
            <p:spPr>
              <a:xfrm>
                <a:off x="0" y="249804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20" descr="233"/>
              <p:cNvPicPr/>
              <p:nvPr/>
            </p:nvPicPr>
            <p:blipFill>
              <a:blip r:embed="rId10"/>
              <a:stretch/>
            </p:blipFill>
            <p:spPr>
              <a:xfrm>
                <a:off x="0" y="1071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" name="Picture 21" descr="266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32"/>
          <p:cNvPicPr/>
          <p:nvPr/>
        </p:nvPicPr>
        <p:blipFill>
          <a:blip r:embed="rId2"/>
          <a:stretch/>
        </p:blipFill>
        <p:spPr>
          <a:xfrm rot="16634400">
            <a:off x="6833880" y="2102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96D7-0640-4E82-AD3A-C0AE27B74FF7}" type="datetime">
              <a:rPr b="1" lang="ru-RU" sz="14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A1DF-1603-4BBC-B234-100E8D8E0888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39"/>
          <p:cNvPicPr/>
          <p:nvPr/>
        </p:nvPicPr>
        <p:blipFill>
          <a:blip r:embed="rId1"/>
          <a:stretch/>
        </p:blipFill>
        <p:spPr>
          <a:xfrm rot="6472200">
            <a:off x="323280" y="26028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1143000" y="271476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 комплексном кур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Основы религиозных культур и светской этики» (ОРКС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Курс ОРКСЭ состоит из 6 модулей: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православной культуры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исламской культуры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буддийской культуры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иудейской культуры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мировых религиозных культур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ы светской этики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2700360" y="6237360"/>
            <a:ext cx="425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EBDD-4E29-408B-B8DD-FD07C0C80698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71640" y="1052280"/>
            <a:ext cx="7921440" cy="504036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аждому обучающемуся предлагается для изучения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из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модулей (по выбору родителей с согласия обучающегося)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У самостоятельно определяет перечень модулей учебного курса: на основе выбора модулей учащимися и их родителями, а также возможностей ОУ в организации образовательного процесс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2700360" y="6237360"/>
            <a:ext cx="425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6FA8-5F85-443C-A20A-5542ECF8BC7C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православной культуры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DEB7-0C83-40EE-A42F-5FD2BE897E33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Объект 8" descr=""/>
          <p:cNvPicPr/>
          <p:nvPr/>
        </p:nvPicPr>
        <p:blipFill>
          <a:blip r:embed="rId1">
            <a:alphaModFix amt="50000"/>
          </a:blip>
          <a:srcRect l="57824" t="16522" r="2901" b="57351"/>
          <a:stretch/>
        </p:blipFill>
        <p:spPr>
          <a:xfrm>
            <a:off x="900000" y="1844640"/>
            <a:ext cx="7850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исламской культуры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1A75-F8B6-4281-8224-3C481EB3E08D}" type="datetime">
              <a:rPr b="1" lang="ru-RU" sz="14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62B6-C0C5-4225-BE44-75F89C46536D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Объект 6" descr=""/>
          <p:cNvPicPr/>
          <p:nvPr/>
        </p:nvPicPr>
        <p:blipFill>
          <a:blip r:embed="rId1">
            <a:alphaModFix amt="50000"/>
          </a:blip>
          <a:srcRect l="57470" t="43497" r="3190" b="33497"/>
          <a:stretch/>
        </p:blipFill>
        <p:spPr>
          <a:xfrm>
            <a:off x="971640" y="1844640"/>
            <a:ext cx="7848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буддийской культуры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E872-2E83-42BA-AF17-DF2696708CB2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Объект 7" descr=""/>
          <p:cNvPicPr/>
          <p:nvPr/>
        </p:nvPicPr>
        <p:blipFill>
          <a:blip r:embed="rId1">
            <a:alphaModFix amt="50000"/>
          </a:blip>
          <a:srcRect l="58251" t="67045" r="2985" b="12867"/>
          <a:stretch/>
        </p:blipFill>
        <p:spPr>
          <a:xfrm>
            <a:off x="1130400" y="2176560"/>
            <a:ext cx="76896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иудейской культуры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Объект 6" descr=""/>
          <p:cNvPicPr/>
          <p:nvPr/>
        </p:nvPicPr>
        <p:blipFill>
          <a:blip r:embed="rId1">
            <a:alphaModFix amt="50000"/>
          </a:blip>
          <a:srcRect l="10502" t="8323" r="50636" b="66392"/>
          <a:stretch/>
        </p:blipFill>
        <p:spPr>
          <a:xfrm>
            <a:off x="1042920" y="1886040"/>
            <a:ext cx="7777080" cy="4064040"/>
          </a:xfrm>
          <a:prstGeom prst="rect">
            <a:avLst/>
          </a:prstGeom>
          <a:ln w="0">
            <a:noFill/>
          </a:ln>
        </p:spPr>
      </p:pic>
      <p:sp>
        <p:nvSpPr>
          <p:cNvPr id="167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63F2-0E23-45A5-8304-B0FC0D81E8C0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мировых религиозных культур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A99D-D732-400F-9732-376ABD1C42FF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Объект 7" descr=""/>
          <p:cNvPicPr/>
          <p:nvPr/>
        </p:nvPicPr>
        <p:blipFill>
          <a:blip r:embed="rId1">
            <a:alphaModFix amt="50000"/>
          </a:blip>
          <a:srcRect l="10172" t="34516" r="50077" b="38833"/>
          <a:stretch/>
        </p:blipFill>
        <p:spPr>
          <a:xfrm>
            <a:off x="971640" y="1989000"/>
            <a:ext cx="7686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Учебный модул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Основы светской этики»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DC99-0AF0-41AE-BD40-6CD73D49213C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Объект 6" descr=""/>
          <p:cNvPicPr/>
          <p:nvPr/>
        </p:nvPicPr>
        <p:blipFill>
          <a:blip r:embed="rId1">
            <a:alphaModFix amt="50000"/>
          </a:blip>
          <a:srcRect l="10172" t="62297" r="50932" b="11890"/>
          <a:stretch/>
        </p:blipFill>
        <p:spPr>
          <a:xfrm>
            <a:off x="971640" y="1773360"/>
            <a:ext cx="77659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ижний колонтитул 4"/>
          <p:cNvSpPr/>
          <p:nvPr/>
        </p:nvSpPr>
        <p:spPr>
          <a:xfrm>
            <a:off x="3203640" y="6245280"/>
            <a:ext cx="425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7D71-4835-4368-92AD-0B92C9C8D1DF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rcRect l="3408" t="0" r="2393" b="3508"/>
          <a:stretch/>
        </p:blipFill>
        <p:spPr>
          <a:xfrm>
            <a:off x="1241280" y="476280"/>
            <a:ext cx="75074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Дата 1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2"/>
          <p:cNvSpPr/>
          <p:nvPr/>
        </p:nvSpPr>
        <p:spPr>
          <a:xfrm>
            <a:off x="286056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14CA-1A20-44F7-AB86-3E2023AE28FF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rcRect l="3492" t="0" r="1524" b="0"/>
          <a:stretch/>
        </p:blipFill>
        <p:spPr>
          <a:xfrm>
            <a:off x="982800" y="692280"/>
            <a:ext cx="8010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92144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ормативно – правовая баз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71640" y="836640"/>
            <a:ext cx="7921440" cy="54720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оручение Президента РФ о введении с 2012 года во всех субъектах РФ комплексного учебного курса для общеобразовательных учреждений «Основы религиозных культур и светской этики» от 02.08.2009г. N Пр-2009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исьмо Министерства образования и науки РФ "Об использовании учебников и учебных пособий в образовательном процессе» от 10.02.2011 г. N 03-105;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исьмо Министерства образования и науки РФ «О направлении методических материалов ОРКСЭ» от 08.07.2011 г. N МД-883/03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исьмо Министерства образования и науки РФ «Об обеспечении преподавания комплексного учебного курса ОРКСЭ» от 24.10.2011г. N МД-1427/03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аспоряжение Правительства РФ «Об утверждении плана мероприятий по введению с 2012 – 2013 учебного года во всех субъектах Российской Федерации комплексного учебного курса для общеобразовательных учреждений «Основы религиозных культур и светской этики» от 28.01.2012г. №84-р;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7731000" y="6381720"/>
            <a:ext cx="1162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4D1C-7151-44E1-849C-E01F7338877B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203640" y="6381720"/>
            <a:ext cx="360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92144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ормативно – правовая баз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71640" y="836280"/>
            <a:ext cx="7921440" cy="5761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каз Министерства образования и науки РФ «О внесении изменений в федеральный компонент государственных образовательных стандартов начального общего, основного общего, среднего (полного) общего образования, утверждённый Министерством образования РФ от 05.03.2004 №1089» от 31.01.2012г. №69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каз Министерства образования и науки РФ «О внесении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ом образования РФ от 09.03.2004 №1312» от 01.02.2012 №74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исьмо Министерства образования и науки РФ «О введении курса ОРКСЭ с 1 сентября 2012 года» от 09.02.2012г. № МО-102/03;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каз Департамента образования и молодёжной политики ХМАО-Югры «О внесении изменений в региональный базисный учебный план и примерные учебные планы для образовательных учреждений Ханты-Мансийского автономного округа - Югры, реализующих программы общего образования, утверждённые приказом Департамента образования и науки Ханты-Мансийского автономного округа - Югры от 30.01.2007 №99» от 22.02.2012г. №151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7731000" y="6578640"/>
            <a:ext cx="1162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D106-981B-4724-B972-F0A1A3961F32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203640" y="6578640"/>
            <a:ext cx="3456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850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сновными задачами комплексного курса являются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71640" y="1267920"/>
            <a:ext cx="7921440" cy="504036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по выбору родителей (законных представителей)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азвитие представлений обучающихся о значении нравственных норм и ценностей личности, семьи, общества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общение знаний, понятий и представлений о духовной культуре и морали, ранее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азвитие способностей обучающихся к общению в полиэтничной, разномировоззренческой и многоконфессиональной среде на основе взаимного уважения и диалога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203640" y="6381720"/>
            <a:ext cx="324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 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5"/>
          <p:cNvSpPr/>
          <p:nvPr/>
        </p:nvSpPr>
        <p:spPr>
          <a:xfrm>
            <a:off x="7731000" y="6381720"/>
            <a:ext cx="1162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33F6-D6BD-4F13-B319-6341714C9F88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765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Из стандарта начального общего образования по основам религиозных культур и светской этики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71640" y="1125360"/>
            <a:ext cx="7921440" cy="53992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РКСЭ направлено на достижение следующих целей: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о значении нравственных норм и ценностей для достойной жизни личности, семьи, общества; формирование готовности к нравственному самосовершенствованию, духовному саморазвитию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основными нормами светской и религиозной морали, понимания их значения в выстраивании конструктивных отношений в семье и обществе; формирование первоначальных представлений о светской этике, о традиционных религиях, их роли в культуре, истории и современности России; об исторической роли традиционных религий в становлении российской государственности; осознание ценности человеческой жизни;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нравственности, основанной на свободе совести и вероисповедания, духовных традициях народов России; становление внутренней установки личности поступать согласно своей совести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Дата 3"/>
          <p:cNvSpPr/>
          <p:nvPr/>
        </p:nvSpPr>
        <p:spPr>
          <a:xfrm>
            <a:off x="971640" y="6578640"/>
            <a:ext cx="2016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3203640" y="6578640"/>
            <a:ext cx="3816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5"/>
          <p:cNvSpPr/>
          <p:nvPr/>
        </p:nvSpPr>
        <p:spPr>
          <a:xfrm>
            <a:off x="7731000" y="6578640"/>
            <a:ext cx="1162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BD1C-D3C8-4CDB-B7CD-593E2D727E9F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ижний колонтитул 4"/>
          <p:cNvSpPr/>
          <p:nvPr/>
        </p:nvSpPr>
        <p:spPr>
          <a:xfrm>
            <a:off x="3059280" y="6237360"/>
            <a:ext cx="425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0664-3545-4B8E-9E7E-34927992019E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34900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тве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на некоторые вопрос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49040"/>
            <a:ext cx="7848360" cy="1323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7230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правовые основы преподавания сведений о религиозных культурах в государственной и муниципальной общеобразовательной школе? Чем отличается преподавание религиозной культуры от преподавания религии?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71640" y="1699920"/>
            <a:ext cx="7921440" cy="4753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основ религиозных культур в государственных и муниципальных общеобразовательных учреждениях осуществляется в соответствии с нормами законодательства Российской Федерации: Конституцией Российской Федерации, Законами Российской Федерации "Об образовании", "Об основных гарантиях прав ребенка в Российской Федерации"; Федеральным законом "О свободе совести и о религиозных объединениях«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преподавания комплексного курс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усматривается обучение религ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 обучением религии понимается преподавание вероучения. В Российской Федерации законодательно закреплено право родителей обучать детей религ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образовательной программ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тья 5 Федерального закона "О свободе совести и о религиозных объединениях", далее - Закон). Такое обучение может вести религиозная организаци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971640" y="657072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203640" y="6570720"/>
            <a:ext cx="396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7731000" y="6570720"/>
            <a:ext cx="1162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0C8E-6B68-47F5-A4E0-52D7424DCD57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307800"/>
            <a:ext cx="792144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3. Какие аспекты религиозных культур будут, а какие не будут изучаться в рамках комплексного курса?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42560" y="1700280"/>
            <a:ext cx="7921800" cy="4392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одулей по религиозным культурам ориентировано на общее знакомство с соответствующими религиями, их культурой (история, традиции, нравственные ценности, выдающиеся представители и т.п.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включает специальных богословских вопро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подавание светской этики основывается на общих для всех россиян гражданских нравственных ценностях и нормах. Содержание каждого модуля комплексного курса ориентировано на знакомство с соответствующей культурой и религиозной или светской традицией и не содержит критических оценок других религий и мировоззрений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Дата 3"/>
          <p:cNvSpPr/>
          <p:nvPr/>
        </p:nvSpPr>
        <p:spPr>
          <a:xfrm>
            <a:off x="971640" y="638172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4"/>
          <p:cNvSpPr/>
          <p:nvPr/>
        </p:nvSpPr>
        <p:spPr>
          <a:xfrm>
            <a:off x="3203640" y="6381720"/>
            <a:ext cx="374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731000" y="6381720"/>
            <a:ext cx="1162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6C0-F581-4966-8FCB-1172D43BB6C4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4. Какой может быть система оценки знаний по вводимому курсу? Будут ли учитываться оценки по данному курсу при выведении общей успеваемости ученика?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640" y="170028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унктом 3 статьи 15 Закона Российской Федерации "Об образовании" образовательное учреждение самостоятельно в выборе системы оценок. Система оценивания в каждом классе, учебной группе может определяться, исходя из конкретной ситуации (готовность учащихся к изучению материала, новизна его для них, численность групп и другое)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качественная взаимооценка в виде создания и презентации творческих проектов. Результаты подготовки и защиты творческих продуктов и проектов могут учитываться при формировании портфолио учеников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лизованные требования по оценке успеваемости по результатам освоения курса не предусматриваются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Дата 3"/>
          <p:cNvSpPr/>
          <p:nvPr/>
        </p:nvSpPr>
        <p:spPr>
          <a:xfrm>
            <a:off x="971640" y="6245280"/>
            <a:ext cx="20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771640" y="6237360"/>
            <a:ext cx="425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ОРКС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7731000" y="6245280"/>
            <a:ext cx="11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4E25-4839-49FE-9A62-0DF153B70990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6:11:34Z</dcterms:created>
  <dc:creator>Надия</dc:creator>
  <dc:description/>
  <dc:language>en-US</dc:language>
  <cp:lastModifiedBy>777</cp:lastModifiedBy>
  <cp:lastPrinted>2012-05-14T07:38:27Z</cp:lastPrinted>
  <dcterms:modified xsi:type="dcterms:W3CDTF">2013-11-23T16:41:36Z</dcterms:modified>
  <cp:revision>34</cp:revision>
  <dc:subject/>
  <dc:title>Родительское собрание</dc:title>
</cp:coreProperties>
</file>