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5.gif" ContentType="image/gif"/>
  <Override PartName="/ppt/media/image6.png" ContentType="image/png"/>
  <Override PartName="/ppt/media/image11.gif" ContentType="image/gif"/>
  <Override PartName="/ppt/media/image5.jpeg" ContentType="image/jpeg"/>
  <Override PartName="/ppt/media/image20.jpeg" ContentType="image/jpeg"/>
  <Override PartName="/ppt/media/image19.jpeg" ContentType="image/jpeg"/>
  <Override PartName="/ppt/media/image21.wmf" ContentType="image/x-wmf"/>
  <Override PartName="/ppt/media/image18.jpeg" ContentType="image/jpeg"/>
  <Override PartName="/ppt/media/image16.jpeg" ContentType="image/jpeg"/>
  <Override PartName="/ppt/media/image14.gif" ContentType="image/gif"/>
  <Override PartName="/ppt/media/image17.png" ContentType="image/png"/>
  <Override PartName="/ppt/media/image1.wmf" ContentType="image/x-wmf"/>
  <Override PartName="/ppt/media/image9.jpeg" ContentType="image/jpeg"/>
  <Override PartName="/ppt/media/image23.jpeg" ContentType="image/jpeg"/>
  <Override PartName="/ppt/media/image2.wmf" ContentType="image/x-wmf"/>
  <Override PartName="/ppt/media/image3.jpeg" ContentType="image/jpeg"/>
  <Override PartName="/ppt/media/image4.jpeg" ContentType="image/jpeg"/>
  <Override PartName="/ppt/media/image22.gif" ContentType="image/gi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2CF683-3128-4B64-BBF6-0C75DEC7D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BC539B-8AA1-4499-8C58-8FAC72BEC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93296F-4AF4-43A2-A1B6-228B7950A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6A94A0-4486-45EC-B111-32AB73752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2F6A6-419E-4F3D-BF64-56E79E727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B9661-DFDB-4544-8E54-A4A21890A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4C6E9-AC2B-4203-ADC1-A8FBDCE15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3EA07-AC76-48E5-8F8C-E3664C19F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C4D76-9982-42E2-B1F1-E121FDC83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012A0-45DD-493F-9A44-8B2C66ABA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FBDA5-1725-4F30-921D-AEFEA61AE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847B8A-93E9-4339-8190-63BEDC161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7526B-E157-4ED0-BBB9-3CDD51897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00079-5FD6-4E30-8261-220125F5A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E46CF-A2B5-4D80-BE1D-73CE83251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F6D41-5E3F-4953-B578-2037CA5C2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46520-3721-497B-99CA-67C62849C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BB4FB4-F0BA-4347-91F5-E4037C8BA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784C43-85CE-4CD0-8251-405220765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3503E4-EDCB-498C-82FC-FEC0BE28C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EA34A2-1CF1-43FE-B078-1EF140D4E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058445-C0FF-4ED5-B9FE-17074891D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47B340-B966-4190-8F42-DBF7BD522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1CBC04-0AA6-40AF-804F-207D64873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26591-7547-499E-8417-6DB9D4D0B7F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4EE42-35B3-49F8-860E-870EF64EA65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image" Target="../media/image6.png"/><Relationship Id="rId1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gif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1258920" y="765000"/>
            <a:ext cx="6551640" cy="215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5e9eff"/>
                    </a:gs>
                    <a:gs pos="100000">
                      <a:srgbClr val="ffebfa"/>
                    </a:gs>
                  </a:gsLst>
                  <a:lin ang="5400000"/>
                </a:gradFill>
                <a:latin typeface="Times New Roman"/>
              </a:rPr>
              <a:t>Проек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5e9eff"/>
                  </a:gs>
                  <a:gs pos="100000">
                    <a:srgbClr val="ffebfa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5e9eff"/>
                    </a:gs>
                    <a:gs pos="100000">
                      <a:srgbClr val="ffebfa"/>
                    </a:gs>
                  </a:gsLst>
                  <a:lin ang="5400000"/>
                </a:gradFill>
                <a:latin typeface="Times New Roman"/>
              </a:rPr>
              <a:t>учащихся 8 классо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5e9eff"/>
                  </a:gs>
                  <a:gs pos="100000">
                    <a:srgbClr val="ffebf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979640" y="2565360"/>
            <a:ext cx="525636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5e9eff"/>
                    </a:gs>
                    <a:gs pos="100000">
                      <a:srgbClr val="ffebfa"/>
                    </a:gs>
                  </a:gsLst>
                  <a:lin ang="5400000"/>
                </a:gradFill>
                <a:latin typeface="Times New Roman"/>
              </a:rPr>
              <a:t>по биологи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5e9eff"/>
                  </a:gs>
                  <a:gs pos="100000">
                    <a:srgbClr val="ffebfa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5e9eff"/>
                  </a:gs>
                  <a:gs pos="100000">
                    <a:srgbClr val="ffebfa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5e9eff"/>
                    </a:gs>
                    <a:gs pos="100000">
                      <a:srgbClr val="ffebfa"/>
                    </a:gs>
                  </a:gsLst>
                  <a:lin ang="5400000"/>
                </a:gradFill>
                <a:latin typeface="Times New Roman"/>
              </a:rPr>
              <a:t>на свежем воздухе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5e9eff"/>
                  </a:gs>
                  <a:gs pos="100000">
                    <a:srgbClr val="ffebf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 flipH="1">
            <a:off x="2339640" y="4724280"/>
            <a:ext cx="1747800" cy="18306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435640" y="4581360"/>
            <a:ext cx="1828800" cy="166536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5885 0.6676 C 0.06215 0.66598 0.48333 0.66459 0.49288 0.61602 C 0.50243 0.56744 -0.29844 0.4527 -0.30121 0.37614 C -0.30399 0.29957 0.42622 0.2193 0.47639 0.15661 C 0.52656 0.09393 0.07656 0.0243 2.77778E-006 5.10062E-006 E">
                                      <p:cBhvr>
                                        <p:cTn id="6" dur="2000" fill="hold"/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6597 -0.61763 C -0.03854 -0.60652 -0.44288 -0.59519 -0.46458 -0.54083 C -0.48629 -0.48647 0.21736 -0.34582 0.23542 -0.29146 C 0.25347 -0.2371 -0.31719 -0.26324 -0.35642 -0.21466 C -0.39566 -0.16609 -0.06094 -0.03516 8.33333E-007 1.09183E-006 E">
                                      <p:cBhvr>
                                        <p:cTn id="8" dur="2000" fill="hold"/>
                                        <p:tgtEl>
                                          <p:spTgt spid="1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468360" y="90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df957"/>
                </a:solidFill>
                <a:latin typeface="Garamond"/>
              </a:rPr>
              <a:t>Потом сделали измерение пульса через 3 минуты в состоянии покоя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979640" y="2120760"/>
            <a:ext cx="5545080" cy="415764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332000" cy="133200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df957"/>
                </a:solidFill>
                <a:latin typeface="Garamond"/>
              </a:rPr>
              <a:t>И вот что у нас получилось: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457200" y="1125360"/>
          <a:ext cx="8229600" cy="47595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1072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Ф. и.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испытуемого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Измерени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в покое(уд.\мин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измерение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после нагруз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измерение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через 3 мин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Леша Ч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0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3300"/>
                          </a:solidFill>
                          <a:latin typeface="Garamond"/>
                        </a:rPr>
                        <a:t>15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Денис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0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1f632"/>
                          </a:solidFill>
                          <a:latin typeface="Garamond"/>
                        </a:rPr>
                        <a:t>1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7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Серге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8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3300"/>
                          </a:solidFill>
                          <a:latin typeface="Garamond"/>
                        </a:rPr>
                        <a:t>1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7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Себастья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7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3300"/>
                          </a:solidFill>
                          <a:latin typeface="Garamond"/>
                        </a:rPr>
                        <a:t>1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7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Ан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1f632"/>
                          </a:solidFill>
                          <a:latin typeface="Garamond"/>
                        </a:rPr>
                        <a:t>13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9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Леша К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0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3300"/>
                          </a:solidFill>
                          <a:latin typeface="Garamond"/>
                        </a:rPr>
                        <a:t>15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1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67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Татьян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Владимировн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3300"/>
                          </a:solidFill>
                          <a:latin typeface="Garamond"/>
                        </a:rPr>
                        <a:t>15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9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-686880" y="5935680"/>
            <a:ext cx="1049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aramond"/>
              </a:rPr>
              <a:t>Результаты с превышением нормы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0" lang="en-US" sz="2800" spc="-1" strike="noStrike">
                <a:solidFill>
                  <a:srgbClr val="61f632"/>
                </a:solidFill>
                <a:latin typeface="Garamond"/>
              </a:rPr>
              <a:t>результаты в норм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df957"/>
                </a:solidFill>
                <a:latin typeface="Garamond"/>
              </a:rPr>
              <a:t>Выводы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39640" y="1773000"/>
            <a:ext cx="395928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 algn="ctr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df957"/>
                </a:solidFill>
                <a:latin typeface="Garamond"/>
              </a:rPr>
              <a:t>Обработав результаты, мы пришли к выводу, что можно оценить состояние сердечно - сосудистой системы участников эксперимента таким образом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4716360" y="1197000"/>
          <a:ext cx="3924360" cy="5305320"/>
        </p:xfrm>
        <a:graphic>
          <a:graphicData uri="http://schemas.openxmlformats.org/drawingml/2006/table">
            <a:tbl>
              <a:tblPr/>
              <a:tblGrid>
                <a:gridCol w="1962360"/>
                <a:gridCol w="1962000"/>
              </a:tblGrid>
              <a:tr h="92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ИСПЫТУЕМЫ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Состояние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сердечно-сосу-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дистой системы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Garamond"/>
                        </a:rPr>
                        <a:t>Леша Ч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Garamond"/>
                        </a:rPr>
                        <a:t>хорошо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8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1f632"/>
                          </a:solidFill>
                          <a:latin typeface="Garamond"/>
                        </a:rPr>
                        <a:t>Денис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1f632"/>
                          </a:solidFill>
                          <a:latin typeface="Garamond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61f632"/>
                          </a:solidFill>
                          <a:latin typeface="Garamond"/>
                        </a:rPr>
                        <a:t>отлично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Garamond"/>
                        </a:rPr>
                        <a:t>Серге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Garamond"/>
                        </a:rPr>
                        <a:t>хорошо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8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Garamond"/>
                        </a:rPr>
                        <a:t>Себастьян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Garamond"/>
                        </a:rPr>
                        <a:t>хорошо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1f632"/>
                          </a:solidFill>
                          <a:latin typeface="Garamond"/>
                        </a:rPr>
                        <a:t>Ан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1f632"/>
                          </a:solidFill>
                          <a:latin typeface="Garamond"/>
                        </a:rPr>
                        <a:t>отлично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8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Garamond"/>
                        </a:rPr>
                        <a:t>Леша К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Garamond"/>
                        </a:rPr>
                        <a:t>хорошо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4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a886e0"/>
                          </a:solidFill>
                          <a:latin typeface="Garamond"/>
                        </a:rPr>
                        <a:t>Татьян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a886e0"/>
                          </a:solidFill>
                          <a:latin typeface="Garamond"/>
                        </a:rPr>
                        <a:t>Владимировн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a886e0"/>
                          </a:solidFill>
                          <a:latin typeface="Garamond"/>
                        </a:rPr>
                        <a:t>удовлетворит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5" name=""/>
          <p:cNvSpPr/>
          <p:nvPr/>
        </p:nvSpPr>
        <p:spPr>
          <a:xfrm>
            <a:off x="468360" y="5805360"/>
            <a:ext cx="405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Garamond"/>
              </a:rPr>
              <a:t>Результаты с превышением нормы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0" lang="en-US" sz="2000" spc="-1" strike="noStrike">
                <a:solidFill>
                  <a:srgbClr val="61f632"/>
                </a:solidFill>
                <a:latin typeface="Garamond"/>
              </a:rPr>
              <a:t>результаты в норм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468360" y="981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У участников, занимающихся в спортивных секциях, показатели отличные. У тех, кто занимается спортом нерегулярно – хорошие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Занятия спортом укрепляют сердечно-сосудистую систему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3419640" y="4076640"/>
            <a:ext cx="2700000" cy="246708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df957"/>
                </a:solidFill>
                <a:latin typeface="Garamond"/>
              </a:rPr>
              <a:t>Рекомендации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df957"/>
                </a:solidFill>
                <a:latin typeface="Garamond"/>
              </a:rPr>
              <a:t>Были даны рекомендации по укреплению сердечно-сосудистой системы, режиму питания и занятиям спортом тем испытуемым, у кого состояние сердечно-сосудистой системы недостаточно хорошее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3635280" y="4842000"/>
            <a:ext cx="2016360" cy="201600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189080" y="549360"/>
            <a:ext cx="6767640" cy="48625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 txBox="1"/>
          <p:nvPr/>
        </p:nvSpPr>
        <p:spPr>
          <a:xfrm>
            <a:off x="468360" y="4365720"/>
            <a:ext cx="806436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риходите зимой на каток!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wheel spokes="8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476360" y="836640"/>
            <a:ext cx="2652840" cy="35384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4643280" y="1160640"/>
            <a:ext cx="3816360" cy="28620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0" y="3933720"/>
            <a:ext cx="985680" cy="73368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 txBox="1"/>
          <p:nvPr/>
        </p:nvSpPr>
        <p:spPr>
          <a:xfrm>
            <a:off x="0" y="3645000"/>
            <a:ext cx="9144000" cy="278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Ничего на свете лучше нету, чем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еселая встреча на катке в зимний день.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8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979640" y="549360"/>
            <a:ext cx="3529080" cy="101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9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ИДЕЙНЫЙ ВДОХНОВИТЕЛЬ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10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508720" y="3284640"/>
            <a:ext cx="27255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ЕСЁЛАЯ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МАССОВКА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1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wheel spokes="8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3000"/>
                            </p:stCondLst>
                            <p:childTnLst>
                              <p:par>
                                <p:cTn id="2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df957"/>
                </a:solidFill>
                <a:latin typeface="Garamond"/>
              </a:rPr>
              <a:t>Одним прекрасным зимним утром мы собрались на катке «Осьминожки» и решили узнать, насколько мы сильны и выносливы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971720" y="2565360"/>
            <a:ext cx="5264280" cy="39481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0" y="5910120"/>
            <a:ext cx="1273320" cy="94788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22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df957"/>
                </a:solidFill>
                <a:latin typeface="Garamond"/>
              </a:rPr>
              <a:t>   </a:t>
            </a:r>
            <a:r>
              <a:rPr b="1" lang="en-US" sz="2800" spc="-1" strike="noStrike">
                <a:solidFill>
                  <a:srgbClr val="fdf957"/>
                </a:solidFill>
                <a:latin typeface="Garamond"/>
              </a:rPr>
              <a:t>Мы решили совместить приятное с полезным и провести исследовательскую работу на свежем воздухе, чтобы узнать состояние своей сердечно-сосудистой системы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556000" y="2176560"/>
            <a:ext cx="4236840" cy="468144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0" y="6188040"/>
            <a:ext cx="900000" cy="66996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fdf957"/>
                </a:solidFill>
                <a:latin typeface="Garamond"/>
              </a:rPr>
              <a:t>Функциональная проба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df957"/>
                </a:solidFill>
                <a:latin typeface="Garamond"/>
              </a:rPr>
              <a:t>РЕАКЦИЯ СЕРДЕЧНО-СОСУДИСТОЙ СИСТЕМЫ НА ДОЗИРОВАННУЮ НАГРУЗКУ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df957"/>
                </a:solidFill>
                <a:latin typeface="Garamond"/>
              </a:rPr>
              <a:t>Оборудование: секундомер, коньки, каток. И, конечно же , хорошее настроение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2124000" y="4149720"/>
            <a:ext cx="1852560" cy="25621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4140360" y="4221000"/>
            <a:ext cx="3313080" cy="24847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7667640" y="4149720"/>
            <a:ext cx="1174680" cy="16668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4"/>
          <a:stretch/>
        </p:blipFill>
        <p:spPr>
          <a:xfrm>
            <a:off x="0" y="5910120"/>
            <a:ext cx="1273320" cy="94788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250920" y="4797360"/>
            <a:ext cx="4887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df957"/>
                </a:solidFill>
                <a:latin typeface="Garamond"/>
              </a:rPr>
              <a:t>Главное, суметь оторваться от бортика 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df957"/>
                </a:solidFill>
                <a:latin typeface="Garamond"/>
              </a:rPr>
              <a:t>покрепче держаться друг за друга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148360" y="2781360"/>
            <a:ext cx="3527280" cy="26445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511200" y="476280"/>
            <a:ext cx="4276800" cy="397512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df957"/>
                </a:solidFill>
                <a:latin typeface="Garamond"/>
              </a:rPr>
              <a:t>Предварительные пояснения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df957"/>
                </a:solidFill>
                <a:latin typeface="Garamond"/>
              </a:rPr>
              <a:t>Цель работы – научиться оценивать степень тренированности своего сердца. Для этого измеряют ЧСС до и после нагрузки и сравнивают результаты. После нагрузки ЧСС возрастет примерно на 1</a:t>
            </a:r>
            <a:r>
              <a:rPr b="1" lang="en-US" sz="3200" spc="-1" strike="noStrike">
                <a:solidFill>
                  <a:srgbClr val="fdf957"/>
                </a:solidFill>
                <a:latin typeface="Garamond"/>
              </a:rPr>
              <a:t>/</a:t>
            </a:r>
            <a:r>
              <a:rPr b="1" lang="ru-RU" sz="3200" spc="-1" strike="noStrike">
                <a:solidFill>
                  <a:srgbClr val="fdf957"/>
                </a:solidFill>
                <a:latin typeface="Garamond"/>
              </a:rPr>
              <a:t>3 по сравнению с состоянием покоя и нормализуется спустя 2-3 минуты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5435640" y="5157720"/>
            <a:ext cx="920880" cy="11527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 flipH="1">
            <a:off x="3058920" y="4869000"/>
            <a:ext cx="1161720" cy="142236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df957"/>
                </a:solidFill>
                <a:latin typeface="Garamond"/>
              </a:rPr>
              <a:t>Ход исследований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738440" y="2336760"/>
            <a:ext cx="5857920" cy="452124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395280" y="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8229600" cy="438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df957"/>
                </a:solidFill>
                <a:latin typeface="Garamond"/>
              </a:rPr>
              <a:t>Мы измерили пульс в состоянии покоя и запомнили результаты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68360" y="404640"/>
            <a:ext cx="8229600" cy="456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df957"/>
                </a:solidFill>
                <a:latin typeface="Garamond"/>
              </a:rPr>
              <a:t>Сделали несколько кругов по катку в быстром темпе и снова посчитали пульс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4357800" y="1700280"/>
            <a:ext cx="4535280" cy="501012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395280" y="2349360"/>
            <a:ext cx="3745080" cy="280836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1T17:23:05Z</dcterms:created>
  <dc:creator>user</dc:creator>
  <dc:description/>
  <dc:language>en-US</dc:language>
  <cp:lastModifiedBy>123</cp:lastModifiedBy>
  <dcterms:modified xsi:type="dcterms:W3CDTF">2013-10-18T05:43:47Z</dcterms:modified>
  <cp:revision>18</cp:revision>
  <dc:subject/>
  <dc:title>Слайд 1</dc:title>
</cp:coreProperties>
</file>